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4D5-9174-4139-8339-1470285D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DE6-5159-41BE-8CA1-A3AEDEBC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5BA-86DE-4628-B294-6737776C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7E5-ECE8-44CE-8DF1-594549D0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85B9-3F48-4213-A51A-B937CB4A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D7A8-56B3-4902-97D1-F6B48D23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75B85-99DB-4D09-8A2C-4F19D53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55E8-7E18-4AA7-AFDD-AF385E7E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9946-3D85-4844-8119-ADE22C8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3B6BD-1971-4284-AA1A-8BF420F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C832-6A15-4CC6-90F5-0253794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C11-FE2B-4FB6-83CD-9661D76C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2540-4585-4AEE-A710-E47615A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56822-DAE4-434A-8969-C29F935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BA485-5C2A-4547-97B3-1C259551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9C078-E4E6-4CAD-8AC1-FF86484E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2E769-68F6-431E-AFD1-422A71B6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BF-B311-4A0C-A4DC-CC6EB2A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608-4663-4B45-999A-15EFFB7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153-8E29-4F89-B5BD-45F6426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51B-2B70-41A6-BC94-4C8C9D31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1C1-625A-4E20-8097-3FF0EA0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671-3EF9-45D0-A1A9-0CC53E3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8B9-6903-4EA5-8CEE-DE48B29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CA9-7124-4EE1-AE1C-4B0CA1726C72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6B3-E828-4F11-9AD1-951DC356334B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6600"/>
            </a:b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049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2286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3049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53080" y="30492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304920"/>
            <a:ext cx="1066680" cy="71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4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752480" y="502920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876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62485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7620120" y="5029200"/>
            <a:ext cx="1143000" cy="7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ECF1-95EC-414F-A084-99E16680534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53C-EF93-4B5B-B01E-77C6F29F5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B4E-E1B9-4E87-9BA0-3879DC6EF0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61B-4C45-4CA1-8845-FF4ACC586F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CB4-F98D-4257-B464-815346B60C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F74-92F8-44FD-BEAE-FBF95DCD74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A04-71B8-4C41-9C8E-4DEC5F74E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D67-0803-485E-B14E-92E5EADC0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(Con anterioridad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nominó Instituto Andino de Artes Popular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F02-E8C2-43DC-866E-8EF52D674A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CC1-19F2-4469-B029-56BD2A625C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3A8-83CA-4191-AF1F-A2B3AEAF56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inidad y Tobago, 31 Junio 19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s principales aportes al CAB fueron los siguien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unión del Consejo Interamericano cultural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imer paso hacia la integración cultural”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Bolivia, Chile, Colombia, Ecuador, Perú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“Organización del Convenio Andrés Bello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ultural. “En reconocimiento al insigne humani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ericano”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(Argentina), Bolivia, Colombia, Cuba, Chile, Ecu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pública Dominicana y 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48C-4878-4D3F-9E72-79D7151608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52E-4704-4C52-BEF9-A721BBD77D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D77-C07D-4DD4-B2E1-74939CE0F6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82A-3080-4326-83A2-AA3E6E7955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4ED-9B03-4E4D-909F-21814E5D1A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103-4AA0-4C7A-9FCA-39EA28834F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57200"/>
            <a:ext cx="8534520" cy="76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 de 2008, en Quit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dor, el I Encuentro de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versidades André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ello por la Integ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771-5E6A-4125-839F-C314489670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9640" y="1557360"/>
          <a:ext cx="565308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53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22D-BBD2-4A37-871C-216016EEBB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58920" y="1341360"/>
          <a:ext cx="6408720" cy="480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0F8-4EAC-4B79-BFEA-8C70BAF64E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1484280"/>
          <a:ext cx="565344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84280"/>
                    <a:ext cx="56534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BEC-B178-46F1-BE6E-0A0CFD18A2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65280" y="1413000"/>
          <a:ext cx="6607080" cy="495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413000"/>
                    <a:ext cx="6607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023-38D2-4F1D-A80C-9F92E9E3AC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28600"/>
            <a:ext cx="83059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Panamá en 1980 y España en 1982 suscribe un Protoco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dhesión.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gresa como miembro pleno en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ba adhiere en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rgentina se encuentra en proceso de adhesión des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349-4B22-4D03-85E3-BE129EE2618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ás de 1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que el CA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dentificar, valorar y difund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 especial énfas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atrimonio, como 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F52-1490-4D70-B2F0-8DF6AAB417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7EB-A7D7-470D-9608-8928324700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Andrés Bello” en su categoría  máxima de Honor al Mérito, le fue conferida a la Presidenta Michelle Bachelet, el 18 de abril de 2007, en su visita oficial a  Colombia, con motivo de la 20º Feria Internacional del Libro de Bogotá, donde Chile figuró como invitado de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Educación de Paraguay, en su  calidad de Presidenta de la REMEC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ex Presidente Eduardo Frei la recibió en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oy día  Chile preside la Reunión de Ministros de Educación (desde 200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DBB-A4A2-46A4-9586-F78A97F52B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nte la presidencia de Chile en el CAB, la ministra Sra. Mónica Jiménez debió afrontar una crisis financiera de la Secretaría Ejecu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inistros sostienen que de la crisis de debilidad se debe pasar a una crisis de oportun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SECAB no puede ser un ente burocrático sino un agente de acción, de aporte a la política en educación, cultura y ciencia y tecnología (…) No hay otro espacio como este en la región para propiciar la integración en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seminario que organiza el Ministerio de Educación de Chile (18 Noviembre) podrá dar la pauta a seguir para el renacer del Conve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2200" y="39852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risis del Conven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62B-EE7F-495B-A8C6-EE01284A0D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C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190-D3F2-4449-8104-A9921AC742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ADC-4F6A-4D0A-B4D8-3E03C1A1F3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EAA-90F4-489C-A3AE-C62FE131AB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Hoy día su vigencia tiene mucha importa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BF8-54AD-4E42-8E17-8ACACD1E01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BCF-B170-40BC-81E5-5ECF0FB2C3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EF4-DA67-43DF-BFB0-57813383AA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WinuE</cp:lastModifiedBy>
  <dcterms:modified xsi:type="dcterms:W3CDTF">2010-10-20T18:46:49Z</dcterms:modified>
  <cp:revision>53</cp:revision>
  <dc:subject/>
  <dc:title>MERCOSUR</dc:title>
</cp:coreProperties>
</file>