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C529F-ECD6-4941-AD7A-43FE6A021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5923-C704-418E-B665-9432BFDF9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E07E3-DBB4-4A2E-A17C-4AC9436A2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4D2DD-6877-439D-9A8C-0FD8F321B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4BEF8-731D-429A-8B02-1A7FCCFC9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4238-4DB1-4312-A4F4-B59F621F2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F903F-09C1-42BF-B932-CD38E0D4E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5E2F3-6C2A-4BFD-A5AF-076DCD39F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59D07-C7AE-4B42-8B7D-8B67AFAC8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53B3A-DBCA-4ADD-90D3-9D204762F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571FE-5B00-4F01-A46A-F8CEDBBF3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10B8-78AB-4440-95FF-7460C350E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4D58D-A667-4A89-8780-205AEA3BD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A9390-6CFB-4680-8B99-A7BC664A8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359DF-CD6A-40B7-B798-3BB519081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D32A4-5393-47FD-8AAA-04DF32771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1A4F2-83E5-46F6-A251-826D71FCE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69CFD-7555-4BE3-A9FB-D5886F5F4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E4ED-1488-431F-B11C-FFF2E041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03C4-47CC-4C0E-A87E-21B0C6DCD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5BDF-9990-4550-84F5-CD75E582B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731C-C0EC-4872-BB52-DD0DC5708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D49F-FCE5-4B13-B81C-450C2806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43F8-9FF3-471A-8C44-B254ABA11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F01C-B05C-47F0-B308-A1856E19CC21}"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CF38-EF6E-46CF-BCA8-B7415C2A9C11}"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munidadandina.org/quienes/bolivia.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quienes/bolivia.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Archivos%20Documentos%20y%20escritorio/estructura.html" TargetMode="External"/><Relationship Id="rId3" Type="http://schemas.openxmlformats.org/officeDocument/2006/relationships/hyperlink" Target="file:///Archivos%20Documentos%20y%20escritorio/estructura_19.html" TargetMode="External"/><Relationship Id="rId4" Type="http://schemas.openxmlformats.org/officeDocument/2006/relationships/hyperlink" Target="file:///Archivos%20Documentos%20y%20escritorio/estructura_18.html" TargetMode="External"/><Relationship Id="rId5" Type="http://schemas.openxmlformats.org/officeDocument/2006/relationships/hyperlink" Target="file:///Archivos%20Documentos%20y%20escritorio/estructura_9.html" TargetMode="External"/><Relationship Id="rId6" Type="http://schemas.openxmlformats.org/officeDocument/2006/relationships/hyperlink" Target="file:///Archivos%20Documentos%20y%20escritorio/estructura_8.html" TargetMode="External"/><Relationship Id="rId7" Type="http://schemas.openxmlformats.org/officeDocument/2006/relationships/hyperlink" Target="file:///Archivos%20Documentos%20y%20escritorio/estructura_7.html" TargetMode="External"/><Relationship Id="rId8" Type="http://schemas.openxmlformats.org/officeDocument/2006/relationships/hyperlink" Target="file:///Archivos%20Documentos%20y%20escritorio/estructura_6.html" TargetMode="External"/><Relationship Id="rId9" Type="http://schemas.openxmlformats.org/officeDocument/2006/relationships/hyperlink" Target="file:///Archivos%20Documentos%20y%20escritorio/estructura_4.html" TargetMode="External"/><Relationship Id="rId10" Type="http://schemas.openxmlformats.org/officeDocument/2006/relationships/hyperlink" Target="file:///Archivos%20Documentos%20y%20escritorio/estructura_secretaria.html" TargetMode="External"/><Relationship Id="rId11" Type="http://schemas.openxmlformats.org/officeDocument/2006/relationships/hyperlink" Target="file:///Archivos%20Documentos%20y%20escritorio/estructura_3.html" TargetMode="External"/><Relationship Id="rId12" Type="http://schemas.openxmlformats.org/officeDocument/2006/relationships/hyperlink" Target="file:///Archivos%20Documentos%20y%20escritorio/estructura_2.html" TargetMode="External"/><Relationship Id="rId13" Type="http://schemas.openxmlformats.org/officeDocument/2006/relationships/hyperlink" Target="file:///Archivos%20Documentos%20y%20escritorio/estructura_1.html" TargetMode="External"/><Relationship Id="rId14" Type="http://schemas.openxmlformats.org/officeDocument/2006/relationships/hyperlink" Target="file:///quienes/peru.htm" TargetMode="External"/><Relationship Id="rId15" Type="http://schemas.openxmlformats.org/officeDocument/2006/relationships/hyperlink" Target="file:///quienes/ecuador.htm" TargetMode="External"/><Relationship Id="rId16" Type="http://schemas.openxmlformats.org/officeDocument/2006/relationships/hyperlink" Target="file:///quienes/colombia.htm" TargetMode="External"/><Relationship Id="rId17" Type="http://schemas.openxmlformats.org/officeDocument/2006/relationships/hyperlink" Target="file:///quienes/bolivia.htm" TargetMode="External"/><Relationship Id="rId1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ffffff"/>
                </a:solidFill>
                <a:latin typeface="Arial"/>
              </a:rPr>
              <a:t>COMUNIDAD ANDINA</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f. Iris Vitt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56920" y="564372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to Oficial </a:t>
            </a:r>
            <a:br>
              <a:rPr sz="2000"/>
            </a:br>
            <a:r>
              <a:rPr b="1" lang="es-CL" sz="2000" spc="-1" strike="noStrike">
                <a:solidFill>
                  <a:srgbClr val="000000"/>
                </a:solidFill>
                <a:latin typeface="Arial"/>
              </a:rPr>
              <a:t>XVII Reunión Ordinaria del Consejo Presidencial Andino</a:t>
            </a:r>
            <a:br>
              <a:rPr sz="2000"/>
            </a:br>
            <a:r>
              <a:rPr b="0" lang="es-CL" sz="2000" spc="-1" strike="noStrike">
                <a:solidFill>
                  <a:srgbClr val="000000"/>
                </a:solidFill>
                <a:latin typeface="Arial"/>
              </a:rPr>
              <a:t>Tarija, Bolivia, 14 de junio de 2007</a:t>
            </a:r>
            <a:endParaRPr b="0" lang="en-US" sz="2000" spc="-1" strike="noStrike">
              <a:solidFill>
                <a:srgbClr val="ffffff"/>
              </a:solidFill>
              <a:latin typeface="Arial"/>
            </a:endParaRPr>
          </a:p>
        </p:txBody>
      </p:sp>
      <p:pic>
        <p:nvPicPr>
          <p:cNvPr id="136" name="Picture 2" descr=""/>
          <p:cNvPicPr/>
          <p:nvPr/>
        </p:nvPicPr>
        <p:blipFill>
          <a:blip r:embed="rId1"/>
          <a:stretch/>
        </p:blipFill>
        <p:spPr>
          <a:xfrm>
            <a:off x="71280" y="1428840"/>
            <a:ext cx="90014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228600"/>
            <a:ext cx="8210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stitucionalidad en la Década del 70</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es Órganos: Comisión; Junta; Consejo Asesor Económico Social.</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rgano Financiero: Corporación Andina de Fomento (CAF, 1968)</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ios Sociales: Convenio Hipólito Unanue en salud, Convenio Simón Rodríguez en lo socio-laboral y Convenio Andrés Bello </a:t>
            </a:r>
            <a:r>
              <a:rPr b="0" lang="es-ES_tradnl" sz="2000" spc="-1" strike="noStrike">
                <a:solidFill>
                  <a:srgbClr val="000000"/>
                </a:solidFill>
                <a:latin typeface="Arial"/>
              </a:rPr>
              <a:t>(éste es independiente jurídicamente del Acuerdo de Cartagena)</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bunal Andino de Justicia (28 de Mayo de 1978)</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lamento Andino (25 de Octubre de 1979)</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jo de Cancilleres (1979). Rol protagónico en la década de los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ÍSES MIEMBROS:</a:t>
            </a:r>
            <a:r>
              <a:rPr b="0" lang="es-ES_tradnl" sz="3200" spc="-1" strike="noStrike" u="sng">
                <a:solidFill>
                  <a:srgbClr val="996666"/>
                </a:solidFill>
                <a:uFillTx/>
                <a:latin typeface="Arial"/>
                <a:hlinkClick r:id="rId1"/>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Colombia, Ecuador, Per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PAISES ASOCIADO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ile, Argentina, Brasil, Paraguay y Uruguay</a:t>
            </a:r>
            <a:br>
              <a:rPr sz="3200"/>
            </a:br>
            <a:br>
              <a:rPr sz="3200"/>
            </a:br>
            <a:r>
              <a:rPr b="0" lang="es-ES_tradnl" sz="3200" spc="-1" strike="noStrike">
                <a:solidFill>
                  <a:srgbClr val="000000"/>
                </a:solidFill>
                <a:latin typeface="Arial"/>
              </a:rPr>
              <a:t> PAISES OBSERVADOR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xico y Panamá </a:t>
            </a:r>
            <a:endParaRPr b="0" lang="en-US" sz="3200" spc="-1" strike="noStrike">
              <a:solidFill>
                <a:srgbClr val="000000"/>
              </a:solidFill>
              <a:latin typeface="Arial"/>
            </a:endParaRPr>
          </a:p>
        </p:txBody>
      </p:sp>
      <p:sp>
        <p:nvSpPr>
          <p:cNvPr id="140" name="Text Box 4"/>
          <p:cNvSpPr/>
          <p:nvPr/>
        </p:nvSpPr>
        <p:spPr>
          <a:xfrm>
            <a:off x="468360" y="380880"/>
            <a:ext cx="755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aíses Miemb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istema Andino de Integración (SAI) es el “conjunto de órganos e instituciones de la Comunidad Andina que tiene como finalidad permitir una coordinación efectiva entre sí para profundizar la integración subregional andina, promover su proyección externa y robustecer las acciones relacionadas con el proceso de integrac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órganos e instituciones se rigen por el Acuerdo de Cartagena, y por sus respectivos tratados constitutivos y sus protocolos modificatorios.</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42" name="Text Box 4"/>
          <p:cNvSpPr/>
          <p:nvPr/>
        </p:nvSpPr>
        <p:spPr>
          <a:xfrm>
            <a:off x="468360" y="380880"/>
            <a:ext cx="755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Sistema Andino de Integración (S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bjetivos</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desarrollo equilibrado y armónico de los Países Miembros en condiciones de equidad, mediante la integración y la cooperación económica y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elerar su crecimiento y la generación de ocupa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ilitar su participación en el proceso de integración regional, con miras a la formación gradual de un mercado común latinoamerica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ender a disminuir la vulnerabilidad externa y mejorar la posición de los Países Miembros en el contexto económico interna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ortalecer la solidaridad subregional y reducir las diferencias de desarrollo existentes entre los Paíse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urar un mejoramiento persistente en el nivel de vida de los habitantes de la Subregió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RGANOS E  INSTITUCIONES</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Presidencial Andin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Andino de Ministros de Relaciones Exterior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sión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retaría General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nal de Justicia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lamento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poración Andina de Fomento (CAF)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ndo Latinoamericano de Reservas (FLA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Empresari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Labor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smo Andino de Salud - Hipólito Unan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enio Simón Rodríguez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versidad Andina Simón Bolí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Andino Canciller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ble labor frente a la crisis de Nicaragu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men del Grupo CONTADORA y del Grupo de Rí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risis de la deuda en los 80 impidió avanz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89- Los cancilleres asumen la dirección del proces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96- Protocolo de Trujillo ( vigencia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Presidencial Andino</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Presidencial Andino fue creado el 23 de mayo de 1990 durante la reunión de los mandatarios andinos celebrada en la ciudad de Machu Picchu. Es el máximo órgano del Sistema Andino de Integración (SAI), que se encarga de emitir Directrices sobre distintos ámbitos de la integración subregional andina, las cuales son instrumentadas y ejecutadas  por los órganos e instituciones del SAI. (Sesiona una vez al año de manera ordinaria)</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ocolo de Trujillo (1996) incorpora al Consejo en la estructura institucional de la CAN, como órgano máximo del SA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400" spc="-1" strike="noStrike">
              <a:solidFill>
                <a:srgbClr val="ffffff"/>
              </a:solidFill>
              <a:latin typeface="Arial"/>
            </a:endParaRPr>
          </a:p>
        </p:txBody>
      </p:sp>
      <p:sp>
        <p:nvSpPr>
          <p:cNvPr id="15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osición: Está integrado por los Jefes de Estados de los países miembros de la Comunidad Andina.</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 Juan Evo Morales Ayma </a:t>
            </a:r>
            <a:r>
              <a:rPr b="0" lang="es-ES_tradnl" sz="2200" spc="-1" strike="noStrike">
                <a:solidFill>
                  <a:srgbClr val="000000"/>
                </a:solidFill>
                <a:latin typeface="Arial"/>
              </a:rPr>
              <a:t>(asume la presidencia en 2010)</a:t>
            </a:r>
            <a:endParaRPr b="0" lang="en-US" sz="2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lombia – Juan Manuel Santo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cuador – Rafael Correa  Delgado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ú – Alan García Pérez.</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Presidente ejerce el cargo por un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ff"/>
                </a:solidFill>
                <a:latin typeface="Arial"/>
              </a:rPr>
              <a:t>Funciones del Consejo</a:t>
            </a:r>
            <a:endParaRPr b="0" lang="en-US" sz="4200" spc="-1" strike="noStrike">
              <a:solidFill>
                <a:srgbClr val="ffffff"/>
              </a:solidFill>
              <a:latin typeface="Arial"/>
            </a:endParaRPr>
          </a:p>
        </p:txBody>
      </p:sp>
      <p:sp>
        <p:nvSpPr>
          <p:cNvPr id="153" name="PlaceHolder 2"/>
          <p:cNvSpPr>
            <a:spLocks noGrp="1"/>
          </p:cNvSpPr>
          <p:nvPr>
            <p:ph/>
          </p:nvPr>
        </p:nvSpPr>
        <p:spPr>
          <a:xfrm>
            <a:off x="250560" y="1267920"/>
            <a:ext cx="8713800" cy="558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br>
              <a:rPr sz="700"/>
            </a:br>
            <a:r>
              <a:rPr b="0" lang="es-ES_tradnl" sz="2400" spc="-1" strike="noStrike">
                <a:solidFill>
                  <a:srgbClr val="000000"/>
                </a:solidFill>
                <a:latin typeface="Arial"/>
              </a:rPr>
              <a:t>a) Definir la política de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 Orientar e impulsar las acciones en asuntos de interés de la Subregión en su conjunto, así como las relativas a la coordinación entre los órganos e instituciones del Sistema Andino de Integr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Evaluar el desarrollo y los resultados del proceso de la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 Considerar y emitir pronunciamientos sobre los informes, iniciativas y recomendaciones presentados por los órganos e instituciones del Sistema Andino de Integración;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 Examinar todas las cuestiones y asuntos relativos al desarrollo del proceso de la integración subregional andina y su proyección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UMBRE PRESIDENCIAL</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5" name="Picture 5" descr="Bachelet conversando com Rafael Correa, Oscar Arias, el rey Juan Carlos, Tabré Vázquez, Elias Saca y">
            <a:hlinkClick r:id="rId1"/>
          </p:cNvPr>
          <p:cNvPicPr/>
          <p:nvPr/>
        </p:nvPicPr>
        <p:blipFill>
          <a:blip r:embed="rId2"/>
          <a:stretch/>
        </p:blipFill>
        <p:spPr>
          <a:xfrm>
            <a:off x="395280" y="134136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341000"/>
            <a:ext cx="8229600" cy="4784760"/>
          </a:xfrm>
          <a:prstGeom prst="rect">
            <a:avLst/>
          </a:prstGeom>
          <a:noFill/>
          <a:ln w="0">
            <a:noFill/>
          </a:ln>
        </p:spPr>
        <p:txBody>
          <a:bodyPr anchor="t">
            <a:normAutofit fontScale="96000"/>
          </a:bodyPr>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rama:</a:t>
            </a:r>
            <a:r>
              <a:rPr b="0" lang="es-ES_tradnl" sz="1600" spc="-1" strike="noStrike">
                <a:solidFill>
                  <a:srgbClr val="000000"/>
                </a:solidFill>
                <a:latin typeface="Arial"/>
              </a:rPr>
              <a:t> </a:t>
            </a:r>
            <a:r>
              <a:rPr b="1" lang="es-ES_tradnl" sz="1600" spc="-1" strike="noStrike">
                <a:solidFill>
                  <a:srgbClr val="000000"/>
                </a:solidFill>
                <a:latin typeface="Arial"/>
              </a:rPr>
              <a:t>Declaración de Quirama</a:t>
            </a:r>
            <a:br>
              <a:rPr sz="1600"/>
            </a:br>
            <a:r>
              <a:rPr b="0" lang="es-ES_tradnl" sz="1600" spc="-1" strike="noStrike">
                <a:solidFill>
                  <a:srgbClr val="000000"/>
                </a:solidFill>
                <a:latin typeface="Arial"/>
              </a:rPr>
              <a:t>XIV Consejo Presidencial Andino</a:t>
            </a:r>
            <a:br>
              <a:rPr sz="1600"/>
            </a:br>
            <a:r>
              <a:rPr b="0" lang="es-ES_tradnl" sz="1600" spc="-1" strike="noStrike">
                <a:solidFill>
                  <a:srgbClr val="000000"/>
                </a:solidFill>
                <a:latin typeface="Arial"/>
              </a:rPr>
              <a:t>Recinto Quirama, 28 de junio de 2003.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s sobre 6 ejes temáticos (Decisión 592 Plan Integrado de Desarrollo Social PIDS): Dimensión política; Dimensión Social y Cultural; Dimensión Económica; Integración y Desarrollo Fronterizo; Desarrollo Sostenible; Institucionalidad.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to: XV Cumbre Presidencial Andina</a:t>
            </a:r>
            <a:r>
              <a:rPr b="0" lang="es-ES_tradnl" sz="1600" spc="-1" strike="noStrike">
                <a:solidFill>
                  <a:srgbClr val="000000"/>
                </a:solidFill>
                <a:latin typeface="Arial"/>
              </a:rPr>
              <a:t> </a:t>
            </a:r>
            <a:r>
              <a:rPr b="1" lang="es-ES_tradnl" sz="1600" spc="-1" strike="noStrike">
                <a:solidFill>
                  <a:srgbClr val="000000"/>
                </a:solidFill>
                <a:latin typeface="Arial"/>
              </a:rPr>
              <a:t>Declaración de San Francisco de Quito sobre </a:t>
            </a:r>
            <a:br>
              <a:rPr sz="1600"/>
            </a:br>
            <a:r>
              <a:rPr b="1" lang="es-ES_tradnl" sz="1600" spc="-1" strike="noStrike">
                <a:solidFill>
                  <a:srgbClr val="000000"/>
                </a:solidFill>
                <a:latin typeface="Arial"/>
              </a:rPr>
              <a:t>Establecimiento y Desarrollo de la Zona de Paz Andina</a:t>
            </a:r>
            <a:br>
              <a:rPr sz="1600"/>
            </a:br>
            <a:r>
              <a:rPr b="1" lang="es-ES_tradnl" sz="1600" spc="-1" strike="noStrike">
                <a:solidFill>
                  <a:srgbClr val="000000"/>
                </a:solidFill>
                <a:latin typeface="Arial"/>
              </a:rPr>
              <a:t>Quito - Ecuador, 12 de julio de 2004</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Lima</a:t>
            </a:r>
            <a:r>
              <a:rPr b="0" lang="es-ES_tradnl" sz="1600" spc="-1" strike="noStrike">
                <a:solidFill>
                  <a:srgbClr val="000000"/>
                </a:solidFill>
                <a:latin typeface="Arial"/>
              </a:rPr>
              <a:t> </a:t>
            </a:r>
            <a:r>
              <a:rPr b="1" lang="es-ES_tradnl" sz="1600" spc="-1" strike="noStrike">
                <a:solidFill>
                  <a:srgbClr val="000000"/>
                </a:solidFill>
                <a:latin typeface="Arial"/>
              </a:rPr>
              <a:t>:XVI Consejo Presidencial Andino</a:t>
            </a:r>
            <a:br>
              <a:rPr sz="1600"/>
            </a:br>
            <a:r>
              <a:rPr b="0" lang="es-ES_tradnl" sz="1600" spc="-1" strike="noStrike">
                <a:solidFill>
                  <a:srgbClr val="000000"/>
                </a:solidFill>
                <a:latin typeface="Arial"/>
              </a:rPr>
              <a:t> Lima, 18 de julio de 2005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1.- Reconocimiento y homologación de los certificados de educación y títulos de profesionales al interior de la CAN. 2.- Implementación del Fondo Humanitario So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VII Cumbre de la Comunidad Andina </a:t>
            </a:r>
            <a:r>
              <a:rPr b="0" lang="es-ES_tradnl" sz="1600" spc="-1" strike="noStrike">
                <a:solidFill>
                  <a:srgbClr val="000000"/>
                </a:solidFill>
                <a:latin typeface="Arial"/>
              </a:rPr>
              <a:t>(</a:t>
            </a:r>
            <a:r>
              <a:rPr b="1" lang="es-ES_tradnl" sz="1600" spc="-1" strike="noStrike">
                <a:solidFill>
                  <a:srgbClr val="000000"/>
                </a:solidFill>
                <a:latin typeface="Arial"/>
              </a:rPr>
              <a:t>CAN</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claración de Tarija, Bolivia. Junio 2007.</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 1.- Se inician las negociaciones para una asociación entre la Can y la UE en tres pilares básicos: diálogo político, cooperación y área comer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unión Extraordinaria del Consejo Presidencial Andino</a:t>
            </a:r>
            <a:r>
              <a:rPr b="0" lang="es-ES_tradnl" sz="1600" spc="-1" strike="noStrike">
                <a:solidFill>
                  <a:srgbClr val="000000"/>
                </a:solidFill>
                <a:latin typeface="Arial"/>
              </a:rPr>
              <a:t>. Guayaquil, Ecuador, octubre 2008.</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ó como tema central la Ciudadanía And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000" spc="-1" strike="noStrike">
                <a:solidFill>
                  <a:srgbClr val="000000"/>
                </a:solidFill>
                <a:latin typeface="Arial"/>
              </a:rPr>
              <a:t>La Presidenta Bachelet, en su participación en la XVII Cumbre de Presidentes de la Comunidad Andina, celebró el retorno de Chile a esa entidad, en calidad de socio comercial y manifestó que el objetivo “es sumar fuerzas” para acabar la pobreza y mejorar la economía de los países del grupo. </a:t>
            </a:r>
            <a:br>
              <a:rPr sz="2000"/>
            </a:br>
            <a:br>
              <a:rPr sz="2000"/>
            </a:br>
            <a:r>
              <a:rPr b="0" lang="es-ES_tradnl" sz="2000" spc="-1" strike="noStrike">
                <a:solidFill>
                  <a:srgbClr val="000000"/>
                </a:solidFill>
                <a:latin typeface="Arial"/>
              </a:rPr>
              <a:t>“Chile vuelve a donde nunca debió haberse ido, el paso que da Chile tiene enorme signific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La Cumbre de la CAN se centra, en el regreso de Chile al grupo y la apertura oficial de las negociaciones para un acuerdo de asociación con la Unión Europea (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Entre los puntos de la declaración de la Cumbre destacan el compromiso con la protección del medio ambiente, los derechos de los migrantes, de los pueblos indígenas y la lucha contra la corrup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uerdo: Reconocimiento y homologación de los certificados de educación y títulos profesionales al interior de la CAN</a:t>
            </a:r>
            <a:br>
              <a:rPr sz="2000"/>
            </a:b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Andino de Ministros de Relaciones Exteriores</a:t>
            </a:r>
            <a:endParaRPr b="0" lang="en-US" sz="38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do el 12 de noviembre de 1979, el Consejo Andino de Ministros de Relaciones Exteriores es el órgano de dirección política, integrado por los cancilleres de los Países Miembros, encargado de asegurar la consecución de los objetivos del proceso de la integración subregional y de formular y ejecutar la política exterior de la Comunidad And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57000"/>
            <a:ext cx="8229600" cy="511164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as reformas introducidas en el Acuerdo de Cartagena por el Protocolo de Trujillo (entró en vigencia en 1997), este órgano adquiere capacidad legislativa en materia de política exterior y forma parte de la estructura institucional andina.</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a su voluntad mediante Declaraciones y Decision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son manifestaciones de carácter no vinculante.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isiones son normas jurídicas que se rigen por lo establecido en el Tratado de Creación del Tribunal de Justicia el Acuerdo de Cartagena.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y decisiones deben ser adoptadas por consenso.</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tegrantes del Consejo Andino de Ministros de RREE</a:t>
            </a:r>
            <a:endParaRPr b="0" lang="en-US" sz="3800" spc="-1" strike="noStrike">
              <a:solidFill>
                <a:srgbClr val="ffffff"/>
              </a:solidFill>
              <a:latin typeface="Arial"/>
            </a:endParaRPr>
          </a:p>
        </p:txBody>
      </p:sp>
      <p:sp>
        <p:nvSpPr>
          <p:cNvPr id="160"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El Consejo Andino de Ministros de Relaciones Exteriores está presidido por el Ministro de Relaciones Exteriores del país que está a cargo de la presidencia del Consejo Presidencial Andin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ualmente lo preside David Choquehuanca Céspedes, Ministro de Relaciones Exteriores y Culto de Bolivia. (julio 2010 a julio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62"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responde al Consejo Andino de Ministros de Relaciones Exterior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ormular la política exterior de los Países Miembros en los asuntos que sean de interés subregional, así como orientar y coordinar la acción externa de los diversos órganos e instituciones del Sistema Andino de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Formular, ejecutar y evaluar, en coordinación con la Comisión, la política general del proceso de la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Dar cumplimiento a las Directrices que le imparte el Consejo Presidencial Andin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Suscribir Convenios y Acuerdos con terceros países o grupos de países o con organismos intern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412640"/>
            <a:ext cx="8229600" cy="544500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Coordinar la posición conjunta de los Países Miembros en foros y negociaciones internacion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Representar a la Comunidad Andina en los asuntos y actos de interés comú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Recomendar o adoptar las medidas que aseguren la consecución de los fines y objetivos del Acuerdo de Cartagen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 Aprobar el Reglamento de la Secretaría General y sus modificac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gro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 participación en la creación del Grupo Contadora y en el Grupo de Río (contribución a la paz en Centro Améric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tación del Protocolo de Truji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s-ES_tradnl" sz="3800" spc="-1" strike="noStrike">
                <a:solidFill>
                  <a:srgbClr val="ffffff"/>
                </a:solidFill>
                <a:latin typeface="Arial"/>
              </a:rPr>
              <a:t>Comisión</a:t>
            </a:r>
            <a:endParaRPr b="0" lang="en-US" sz="3800" spc="-1" strike="noStrike">
              <a:solidFill>
                <a:srgbClr val="ffffff"/>
              </a:solidFill>
              <a:latin typeface="Arial"/>
            </a:endParaRPr>
          </a:p>
        </p:txBody>
      </p:sp>
      <p:sp>
        <p:nvSpPr>
          <p:cNvPr id="166" name="PlaceHolder 2"/>
          <p:cNvSpPr>
            <a:spLocks noGrp="1"/>
          </p:cNvSpPr>
          <p:nvPr>
            <p:ph/>
          </p:nvPr>
        </p:nvSpPr>
        <p:spPr>
          <a:xfrm>
            <a:off x="-360" y="1628640"/>
            <a:ext cx="8893080" cy="522936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 creada el 26 de mayo de 1969. Es el órgano normativo del Sistema Andino de Integr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integrada por un representante plenipotenciario de cada uno de los Países Miembro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capacidad legislativa,  la comparte ahora con el Consejo Andino de Ministros de Relaciones Exteriores.-- Se expresa mediante decisiones.</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misión formula, ejecuta y evalúa la política de integración subregional andina en materia de comercio e inversion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opta las medidas necesarias para el logro de los objetivos del Acuerdo de Cartage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 por el cumplimiento de las Directrices del Consejo Presidencial Andino.</a:t>
            </a:r>
            <a:endParaRPr b="0" lang="en-US" sz="2000" spc="-1" strike="noStrike">
              <a:solidFill>
                <a:srgbClr val="000000"/>
              </a:solidFill>
              <a:latin typeface="Arial"/>
            </a:endParaRPr>
          </a:p>
          <a:p>
            <a:pPr marL="343080" indent="-343080">
              <a:lnSpc>
                <a:spcPct val="80000"/>
              </a:lnSpc>
              <a:spcBef>
                <a:spcPts val="1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ordina las posiciones conjuntas de los Países Miembros en foros y negociaciones internacionales en el ámbito de su competencia. </a:t>
            </a:r>
            <a:br>
              <a:rPr sz="2000"/>
            </a:br>
            <a:br>
              <a:rPr sz="600"/>
            </a:br>
            <a:r>
              <a:rPr b="0" lang="es-ES_tradnl"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Secretaría General</a:t>
            </a:r>
            <a:endParaRPr b="0" lang="en-US" sz="4200" spc="-1" strike="noStrike">
              <a:solidFill>
                <a:srgbClr val="ffffff"/>
              </a:solidFill>
              <a:latin typeface="Arial"/>
            </a:endParaRPr>
          </a:p>
        </p:txBody>
      </p:sp>
      <p:sp>
        <p:nvSpPr>
          <p:cNvPr id="168"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Órgano ejecutivo de la CAN. Con sede permanente en Lima (Per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partir del 1 de agosto de 1997, asumió , las atribuciones de la Junta del Acuerdo de Cartagen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rigida por un Secretario General, elegido por consenso por el Consejo Andino de Ministros de Relaciones Exteriores en reunión ampliada con la Comisión.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120" y="1980720"/>
            <a:ext cx="791388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ej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iden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dino</a:t>
            </a:r>
            <a:endParaRPr b="0" lang="en-US" sz="3200" spc="-1" strike="noStrike">
              <a:solidFill>
                <a:srgbClr val="000000"/>
              </a:solidFill>
              <a:latin typeface="Arial"/>
            </a:endParaRPr>
          </a:p>
        </p:txBody>
      </p:sp>
      <p:graphicFrame>
        <p:nvGraphicFramePr>
          <p:cNvPr id="97" name=""/>
          <p:cNvGraphicFramePr/>
          <p:nvPr/>
        </p:nvGraphicFramePr>
        <p:xfrm>
          <a:off x="324000" y="2492280"/>
          <a:ext cx="415800" cy="1844640"/>
        </p:xfrm>
        <a:graphic>
          <a:graphicData uri="http://schemas.openxmlformats.org/drawingml/2006/table">
            <a:tbl>
              <a:tblPr/>
              <a:tblGrid>
                <a:gridCol w="216000"/>
                <a:gridCol w="216000"/>
              </a:tblGrid>
              <a:tr h="18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8" name=""/>
          <p:cNvGraphicFramePr/>
          <p:nvPr/>
        </p:nvGraphicFramePr>
        <p:xfrm>
          <a:off x="1116000" y="2421000"/>
          <a:ext cx="360360" cy="2697120"/>
        </p:xfrm>
        <a:graphic>
          <a:graphicData uri="http://schemas.openxmlformats.org/drawingml/2006/table">
            <a:tbl>
              <a:tblPr/>
              <a:tblGrid>
                <a:gridCol w="360360"/>
              </a:tblGrid>
              <a:tr h="270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63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9" name="Picture 44" descr=""/>
          <p:cNvPicPr/>
          <p:nvPr/>
        </p:nvPicPr>
        <p:blipFill>
          <a:blip r:embed="rId1"/>
          <a:stretch/>
        </p:blipFill>
        <p:spPr>
          <a:xfrm>
            <a:off x="3000240" y="500040"/>
            <a:ext cx="2000520" cy="2657520"/>
          </a:xfrm>
          <a:prstGeom prst="rect">
            <a:avLst/>
          </a:prstGeom>
          <a:ln w="0">
            <a:noFill/>
          </a:ln>
        </p:spPr>
      </p:pic>
      <p:pic>
        <p:nvPicPr>
          <p:cNvPr id="100" name="Picture 47" descr=""/>
          <p:cNvPicPr/>
          <p:nvPr/>
        </p:nvPicPr>
        <p:blipFill>
          <a:blip r:embed="rId2"/>
          <a:stretch/>
        </p:blipFill>
        <p:spPr>
          <a:xfrm>
            <a:off x="5214960" y="3286080"/>
            <a:ext cx="1785960" cy="2786040"/>
          </a:xfrm>
          <a:prstGeom prst="rect">
            <a:avLst/>
          </a:prstGeom>
          <a:ln w="0">
            <a:noFill/>
          </a:ln>
        </p:spPr>
      </p:pic>
      <p:pic>
        <p:nvPicPr>
          <p:cNvPr id="101" name="Picture 52" descr=""/>
          <p:cNvPicPr/>
          <p:nvPr/>
        </p:nvPicPr>
        <p:blipFill>
          <a:blip r:embed="rId3"/>
          <a:stretch/>
        </p:blipFill>
        <p:spPr>
          <a:xfrm>
            <a:off x="3000240" y="3286080"/>
            <a:ext cx="2000520" cy="2778120"/>
          </a:xfrm>
          <a:prstGeom prst="rect">
            <a:avLst/>
          </a:prstGeom>
          <a:ln w="0">
            <a:noFill/>
          </a:ln>
        </p:spPr>
      </p:pic>
      <p:pic>
        <p:nvPicPr>
          <p:cNvPr id="102" name="Picture 54" descr="http://www.presidencia.gob.pe/anexos/alan.jpg"/>
          <p:cNvPicPr/>
          <p:nvPr/>
        </p:nvPicPr>
        <p:blipFill>
          <a:blip r:embed="rId4"/>
          <a:stretch/>
        </p:blipFill>
        <p:spPr>
          <a:xfrm>
            <a:off x="5214960" y="500040"/>
            <a:ext cx="1873080" cy="264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0"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 capacidad  propositiva,  formula Propuestas  al Consejo Andino de Ministros de Relaciones Exteriores y a la Comisión, así como iniciativas y sugerencias a la reunión ampliada del citado Consejo, para facilitar o acelerar el cumplimiento del Acuerdo de Cartagena. </a:t>
            </a:r>
            <a:br>
              <a:rPr sz="2000"/>
            </a:br>
            <a:br>
              <a:rPr sz="2000"/>
            </a:br>
            <a:r>
              <a:rPr b="0" lang="es-ES_tradnl" sz="2000" spc="-1" strike="noStrike">
                <a:solidFill>
                  <a:srgbClr val="000000"/>
                </a:solidFill>
                <a:latin typeface="Arial"/>
              </a:rPr>
              <a:t>Administra el proceso de  integración subreg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resolver asuntos sometidos a su conside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r por el cumplimiento de los compromisos comunitar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tener vínculos permanentes con los Países Miembros y de trabajo con los órganos ejecutivos de las demás organizaciones regionales de integración y coopera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Tribunal de Justicia  Andino</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crea 28 de mayo de 19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el órgano jurisdiccional de la C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grado por 4 Magistrados representantes de cada uno de los Países Miembros, con competencia territorial en los cuatro países.</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n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rol de legalidad de las normas comunitarias,  acción de nul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rpreta las normas que conforman el Ordenamiento Jurídico de la CAN,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Mediante el Protocolo Modificatorio del Tratado de Creación del Tribunal de Justicia de la Comunidad Andina,  de mayo de 1996  que entró en vigencia en  1999, se le asignan nuevas competenci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Función Arbit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Jurisdicción Labo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Recurso por Omisión o Inactiv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nuevo Estatuto, fue aprobado el 22 de junio del 2001 por el Consejo de Ministros de Relaciones Exteri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Parlamento Andino </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do  el 25 de octubre de 197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el órgano deliberante de  la CAN de naturaleza comunitaria, que representa a los pueblos de la Comunidad Andina. Sede: Bogotá, Colom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integrantes son elegidos por medio de elecciones  directas y universales ( Protocolo Adicional al tratado constitutivo, abril de 199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r en la generación normativa del proceso, mediante sugerencias, a los órganos del Sistema, de proyectos de normas de interés común. </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mover la armonización de las legislaciones de los Países Miembros y de  las relaciones de cooperación y coordinación con los Parlamentos de los países andinos y  terceros países.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rporación Andina de Fomento   C.A.F. </a:t>
            </a:r>
            <a:endParaRPr b="0" lang="en-US" sz="38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rdo constitutivo de la CAF fue firmado el  7 de febrero de 1968  por los países que posteriormente conformarían el Grupo Andi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institución financiera internacional   integrada por accionistas de distintos países de América Latina y 22 bancos privados de la región andin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de en Caracas, Venezuel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iderada como el brazo   financiero de la C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como misión  apoyar al desarrollo sosteni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los programas de infraestructura que privilegia la UNASU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Fondo Latinoamericano de Reserva </a:t>
            </a:r>
            <a:br>
              <a:rPr sz="3800"/>
            </a:br>
            <a:r>
              <a:rPr b="0" lang="es-ES_tradnl" sz="3800" spc="-1" strike="noStrike">
                <a:solidFill>
                  <a:srgbClr val="ffffff"/>
                </a:solidFill>
                <a:latin typeface="Arial"/>
              </a:rPr>
              <a:t>FLAR</a:t>
            </a:r>
            <a:endParaRPr b="0" lang="en-US" sz="38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ió como una extensión del Fondo Andino de Reservas (F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stitución  creada en Noviembre de 1976.</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ituida por Bolivia, Colombia, Costa Rica, Ecuador, Perú y Venezuela,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como finalidad acudir en apoyo de las balanzas de pago de los Países Miembro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tribuye a la armonización de las políticas cambiarias, monetarias y financier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Hipólito Unanue de Salud</a:t>
            </a:r>
            <a:endParaRPr b="0" lang="en-US" sz="3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cisión 445 aprobada por el Consejo Andino de Ministros de RREE. El 10 de Agosto de 1998.</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de, Lima, Per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coordinar y apoyar los esfuerzos que realizan los países miembros,  para el mejoramiento de la salud de sus pueblos. </a:t>
            </a:r>
            <a:br>
              <a:rPr sz="2800"/>
            </a:br>
            <a:br>
              <a:rPr sz="2800"/>
            </a:br>
            <a:r>
              <a:rPr b="0" lang="es-ES_tradnl" sz="2800" spc="-1" strike="noStrike">
                <a:solidFill>
                  <a:srgbClr val="000000"/>
                </a:solidFill>
                <a:latin typeface="Arial"/>
              </a:rPr>
              <a:t>Horizonte está trazado por la construcción de la Agenda Social Andi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Simón Rodríguez </a:t>
            </a:r>
            <a:br>
              <a:rPr sz="3800"/>
            </a:br>
            <a:r>
              <a:rPr b="0" lang="es-ES_tradnl" sz="3800" spc="-1" strike="noStrike">
                <a:solidFill>
                  <a:srgbClr val="ffffff"/>
                </a:solidFill>
                <a:latin typeface="Arial"/>
              </a:rPr>
              <a:t>Socio-Laboral</a:t>
            </a:r>
            <a:endParaRPr b="0" lang="en-US" sz="38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nvenio Simón Rodríguez es el Foro de Debate, Participación y Coordinación para los temas sociolaborales de la Comunidad Andina y forma parte del Sistema Andino de Integración (SAI). Participan de sus trabajos, en igualdad de número y condiciones, representantes del Consejo Asesor de Ministros de Trabajo y de los Consejos Consultivos Empresarial y Laboral Andinos.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jetivo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1. Proponer y debatir iniciativas en los temas vinculados al ámbito sociolaboral que signifiquen un aporte efectivo al desarrollo de la Agenda Social de la Subregión, contribuyendo con la actividad de los demás órganos del Sistema Andino de Integración (SAI).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Definir y coordinar las políticas comunitarias referentes al fomento del empleo, la formación y capacitación laboral, la seguridad y salud en el trabajo, la seguridad social, las migraciones laborales; así como otros temas que puedan determinar los Países Miembros; y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Proponer y diseñar acciones de cooperación y coordinación entre los Países Miembros en la temática sociolaboral andina.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Consultivo Empresarial</a:t>
            </a:r>
            <a:endParaRPr b="0" lang="en-US" sz="38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ige por las Decisiones 442 y 464 </a:t>
            </a:r>
            <a:br>
              <a:rPr sz="2400"/>
            </a:br>
            <a:r>
              <a:rPr b="0" lang="es-ES_tradnl" sz="2400" spc="-1" strike="noStrike">
                <a:solidFill>
                  <a:srgbClr val="000000"/>
                </a:solidFill>
                <a:latin typeface="Arial"/>
              </a:rPr>
              <a:t>en cumplimiento de la Directriz del Consejo Presidencial Andino que disponía “una mayor participación del sector empresarial en la construcción del proceso de integración tendiente a conformar el mercado común".</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itución consultiva del Sistema Andino de Integración y está integrada por cuatro delegados elegidos entre los directivos  de las organizaciones empresariales representativas de cada uno de los Países Miembros. </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4000" y="1628280"/>
            <a:ext cx="792468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e opinión an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Andino de Ministros de Relaciones Exterior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misió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la Secretaría General de la CA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opinión se da a solicitud de  dichos órganos o por propia iniciativa, sobre los programas o actividades del proceso de integración. </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88" name="4 Rectángulo"/>
          <p:cNvSpPr/>
          <p:nvPr/>
        </p:nvSpPr>
        <p:spPr>
          <a:xfrm>
            <a:off x="653760" y="500040"/>
            <a:ext cx="2291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un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grpSp>
        <p:nvGrpSpPr>
          <p:cNvPr id="105" name="Group 4"/>
          <p:cNvGrpSpPr/>
          <p:nvPr/>
        </p:nvGrpSpPr>
        <p:grpSpPr>
          <a:xfrm>
            <a:off x="250920" y="-171360"/>
            <a:ext cx="8892720" cy="6768360"/>
            <a:chOff x="250920" y="-171360"/>
            <a:chExt cx="8892720" cy="6768360"/>
          </a:xfrm>
        </p:grpSpPr>
        <p:pic>
          <p:nvPicPr>
            <p:cNvPr id="106" name="Picture 23" descr="home_espanolmapa1"/>
            <p:cNvPicPr/>
            <p:nvPr/>
          </p:nvPicPr>
          <p:blipFill>
            <a:blip r:embed="rId1"/>
            <a:stretch/>
          </p:blipFill>
          <p:spPr>
            <a:xfrm>
              <a:off x="250920" y="310320"/>
              <a:ext cx="8892720" cy="6286680"/>
            </a:xfrm>
            <a:prstGeom prst="rect">
              <a:avLst/>
            </a:prstGeom>
            <a:ln w="0">
              <a:noFill/>
            </a:ln>
          </p:spPr>
        </p:pic>
        <p:sp>
          <p:nvSpPr>
            <p:cNvPr id="107" name="Rectangle 21">
              <a:hlinkClick r:id="rId2"/>
            </p:cNvPr>
            <p:cNvSpPr/>
            <p:nvPr/>
          </p:nvSpPr>
          <p:spPr>
            <a:xfrm>
              <a:off x="1738440" y="2622240"/>
              <a:ext cx="976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0">
              <a:hlinkClick r:id="rId3"/>
            </p:cNvPr>
            <p:cNvSpPr/>
            <p:nvPr/>
          </p:nvSpPr>
          <p:spPr>
            <a:xfrm>
              <a:off x="1639080" y="4039560"/>
              <a:ext cx="178812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a:hlinkClick r:id="rId4"/>
            </p:cNvPr>
            <p:cNvSpPr/>
            <p:nvPr/>
          </p:nvSpPr>
          <p:spPr>
            <a:xfrm>
              <a:off x="1042560" y="3320640"/>
              <a:ext cx="1821960" cy="51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a:hlinkClick r:id="rId5"/>
            </p:cNvPr>
            <p:cNvSpPr/>
            <p:nvPr/>
          </p:nvSpPr>
          <p:spPr>
            <a:xfrm>
              <a:off x="3477240" y="4658040"/>
              <a:ext cx="1771920" cy="49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7">
              <a:hlinkClick r:id="rId6"/>
            </p:cNvPr>
            <p:cNvSpPr/>
            <p:nvPr/>
          </p:nvSpPr>
          <p:spPr>
            <a:xfrm>
              <a:off x="5331960" y="4039560"/>
              <a:ext cx="2268720" cy="5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a:hlinkClick r:id="rId7"/>
            </p:cNvPr>
            <p:cNvSpPr/>
            <p:nvPr/>
          </p:nvSpPr>
          <p:spPr>
            <a:xfrm>
              <a:off x="5928120" y="3220920"/>
              <a:ext cx="180504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a:hlinkClick r:id="rId8"/>
            </p:cNvPr>
            <p:cNvSpPr/>
            <p:nvPr/>
          </p:nvSpPr>
          <p:spPr>
            <a:xfrm>
              <a:off x="5977800" y="2502360"/>
              <a:ext cx="18050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a:hlinkClick r:id="rId9"/>
            </p:cNvPr>
            <p:cNvSpPr/>
            <p:nvPr/>
          </p:nvSpPr>
          <p:spPr>
            <a:xfrm>
              <a:off x="5762520" y="1764720"/>
              <a:ext cx="1821240" cy="47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a:hlinkClick r:id="rId10"/>
            </p:cNvPr>
            <p:cNvSpPr/>
            <p:nvPr/>
          </p:nvSpPr>
          <p:spPr>
            <a:xfrm>
              <a:off x="5232240" y="1285560"/>
              <a:ext cx="1738440" cy="25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2">
              <a:hlinkClick r:id="rId11"/>
            </p:cNvPr>
            <p:cNvSpPr/>
            <p:nvPr/>
          </p:nvSpPr>
          <p:spPr>
            <a:xfrm>
              <a:off x="1887480" y="2063160"/>
              <a:ext cx="9932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1">
              <a:hlinkClick r:id="rId12"/>
            </p:cNvPr>
            <p:cNvSpPr/>
            <p:nvPr/>
          </p:nvSpPr>
          <p:spPr>
            <a:xfrm>
              <a:off x="1490040" y="1225440"/>
              <a:ext cx="1854360" cy="53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a:hlinkClick r:id="rId13"/>
            </p:cNvPr>
            <p:cNvSpPr/>
            <p:nvPr/>
          </p:nvSpPr>
          <p:spPr>
            <a:xfrm>
              <a:off x="3394080" y="706320"/>
              <a:ext cx="200412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a:hlinkClick r:id="rId14"/>
            </p:cNvPr>
            <p:cNvSpPr/>
            <p:nvPr/>
          </p:nvSpPr>
          <p:spPr>
            <a:xfrm>
              <a:off x="5762520" y="-150840"/>
              <a:ext cx="61272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
              <a:hlinkClick r:id="rId15"/>
            </p:cNvPr>
            <p:cNvSpPr/>
            <p:nvPr/>
          </p:nvSpPr>
          <p:spPr>
            <a:xfrm>
              <a:off x="4619520" y="-150840"/>
              <a:ext cx="97668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a:hlinkClick r:id="rId16"/>
            </p:cNvPr>
            <p:cNvSpPr/>
            <p:nvPr/>
          </p:nvSpPr>
          <p:spPr>
            <a:xfrm>
              <a:off x="3460320" y="-150840"/>
              <a:ext cx="101016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a:hlinkClick r:id="rId17"/>
            </p:cNvPr>
            <p:cNvSpPr/>
            <p:nvPr/>
          </p:nvSpPr>
          <p:spPr>
            <a:xfrm>
              <a:off x="2467080" y="-171360"/>
              <a:ext cx="828000" cy="33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3" name=""/>
          <p:cNvGraphicFramePr/>
          <p:nvPr/>
        </p:nvGraphicFramePr>
        <p:xfrm>
          <a:off x="0" y="0"/>
          <a:ext cx="208080" cy="884160"/>
        </p:xfrm>
        <a:graphic>
          <a:graphicData uri="http://schemas.openxmlformats.org/drawingml/2006/table">
            <a:tbl>
              <a:tblPr/>
              <a:tblGrid>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4" name=""/>
          <p:cNvGraphicFramePr/>
          <p:nvPr/>
        </p:nvGraphicFramePr>
        <p:xfrm>
          <a:off x="9360" y="9360"/>
          <a:ext cx="4972320" cy="517680"/>
        </p:xfrm>
        <a:graphic>
          <a:graphicData uri="http://schemas.openxmlformats.org/drawingml/2006/table">
            <a:tbl>
              <a:tblPr/>
              <a:tblGrid>
                <a:gridCol w="4972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Consultivo Laboral </a:t>
            </a:r>
            <a:endParaRPr b="0" lang="en-US" sz="4200" spc="-1" strike="noStrike">
              <a:solidFill>
                <a:srgbClr val="ffffff"/>
              </a:solidFill>
              <a:latin typeface="Arial"/>
            </a:endParaRPr>
          </a:p>
        </p:txBody>
      </p:sp>
      <p:sp>
        <p:nvSpPr>
          <p:cNvPr id="190" name="PlaceHolder 2"/>
          <p:cNvSpPr>
            <a:spLocks noGrp="1"/>
          </p:cNvSpPr>
          <p:nvPr>
            <p:ph/>
          </p:nvPr>
        </p:nvSpPr>
        <p:spPr>
          <a:xfrm>
            <a:off x="609480" y="1412640"/>
            <a:ext cx="7925040" cy="46069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ige por las Decisiones 441,  464 ,y 49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osició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grado por delegados de alto nivel, elegidos directamente por las organizaciones representativas del sector labo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itir opinión ante el Consejo de Ministros, la Comisión o la secretaría Gene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stir a las reuniones de expertos gubernamentales o grupos de trabajo vinculados con el proceso de integ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icipar con derecho a voz en las reuniones del Consejo de Minist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ner la adopción de políticas socio laborales para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 mayor acercamiento con las actividades que desarrolla el Consejo Consultivo Empresari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ificación  e integración de los organismos laborales de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Universidad Andina Simón Bolívar</a:t>
            </a:r>
            <a:endParaRPr b="0" lang="en-US" sz="38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reada en  1985,  durante el 5º periodo de sesiones del Parlamento Andino del 11 al 16 de Septiembre de ese añ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su sede  en Sucre, Bolivi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stitución del Sistema Andino de Integr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Funciones: Dedicada a la investigación, la enseñanza, la formación post-universitaria y la prestación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Logros</a:t>
            </a: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Zona de Libre Comercio en funcionamiento desde 1993 en Bolivia, Colombia, Ecuador y Venezuela, a la que terminó de incorporarse el Perú el 1 de enero de 2006.•</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arancel externo común vigente desde el 1 de febrero de 1995•La liberación de los servicios de transporte en sus diferentes modalidad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en más de 82 veces, de las exportaciones intrasubregionales, al pasar de 111 millones de dólares, en 1970, a 9 072 millones de dólares en 2005.•</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del componente manufacturero de los productos que comercializan los andinos entre sí, de 48 por ciento, en 1970, a más del 85 por ciento en el 2007•</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creación y fortalecimiento del orden jurídico andino</a:t>
            </a:r>
            <a:r>
              <a:rPr b="0" lang="es-ES_tradnl" sz="1600" spc="-1" strike="noStrike">
                <a:solidFill>
                  <a:srgbClr val="000000"/>
                </a:solidFill>
                <a:latin typeface="Arial"/>
              </a:rPr>
              <a:t> con la adopción de nuevas normas comunitarias, cuya característica más importante es la supranacionalida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vances en la </a:t>
            </a:r>
            <a:r>
              <a:rPr b="1" lang="es-ES_tradnl" sz="1600" spc="-1" strike="noStrike">
                <a:solidFill>
                  <a:srgbClr val="000000"/>
                </a:solidFill>
                <a:latin typeface="Arial"/>
              </a:rPr>
              <a:t>armonización de instrumentos y políticas económicas</a:t>
            </a:r>
            <a:r>
              <a:rPr b="0" lang="es-ES_tradnl" sz="1600" spc="-1" strike="noStrike">
                <a:solidFill>
                  <a:srgbClr val="000000"/>
                </a:solidFill>
                <a:latin typeface="Arial"/>
              </a:rPr>
              <a:t>: normas para prevenir y corregir las distorsiones a la competencia, las normas para la calificación de origen, técnicas y sanitarias, nomenclatura común, valoración, entre otras, además de regímenes comunes de inversión extranjera, propiedad intelectual, et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incorporación en la estructura orgánica del Sistema Andino de Integración del </a:t>
            </a:r>
            <a:r>
              <a:rPr b="1" lang="es-ES_tradnl" sz="1600" spc="-1" strike="noStrike">
                <a:solidFill>
                  <a:srgbClr val="000000"/>
                </a:solidFill>
                <a:latin typeface="Arial"/>
              </a:rPr>
              <a:t>Consejo Presidencial Andino</a:t>
            </a:r>
            <a:r>
              <a:rPr b="0" lang="es-ES_tradnl" sz="1600" spc="-1" strike="noStrike">
                <a:solidFill>
                  <a:srgbClr val="000000"/>
                </a:solidFill>
                <a:latin typeface="Arial"/>
              </a:rPr>
              <a:t> y el </a:t>
            </a:r>
            <a:r>
              <a:rPr b="1" lang="es-ES_tradnl" sz="1600" spc="-1" strike="noStrike">
                <a:solidFill>
                  <a:srgbClr val="000000"/>
                </a:solidFill>
                <a:latin typeface="Arial"/>
              </a:rPr>
              <a:t>Consejo Andino de Ministros de Relaciones Exteriores</a:t>
            </a:r>
            <a:r>
              <a:rPr b="0" lang="es-ES_tradnl" sz="1600" spc="-1" strike="noStrike">
                <a:solidFill>
                  <a:srgbClr val="000000"/>
                </a:solidFill>
                <a:latin typeface="Arial"/>
              </a:rPr>
              <a:t>, como órganos de dirección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acceso preferencial de los productos de los países andinos a la Unión Europea y a Estados Unidos</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por los Presidentes Andinos, en su IX cumbre, del </a:t>
            </a:r>
            <a:r>
              <a:rPr b="1" lang="es-ES_tradnl" sz="1600" spc="-1" strike="noStrike">
                <a:solidFill>
                  <a:srgbClr val="000000"/>
                </a:solidFill>
                <a:latin typeface="Arial"/>
              </a:rPr>
              <a:t>Consejo Asesor de Ministros de Hacienda, Finanzas, Bancos Centrales y responsables de Planeación Económica de la Comunidad Andina</a:t>
            </a:r>
            <a:r>
              <a:rPr b="0" lang="es-ES_tradnl" sz="1600" spc="-1" strike="noStrike">
                <a:solidFill>
                  <a:srgbClr val="000000"/>
                </a:solidFill>
                <a:latin typeface="Arial"/>
              </a:rPr>
              <a:t> con el encargo de avanzar en la armonización de políticas macroeconómic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un </a:t>
            </a:r>
            <a:r>
              <a:rPr b="1" lang="es-ES_tradnl" sz="1600" spc="-1" strike="noStrike">
                <a:solidFill>
                  <a:srgbClr val="000000"/>
                </a:solidFill>
                <a:latin typeface="Arial"/>
              </a:rPr>
              <a:t>Marco General de Principios y Normas para la Liberalización del Comercio de Servicios en la Comunidad Andina</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fortalecimiento del Sistema Andino de Integración (SAI) con la aprobación, por los ministros de Salud de la Subregión y de Chile, de la </a:t>
            </a:r>
            <a:r>
              <a:rPr b="1" lang="es-ES_tradnl" sz="1600" spc="-1" strike="noStrike">
                <a:solidFill>
                  <a:srgbClr val="000000"/>
                </a:solidFill>
                <a:latin typeface="Arial"/>
              </a:rPr>
              <a:t>adscripción del Convenio Hipólito Unanue al SAI</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irma de un </a:t>
            </a:r>
            <a:r>
              <a:rPr b="1" lang="es-ES_tradnl" sz="1600" spc="-1" strike="noStrike">
                <a:solidFill>
                  <a:srgbClr val="000000"/>
                </a:solidFill>
                <a:latin typeface="Arial"/>
              </a:rPr>
              <a:t>convenio entre la Comunidad Andina y Estados Unidos para el establecimiento del Consejo Andino-Estadounidense</a:t>
            </a:r>
            <a:r>
              <a:rPr b="0" lang="es-ES_tradnl" sz="1600" spc="-1" strike="noStrike">
                <a:solidFill>
                  <a:srgbClr val="000000"/>
                </a:solidFill>
                <a:latin typeface="Arial"/>
              </a:rPr>
              <a:t> que impulsará las exportaciones y atraerá invers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los </a:t>
            </a:r>
            <a:r>
              <a:rPr b="1" lang="es-ES_tradnl" sz="1600" spc="-1" strike="noStrike">
                <a:solidFill>
                  <a:srgbClr val="000000"/>
                </a:solidFill>
                <a:latin typeface="Arial"/>
              </a:rPr>
              <a:t>Lineamientos de Política Exterior Común</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l </a:t>
            </a:r>
            <a:r>
              <a:rPr b="1" lang="es-ES_tradnl" sz="1600" spc="-1" strike="noStrike">
                <a:solidFill>
                  <a:srgbClr val="000000"/>
                </a:solidFill>
                <a:latin typeface="Arial"/>
              </a:rPr>
              <a:t>Entendimiento de Cooperación en materia de Comercio e Inversiones entre la Comunidad Andina y Canadá</a:t>
            </a:r>
            <a:r>
              <a:rPr b="0" lang="es-ES_tradnl" sz="1600" spc="-1" strike="noStrike">
                <a:solidFill>
                  <a:srgbClr val="000000"/>
                </a:solidFill>
                <a:latin typeface="Arial"/>
              </a:rPr>
              <a:t>, por medio del cual las partes se comprometieron a intensificar y fortalecer sus rela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probación de las Normas que regulan el proceso de integración y liberalización del comercio de servicios de las telecomunicaciones en la Comunidad Andi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por el Consejo Andino de Ministros de Relaciones Exteriores la Comunidad Andina, de la </a:t>
            </a:r>
            <a:r>
              <a:rPr b="1" lang="es-ES_tradnl" sz="1600" spc="-1" strike="noStrike">
                <a:solidFill>
                  <a:srgbClr val="000000"/>
                </a:solidFill>
                <a:latin typeface="Arial"/>
              </a:rPr>
              <a:t>Política Comunitaria para la Integración y Desarrollo Fronterizo</a:t>
            </a:r>
            <a:r>
              <a:rPr b="0" lang="es-ES_tradnl" sz="1600" spc="-1" strike="noStrike">
                <a:solidFill>
                  <a:srgbClr val="000000"/>
                </a:solidFill>
                <a:latin typeface="Arial"/>
              </a:rPr>
              <a:t>, como un componente esencial del fortalecimiento y consolidación del proceso de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 un nuevo </a:t>
            </a:r>
            <a:r>
              <a:rPr b="1" lang="es-ES_tradnl" sz="1600" spc="-1" strike="noStrike">
                <a:solidFill>
                  <a:srgbClr val="000000"/>
                </a:solidFill>
                <a:latin typeface="Arial"/>
              </a:rPr>
              <a:t>convenio de complementación automotor</a:t>
            </a:r>
            <a:r>
              <a:rPr b="0" lang="es-ES_tradnl" sz="1600" spc="-1" strike="noStrike">
                <a:solidFill>
                  <a:srgbClr val="000000"/>
                </a:solidFill>
                <a:latin typeface="Arial"/>
              </a:rPr>
              <a:t>, que permitirá aprovechar mejor el mercado andino y sentar las bases para un mayor desarrollo del sector en la subreg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suscripción del Protocolo Adicional al Acuerdo de Cartagena </a:t>
            </a:r>
            <a:r>
              <a:rPr b="1" lang="es-ES_tradnl" sz="1600" spc="-1" strike="noStrike">
                <a:solidFill>
                  <a:srgbClr val="000000"/>
                </a:solidFill>
                <a:latin typeface="Arial"/>
              </a:rPr>
              <a:t>"Compromiso de la Comunidad Andina por la Democracia"</a:t>
            </a:r>
            <a:r>
              <a:rPr b="0" lang="es-ES_tradnl" sz="1600" spc="-1" strike="noStrike">
                <a:solidFill>
                  <a:srgbClr val="000000"/>
                </a:solidFill>
                <a:latin typeface="Arial"/>
              </a:rPr>
              <a:t>, por medio del cual Bolivia, Colombia, Ecuador, Perú y Venezuela establecen como "condiciones esenciales" para la cooperación y la integración "la plena vigencia de las instituciones democráticas y el estado de derecho" y acuerdan que sus disposiciones se apliquen en caso de producirse una ruptura del orden democrático en cualquiera de los Países Miembro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dopción de un nuevo </a:t>
            </a:r>
            <a:r>
              <a:rPr b="1" lang="es-ES_tradnl" sz="1600" spc="-1" strike="noStrike">
                <a:solidFill>
                  <a:srgbClr val="000000"/>
                </a:solidFill>
                <a:latin typeface="Arial"/>
              </a:rPr>
              <a:t>régimen común sobre propiedad industrial</a:t>
            </a:r>
            <a:r>
              <a:rPr b="0" lang="es-ES_tradnl" sz="1600" spc="-1" strike="noStrike">
                <a:solidFill>
                  <a:srgbClr val="000000"/>
                </a:solidFill>
                <a:latin typeface="Arial"/>
              </a:rPr>
              <a:t>, considerado como uno de los más desarrollados del hemisferio, que adecua la norma a lo estipulado en la materia en la Organización Mundial de Comercio (OM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y puesta en funcionamiento de la </a:t>
            </a:r>
            <a:r>
              <a:rPr b="1" lang="es-ES_tradnl" sz="1600" spc="-1" strike="noStrike">
                <a:solidFill>
                  <a:srgbClr val="000000"/>
                </a:solidFill>
                <a:latin typeface="Arial"/>
              </a:rPr>
              <a:t>Facultad de Integración de la Universidad Andina Simón Bolív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scripción del </a:t>
            </a:r>
            <a:r>
              <a:rPr b="1" lang="es-ES_tradnl" sz="1800" spc="-1" strike="noStrike">
                <a:solidFill>
                  <a:srgbClr val="000000"/>
                </a:solidFill>
                <a:latin typeface="Arial"/>
              </a:rPr>
              <a:t>Protocolo Sustitutorio del Convenio Simón Rodríguez</a:t>
            </a:r>
            <a:r>
              <a:rPr b="0" lang="es-ES_tradnl" sz="1800" spc="-1" strike="noStrike">
                <a:solidFill>
                  <a:srgbClr val="000000"/>
                </a:solidFill>
                <a:latin typeface="Arial"/>
              </a:rPr>
              <a:t>, foro idóneo de participación tripartita -gobiernos, empresarios y trabajadores- para fomentar la integración socio-laboral en la Comunidad Andina.</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robación del </a:t>
            </a:r>
            <a:r>
              <a:rPr b="1" lang="es-ES_tradnl" sz="1800" spc="-1" strike="noStrike">
                <a:solidFill>
                  <a:srgbClr val="000000"/>
                </a:solidFill>
                <a:latin typeface="Arial"/>
              </a:rPr>
              <a:t>Plan Andino de Cooperación para la Lucha contra las Drogas Ilícitas y Delitos Conexos</a:t>
            </a:r>
            <a:r>
              <a:rPr b="0" lang="es-ES_tradnl" sz="1800" spc="-1" strike="noStrike">
                <a:solidFill>
                  <a:srgbClr val="000000"/>
                </a:solidFill>
                <a:latin typeface="Arial"/>
              </a:rPr>
              <a:t>, que comprende los aspectos sobre prevención, interdicción, reducción de cultivos ilícitos y desarrollo alternativo, así como el control del desvío de precursores químicos, del lavado de activos y de tráfico de armas, municiones y explosiv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dan pasos de trascendental importancia para la libre circulación de personas con la creación del </a:t>
            </a:r>
            <a:r>
              <a:rPr b="1" lang="es-ES_tradnl" sz="1800" spc="-1" strike="noStrike">
                <a:solidFill>
                  <a:srgbClr val="000000"/>
                </a:solidFill>
                <a:latin typeface="Arial"/>
              </a:rPr>
              <a:t>Pasaporte Andino</a:t>
            </a:r>
            <a:r>
              <a:rPr b="0" lang="es-ES_tradnl" sz="1800" spc="-1" strike="noStrike">
                <a:solidFill>
                  <a:srgbClr val="000000"/>
                </a:solidFill>
                <a:latin typeface="Arial"/>
              </a:rPr>
              <a:t> y la aprobación de una norma comunitaria que permite a los  turistas andinos viajar entre Bolivia, Colombia, Ecuador y Perú portando solamente sus Documentos Nacionales de Identific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lso decisivo a la integración y el desarrollo fronterizo con la aprobación de normas comunitarias que disponen la creación de </a:t>
            </a:r>
            <a:r>
              <a:rPr b="1" lang="es-ES_tradnl" sz="1800" spc="-1" strike="noStrike">
                <a:solidFill>
                  <a:srgbClr val="000000"/>
                </a:solidFill>
                <a:latin typeface="Arial"/>
              </a:rPr>
              <a:t>Zonas de Integración Fronteriza (ZIF)</a:t>
            </a:r>
            <a:r>
              <a:rPr b="0" lang="es-ES_tradnl" sz="1800" spc="-1" strike="noStrike">
                <a:solidFill>
                  <a:srgbClr val="000000"/>
                </a:solidFill>
                <a:latin typeface="Arial"/>
              </a:rPr>
              <a:t> y de </a:t>
            </a:r>
            <a:r>
              <a:rPr b="1" lang="es-ES_tradnl" sz="1800" spc="-1" strike="noStrike">
                <a:solidFill>
                  <a:srgbClr val="000000"/>
                </a:solidFill>
                <a:latin typeface="Arial"/>
              </a:rPr>
              <a:t>Centros Binacionales de Atención en Frontera (CEBAF)</a:t>
            </a:r>
            <a:r>
              <a:rPr b="0" lang="es-ES_tradnl" sz="1800" spc="-1" strike="noStrike">
                <a:solidFill>
                  <a:srgbClr val="000000"/>
                </a:solidFill>
                <a:latin typeface="Arial"/>
              </a:rPr>
              <a:t> en la subregión 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l </a:t>
            </a:r>
            <a:r>
              <a:rPr b="1" lang="es-ES_tradnl" sz="1600" spc="-1" strike="noStrike">
                <a:solidFill>
                  <a:srgbClr val="000000"/>
                </a:solidFill>
                <a:latin typeface="Arial"/>
              </a:rPr>
              <a:t>Estatuto del Tribunal de Justicia de la Comunidad Andina</a:t>
            </a:r>
            <a:r>
              <a:rPr b="0" lang="es-ES_tradnl" sz="1600" spc="-1" strike="noStrike">
                <a:solidFill>
                  <a:srgbClr val="000000"/>
                </a:solidFill>
                <a:latin typeface="Arial"/>
              </a:rPr>
              <a:t>, con lo que se fortalece el sistema comunitario de solución de controversias y se agiliza, moderniza y hace más eficaces los procesos de este órgano del SAI</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aprobación de la </a:t>
            </a:r>
            <a:r>
              <a:rPr b="1" lang="es-ES_tradnl" sz="1600" spc="-1" strike="noStrike">
                <a:solidFill>
                  <a:srgbClr val="000000"/>
                </a:solidFill>
                <a:latin typeface="Arial"/>
              </a:rPr>
              <a:t>Carta Andina para la Paz y la Seguridad</a:t>
            </a:r>
            <a:r>
              <a:rPr b="0" lang="es-ES_tradnl" sz="1600" spc="-1" strike="noStrike">
                <a:solidFill>
                  <a:srgbClr val="000000"/>
                </a:solidFill>
                <a:latin typeface="Arial"/>
              </a:rPr>
              <a:t> que establece los principios y compromisos para la formulación de una política comunitaria de seguridad en la subregión, la instauración de una zona de paz, las acciones regionales en la lucha contra el terrorismo y la limitación de los gastos de la defensa externa, el control de las armas convencionales y la transpare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probación de la </a:t>
            </a:r>
            <a:r>
              <a:rPr b="1" lang="es-ES_tradnl" sz="1600" spc="-1" strike="noStrike">
                <a:solidFill>
                  <a:srgbClr val="000000"/>
                </a:solidFill>
                <a:latin typeface="Arial"/>
              </a:rPr>
              <a:t>Estrategia Regional de Biodiversidad para los Países del Trópico Andino</a:t>
            </a:r>
            <a:r>
              <a:rPr b="0" lang="es-ES_tradnl" sz="1600" spc="-1" strike="noStrike">
                <a:solidFill>
                  <a:srgbClr val="000000"/>
                </a:solidFill>
                <a:latin typeface="Arial"/>
              </a:rPr>
              <a:t>, la primera de carácter comunitario que adopta un grupo de países signatarios del Convenio sobre Diversidad Biológica, con el fin de facilitar la acción concurrente de los Estados, las comunidades indígenas, nativas afroamericanas y locales, el sector privado, la comunidad científica y la sociedad civil en est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adopción de la</a:t>
            </a:r>
            <a:r>
              <a:rPr b="1" lang="es-ES_tradnl" sz="1600" spc="-1" strike="noStrike">
                <a:solidFill>
                  <a:srgbClr val="000000"/>
                </a:solidFill>
                <a:latin typeface="Arial"/>
              </a:rPr>
              <a:t> Carta Andina para la Promoción y Protección de los Derechos Humanos"</a:t>
            </a:r>
            <a:r>
              <a:rPr b="0" lang="es-ES_tradnl" sz="1600" spc="-1" strike="noStrike">
                <a:solidFill>
                  <a:srgbClr val="000000"/>
                </a:solidFill>
                <a:latin typeface="Arial"/>
              </a:rPr>
              <a:t>, como instrumento que contiene principios generales, normas, ámbitos y mecanismos que garantizan la observancia, respeto, promoción y defensa de dichos derechos, en la subregión. Disponen que el carácter vinculante de esta Carta sea decidido por el Consejo Andino de Ministros de Relaciones Exteriores, en el momento oportu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lebración de un </a:t>
            </a:r>
            <a:r>
              <a:rPr b="1" lang="es-ES_tradnl" sz="1600" spc="-1" strike="noStrike">
                <a:solidFill>
                  <a:srgbClr val="000000"/>
                </a:solidFill>
                <a:latin typeface="Arial"/>
              </a:rPr>
              <a:t>Acuerdo de Complementación Económica entre la Comunidad Andina y el Mercosur</a:t>
            </a:r>
            <a:r>
              <a:rPr b="0" lang="es-ES_tradnl" sz="1600" spc="-1" strike="noStrike">
                <a:solidFill>
                  <a:srgbClr val="000000"/>
                </a:solidFill>
                <a:latin typeface="Arial"/>
              </a:rPr>
              <a:t> para la conformación de un Área de Libre Comerci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inicia el proceso de </a:t>
            </a:r>
            <a:r>
              <a:rPr b="1" lang="es-ES_tradnl" sz="1600" spc="-1" strike="noStrike">
                <a:solidFill>
                  <a:srgbClr val="000000"/>
                </a:solidFill>
                <a:latin typeface="Arial"/>
              </a:rPr>
              <a:t>integración eléctrica de los países de la Comunidad Andina</a:t>
            </a:r>
            <a:r>
              <a:rPr b="0" lang="es-ES_tradnl" sz="1600" spc="-1" strike="noStrike">
                <a:solidFill>
                  <a:srgbClr val="000000"/>
                </a:solidFill>
                <a:latin typeface="Arial"/>
              </a:rPr>
              <a:t>, al ponerse en operación la interconexión entre Ecuador y Colomb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t>
            </a:r>
            <a:r>
              <a:rPr b="1" lang="es-ES_tradnl" sz="1600" spc="-1" strike="noStrike">
                <a:solidFill>
                  <a:srgbClr val="000000"/>
                </a:solidFill>
                <a:latin typeface="Arial"/>
              </a:rPr>
              <a:t>entrada en vigencia del Protocolo de Sucre</a:t>
            </a:r>
            <a:r>
              <a:rPr b="0" lang="es-ES_tradnl" sz="1600" spc="-1" strike="noStrike">
                <a:solidFill>
                  <a:srgbClr val="000000"/>
                </a:solidFill>
                <a:latin typeface="Arial"/>
              </a:rPr>
              <a:t> que introduce modificaciones sustanciales en el texto actual del Acuerdo de Cartagena y consagra nuevos mecanismos que profundizarán la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 instrumentos normativos que permiten el </a:t>
            </a:r>
            <a:r>
              <a:rPr b="1" lang="es-ES_tradnl" sz="1600" spc="-1" strike="noStrike">
                <a:solidFill>
                  <a:srgbClr val="000000"/>
                </a:solidFill>
                <a:latin typeface="Arial"/>
              </a:rPr>
              <a:t>libre tránsito de trabajadores en el territorio de la Comunidad Andina</a:t>
            </a:r>
            <a:r>
              <a:rPr b="0" lang="es-ES_tradnl" sz="1600" spc="-1" strike="noStrike">
                <a:solidFill>
                  <a:srgbClr val="000000"/>
                </a:solidFill>
                <a:latin typeface="Arial"/>
              </a:rPr>
              <a:t>, garantizando su seguridad social y las condiciones de seguridad y salud en el trabaj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opción del </a:t>
            </a:r>
            <a:r>
              <a:rPr b="1" lang="es-ES_tradnl" sz="1600" spc="-1" strike="noStrike">
                <a:solidFill>
                  <a:srgbClr val="000000"/>
                </a:solidFill>
                <a:latin typeface="Arial"/>
              </a:rPr>
              <a:t>Plan Andino para la Prevención, Combate y Erradicación del Tráfico Ilícito de Armas Pequeñas y Ligeras</a:t>
            </a:r>
            <a:r>
              <a:rPr b="0" lang="es-ES_tradnl" sz="1600" spc="-1" strike="noStrike">
                <a:solidFill>
                  <a:srgbClr val="000000"/>
                </a:solidFill>
                <a:latin typeface="Arial"/>
              </a:rPr>
              <a:t>, con lo cual la Comunidad Andina se constituyó en el primer esquema de integración en el mundo que cuenta con un instrumento de carácter vinculante en l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de un </a:t>
            </a:r>
            <a:r>
              <a:rPr b="1" lang="es-ES_tradnl" sz="1600" spc="-1" strike="noStrike">
                <a:solidFill>
                  <a:srgbClr val="000000"/>
                </a:solidFill>
                <a:latin typeface="Arial"/>
              </a:rPr>
              <a:t>Mecanismo Andino de Cooperación en materia de Asistencia y Cooperación Consular </a:t>
            </a:r>
            <a:r>
              <a:rPr b="0" lang="es-ES_tradnl" sz="1600" spc="-1" strike="noStrike">
                <a:solidFill>
                  <a:srgbClr val="000000"/>
                </a:solidFill>
                <a:latin typeface="Arial"/>
              </a:rPr>
              <a:t>que permitirá, entre otros, a los consulados de los países de la CAN en el exterior, coordinar acciones de protección de los derechos fundamentales en beneficio de los nacionales de las naciones andin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irma del </a:t>
            </a:r>
            <a:r>
              <a:rPr b="1" lang="es-ES_tradnl" sz="1800" spc="-1" strike="noStrike">
                <a:solidFill>
                  <a:srgbClr val="000000"/>
                </a:solidFill>
                <a:latin typeface="Arial"/>
              </a:rPr>
              <a:t>Acuerdo de Diálogo Político y Cooperación entre la CAN y la Unión Europea</a:t>
            </a:r>
            <a:r>
              <a:rPr b="0" lang="es-ES_tradnl" sz="1800" spc="-1" strike="noStrike">
                <a:solidFill>
                  <a:srgbClr val="000000"/>
                </a:solidFill>
                <a:latin typeface="Arial"/>
              </a:rPr>
              <a:t> amplía la cooperación a nuevos ámbitos y crea las condiciones para negociar un Acuerdo de Asociación que incluye un Acuerdo de Libre Com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suscripción del </a:t>
            </a:r>
            <a:r>
              <a:rPr b="1" lang="es-ES_tradnl" sz="1800" spc="-1" strike="noStrike">
                <a:solidFill>
                  <a:srgbClr val="000000"/>
                </a:solidFill>
                <a:latin typeface="Arial"/>
              </a:rPr>
              <a:t>Acuerdo de Libre Comercio entre la Comunidad Andina y el Mercosur</a:t>
            </a:r>
            <a:r>
              <a:rPr b="0" lang="es-ES_tradnl" sz="1800" spc="-1" strike="noStrike">
                <a:solidFill>
                  <a:srgbClr val="000000"/>
                </a:solidFill>
                <a:latin typeface="Arial"/>
              </a:rPr>
              <a:t> permite dar un salto cualitativo en el proceso de conformación de un espacio sudamericano de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Creación del </a:t>
            </a:r>
            <a:r>
              <a:rPr b="1" lang="es-ES_tradnl" sz="1800" spc="-1" strike="noStrike">
                <a:solidFill>
                  <a:srgbClr val="000000"/>
                </a:solidFill>
                <a:latin typeface="Arial"/>
              </a:rPr>
              <a:t>Consejo Consultivo de Autoridades Municipales</a:t>
            </a:r>
            <a:r>
              <a:rPr b="0" lang="es-ES_tradnl" sz="1800" spc="-1" strike="noStrike">
                <a:solidFill>
                  <a:srgbClr val="000000"/>
                </a:solidFill>
                <a:latin typeface="Arial"/>
              </a:rPr>
              <a:t> con el fin de impulsar las acciones destinadas a fortalecer las ciudades como actores de la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Adopción de un nuevo Régimen común para evitar la doble tributación y prevenir la evasión fiscal en los países andin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os países de la CAN deciden </a:t>
            </a:r>
            <a:r>
              <a:rPr b="1" lang="es-ES_tradnl" sz="1800" spc="-1" strike="noStrike">
                <a:solidFill>
                  <a:srgbClr val="000000"/>
                </a:solidFill>
                <a:latin typeface="Arial"/>
              </a:rPr>
              <a:t>preservar, en las negociaciones comerciales con terceros, el ordenamiento jurídico andino</a:t>
            </a:r>
            <a:r>
              <a:rPr b="0" lang="es-ES_tradnl" sz="1800" spc="-1" strike="noStrike">
                <a:solidFill>
                  <a:srgbClr val="000000"/>
                </a:solidFill>
                <a:latin typeface="Arial"/>
              </a:rPr>
              <a:t> y hacer prevalecer la normativa comunitaria en sus relaciones recíproc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CAN se convierte en el único esquema de integración, además de la UE, en tener una política de seguridad común, al aprobar los </a:t>
            </a:r>
            <a:r>
              <a:rPr b="1" lang="es-ES_tradnl" sz="1800" spc="-1" strike="noStrike">
                <a:solidFill>
                  <a:srgbClr val="000000"/>
                </a:solidFill>
                <a:latin typeface="Arial"/>
              </a:rPr>
              <a:t>Lineamientos de la Política de Seguridad Externa Comú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rigen: Carta del Presidente de Chile Eduardo Fre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ontalva, 196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1600" spc="-1" strike="noStrike">
                <a:solidFill>
                  <a:srgbClr val="000000"/>
                </a:solidFill>
                <a:latin typeface="Arial"/>
              </a:rPr>
              <a:t>Se da en el contexto de la Primera Década del Desarrollo en América </a:t>
            </a:r>
            <a:r>
              <a:rPr b="0" lang="es-MX" sz="1600" spc="-1" strike="noStrike">
                <a:solidFill>
                  <a:srgbClr val="000000"/>
                </a:solidFill>
                <a:latin typeface="Arial"/>
              </a:rPr>
              <a:t>	</a:t>
            </a:r>
            <a:r>
              <a:rPr b="0" lang="es-MX" sz="1600" spc="-1" strike="noStrike">
                <a:solidFill>
                  <a:srgbClr val="000000"/>
                </a:solidFill>
                <a:latin typeface="Arial"/>
              </a:rPr>
              <a:t>Latina de la ONU en 1960 (the golden six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igido a: Raúl Prebis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osé Antonio Mayob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elipe Herre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rlos Sanz de Santa Marí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uesta: “Documento de los Cuatro”. “Proposiciones pa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creación del Mercado Común Latinoam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ide establecer una </a:t>
            </a:r>
            <a:r>
              <a:rPr b="1" lang="es-ES_tradnl" sz="1800" spc="-1" strike="noStrike">
                <a:solidFill>
                  <a:srgbClr val="000000"/>
                </a:solidFill>
                <a:latin typeface="Arial"/>
              </a:rPr>
              <a:t>Zona de Paz Andina</a:t>
            </a:r>
            <a:r>
              <a:rPr b="0" lang="es-ES_tradnl" sz="1800" spc="-1" strike="noStrike">
                <a:solidFill>
                  <a:srgbClr val="000000"/>
                </a:solidFill>
                <a:latin typeface="Arial"/>
              </a:rPr>
              <a:t> que brindará a la Comunidad Andina una herramienta para consolidar el mantenimiento de la paz y la convivencia pacífica entre los pueblo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vanza en el proceso de integración económica y financiera andina al aprobarse las </a:t>
            </a:r>
            <a:r>
              <a:rPr b="1" lang="es-ES_tradnl" sz="1800" spc="-1" strike="noStrike">
                <a:solidFill>
                  <a:srgbClr val="000000"/>
                </a:solidFill>
                <a:latin typeface="Arial"/>
              </a:rPr>
              <a:t>normas de armonización tributaria</a:t>
            </a:r>
            <a:r>
              <a:rPr b="0" lang="es-ES_tradnl" sz="1800" spc="-1" strike="noStrike">
                <a:solidFill>
                  <a:srgbClr val="000000"/>
                </a:solidFill>
                <a:latin typeface="Arial"/>
              </a:rPr>
              <a:t> en relación con impuestos tipo Valor Agregado y Selectivo al Consumo, únicas a nivel hemisféric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dopta una </a:t>
            </a:r>
            <a:r>
              <a:rPr b="1" lang="es-ES_tradnl" sz="1800" spc="-1" strike="noStrike">
                <a:solidFill>
                  <a:srgbClr val="000000"/>
                </a:solidFill>
                <a:latin typeface="Arial"/>
              </a:rPr>
              <a:t>Estrategia Andina para la Prevención y Atención de Desastres</a:t>
            </a:r>
            <a:r>
              <a:rPr b="0" lang="es-ES_tradnl" sz="1800" spc="-1" strike="noStrike">
                <a:solidFill>
                  <a:srgbClr val="000000"/>
                </a:solidFill>
                <a:latin typeface="Arial"/>
              </a:rPr>
              <a:t>, que incorpora una visión de desarrollo, en consonancia con la visión propiciada por Naciones Unid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fortalece la cultura de integración, al disponerse la </a:t>
            </a:r>
            <a:r>
              <a:rPr b="1" lang="es-ES_tradnl" sz="1800" spc="-1" strike="noStrike">
                <a:solidFill>
                  <a:srgbClr val="000000"/>
                </a:solidFill>
                <a:latin typeface="Arial"/>
              </a:rPr>
              <a:t>incorporación de la temática de la integración en los contenidos y programas educativos escolares</a:t>
            </a:r>
            <a:r>
              <a:rPr b="0" lang="es-ES_tradnl" sz="1800" spc="-1" strike="noStrike">
                <a:solidFill>
                  <a:srgbClr val="000000"/>
                </a:solidFill>
                <a:latin typeface="Arial"/>
              </a:rPr>
              <a:t> de los paíse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aprobación del </a:t>
            </a:r>
            <a:r>
              <a:rPr b="1" lang="es-ES_tradnl" sz="1800" spc="-1" strike="noStrike">
                <a:solidFill>
                  <a:srgbClr val="000000"/>
                </a:solidFill>
                <a:latin typeface="Arial"/>
              </a:rPr>
              <a:t>Plan Integrado de Desarrollo Social</a:t>
            </a:r>
            <a:r>
              <a:rPr b="0" lang="es-ES_tradnl" sz="1800" spc="-1" strike="noStrike">
                <a:solidFill>
                  <a:srgbClr val="000000"/>
                </a:solidFill>
                <a:latin typeface="Arial"/>
              </a:rPr>
              <a:t> (Decisión 601) permite a los países de la Comunidad Andina afrontar comunitariamente la pobreza, exclusión y desigualdad social en la subreg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6"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a un paso decisivo a hacia del establecimiento de la Comunidad Sudamericana de Naciones al protocolizarse los acuerdos suscritos por los países de la CAN y del Mercosu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Comunidad Andina se constituye en el primer grupo regional en el mundo en adoptar una norma comunitaria para el control y la vigilancia de sustancias químicas que se utilizan en la fabricación ilícita de estupefacientes y sustancias psicotrópic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rea en Cuzco la Comunidad Sudamericana de Naciones, un gran programa de desarrollo descentralizado, que se construiría a partir de la convergencia progresiva de la CAN y el MERCOSUR, sumando a Chile. Guyana y Surinam.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oloca a la Comunidad Andina en ruta hacia el Acuerdo de Asociación con la Unión Europea que incluya libre comercio, al lanzarse oficialmente el proceso de valoración conjunta de la integración andina en el marco de la reunión de la Comisión Mixta Andino-Europea, realizada en Brus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8" name="PlaceHolder 2"/>
          <p:cNvSpPr>
            <a:spLocks noGrp="1"/>
          </p:cNvSpPr>
          <p:nvPr>
            <p:ph/>
          </p:nvPr>
        </p:nvSpPr>
        <p:spPr>
          <a:xfrm>
            <a:off x="609480" y="1600200"/>
            <a:ext cx="7925040" cy="49975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opción de una norma comunitaria para la protección y promoción de la libre competencia en la subregión andina</a:t>
            </a:r>
            <a:r>
              <a:rPr b="0" lang="es-ES_tradnl" sz="1800" spc="-1" strike="noStrike">
                <a:solidFill>
                  <a:srgbClr val="000000"/>
                </a:solidFill>
                <a:latin typeface="Arial"/>
              </a:rPr>
              <a:t>, que responde a los requerimientos de la actual etapa del proceso de integración de apertura comercial y globaliz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alación</a:t>
            </a:r>
            <a:r>
              <a:rPr b="1" lang="es-ES_tradnl" sz="1800" spc="-1" strike="noStrike">
                <a:solidFill>
                  <a:srgbClr val="000000"/>
                </a:solidFill>
                <a:latin typeface="Arial"/>
              </a:rPr>
              <a:t> del Consejo Consultivo Andino de Autoridades Municipales</a:t>
            </a:r>
            <a:r>
              <a:rPr b="0" lang="es-ES_tradnl" sz="1800" spc="-1" strike="noStrike">
                <a:solidFill>
                  <a:srgbClr val="000000"/>
                </a:solidFill>
                <a:latin typeface="Arial"/>
              </a:rPr>
              <a:t> (CCAAM), con lo cual se amplía la base social de la integración andina con nuevos actor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otorga la condición de</a:t>
            </a:r>
            <a:r>
              <a:rPr b="1" lang="es-ES_tradnl" sz="1800" spc="-1" strike="noStrike">
                <a:solidFill>
                  <a:srgbClr val="000000"/>
                </a:solidFill>
                <a:latin typeface="Arial"/>
              </a:rPr>
              <a:t> Miembro Asociado de la Comunidad Andina </a:t>
            </a:r>
            <a:r>
              <a:rPr b="0" lang="es-ES_tradnl" sz="1800" spc="-1" strike="noStrike">
                <a:solidFill>
                  <a:srgbClr val="000000"/>
                </a:solidFill>
                <a:latin typeface="Arial"/>
              </a:rPr>
              <a:t>a</a:t>
            </a:r>
            <a:r>
              <a:rPr b="1" lang="es-ES_tradnl" sz="1800" spc="-1" strike="noStrike">
                <a:solidFill>
                  <a:srgbClr val="000000"/>
                </a:solidFill>
                <a:latin typeface="Arial"/>
              </a:rPr>
              <a:t> Argentina, Brasil, Paraguay y Urugua</a:t>
            </a:r>
            <a:r>
              <a:rPr b="0" lang="es-ES_tradnl" sz="1800" spc="-1" strike="noStrike">
                <a:solidFill>
                  <a:srgbClr val="000000"/>
                </a:solidFill>
                <a:latin typeface="Arial"/>
              </a:rPr>
              <a:t>y, atendiendo a una solicitud de estos países integrantes del Mercosur</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hesión</a:t>
            </a:r>
            <a:r>
              <a:rPr b="1" lang="es-ES_tradnl" sz="1800" spc="-1" strike="noStrike">
                <a:solidFill>
                  <a:srgbClr val="000000"/>
                </a:solidFill>
                <a:latin typeface="Arial"/>
              </a:rPr>
              <a:t> de Bolivia a </a:t>
            </a:r>
            <a:r>
              <a:rPr b="0" lang="es-ES_tradnl" sz="1800" spc="-1" strike="noStrike">
                <a:solidFill>
                  <a:srgbClr val="000000"/>
                </a:solidFill>
                <a:latin typeface="Arial"/>
              </a:rPr>
              <a:t>la norma comunitaria que establece las reglas comunes para</a:t>
            </a:r>
            <a:r>
              <a:rPr b="1" lang="es-ES_tradnl" sz="1800" spc="-1" strike="noStrike">
                <a:solidFill>
                  <a:srgbClr val="000000"/>
                </a:solidFill>
                <a:latin typeface="Arial"/>
              </a:rPr>
              <a:t> la interconexión subregional de sistemas eléctricos</a:t>
            </a:r>
            <a:r>
              <a:rPr b="0" lang="es-ES_tradnl" sz="1800" spc="-1" strike="noStrike">
                <a:solidFill>
                  <a:srgbClr val="000000"/>
                </a:solidFill>
                <a:latin typeface="Arial"/>
              </a:rPr>
              <a:t> e intercambio intracomunitario de electric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robación de una </a:t>
            </a:r>
            <a:r>
              <a:rPr b="1" lang="es-ES_tradnl" sz="1800" spc="-1" strike="noStrike">
                <a:solidFill>
                  <a:srgbClr val="000000"/>
                </a:solidFill>
                <a:latin typeface="Arial"/>
              </a:rPr>
              <a:t>nueva Estrategia Andina de Desarrollo Alternativo</a:t>
            </a:r>
            <a:r>
              <a:rPr b="0" lang="es-ES_tradnl" sz="1800" spc="-1" strike="noStrike">
                <a:solidFill>
                  <a:srgbClr val="000000"/>
                </a:solidFill>
                <a:latin typeface="Arial"/>
              </a:rPr>
              <a:t>, que refuerza el principio de responsabilidad compartida y adopta un enfoque integral y sostenible.</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prueba el establecimiento de un </a:t>
            </a:r>
            <a:r>
              <a:rPr b="1" lang="es-ES_tradnl" sz="1800" spc="-1" strike="noStrike">
                <a:solidFill>
                  <a:srgbClr val="000000"/>
                </a:solidFill>
                <a:latin typeface="Arial"/>
              </a:rPr>
              <a:t>Fondo para el Desarrollo Rural y la Productividad Agropecuaria</a:t>
            </a:r>
            <a:r>
              <a:rPr b="0" lang="es-ES_tradnl" sz="1800" spc="-1" strike="noStrike">
                <a:solidFill>
                  <a:srgbClr val="000000"/>
                </a:solidFill>
                <a:latin typeface="Arial"/>
              </a:rPr>
              <a:t>, para promover de forma integral y equitativa las zonas r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0" name="PlaceHolder 2"/>
          <p:cNvSpPr>
            <a:spLocks noGrp="1"/>
          </p:cNvSpPr>
          <p:nvPr>
            <p:ph/>
          </p:nvPr>
        </p:nvSpPr>
        <p:spPr>
          <a:xfrm>
            <a:off x="609480" y="1484280"/>
            <a:ext cx="7925040" cy="5184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da plenamente </a:t>
            </a:r>
            <a:r>
              <a:rPr b="1" lang="es-ES_tradnl" sz="2000" spc="-1" strike="noStrike">
                <a:solidFill>
                  <a:srgbClr val="000000"/>
                </a:solidFill>
                <a:latin typeface="Arial"/>
              </a:rPr>
              <a:t>configurada y perfeccionada la zona de libre comercio andina (ZLCA) </a:t>
            </a:r>
            <a:r>
              <a:rPr b="0" lang="es-ES_tradnl" sz="2000" spc="-1" strike="noStrike">
                <a:solidFill>
                  <a:srgbClr val="000000"/>
                </a:solidFill>
                <a:latin typeface="Arial"/>
              </a:rPr>
              <a:t>cuando el Perú culmina, el 1 de enero del 2006, el proceso de desgravación arancelaria previsto en la Decisión 414.</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pción de un </a:t>
            </a:r>
            <a:r>
              <a:rPr b="1" lang="es-ES_tradnl" sz="2000" spc="-1" strike="noStrike">
                <a:solidFill>
                  <a:srgbClr val="000000"/>
                </a:solidFill>
                <a:latin typeface="Arial"/>
              </a:rPr>
              <a:t>Memorando de Entendimiento entre la CAN y Venezuela </a:t>
            </a:r>
            <a:r>
              <a:rPr b="0" lang="es-ES_tradnl" sz="2000" spc="-1" strike="noStrike">
                <a:solidFill>
                  <a:srgbClr val="000000"/>
                </a:solidFill>
                <a:latin typeface="Arial"/>
              </a:rPr>
              <a:t>por medio del cual ambas partes acuerdan mantener la plena vigencia a las ventajas comerciales recibidas y otorgadas de conformidad con el Programa de Liberación de la subregión andin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aprueba la </a:t>
            </a:r>
            <a:r>
              <a:rPr b="1" lang="es-ES_tradnl" sz="2000" spc="-1" strike="noStrike">
                <a:solidFill>
                  <a:srgbClr val="000000"/>
                </a:solidFill>
                <a:latin typeface="Arial"/>
              </a:rPr>
              <a:t>incorporación de Chile a la CAN como País Miembro Asociado</a:t>
            </a:r>
            <a:r>
              <a:rPr b="0" lang="es-ES_tradnl" sz="2000" spc="-1" strike="noStrike">
                <a:solidFill>
                  <a:srgbClr val="000000"/>
                </a:solidFill>
                <a:latin typeface="Arial"/>
              </a:rPr>
              <a:t>, después de 30 años de ausenci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1" lang="es-ES_tradnl" sz="2000" spc="-1" strike="noStrike">
                <a:solidFill>
                  <a:srgbClr val="000000"/>
                </a:solidFill>
                <a:latin typeface="Arial"/>
              </a:rPr>
              <a:t>Se constituye la Red Académica Andina y de Organizaciones Sociales</a:t>
            </a:r>
            <a:r>
              <a:rPr b="0" lang="es-ES_tradnl" sz="2000" spc="-1" strike="noStrike">
                <a:solidFill>
                  <a:srgbClr val="000000"/>
                </a:solidFill>
                <a:latin typeface="Arial"/>
              </a:rPr>
              <a:t> (RAAOS) con el propósito de apoyar el desarrollo de la dimensión social del proceso andino y sudamericano de integració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a:t>
            </a:r>
            <a:r>
              <a:rPr b="1" lang="es-ES_tradnl" sz="2000" spc="-1" strike="noStrike">
                <a:solidFill>
                  <a:srgbClr val="000000"/>
                </a:solidFill>
                <a:latin typeface="Arial"/>
              </a:rPr>
              <a:t>Comunidad Andina y la Unión Europea inician negociaciones</a:t>
            </a:r>
            <a:r>
              <a:rPr b="0" lang="es-ES_tradnl" sz="2000" spc="-1" strike="noStrike">
                <a:solidFill>
                  <a:srgbClr val="000000"/>
                </a:solidFill>
                <a:latin typeface="Arial"/>
              </a:rPr>
              <a:t> para el establecimiento del </a:t>
            </a:r>
            <a:r>
              <a:rPr b="1" lang="es-ES_tradnl" sz="2000" spc="-1" strike="noStrike">
                <a:solidFill>
                  <a:srgbClr val="000000"/>
                </a:solidFill>
                <a:latin typeface="Arial"/>
              </a:rPr>
              <a:t>Acuerdo de Asociación</a:t>
            </a:r>
            <a:r>
              <a:rPr b="0" lang="es-ES_tradnl" sz="2000" spc="-1" strike="noStrike">
                <a:solidFill>
                  <a:srgbClr val="000000"/>
                </a:solidFill>
                <a:latin typeface="Arial"/>
              </a:rPr>
              <a:t> entre ambos bloques con tres pilares: </a:t>
            </a:r>
            <a:r>
              <a:rPr b="1" lang="es-ES_tradnl" sz="2000" spc="-1" strike="noStrike">
                <a:solidFill>
                  <a:srgbClr val="000000"/>
                </a:solidFill>
                <a:latin typeface="Arial"/>
              </a:rPr>
              <a:t>Diálogo Político, Cooperación y Comercio</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2" name="PlaceHolder 2"/>
          <p:cNvSpPr>
            <a:spLocks noGrp="1"/>
          </p:cNvSpPr>
          <p:nvPr>
            <p:ph/>
          </p:nvPr>
        </p:nvSpPr>
        <p:spPr>
          <a:xfrm>
            <a:off x="609480" y="1599840"/>
            <a:ext cx="7925040" cy="47084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ablece el </a:t>
            </a:r>
            <a:r>
              <a:rPr b="1" lang="es-ES_tradnl" sz="2000" spc="-1" strike="noStrike">
                <a:solidFill>
                  <a:srgbClr val="000000"/>
                </a:solidFill>
                <a:latin typeface="Arial"/>
              </a:rPr>
              <a:t>Consejo Consultivo de los Pueblos Indígenas de la Comunidad Andina</a:t>
            </a:r>
            <a:r>
              <a:rPr b="0" lang="es-ES_tradnl" sz="2000" spc="-1" strike="noStrike">
                <a:solidFill>
                  <a:srgbClr val="000000"/>
                </a:solidFill>
                <a:latin typeface="Arial"/>
              </a:rPr>
              <a:t> como instancia consultiva en el marco del Sistema Andino de Integración, para promover la participación activa de los pueblos indígenas en los asuntos vinculados con la integración subregional.</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Más de 1550 participantes del Encuentro Internacional sobre Cambio Climático </a:t>
            </a:r>
            <a:r>
              <a:rPr b="1" lang="es-ES_tradnl" sz="2000" spc="-1" strike="noStrike">
                <a:solidFill>
                  <a:srgbClr val="000000"/>
                </a:solidFill>
                <a:latin typeface="Arial"/>
              </a:rPr>
              <a:t>“Clima Latino” elaboran y presentan “21 propuestas para el siglo XXI”</a:t>
            </a:r>
            <a:r>
              <a:rPr b="0" lang="es-ES_tradnl" sz="2000" spc="-1" strike="noStrike">
                <a:solidFill>
                  <a:srgbClr val="000000"/>
                </a:solidFill>
                <a:latin typeface="Arial"/>
              </a:rPr>
              <a:t>, como un aporte a una Estrategia de América Latina para ser presentada en los distintos eventos sobre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Secretaría General de la CAN es escenario de un </a:t>
            </a:r>
            <a:r>
              <a:rPr b="1" lang="es-ES_tradnl" sz="2000" spc="-1" strike="noStrike">
                <a:solidFill>
                  <a:srgbClr val="000000"/>
                </a:solidFill>
                <a:latin typeface="Arial"/>
              </a:rPr>
              <a:t>histórico encuentro de la sociedad civil</a:t>
            </a:r>
            <a:r>
              <a:rPr b="0" lang="es-ES_tradnl" sz="2000" spc="-1" strike="noStrike">
                <a:solidFill>
                  <a:srgbClr val="000000"/>
                </a:solidFill>
                <a:latin typeface="Arial"/>
              </a:rPr>
              <a:t> de los cuatro países andinos para dialogar y formular </a:t>
            </a:r>
            <a:r>
              <a:rPr b="1" lang="es-ES_tradnl" sz="2000" spc="-1" strike="noStrike">
                <a:solidFill>
                  <a:srgbClr val="000000"/>
                </a:solidFill>
                <a:latin typeface="Arial"/>
              </a:rPr>
              <a:t>propuestas sobre las negociaciones entre la CAN y la UE </a:t>
            </a:r>
            <a:r>
              <a:rPr b="0" lang="es-ES_tradnl" sz="2000" spc="-1" strike="noStrike">
                <a:solidFill>
                  <a:srgbClr val="000000"/>
                </a:solidFill>
                <a:latin typeface="Arial"/>
              </a:rPr>
              <a:t>para el Acuerdo de Asociación entre ambos blo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14240" y="186660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intracomunitar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3.591 millones de dóla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primer semestre del año 2010 las exportaciones intra-comunitarias se han incrementado en 36 por ciento, respecto al mismo periodo del año anterior, pasando de 2.633 millones de dólares en el primer semestre de 2009 a 3.591 millones de dólares en el mismo periodo del año 2010, casi mil millones de dólares más que en el 20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o-Junio 2010</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ifras Económica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totales al mund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42.711 millones de dólar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s exportaciones extracomunitarias también se han incrementado, en 32 por ciento (4 puntos porcentuales menos que las intracomunitarias), pasando de 32.347 millones de dólares en el primer semestre de 2009 a 42.711 millones de dólares en el mismo periodo del presente añ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mportaciones de Bienes de la Comunidad Andina desde Chile</a:t>
            </a:r>
            <a:br>
              <a:rPr sz="2800"/>
            </a:br>
            <a:endParaRPr b="0" lang="en-US" sz="2800" spc="-1" strike="noStrike">
              <a:solidFill>
                <a:srgbClr val="ffffff"/>
              </a:solidFill>
              <a:latin typeface="Arial"/>
            </a:endParaRPr>
          </a:p>
        </p:txBody>
      </p:sp>
      <p:sp>
        <p:nvSpPr>
          <p:cNvPr id="218"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mportaciones de la Comunidad Andina, provenientes de Chile, alcanzaron los 2.326 millones de dólares en el año 2009, cifra inferior en 18 por ciento a las registradas en el año 2008. En los últimos diez años las importaciones andinas crecieron con una tasa acumulada promedio anual de 8 por ciento.</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2" descr=""/>
          <p:cNvPicPr/>
          <p:nvPr/>
        </p:nvPicPr>
        <p:blipFill>
          <a:blip r:embed="rId1"/>
          <a:stretch/>
        </p:blipFill>
        <p:spPr>
          <a:xfrm>
            <a:off x="142920" y="3822840"/>
            <a:ext cx="8858160" cy="2606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xportaciones de Bienes de la Comunidad Andina hacia Chile</a:t>
            </a:r>
            <a:br>
              <a:rPr sz="3200"/>
            </a:br>
            <a:endParaRPr b="0" lang="en-US" sz="3200" spc="-1" strike="noStrike">
              <a:solidFill>
                <a:srgbClr val="ffffff"/>
              </a:solidFill>
              <a:latin typeface="Arial"/>
            </a:endParaRPr>
          </a:p>
        </p:txBody>
      </p:sp>
      <p:sp>
        <p:nvSpPr>
          <p:cNvPr id="221" name=""/>
          <p:cNvSpPr txBox="1"/>
          <p:nvPr/>
        </p:nvSpPr>
        <p:spPr>
          <a:xfrm>
            <a:off x="609480" y="1599840"/>
            <a:ext cx="7925040" cy="4419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0" lang="es-ES_tradnl" sz="2200" spc="-1" strike="noStrike">
                <a:solidFill>
                  <a:srgbClr val="000000"/>
                </a:solidFill>
                <a:latin typeface="Arial"/>
              </a:rPr>
              <a:t>Las exportaciones andinas a Chile totalizaron 2.328 millones de dólares en el año 2009, cifra inferior en 46 por ciento a la registrada el año anterior. En los últimos diez años las exportaciones andinas crecieron con una tasa acumulada promedio anual de 13 por ciento.</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22" name="Picture 2" descr=""/>
          <p:cNvPicPr/>
          <p:nvPr/>
        </p:nvPicPr>
        <p:blipFill>
          <a:blip r:embed="rId1"/>
          <a:srcRect l="0" t="0" r="0" b="9419"/>
          <a:stretch/>
        </p:blipFill>
        <p:spPr>
          <a:xfrm>
            <a:off x="1285920" y="3397320"/>
            <a:ext cx="6429240" cy="3281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Noticias recientes</a:t>
            </a:r>
            <a:endParaRPr b="0" lang="en-US" sz="4200" spc="-1" strike="noStrike">
              <a:solidFill>
                <a:srgbClr val="ffffff"/>
              </a:solidFill>
              <a:latin typeface="Arial"/>
            </a:endParaRPr>
          </a:p>
        </p:txBody>
      </p:sp>
      <p:sp>
        <p:nvSpPr>
          <p:cNvPr id="2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2009, se celebró el 40º aniversario de la Comunidad Andina, y Chile organizó un evento en su conmemoración, en la Universidad Miguel de Cervant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ocasión de la Cumbre Birregional UE-ALC Madrid 2010, al finalizar el encuentro, 19 de mayo, los Mandatarios de los países de la CAN-UE, los mandatarios de los Países de la Comunidad Andina destacaron “la buena marcha” de las relaciones entre ambos bloques de integración y expresaron su voluntad de dar impulso a la lucha contra el problema mundial de las drogas y el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u parte, el 20 de mayo, Colombia y Perú, celebraron un Acuerdo de Libre Comercio con la UE y se seguirá negociando con Bolivia y Ecuador para alcanzar un pacto regional con la 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Recomendaciones del Documento de los Cuatro</a:t>
            </a:r>
            <a:endParaRPr b="0" lang="en-US" sz="38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Aprender a trabajar en comunidad, </a:t>
            </a:r>
            <a:r>
              <a:rPr b="0" i="1" lang="es-MX" sz="2800" spc="-1" strike="noStrike">
                <a:solidFill>
                  <a:srgbClr val="000000"/>
                </a:solidFill>
                <a:latin typeface="Arial"/>
              </a:rPr>
              <a:t>para alcanzar mayor gravitación política 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  </a:t>
            </a:r>
            <a:r>
              <a:rPr b="0" i="1" lang="es-MX" sz="2800" spc="-1" strike="noStrike">
                <a:solidFill>
                  <a:srgbClr val="000000"/>
                </a:solidFill>
                <a:latin typeface="Arial"/>
              </a:rPr>
              <a:t>el plano internacional</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necesidad de decisiones polí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No se ha formulado aún una política general de integración que establezca clara y distintamente los objetivos que se persigu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anteceden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ferencia de Bogotá ( 15/08/196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olom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hi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enez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epresentantes de Ecuador y Per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Su proyección en la creación del Conven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ndrés Bel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erencia de Presidentes, abril de1967: propició los acuerdos subregion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Acuerdo de Cartagena</a:t>
            </a:r>
            <a:r>
              <a:rPr b="0" lang="es-MX" sz="2800" spc="-1" strike="noStrike">
                <a:solidFill>
                  <a:srgbClr val="000000"/>
                </a:solidFill>
                <a:latin typeface="Arial"/>
              </a:rPr>
              <a:t>, 26 de mayo,  1969.(Carlos Lleras Restrep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Boliv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olomb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Ecuad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Perú</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3: Adhiere Venezuela</a:t>
            </a:r>
            <a:endParaRPr b="0" lang="en-US" sz="2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6: Se retira Chile </a:t>
            </a:r>
            <a:r>
              <a:rPr b="0" lang="es-MX" sz="2000" spc="-1" strike="noStrike">
                <a:solidFill>
                  <a:srgbClr val="000000"/>
                </a:solidFill>
                <a:latin typeface="Arial"/>
              </a:rPr>
              <a:t>(durante el Gobierno Militar)</a:t>
            </a:r>
            <a:endParaRPr b="0" lang="en-US" sz="2000" spc="-1" strike="noStrike">
              <a:solidFill>
                <a:srgbClr val="000000"/>
              </a:solidFill>
              <a:latin typeface="Arial"/>
            </a:endParaRPr>
          </a:p>
          <a:p>
            <a:pPr lvl="3" marL="1600200" indent="-228600">
              <a:lnSpc>
                <a:spcPct val="80000"/>
              </a:lnSpc>
              <a:spcBef>
                <a:spcPts val="3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Acuerdo de Cartagena le fijó condiciones a la Inversión Extranjera, lo que no fue aceptado por el Gobierno Militar por la incompatibilidad con su Política Económica.</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006: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 se reintegra como país asociado. </a:t>
            </a:r>
            <a:r>
              <a:rPr b="0" lang="es-MX"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200" spc="-1" strike="noStrike">
                <a:solidFill>
                  <a:srgbClr val="000000"/>
                </a:solidFill>
                <a:latin typeface="Arial"/>
              </a:rPr>
              <a:t>(</a:t>
            </a:r>
            <a:r>
              <a:rPr b="0" lang="es-CL" sz="2200" spc="-1" strike="noStrike">
                <a:solidFill>
                  <a:srgbClr val="000000"/>
                </a:solidFill>
                <a:latin typeface="Arial"/>
              </a:rPr>
              <a:t>20 de setiembre de 2006, mediante la Decisión 645)</a:t>
            </a:r>
            <a:r>
              <a:rPr b="0" lang="es-MX" sz="2200" spc="-1" strike="noStrike">
                <a:solidFill>
                  <a:srgbClr val="000000"/>
                </a:solidFill>
                <a:latin typeface="Arial"/>
              </a:rPr>
              <a:t>.</a:t>
            </a:r>
            <a:endParaRPr b="0" lang="en-US" sz="22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800" spc="-1" strike="noStrike">
                <a:solidFill>
                  <a:srgbClr val="000000"/>
                </a:solidFill>
                <a:latin typeface="Arial"/>
              </a:rPr>
              <a:t>- Venezuela se retira de la Comunidad Andina y solicita adhesión al MERCOSUR.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En proceso de adhesión).</a:t>
            </a:r>
            <a:endParaRPr b="0" lang="en-US" sz="22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ALC:  </a:t>
            </a:r>
            <a:r>
              <a:rPr b="0" lang="es-MX" sz="2800" spc="-1" strike="noStrike">
                <a:solidFill>
                  <a:srgbClr val="000000"/>
                </a:solidFill>
                <a:latin typeface="Arial"/>
              </a:rPr>
              <a:t>	</a:t>
            </a:r>
            <a:r>
              <a:rPr b="0" lang="es-MX" sz="2800" spc="-1" strike="noStrike">
                <a:solidFill>
                  <a:srgbClr val="000000"/>
                </a:solidFill>
                <a:latin typeface="Arial"/>
              </a:rPr>
              <a:t>Declara la compatibilidad d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uerdo de Cartagena con 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Tratado de Montevideo.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000" spc="-1" strike="noStrike">
                <a:solidFill>
                  <a:srgbClr val="000000"/>
                </a:solidFill>
                <a:latin typeface="Arial"/>
              </a:rPr>
              <a:t>(9 de Julio 1969 Resoluciones 202 y 203)</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12:19Z</dcterms:created>
  <dc:creator>WinuE</dc:creator>
  <dc:description/>
  <dc:language>en-US</dc:language>
  <cp:lastModifiedBy>Hermes Ortega</cp:lastModifiedBy>
  <dcterms:modified xsi:type="dcterms:W3CDTF">2010-09-30T04:14:52Z</dcterms:modified>
  <cp:revision>138</cp:revision>
  <dc:subject/>
  <dc:title>Diapositiva 1</dc:title>
</cp:coreProperties>
</file>