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3DAAE-3EF7-4922-9623-F915AC371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F3770-B0E8-4A17-8854-D43BD7366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129AE-D213-4314-95C3-4C152F2E6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F9926-FCF1-41F8-8482-FDBE4BAE7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82ADA7-22E9-4755-87BC-A4C6DEBB8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FA0CE-42EF-4BCA-8198-B01C214E8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2081A-8FAC-413F-98D2-554068635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70295-85D9-4AE9-B592-CC6DD665D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C0753-9BC1-4777-857D-4594D902A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4C2FC-043F-49F8-B716-10CEC6696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60EB7-3566-450E-A49A-990FA4F6A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5EA2F-82AB-48B5-956E-E3DBD916D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D1E24-A71B-4745-B0C5-332908877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89E5F-0A5C-4DAC-BCC4-6E688E009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597D7-F5F4-4ECE-8521-46861FDA3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21E0AF-AFCD-44F6-BF27-985DAB7BF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A2B9A-4133-4B07-814E-76F5B8A32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87AF7-50F2-4373-BC80-49212DDD0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FEF0A-A25F-4183-A380-B577FB3B1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FE99A-E64C-4007-A1E3-1241C811D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0B32E-D5FA-445A-9EFB-78B3D102F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4D0A2-642F-4195-ACF5-602BFC3C1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632E7-4E23-4334-A2E5-04B72D2C3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A9164-E2D4-4124-85B0-CC2EECF9E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
          <p:cNvSpPr/>
          <p:nvPr/>
        </p:nvSpPr>
        <p:spPr>
          <a:xfrm>
            <a:off x="3587760" y="54000"/>
            <a:ext cx="1982880" cy="654120"/>
          </a:xfrm>
          <a:custGeom>
            <a:avLst/>
            <a:gdLst/>
            <a:ahLst/>
            <a:rect l="l" t="t" r="r" b="b"/>
            <a:pathLst>
              <a:path w="1249" h="412">
                <a:moveTo>
                  <a:pt x="16" y="67"/>
                </a:moveTo>
                <a:lnTo>
                  <a:pt x="26" y="62"/>
                </a:lnTo>
                <a:lnTo>
                  <a:pt x="452" y="62"/>
                </a:lnTo>
                <a:lnTo>
                  <a:pt x="483" y="40"/>
                </a:lnTo>
                <a:lnTo>
                  <a:pt x="505" y="27"/>
                </a:lnTo>
                <a:lnTo>
                  <a:pt x="526" y="17"/>
                </a:lnTo>
                <a:lnTo>
                  <a:pt x="552" y="11"/>
                </a:lnTo>
                <a:lnTo>
                  <a:pt x="578" y="5"/>
                </a:lnTo>
                <a:lnTo>
                  <a:pt x="605" y="2"/>
                </a:lnTo>
                <a:lnTo>
                  <a:pt x="639" y="0"/>
                </a:lnTo>
                <a:lnTo>
                  <a:pt x="678" y="5"/>
                </a:lnTo>
                <a:lnTo>
                  <a:pt x="714" y="15"/>
                </a:lnTo>
                <a:lnTo>
                  <a:pt x="740" y="27"/>
                </a:lnTo>
                <a:lnTo>
                  <a:pt x="768" y="40"/>
                </a:lnTo>
                <a:lnTo>
                  <a:pt x="786" y="51"/>
                </a:lnTo>
                <a:lnTo>
                  <a:pt x="802" y="64"/>
                </a:lnTo>
                <a:lnTo>
                  <a:pt x="1209" y="62"/>
                </a:lnTo>
                <a:lnTo>
                  <a:pt x="1223" y="66"/>
                </a:lnTo>
                <a:lnTo>
                  <a:pt x="1233" y="73"/>
                </a:lnTo>
                <a:lnTo>
                  <a:pt x="1242" y="91"/>
                </a:lnTo>
                <a:lnTo>
                  <a:pt x="1246" y="112"/>
                </a:lnTo>
                <a:lnTo>
                  <a:pt x="1248" y="137"/>
                </a:lnTo>
                <a:lnTo>
                  <a:pt x="1248" y="349"/>
                </a:lnTo>
                <a:lnTo>
                  <a:pt x="809" y="350"/>
                </a:lnTo>
                <a:lnTo>
                  <a:pt x="700" y="409"/>
                </a:lnTo>
                <a:lnTo>
                  <a:pt x="523" y="411"/>
                </a:lnTo>
                <a:lnTo>
                  <a:pt x="437" y="346"/>
                </a:lnTo>
                <a:lnTo>
                  <a:pt x="46" y="349"/>
                </a:lnTo>
                <a:lnTo>
                  <a:pt x="0" y="349"/>
                </a:lnTo>
                <a:lnTo>
                  <a:pt x="0" y="152"/>
                </a:lnTo>
                <a:lnTo>
                  <a:pt x="0" y="123"/>
                </a:lnTo>
                <a:lnTo>
                  <a:pt x="5" y="94"/>
                </a:lnTo>
                <a:lnTo>
                  <a:pt x="9" y="80"/>
                </a:lnTo>
                <a:lnTo>
                  <a:pt x="16" y="6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
          <p:cNvSpPr/>
          <p:nvPr/>
        </p:nvSpPr>
        <p:spPr>
          <a:xfrm>
            <a:off x="3586320" y="452520"/>
            <a:ext cx="1984320" cy="304560"/>
          </a:xfrm>
          <a:custGeom>
            <a:avLst/>
            <a:gdLst/>
            <a:ahLst/>
            <a:rect l="l" t="t" r="r" b="b"/>
            <a:pathLst>
              <a:path w="1250" h="192">
                <a:moveTo>
                  <a:pt x="43" y="38"/>
                </a:moveTo>
                <a:lnTo>
                  <a:pt x="60" y="42"/>
                </a:lnTo>
                <a:lnTo>
                  <a:pt x="79" y="38"/>
                </a:lnTo>
                <a:lnTo>
                  <a:pt x="98" y="42"/>
                </a:lnTo>
                <a:lnTo>
                  <a:pt x="112" y="54"/>
                </a:lnTo>
                <a:lnTo>
                  <a:pt x="128" y="63"/>
                </a:lnTo>
                <a:lnTo>
                  <a:pt x="154" y="55"/>
                </a:lnTo>
                <a:lnTo>
                  <a:pt x="176" y="51"/>
                </a:lnTo>
                <a:lnTo>
                  <a:pt x="208" y="51"/>
                </a:lnTo>
                <a:lnTo>
                  <a:pt x="231" y="45"/>
                </a:lnTo>
                <a:lnTo>
                  <a:pt x="251" y="50"/>
                </a:lnTo>
                <a:lnTo>
                  <a:pt x="269" y="57"/>
                </a:lnTo>
                <a:lnTo>
                  <a:pt x="285" y="60"/>
                </a:lnTo>
                <a:lnTo>
                  <a:pt x="311" y="51"/>
                </a:lnTo>
                <a:lnTo>
                  <a:pt x="338" y="51"/>
                </a:lnTo>
                <a:lnTo>
                  <a:pt x="378" y="54"/>
                </a:lnTo>
                <a:lnTo>
                  <a:pt x="394" y="66"/>
                </a:lnTo>
                <a:lnTo>
                  <a:pt x="420" y="63"/>
                </a:lnTo>
                <a:lnTo>
                  <a:pt x="457" y="60"/>
                </a:lnTo>
                <a:lnTo>
                  <a:pt x="483" y="80"/>
                </a:lnTo>
                <a:lnTo>
                  <a:pt x="498" y="84"/>
                </a:lnTo>
                <a:lnTo>
                  <a:pt x="513" y="99"/>
                </a:lnTo>
                <a:lnTo>
                  <a:pt x="521" y="121"/>
                </a:lnTo>
                <a:lnTo>
                  <a:pt x="536" y="130"/>
                </a:lnTo>
                <a:lnTo>
                  <a:pt x="555" y="130"/>
                </a:lnTo>
                <a:lnTo>
                  <a:pt x="578" y="129"/>
                </a:lnTo>
                <a:lnTo>
                  <a:pt x="601" y="130"/>
                </a:lnTo>
                <a:lnTo>
                  <a:pt x="617" y="139"/>
                </a:lnTo>
                <a:lnTo>
                  <a:pt x="630" y="132"/>
                </a:lnTo>
                <a:lnTo>
                  <a:pt x="651" y="131"/>
                </a:lnTo>
                <a:lnTo>
                  <a:pt x="672" y="118"/>
                </a:lnTo>
                <a:lnTo>
                  <a:pt x="688" y="121"/>
                </a:lnTo>
                <a:lnTo>
                  <a:pt x="716" y="117"/>
                </a:lnTo>
                <a:lnTo>
                  <a:pt x="728" y="101"/>
                </a:lnTo>
                <a:lnTo>
                  <a:pt x="761" y="88"/>
                </a:lnTo>
                <a:lnTo>
                  <a:pt x="769" y="68"/>
                </a:lnTo>
                <a:lnTo>
                  <a:pt x="786" y="58"/>
                </a:lnTo>
                <a:lnTo>
                  <a:pt x="814" y="52"/>
                </a:lnTo>
                <a:lnTo>
                  <a:pt x="829" y="60"/>
                </a:lnTo>
                <a:lnTo>
                  <a:pt x="844" y="56"/>
                </a:lnTo>
                <a:lnTo>
                  <a:pt x="862" y="63"/>
                </a:lnTo>
                <a:lnTo>
                  <a:pt x="881" y="57"/>
                </a:lnTo>
                <a:lnTo>
                  <a:pt x="917" y="63"/>
                </a:lnTo>
                <a:lnTo>
                  <a:pt x="933" y="69"/>
                </a:lnTo>
                <a:lnTo>
                  <a:pt x="951" y="53"/>
                </a:lnTo>
                <a:lnTo>
                  <a:pt x="963" y="51"/>
                </a:lnTo>
                <a:lnTo>
                  <a:pt x="977" y="57"/>
                </a:lnTo>
                <a:lnTo>
                  <a:pt x="989" y="55"/>
                </a:lnTo>
                <a:lnTo>
                  <a:pt x="1006" y="38"/>
                </a:lnTo>
                <a:lnTo>
                  <a:pt x="1035" y="33"/>
                </a:lnTo>
                <a:lnTo>
                  <a:pt x="1049" y="35"/>
                </a:lnTo>
                <a:lnTo>
                  <a:pt x="1063" y="35"/>
                </a:lnTo>
                <a:lnTo>
                  <a:pt x="1084" y="15"/>
                </a:lnTo>
                <a:lnTo>
                  <a:pt x="1096" y="6"/>
                </a:lnTo>
                <a:lnTo>
                  <a:pt x="1112" y="10"/>
                </a:lnTo>
                <a:lnTo>
                  <a:pt x="1130" y="32"/>
                </a:lnTo>
                <a:lnTo>
                  <a:pt x="1148" y="18"/>
                </a:lnTo>
                <a:lnTo>
                  <a:pt x="1164" y="0"/>
                </a:lnTo>
                <a:lnTo>
                  <a:pt x="1179" y="1"/>
                </a:lnTo>
                <a:lnTo>
                  <a:pt x="1195" y="38"/>
                </a:lnTo>
                <a:lnTo>
                  <a:pt x="1209" y="32"/>
                </a:lnTo>
                <a:lnTo>
                  <a:pt x="1227" y="16"/>
                </a:lnTo>
                <a:lnTo>
                  <a:pt x="1241" y="16"/>
                </a:lnTo>
                <a:lnTo>
                  <a:pt x="1249" y="28"/>
                </a:lnTo>
                <a:lnTo>
                  <a:pt x="1249" y="122"/>
                </a:lnTo>
                <a:lnTo>
                  <a:pt x="822" y="144"/>
                </a:lnTo>
                <a:lnTo>
                  <a:pt x="692" y="183"/>
                </a:lnTo>
                <a:lnTo>
                  <a:pt x="563" y="191"/>
                </a:lnTo>
                <a:lnTo>
                  <a:pt x="499" y="156"/>
                </a:lnTo>
                <a:lnTo>
                  <a:pt x="441" y="98"/>
                </a:lnTo>
                <a:lnTo>
                  <a:pt x="0" y="88"/>
                </a:lnTo>
                <a:lnTo>
                  <a:pt x="0" y="19"/>
                </a:lnTo>
                <a:lnTo>
                  <a:pt x="7" y="30"/>
                </a:lnTo>
                <a:lnTo>
                  <a:pt x="18" y="33"/>
                </a:lnTo>
                <a:lnTo>
                  <a:pt x="32" y="34"/>
                </a:lnTo>
                <a:lnTo>
                  <a:pt x="43"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 name=""/>
          <p:cNvSpPr/>
          <p:nvPr/>
        </p:nvSpPr>
        <p:spPr>
          <a:xfrm>
            <a:off x="3586320" y="507960"/>
            <a:ext cx="1984320" cy="306360"/>
          </a:xfrm>
          <a:custGeom>
            <a:avLst/>
            <a:gdLst/>
            <a:ahLst/>
            <a:rect l="l" t="t" r="r" b="b"/>
            <a:pathLst>
              <a:path w="1250" h="193">
                <a:moveTo>
                  <a:pt x="16" y="122"/>
                </a:moveTo>
                <a:lnTo>
                  <a:pt x="26" y="125"/>
                </a:lnTo>
                <a:lnTo>
                  <a:pt x="38" y="125"/>
                </a:lnTo>
                <a:lnTo>
                  <a:pt x="450" y="125"/>
                </a:lnTo>
                <a:lnTo>
                  <a:pt x="458" y="135"/>
                </a:lnTo>
                <a:lnTo>
                  <a:pt x="487" y="155"/>
                </a:lnTo>
                <a:lnTo>
                  <a:pt x="511" y="166"/>
                </a:lnTo>
                <a:lnTo>
                  <a:pt x="532" y="175"/>
                </a:lnTo>
                <a:lnTo>
                  <a:pt x="559" y="184"/>
                </a:lnTo>
                <a:lnTo>
                  <a:pt x="587" y="188"/>
                </a:lnTo>
                <a:lnTo>
                  <a:pt x="631" y="192"/>
                </a:lnTo>
                <a:lnTo>
                  <a:pt x="672" y="188"/>
                </a:lnTo>
                <a:lnTo>
                  <a:pt x="723" y="178"/>
                </a:lnTo>
                <a:lnTo>
                  <a:pt x="769" y="158"/>
                </a:lnTo>
                <a:lnTo>
                  <a:pt x="797" y="137"/>
                </a:lnTo>
                <a:lnTo>
                  <a:pt x="811" y="125"/>
                </a:lnTo>
                <a:lnTo>
                  <a:pt x="1210" y="125"/>
                </a:lnTo>
                <a:lnTo>
                  <a:pt x="1224" y="124"/>
                </a:lnTo>
                <a:lnTo>
                  <a:pt x="1234" y="121"/>
                </a:lnTo>
                <a:lnTo>
                  <a:pt x="1243" y="114"/>
                </a:lnTo>
                <a:lnTo>
                  <a:pt x="1247" y="106"/>
                </a:lnTo>
                <a:lnTo>
                  <a:pt x="1249" y="96"/>
                </a:lnTo>
                <a:lnTo>
                  <a:pt x="1249" y="14"/>
                </a:lnTo>
                <a:lnTo>
                  <a:pt x="1238" y="0"/>
                </a:lnTo>
                <a:lnTo>
                  <a:pt x="1232" y="4"/>
                </a:lnTo>
                <a:lnTo>
                  <a:pt x="1227" y="18"/>
                </a:lnTo>
                <a:lnTo>
                  <a:pt x="1223" y="34"/>
                </a:lnTo>
                <a:lnTo>
                  <a:pt x="1218" y="33"/>
                </a:lnTo>
                <a:lnTo>
                  <a:pt x="1211" y="32"/>
                </a:lnTo>
                <a:lnTo>
                  <a:pt x="1196" y="24"/>
                </a:lnTo>
                <a:lnTo>
                  <a:pt x="1186" y="17"/>
                </a:lnTo>
                <a:lnTo>
                  <a:pt x="1170" y="14"/>
                </a:lnTo>
                <a:lnTo>
                  <a:pt x="1153" y="21"/>
                </a:lnTo>
                <a:lnTo>
                  <a:pt x="1138" y="33"/>
                </a:lnTo>
                <a:lnTo>
                  <a:pt x="1126" y="25"/>
                </a:lnTo>
                <a:lnTo>
                  <a:pt x="1117" y="24"/>
                </a:lnTo>
                <a:lnTo>
                  <a:pt x="1103" y="17"/>
                </a:lnTo>
                <a:lnTo>
                  <a:pt x="1089" y="19"/>
                </a:lnTo>
                <a:lnTo>
                  <a:pt x="1079" y="27"/>
                </a:lnTo>
                <a:lnTo>
                  <a:pt x="1074" y="38"/>
                </a:lnTo>
                <a:lnTo>
                  <a:pt x="1063" y="33"/>
                </a:lnTo>
                <a:lnTo>
                  <a:pt x="1046" y="33"/>
                </a:lnTo>
                <a:lnTo>
                  <a:pt x="1025" y="28"/>
                </a:lnTo>
                <a:lnTo>
                  <a:pt x="1007" y="38"/>
                </a:lnTo>
                <a:lnTo>
                  <a:pt x="990" y="24"/>
                </a:lnTo>
                <a:lnTo>
                  <a:pt x="969" y="33"/>
                </a:lnTo>
                <a:lnTo>
                  <a:pt x="949" y="55"/>
                </a:lnTo>
                <a:lnTo>
                  <a:pt x="932" y="47"/>
                </a:lnTo>
                <a:lnTo>
                  <a:pt x="917" y="39"/>
                </a:lnTo>
                <a:lnTo>
                  <a:pt x="901" y="34"/>
                </a:lnTo>
                <a:lnTo>
                  <a:pt x="880" y="38"/>
                </a:lnTo>
                <a:lnTo>
                  <a:pt x="847" y="44"/>
                </a:lnTo>
                <a:lnTo>
                  <a:pt x="818" y="37"/>
                </a:lnTo>
                <a:lnTo>
                  <a:pt x="807" y="43"/>
                </a:lnTo>
                <a:lnTo>
                  <a:pt x="794" y="57"/>
                </a:lnTo>
                <a:lnTo>
                  <a:pt x="783" y="81"/>
                </a:lnTo>
                <a:lnTo>
                  <a:pt x="771" y="93"/>
                </a:lnTo>
                <a:lnTo>
                  <a:pt x="765" y="111"/>
                </a:lnTo>
                <a:lnTo>
                  <a:pt x="752" y="118"/>
                </a:lnTo>
                <a:lnTo>
                  <a:pt x="729" y="122"/>
                </a:lnTo>
                <a:lnTo>
                  <a:pt x="703" y="124"/>
                </a:lnTo>
                <a:lnTo>
                  <a:pt x="697" y="132"/>
                </a:lnTo>
                <a:lnTo>
                  <a:pt x="663" y="130"/>
                </a:lnTo>
                <a:lnTo>
                  <a:pt x="634" y="137"/>
                </a:lnTo>
                <a:lnTo>
                  <a:pt x="605" y="136"/>
                </a:lnTo>
                <a:lnTo>
                  <a:pt x="556" y="145"/>
                </a:lnTo>
                <a:lnTo>
                  <a:pt x="529" y="122"/>
                </a:lnTo>
                <a:lnTo>
                  <a:pt x="499" y="116"/>
                </a:lnTo>
                <a:lnTo>
                  <a:pt x="468" y="76"/>
                </a:lnTo>
                <a:lnTo>
                  <a:pt x="454" y="57"/>
                </a:lnTo>
                <a:lnTo>
                  <a:pt x="439" y="52"/>
                </a:lnTo>
                <a:lnTo>
                  <a:pt x="399" y="47"/>
                </a:lnTo>
                <a:lnTo>
                  <a:pt x="367" y="42"/>
                </a:lnTo>
                <a:lnTo>
                  <a:pt x="332" y="33"/>
                </a:lnTo>
                <a:lnTo>
                  <a:pt x="299" y="42"/>
                </a:lnTo>
                <a:lnTo>
                  <a:pt x="262" y="24"/>
                </a:lnTo>
                <a:lnTo>
                  <a:pt x="233" y="24"/>
                </a:lnTo>
                <a:lnTo>
                  <a:pt x="214" y="35"/>
                </a:lnTo>
                <a:lnTo>
                  <a:pt x="202" y="26"/>
                </a:lnTo>
                <a:lnTo>
                  <a:pt x="186" y="32"/>
                </a:lnTo>
                <a:lnTo>
                  <a:pt x="165" y="33"/>
                </a:lnTo>
                <a:lnTo>
                  <a:pt x="145" y="37"/>
                </a:lnTo>
                <a:lnTo>
                  <a:pt x="122" y="44"/>
                </a:lnTo>
                <a:lnTo>
                  <a:pt x="102" y="35"/>
                </a:lnTo>
                <a:lnTo>
                  <a:pt x="82" y="40"/>
                </a:lnTo>
                <a:lnTo>
                  <a:pt x="57" y="43"/>
                </a:lnTo>
                <a:lnTo>
                  <a:pt x="41" y="40"/>
                </a:lnTo>
                <a:lnTo>
                  <a:pt x="11" y="38"/>
                </a:lnTo>
                <a:lnTo>
                  <a:pt x="0" y="47"/>
                </a:lnTo>
                <a:lnTo>
                  <a:pt x="1" y="74"/>
                </a:lnTo>
                <a:lnTo>
                  <a:pt x="3" y="98"/>
                </a:lnTo>
                <a:lnTo>
                  <a:pt x="9" y="118"/>
                </a:lnTo>
                <a:lnTo>
                  <a:pt x="16" y="12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 name=""/>
          <p:cNvSpPr/>
          <p:nvPr/>
        </p:nvSpPr>
        <p:spPr>
          <a:xfrm>
            <a:off x="3598920" y="557280"/>
            <a:ext cx="1947960" cy="228600"/>
          </a:xfrm>
          <a:custGeom>
            <a:avLst/>
            <a:gdLst/>
            <a:ahLst/>
            <a:rect l="l" t="t" r="r" b="b"/>
            <a:pathLst>
              <a:path w="1227" h="144">
                <a:moveTo>
                  <a:pt x="339" y="48"/>
                </a:moveTo>
                <a:lnTo>
                  <a:pt x="301" y="45"/>
                </a:lnTo>
                <a:lnTo>
                  <a:pt x="263" y="50"/>
                </a:lnTo>
                <a:lnTo>
                  <a:pt x="219" y="50"/>
                </a:lnTo>
                <a:lnTo>
                  <a:pt x="161" y="48"/>
                </a:lnTo>
                <a:lnTo>
                  <a:pt x="97" y="50"/>
                </a:lnTo>
                <a:lnTo>
                  <a:pt x="65" y="51"/>
                </a:lnTo>
                <a:lnTo>
                  <a:pt x="40" y="49"/>
                </a:lnTo>
                <a:lnTo>
                  <a:pt x="16" y="51"/>
                </a:lnTo>
                <a:lnTo>
                  <a:pt x="8" y="36"/>
                </a:lnTo>
                <a:lnTo>
                  <a:pt x="1" y="24"/>
                </a:lnTo>
                <a:lnTo>
                  <a:pt x="0" y="46"/>
                </a:lnTo>
                <a:lnTo>
                  <a:pt x="8" y="67"/>
                </a:lnTo>
                <a:lnTo>
                  <a:pt x="46" y="64"/>
                </a:lnTo>
                <a:lnTo>
                  <a:pt x="81" y="62"/>
                </a:lnTo>
                <a:lnTo>
                  <a:pt x="103" y="63"/>
                </a:lnTo>
                <a:lnTo>
                  <a:pt x="122" y="64"/>
                </a:lnTo>
                <a:lnTo>
                  <a:pt x="134" y="65"/>
                </a:lnTo>
                <a:lnTo>
                  <a:pt x="170" y="64"/>
                </a:lnTo>
                <a:lnTo>
                  <a:pt x="204" y="68"/>
                </a:lnTo>
                <a:lnTo>
                  <a:pt x="284" y="64"/>
                </a:lnTo>
                <a:lnTo>
                  <a:pt x="341" y="63"/>
                </a:lnTo>
                <a:lnTo>
                  <a:pt x="389" y="64"/>
                </a:lnTo>
                <a:lnTo>
                  <a:pt x="440" y="64"/>
                </a:lnTo>
                <a:lnTo>
                  <a:pt x="465" y="92"/>
                </a:lnTo>
                <a:lnTo>
                  <a:pt x="485" y="105"/>
                </a:lnTo>
                <a:lnTo>
                  <a:pt x="527" y="131"/>
                </a:lnTo>
                <a:lnTo>
                  <a:pt x="558" y="136"/>
                </a:lnTo>
                <a:lnTo>
                  <a:pt x="596" y="143"/>
                </a:lnTo>
                <a:lnTo>
                  <a:pt x="642" y="143"/>
                </a:lnTo>
                <a:lnTo>
                  <a:pt x="684" y="137"/>
                </a:lnTo>
                <a:lnTo>
                  <a:pt x="728" y="121"/>
                </a:lnTo>
                <a:lnTo>
                  <a:pt x="760" y="106"/>
                </a:lnTo>
                <a:lnTo>
                  <a:pt x="786" y="82"/>
                </a:lnTo>
                <a:lnTo>
                  <a:pt x="806" y="72"/>
                </a:lnTo>
                <a:lnTo>
                  <a:pt x="827" y="67"/>
                </a:lnTo>
                <a:lnTo>
                  <a:pt x="877" y="74"/>
                </a:lnTo>
                <a:lnTo>
                  <a:pt x="937" y="68"/>
                </a:lnTo>
                <a:lnTo>
                  <a:pt x="995" y="69"/>
                </a:lnTo>
                <a:lnTo>
                  <a:pt x="1021" y="67"/>
                </a:lnTo>
                <a:lnTo>
                  <a:pt x="1071" y="70"/>
                </a:lnTo>
                <a:lnTo>
                  <a:pt x="1118" y="67"/>
                </a:lnTo>
                <a:lnTo>
                  <a:pt x="1160" y="72"/>
                </a:lnTo>
                <a:lnTo>
                  <a:pt x="1211" y="69"/>
                </a:lnTo>
                <a:lnTo>
                  <a:pt x="1223" y="56"/>
                </a:lnTo>
                <a:lnTo>
                  <a:pt x="1226" y="34"/>
                </a:lnTo>
                <a:lnTo>
                  <a:pt x="1224" y="0"/>
                </a:lnTo>
                <a:lnTo>
                  <a:pt x="1211" y="37"/>
                </a:lnTo>
                <a:lnTo>
                  <a:pt x="1204" y="55"/>
                </a:lnTo>
                <a:lnTo>
                  <a:pt x="1171" y="59"/>
                </a:lnTo>
                <a:lnTo>
                  <a:pt x="1112" y="58"/>
                </a:lnTo>
                <a:lnTo>
                  <a:pt x="1064" y="56"/>
                </a:lnTo>
                <a:lnTo>
                  <a:pt x="983" y="54"/>
                </a:lnTo>
                <a:lnTo>
                  <a:pt x="941" y="58"/>
                </a:lnTo>
                <a:lnTo>
                  <a:pt x="885" y="56"/>
                </a:lnTo>
                <a:lnTo>
                  <a:pt x="851" y="62"/>
                </a:lnTo>
                <a:lnTo>
                  <a:pt x="828" y="55"/>
                </a:lnTo>
                <a:lnTo>
                  <a:pt x="815" y="53"/>
                </a:lnTo>
                <a:lnTo>
                  <a:pt x="804" y="46"/>
                </a:lnTo>
                <a:lnTo>
                  <a:pt x="809" y="32"/>
                </a:lnTo>
                <a:lnTo>
                  <a:pt x="809" y="17"/>
                </a:lnTo>
                <a:lnTo>
                  <a:pt x="798" y="22"/>
                </a:lnTo>
                <a:lnTo>
                  <a:pt x="786" y="49"/>
                </a:lnTo>
                <a:lnTo>
                  <a:pt x="760" y="72"/>
                </a:lnTo>
                <a:lnTo>
                  <a:pt x="745" y="87"/>
                </a:lnTo>
                <a:lnTo>
                  <a:pt x="718" y="101"/>
                </a:lnTo>
                <a:lnTo>
                  <a:pt x="701" y="98"/>
                </a:lnTo>
                <a:lnTo>
                  <a:pt x="671" y="112"/>
                </a:lnTo>
                <a:lnTo>
                  <a:pt x="644" y="118"/>
                </a:lnTo>
                <a:lnTo>
                  <a:pt x="618" y="124"/>
                </a:lnTo>
                <a:lnTo>
                  <a:pt x="585" y="108"/>
                </a:lnTo>
                <a:lnTo>
                  <a:pt x="557" y="110"/>
                </a:lnTo>
                <a:lnTo>
                  <a:pt x="546" y="92"/>
                </a:lnTo>
                <a:lnTo>
                  <a:pt x="520" y="93"/>
                </a:lnTo>
                <a:lnTo>
                  <a:pt x="507" y="98"/>
                </a:lnTo>
                <a:lnTo>
                  <a:pt x="486" y="86"/>
                </a:lnTo>
                <a:lnTo>
                  <a:pt x="469" y="77"/>
                </a:lnTo>
                <a:lnTo>
                  <a:pt x="461" y="62"/>
                </a:lnTo>
                <a:lnTo>
                  <a:pt x="446" y="29"/>
                </a:lnTo>
                <a:lnTo>
                  <a:pt x="432" y="24"/>
                </a:lnTo>
                <a:lnTo>
                  <a:pt x="425" y="44"/>
                </a:lnTo>
                <a:lnTo>
                  <a:pt x="413" y="43"/>
                </a:lnTo>
                <a:lnTo>
                  <a:pt x="372" y="55"/>
                </a:lnTo>
                <a:lnTo>
                  <a:pt x="339" y="48"/>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 name=""/>
          <p:cNvSpPr/>
          <p:nvPr/>
        </p:nvSpPr>
        <p:spPr>
          <a:xfrm>
            <a:off x="4869000" y="249120"/>
            <a:ext cx="122040" cy="406440"/>
          </a:xfrm>
          <a:custGeom>
            <a:avLst/>
            <a:gdLst/>
            <a:ahLst/>
            <a:rect l="l" t="t" r="r" b="b"/>
            <a:pathLst>
              <a:path w="77" h="256">
                <a:moveTo>
                  <a:pt x="51" y="6"/>
                </a:moveTo>
                <a:lnTo>
                  <a:pt x="47" y="25"/>
                </a:lnTo>
                <a:lnTo>
                  <a:pt x="76" y="27"/>
                </a:lnTo>
                <a:lnTo>
                  <a:pt x="65" y="61"/>
                </a:lnTo>
                <a:lnTo>
                  <a:pt x="66" y="87"/>
                </a:lnTo>
                <a:lnTo>
                  <a:pt x="73" y="110"/>
                </a:lnTo>
                <a:lnTo>
                  <a:pt x="61" y="133"/>
                </a:lnTo>
                <a:lnTo>
                  <a:pt x="57" y="157"/>
                </a:lnTo>
                <a:lnTo>
                  <a:pt x="51" y="181"/>
                </a:lnTo>
                <a:lnTo>
                  <a:pt x="42" y="197"/>
                </a:lnTo>
                <a:lnTo>
                  <a:pt x="32" y="213"/>
                </a:lnTo>
                <a:lnTo>
                  <a:pt x="20" y="230"/>
                </a:lnTo>
                <a:lnTo>
                  <a:pt x="13" y="241"/>
                </a:lnTo>
                <a:lnTo>
                  <a:pt x="0" y="255"/>
                </a:lnTo>
                <a:lnTo>
                  <a:pt x="8" y="230"/>
                </a:lnTo>
                <a:lnTo>
                  <a:pt x="24" y="212"/>
                </a:lnTo>
                <a:lnTo>
                  <a:pt x="21" y="192"/>
                </a:lnTo>
                <a:lnTo>
                  <a:pt x="36" y="167"/>
                </a:lnTo>
                <a:lnTo>
                  <a:pt x="44" y="137"/>
                </a:lnTo>
                <a:lnTo>
                  <a:pt x="40" y="108"/>
                </a:lnTo>
                <a:lnTo>
                  <a:pt x="43" y="85"/>
                </a:lnTo>
                <a:lnTo>
                  <a:pt x="40" y="68"/>
                </a:lnTo>
                <a:lnTo>
                  <a:pt x="19" y="36"/>
                </a:lnTo>
                <a:lnTo>
                  <a:pt x="6" y="3"/>
                </a:lnTo>
                <a:lnTo>
                  <a:pt x="50" y="0"/>
                </a:lnTo>
                <a:lnTo>
                  <a:pt x="51" y="6"/>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 name=""/>
          <p:cNvSpPr/>
          <p:nvPr/>
        </p:nvSpPr>
        <p:spPr>
          <a:xfrm>
            <a:off x="3605040" y="19080"/>
            <a:ext cx="1951200" cy="411120"/>
          </a:xfrm>
          <a:custGeom>
            <a:avLst/>
            <a:gdLst/>
            <a:ahLst/>
            <a:rect l="l" t="t" r="r" b="b"/>
            <a:pathLst>
              <a:path w="1229" h="259">
                <a:moveTo>
                  <a:pt x="0" y="175"/>
                </a:moveTo>
                <a:lnTo>
                  <a:pt x="0" y="219"/>
                </a:lnTo>
                <a:lnTo>
                  <a:pt x="0" y="259"/>
                </a:lnTo>
                <a:lnTo>
                  <a:pt x="3" y="226"/>
                </a:lnTo>
                <a:lnTo>
                  <a:pt x="4" y="201"/>
                </a:lnTo>
                <a:lnTo>
                  <a:pt x="5" y="154"/>
                </a:lnTo>
                <a:lnTo>
                  <a:pt x="8" y="132"/>
                </a:lnTo>
                <a:lnTo>
                  <a:pt x="16" y="124"/>
                </a:lnTo>
                <a:lnTo>
                  <a:pt x="23" y="130"/>
                </a:lnTo>
                <a:lnTo>
                  <a:pt x="33" y="131"/>
                </a:lnTo>
                <a:lnTo>
                  <a:pt x="47" y="138"/>
                </a:lnTo>
                <a:lnTo>
                  <a:pt x="56" y="146"/>
                </a:lnTo>
                <a:lnTo>
                  <a:pt x="66" y="146"/>
                </a:lnTo>
                <a:lnTo>
                  <a:pt x="75" y="141"/>
                </a:lnTo>
                <a:lnTo>
                  <a:pt x="85" y="128"/>
                </a:lnTo>
                <a:lnTo>
                  <a:pt x="93" y="129"/>
                </a:lnTo>
                <a:lnTo>
                  <a:pt x="108" y="139"/>
                </a:lnTo>
                <a:lnTo>
                  <a:pt x="117" y="144"/>
                </a:lnTo>
                <a:lnTo>
                  <a:pt x="126" y="149"/>
                </a:lnTo>
                <a:lnTo>
                  <a:pt x="136" y="151"/>
                </a:lnTo>
                <a:lnTo>
                  <a:pt x="152" y="144"/>
                </a:lnTo>
                <a:lnTo>
                  <a:pt x="171" y="158"/>
                </a:lnTo>
                <a:lnTo>
                  <a:pt x="185" y="151"/>
                </a:lnTo>
                <a:lnTo>
                  <a:pt x="208" y="138"/>
                </a:lnTo>
                <a:lnTo>
                  <a:pt x="222" y="138"/>
                </a:lnTo>
                <a:lnTo>
                  <a:pt x="238" y="127"/>
                </a:lnTo>
                <a:lnTo>
                  <a:pt x="249" y="122"/>
                </a:lnTo>
                <a:lnTo>
                  <a:pt x="265" y="136"/>
                </a:lnTo>
                <a:lnTo>
                  <a:pt x="278" y="132"/>
                </a:lnTo>
                <a:lnTo>
                  <a:pt x="289" y="138"/>
                </a:lnTo>
                <a:lnTo>
                  <a:pt x="296" y="138"/>
                </a:lnTo>
                <a:lnTo>
                  <a:pt x="305" y="138"/>
                </a:lnTo>
                <a:lnTo>
                  <a:pt x="312" y="143"/>
                </a:lnTo>
                <a:lnTo>
                  <a:pt x="323" y="138"/>
                </a:lnTo>
                <a:lnTo>
                  <a:pt x="331" y="124"/>
                </a:lnTo>
                <a:lnTo>
                  <a:pt x="362" y="137"/>
                </a:lnTo>
                <a:lnTo>
                  <a:pt x="376" y="152"/>
                </a:lnTo>
                <a:lnTo>
                  <a:pt x="382" y="176"/>
                </a:lnTo>
                <a:lnTo>
                  <a:pt x="449" y="121"/>
                </a:lnTo>
                <a:lnTo>
                  <a:pt x="465" y="101"/>
                </a:lnTo>
                <a:lnTo>
                  <a:pt x="481" y="91"/>
                </a:lnTo>
                <a:lnTo>
                  <a:pt x="499" y="83"/>
                </a:lnTo>
                <a:lnTo>
                  <a:pt x="496" y="98"/>
                </a:lnTo>
                <a:lnTo>
                  <a:pt x="476" y="123"/>
                </a:lnTo>
                <a:lnTo>
                  <a:pt x="489" y="119"/>
                </a:lnTo>
                <a:lnTo>
                  <a:pt x="508" y="110"/>
                </a:lnTo>
                <a:lnTo>
                  <a:pt x="522" y="116"/>
                </a:lnTo>
                <a:lnTo>
                  <a:pt x="531" y="132"/>
                </a:lnTo>
                <a:lnTo>
                  <a:pt x="526" y="146"/>
                </a:lnTo>
                <a:lnTo>
                  <a:pt x="544" y="148"/>
                </a:lnTo>
                <a:lnTo>
                  <a:pt x="559" y="158"/>
                </a:lnTo>
                <a:lnTo>
                  <a:pt x="565" y="170"/>
                </a:lnTo>
                <a:lnTo>
                  <a:pt x="578" y="167"/>
                </a:lnTo>
                <a:lnTo>
                  <a:pt x="586" y="178"/>
                </a:lnTo>
                <a:lnTo>
                  <a:pt x="598" y="196"/>
                </a:lnTo>
                <a:lnTo>
                  <a:pt x="608" y="193"/>
                </a:lnTo>
                <a:lnTo>
                  <a:pt x="602" y="178"/>
                </a:lnTo>
                <a:lnTo>
                  <a:pt x="598" y="162"/>
                </a:lnTo>
                <a:lnTo>
                  <a:pt x="590" y="156"/>
                </a:lnTo>
                <a:lnTo>
                  <a:pt x="581" y="145"/>
                </a:lnTo>
                <a:lnTo>
                  <a:pt x="586" y="122"/>
                </a:lnTo>
                <a:lnTo>
                  <a:pt x="579" y="106"/>
                </a:lnTo>
                <a:lnTo>
                  <a:pt x="561" y="103"/>
                </a:lnTo>
                <a:lnTo>
                  <a:pt x="566" y="91"/>
                </a:lnTo>
                <a:lnTo>
                  <a:pt x="578" y="81"/>
                </a:lnTo>
                <a:lnTo>
                  <a:pt x="547" y="82"/>
                </a:lnTo>
                <a:lnTo>
                  <a:pt x="561" y="75"/>
                </a:lnTo>
                <a:lnTo>
                  <a:pt x="587" y="64"/>
                </a:lnTo>
                <a:lnTo>
                  <a:pt x="574" y="62"/>
                </a:lnTo>
                <a:lnTo>
                  <a:pt x="540" y="71"/>
                </a:lnTo>
                <a:lnTo>
                  <a:pt x="524" y="65"/>
                </a:lnTo>
                <a:lnTo>
                  <a:pt x="535" y="56"/>
                </a:lnTo>
                <a:lnTo>
                  <a:pt x="559" y="53"/>
                </a:lnTo>
                <a:lnTo>
                  <a:pt x="579" y="50"/>
                </a:lnTo>
                <a:lnTo>
                  <a:pt x="600" y="42"/>
                </a:lnTo>
                <a:lnTo>
                  <a:pt x="635" y="37"/>
                </a:lnTo>
                <a:lnTo>
                  <a:pt x="660" y="41"/>
                </a:lnTo>
                <a:lnTo>
                  <a:pt x="676" y="55"/>
                </a:lnTo>
                <a:lnTo>
                  <a:pt x="692" y="63"/>
                </a:lnTo>
                <a:lnTo>
                  <a:pt x="704" y="57"/>
                </a:lnTo>
                <a:lnTo>
                  <a:pt x="721" y="60"/>
                </a:lnTo>
                <a:lnTo>
                  <a:pt x="741" y="72"/>
                </a:lnTo>
                <a:lnTo>
                  <a:pt x="758" y="88"/>
                </a:lnTo>
                <a:lnTo>
                  <a:pt x="773" y="108"/>
                </a:lnTo>
                <a:lnTo>
                  <a:pt x="797" y="115"/>
                </a:lnTo>
                <a:lnTo>
                  <a:pt x="816" y="128"/>
                </a:lnTo>
                <a:lnTo>
                  <a:pt x="828" y="139"/>
                </a:lnTo>
                <a:lnTo>
                  <a:pt x="846" y="151"/>
                </a:lnTo>
                <a:lnTo>
                  <a:pt x="866" y="147"/>
                </a:lnTo>
                <a:lnTo>
                  <a:pt x="879" y="141"/>
                </a:lnTo>
                <a:lnTo>
                  <a:pt x="904" y="141"/>
                </a:lnTo>
                <a:lnTo>
                  <a:pt x="917" y="126"/>
                </a:lnTo>
                <a:lnTo>
                  <a:pt x="928" y="128"/>
                </a:lnTo>
                <a:lnTo>
                  <a:pt x="936" y="128"/>
                </a:lnTo>
                <a:lnTo>
                  <a:pt x="946" y="134"/>
                </a:lnTo>
                <a:lnTo>
                  <a:pt x="957" y="139"/>
                </a:lnTo>
                <a:lnTo>
                  <a:pt x="965" y="129"/>
                </a:lnTo>
                <a:lnTo>
                  <a:pt x="974" y="126"/>
                </a:lnTo>
                <a:lnTo>
                  <a:pt x="981" y="130"/>
                </a:lnTo>
                <a:lnTo>
                  <a:pt x="989" y="124"/>
                </a:lnTo>
                <a:lnTo>
                  <a:pt x="1005" y="132"/>
                </a:lnTo>
                <a:lnTo>
                  <a:pt x="1015" y="146"/>
                </a:lnTo>
                <a:lnTo>
                  <a:pt x="1025" y="147"/>
                </a:lnTo>
                <a:lnTo>
                  <a:pt x="1032" y="149"/>
                </a:lnTo>
                <a:lnTo>
                  <a:pt x="1041" y="144"/>
                </a:lnTo>
                <a:lnTo>
                  <a:pt x="1048" y="138"/>
                </a:lnTo>
                <a:lnTo>
                  <a:pt x="1054" y="136"/>
                </a:lnTo>
                <a:lnTo>
                  <a:pt x="1063" y="130"/>
                </a:lnTo>
                <a:lnTo>
                  <a:pt x="1074" y="130"/>
                </a:lnTo>
                <a:lnTo>
                  <a:pt x="1084" y="139"/>
                </a:lnTo>
                <a:lnTo>
                  <a:pt x="1099" y="146"/>
                </a:lnTo>
                <a:lnTo>
                  <a:pt x="1112" y="139"/>
                </a:lnTo>
                <a:lnTo>
                  <a:pt x="1119" y="136"/>
                </a:lnTo>
                <a:lnTo>
                  <a:pt x="1128" y="139"/>
                </a:lnTo>
                <a:lnTo>
                  <a:pt x="1135" y="141"/>
                </a:lnTo>
                <a:lnTo>
                  <a:pt x="1144" y="149"/>
                </a:lnTo>
                <a:lnTo>
                  <a:pt x="1154" y="149"/>
                </a:lnTo>
                <a:lnTo>
                  <a:pt x="1166" y="146"/>
                </a:lnTo>
                <a:lnTo>
                  <a:pt x="1180" y="143"/>
                </a:lnTo>
                <a:lnTo>
                  <a:pt x="1197" y="138"/>
                </a:lnTo>
                <a:lnTo>
                  <a:pt x="1209" y="143"/>
                </a:lnTo>
                <a:lnTo>
                  <a:pt x="1216" y="150"/>
                </a:lnTo>
                <a:lnTo>
                  <a:pt x="1221" y="165"/>
                </a:lnTo>
                <a:lnTo>
                  <a:pt x="1225" y="189"/>
                </a:lnTo>
                <a:lnTo>
                  <a:pt x="1229" y="222"/>
                </a:lnTo>
                <a:lnTo>
                  <a:pt x="1229" y="154"/>
                </a:lnTo>
                <a:lnTo>
                  <a:pt x="1229" y="137"/>
                </a:lnTo>
                <a:lnTo>
                  <a:pt x="1227" y="126"/>
                </a:lnTo>
                <a:lnTo>
                  <a:pt x="1224" y="112"/>
                </a:lnTo>
                <a:lnTo>
                  <a:pt x="1218" y="100"/>
                </a:lnTo>
                <a:lnTo>
                  <a:pt x="1205" y="95"/>
                </a:lnTo>
                <a:lnTo>
                  <a:pt x="1187" y="93"/>
                </a:lnTo>
                <a:lnTo>
                  <a:pt x="1172" y="95"/>
                </a:lnTo>
                <a:lnTo>
                  <a:pt x="1156" y="91"/>
                </a:lnTo>
                <a:lnTo>
                  <a:pt x="1140" y="101"/>
                </a:lnTo>
                <a:lnTo>
                  <a:pt x="1124" y="96"/>
                </a:lnTo>
                <a:lnTo>
                  <a:pt x="1110" y="93"/>
                </a:lnTo>
                <a:lnTo>
                  <a:pt x="1099" y="93"/>
                </a:lnTo>
                <a:lnTo>
                  <a:pt x="1071" y="96"/>
                </a:lnTo>
                <a:lnTo>
                  <a:pt x="1056" y="98"/>
                </a:lnTo>
                <a:lnTo>
                  <a:pt x="1040" y="95"/>
                </a:lnTo>
                <a:lnTo>
                  <a:pt x="1024" y="99"/>
                </a:lnTo>
                <a:lnTo>
                  <a:pt x="1004" y="95"/>
                </a:lnTo>
                <a:lnTo>
                  <a:pt x="996" y="93"/>
                </a:lnTo>
                <a:lnTo>
                  <a:pt x="981" y="93"/>
                </a:lnTo>
                <a:lnTo>
                  <a:pt x="966" y="91"/>
                </a:lnTo>
                <a:lnTo>
                  <a:pt x="955" y="96"/>
                </a:lnTo>
                <a:lnTo>
                  <a:pt x="946" y="95"/>
                </a:lnTo>
                <a:lnTo>
                  <a:pt x="926" y="93"/>
                </a:lnTo>
                <a:lnTo>
                  <a:pt x="909" y="96"/>
                </a:lnTo>
                <a:lnTo>
                  <a:pt x="894" y="96"/>
                </a:lnTo>
                <a:lnTo>
                  <a:pt x="876" y="91"/>
                </a:lnTo>
                <a:lnTo>
                  <a:pt x="861" y="97"/>
                </a:lnTo>
                <a:lnTo>
                  <a:pt x="849" y="93"/>
                </a:lnTo>
                <a:lnTo>
                  <a:pt x="838" y="99"/>
                </a:lnTo>
                <a:lnTo>
                  <a:pt x="826" y="96"/>
                </a:lnTo>
                <a:lnTo>
                  <a:pt x="812" y="93"/>
                </a:lnTo>
                <a:lnTo>
                  <a:pt x="804" y="88"/>
                </a:lnTo>
                <a:lnTo>
                  <a:pt x="785" y="69"/>
                </a:lnTo>
                <a:lnTo>
                  <a:pt x="764" y="52"/>
                </a:lnTo>
                <a:lnTo>
                  <a:pt x="745" y="40"/>
                </a:lnTo>
                <a:lnTo>
                  <a:pt x="727" y="30"/>
                </a:lnTo>
                <a:lnTo>
                  <a:pt x="700" y="17"/>
                </a:lnTo>
                <a:lnTo>
                  <a:pt x="672" y="8"/>
                </a:lnTo>
                <a:lnTo>
                  <a:pt x="644" y="2"/>
                </a:lnTo>
                <a:lnTo>
                  <a:pt x="617" y="0"/>
                </a:lnTo>
                <a:lnTo>
                  <a:pt x="591" y="2"/>
                </a:lnTo>
                <a:lnTo>
                  <a:pt x="560" y="8"/>
                </a:lnTo>
                <a:lnTo>
                  <a:pt x="528" y="17"/>
                </a:lnTo>
                <a:lnTo>
                  <a:pt x="500" y="29"/>
                </a:lnTo>
                <a:lnTo>
                  <a:pt x="474" y="45"/>
                </a:lnTo>
                <a:lnTo>
                  <a:pt x="452" y="63"/>
                </a:lnTo>
                <a:lnTo>
                  <a:pt x="426" y="87"/>
                </a:lnTo>
                <a:lnTo>
                  <a:pt x="399" y="95"/>
                </a:lnTo>
                <a:lnTo>
                  <a:pt x="376" y="99"/>
                </a:lnTo>
                <a:lnTo>
                  <a:pt x="352" y="101"/>
                </a:lnTo>
                <a:lnTo>
                  <a:pt x="328" y="97"/>
                </a:lnTo>
                <a:lnTo>
                  <a:pt x="309" y="97"/>
                </a:lnTo>
                <a:lnTo>
                  <a:pt x="249" y="97"/>
                </a:lnTo>
                <a:lnTo>
                  <a:pt x="231" y="96"/>
                </a:lnTo>
                <a:lnTo>
                  <a:pt x="180" y="99"/>
                </a:lnTo>
                <a:lnTo>
                  <a:pt x="148" y="97"/>
                </a:lnTo>
                <a:lnTo>
                  <a:pt x="109" y="93"/>
                </a:lnTo>
                <a:lnTo>
                  <a:pt x="61" y="95"/>
                </a:lnTo>
                <a:lnTo>
                  <a:pt x="32" y="95"/>
                </a:lnTo>
                <a:lnTo>
                  <a:pt x="19" y="96"/>
                </a:lnTo>
                <a:lnTo>
                  <a:pt x="10" y="101"/>
                </a:lnTo>
                <a:lnTo>
                  <a:pt x="2" y="113"/>
                </a:lnTo>
                <a:lnTo>
                  <a:pt x="0" y="132"/>
                </a:lnTo>
                <a:lnTo>
                  <a:pt x="0" y="152"/>
                </a:lnTo>
                <a:lnTo>
                  <a:pt x="0" y="17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 name=""/>
          <p:cNvSpPr/>
          <p:nvPr/>
        </p:nvSpPr>
        <p:spPr>
          <a:xfrm>
            <a:off x="4191120" y="235080"/>
            <a:ext cx="90360" cy="399960"/>
          </a:xfrm>
          <a:custGeom>
            <a:avLst/>
            <a:gdLst/>
            <a:ahLst/>
            <a:rect l="l" t="t" r="r" b="b"/>
            <a:pathLst>
              <a:path w="57" h="252">
                <a:moveTo>
                  <a:pt x="13" y="6"/>
                </a:moveTo>
                <a:lnTo>
                  <a:pt x="17" y="25"/>
                </a:lnTo>
                <a:lnTo>
                  <a:pt x="13" y="34"/>
                </a:lnTo>
                <a:lnTo>
                  <a:pt x="6" y="62"/>
                </a:lnTo>
                <a:lnTo>
                  <a:pt x="1" y="86"/>
                </a:lnTo>
                <a:lnTo>
                  <a:pt x="0" y="108"/>
                </a:lnTo>
                <a:lnTo>
                  <a:pt x="5" y="135"/>
                </a:lnTo>
                <a:lnTo>
                  <a:pt x="8" y="160"/>
                </a:lnTo>
                <a:lnTo>
                  <a:pt x="13" y="184"/>
                </a:lnTo>
                <a:lnTo>
                  <a:pt x="27" y="200"/>
                </a:lnTo>
                <a:lnTo>
                  <a:pt x="32" y="217"/>
                </a:lnTo>
                <a:lnTo>
                  <a:pt x="45" y="234"/>
                </a:lnTo>
                <a:lnTo>
                  <a:pt x="56" y="251"/>
                </a:lnTo>
                <a:lnTo>
                  <a:pt x="51" y="235"/>
                </a:lnTo>
                <a:lnTo>
                  <a:pt x="40" y="216"/>
                </a:lnTo>
                <a:lnTo>
                  <a:pt x="43" y="196"/>
                </a:lnTo>
                <a:lnTo>
                  <a:pt x="28" y="170"/>
                </a:lnTo>
                <a:lnTo>
                  <a:pt x="15" y="140"/>
                </a:lnTo>
                <a:lnTo>
                  <a:pt x="12" y="94"/>
                </a:lnTo>
                <a:lnTo>
                  <a:pt x="17" y="64"/>
                </a:lnTo>
                <a:lnTo>
                  <a:pt x="25" y="34"/>
                </a:lnTo>
                <a:lnTo>
                  <a:pt x="27" y="12"/>
                </a:lnTo>
                <a:lnTo>
                  <a:pt x="15" y="0"/>
                </a:lnTo>
                <a:lnTo>
                  <a:pt x="13" y="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0" name=""/>
          <p:cNvGrpSpPr/>
          <p:nvPr/>
        </p:nvGrpSpPr>
        <p:grpSpPr>
          <a:xfrm>
            <a:off x="63360" y="154080"/>
            <a:ext cx="3435480" cy="520560"/>
            <a:chOff x="63360" y="154080"/>
            <a:chExt cx="3435480" cy="520560"/>
          </a:xfrm>
        </p:grpSpPr>
        <p:sp>
          <p:nvSpPr>
            <p:cNvPr id="11" name=""/>
            <p:cNvSpPr/>
            <p:nvPr/>
          </p:nvSpPr>
          <p:spPr>
            <a:xfrm>
              <a:off x="63360" y="154080"/>
              <a:ext cx="3435480" cy="423720"/>
            </a:xfrm>
            <a:custGeom>
              <a:avLst/>
              <a:gdLst/>
              <a:ahLst/>
              <a:rect l="l" t="t" r="r" b="b"/>
              <a:pathLst>
                <a:path w="2164" h="267">
                  <a:moveTo>
                    <a:pt x="29" y="3"/>
                  </a:moveTo>
                  <a:lnTo>
                    <a:pt x="46" y="0"/>
                  </a:lnTo>
                  <a:lnTo>
                    <a:pt x="2096" y="0"/>
                  </a:lnTo>
                  <a:lnTo>
                    <a:pt x="2120" y="2"/>
                  </a:lnTo>
                  <a:lnTo>
                    <a:pt x="2137" y="9"/>
                  </a:lnTo>
                  <a:lnTo>
                    <a:pt x="2152" y="26"/>
                  </a:lnTo>
                  <a:lnTo>
                    <a:pt x="2160" y="46"/>
                  </a:lnTo>
                  <a:lnTo>
                    <a:pt x="2163" y="69"/>
                  </a:lnTo>
                  <a:lnTo>
                    <a:pt x="2163" y="266"/>
                  </a:lnTo>
                  <a:lnTo>
                    <a:pt x="81" y="266"/>
                  </a:lnTo>
                  <a:lnTo>
                    <a:pt x="0" y="266"/>
                  </a:lnTo>
                  <a:lnTo>
                    <a:pt x="0" y="82"/>
                  </a:lnTo>
                  <a:lnTo>
                    <a:pt x="1" y="55"/>
                  </a:lnTo>
                  <a:lnTo>
                    <a:pt x="9" y="29"/>
                  </a:lnTo>
                  <a:lnTo>
                    <a:pt x="16" y="15"/>
                  </a:lnTo>
                  <a:lnTo>
                    <a:pt x="29" y="3"/>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 name=""/>
            <p:cNvSpPr/>
            <p:nvPr/>
          </p:nvSpPr>
          <p:spPr>
            <a:xfrm>
              <a:off x="63360" y="425520"/>
              <a:ext cx="3435480" cy="182520"/>
            </a:xfrm>
            <a:custGeom>
              <a:avLst/>
              <a:gdLst/>
              <a:ahLst/>
              <a:rect l="l" t="t" r="r" b="b"/>
              <a:pathLst>
                <a:path w="2164" h="115">
                  <a:moveTo>
                    <a:pt x="75" y="35"/>
                  </a:moveTo>
                  <a:lnTo>
                    <a:pt x="105" y="39"/>
                  </a:lnTo>
                  <a:lnTo>
                    <a:pt x="138" y="35"/>
                  </a:lnTo>
                  <a:lnTo>
                    <a:pt x="170" y="39"/>
                  </a:lnTo>
                  <a:lnTo>
                    <a:pt x="195" y="50"/>
                  </a:lnTo>
                  <a:lnTo>
                    <a:pt x="221" y="58"/>
                  </a:lnTo>
                  <a:lnTo>
                    <a:pt x="266" y="51"/>
                  </a:lnTo>
                  <a:lnTo>
                    <a:pt x="305" y="47"/>
                  </a:lnTo>
                  <a:lnTo>
                    <a:pt x="360" y="47"/>
                  </a:lnTo>
                  <a:lnTo>
                    <a:pt x="400" y="41"/>
                  </a:lnTo>
                  <a:lnTo>
                    <a:pt x="435" y="47"/>
                  </a:lnTo>
                  <a:lnTo>
                    <a:pt x="466" y="53"/>
                  </a:lnTo>
                  <a:lnTo>
                    <a:pt x="494" y="55"/>
                  </a:lnTo>
                  <a:lnTo>
                    <a:pt x="538" y="47"/>
                  </a:lnTo>
                  <a:lnTo>
                    <a:pt x="586" y="47"/>
                  </a:lnTo>
                  <a:lnTo>
                    <a:pt x="654" y="50"/>
                  </a:lnTo>
                  <a:lnTo>
                    <a:pt x="683" y="61"/>
                  </a:lnTo>
                  <a:lnTo>
                    <a:pt x="728" y="58"/>
                  </a:lnTo>
                  <a:lnTo>
                    <a:pt x="773" y="41"/>
                  </a:lnTo>
                  <a:lnTo>
                    <a:pt x="815" y="35"/>
                  </a:lnTo>
                  <a:lnTo>
                    <a:pt x="844" y="41"/>
                  </a:lnTo>
                  <a:lnTo>
                    <a:pt x="880" y="56"/>
                  </a:lnTo>
                  <a:lnTo>
                    <a:pt x="921" y="62"/>
                  </a:lnTo>
                  <a:lnTo>
                    <a:pt x="968" y="52"/>
                  </a:lnTo>
                  <a:lnTo>
                    <a:pt x="989" y="49"/>
                  </a:lnTo>
                  <a:lnTo>
                    <a:pt x="1013" y="56"/>
                  </a:lnTo>
                  <a:lnTo>
                    <a:pt x="1032" y="47"/>
                  </a:lnTo>
                  <a:lnTo>
                    <a:pt x="1053" y="35"/>
                  </a:lnTo>
                  <a:lnTo>
                    <a:pt x="1078" y="24"/>
                  </a:lnTo>
                  <a:lnTo>
                    <a:pt x="1105" y="21"/>
                  </a:lnTo>
                  <a:lnTo>
                    <a:pt x="1136" y="24"/>
                  </a:lnTo>
                  <a:lnTo>
                    <a:pt x="1167" y="19"/>
                  </a:lnTo>
                  <a:lnTo>
                    <a:pt x="1198" y="13"/>
                  </a:lnTo>
                  <a:lnTo>
                    <a:pt x="1218" y="13"/>
                  </a:lnTo>
                  <a:lnTo>
                    <a:pt x="1237" y="15"/>
                  </a:lnTo>
                  <a:lnTo>
                    <a:pt x="1265" y="29"/>
                  </a:lnTo>
                  <a:lnTo>
                    <a:pt x="1293" y="27"/>
                  </a:lnTo>
                  <a:lnTo>
                    <a:pt x="1316" y="41"/>
                  </a:lnTo>
                  <a:lnTo>
                    <a:pt x="1361" y="41"/>
                  </a:lnTo>
                  <a:lnTo>
                    <a:pt x="1399" y="33"/>
                  </a:lnTo>
                  <a:lnTo>
                    <a:pt x="1417" y="44"/>
                  </a:lnTo>
                  <a:lnTo>
                    <a:pt x="1436" y="55"/>
                  </a:lnTo>
                  <a:lnTo>
                    <a:pt x="1462" y="52"/>
                  </a:lnTo>
                  <a:lnTo>
                    <a:pt x="1493" y="58"/>
                  </a:lnTo>
                  <a:lnTo>
                    <a:pt x="1526" y="52"/>
                  </a:lnTo>
                  <a:lnTo>
                    <a:pt x="1589" y="58"/>
                  </a:lnTo>
                  <a:lnTo>
                    <a:pt x="1616" y="64"/>
                  </a:lnTo>
                  <a:lnTo>
                    <a:pt x="1647" y="49"/>
                  </a:lnTo>
                  <a:lnTo>
                    <a:pt x="1667" y="48"/>
                  </a:lnTo>
                  <a:lnTo>
                    <a:pt x="1691" y="53"/>
                  </a:lnTo>
                  <a:lnTo>
                    <a:pt x="1714" y="51"/>
                  </a:lnTo>
                  <a:lnTo>
                    <a:pt x="1743" y="35"/>
                  </a:lnTo>
                  <a:lnTo>
                    <a:pt x="1793" y="31"/>
                  </a:lnTo>
                  <a:lnTo>
                    <a:pt x="1817" y="33"/>
                  </a:lnTo>
                  <a:lnTo>
                    <a:pt x="1842" y="33"/>
                  </a:lnTo>
                  <a:lnTo>
                    <a:pt x="1878" y="13"/>
                  </a:lnTo>
                  <a:lnTo>
                    <a:pt x="1899" y="6"/>
                  </a:lnTo>
                  <a:lnTo>
                    <a:pt x="1926" y="9"/>
                  </a:lnTo>
                  <a:lnTo>
                    <a:pt x="1957" y="29"/>
                  </a:lnTo>
                  <a:lnTo>
                    <a:pt x="1988" y="17"/>
                  </a:lnTo>
                  <a:lnTo>
                    <a:pt x="2017" y="0"/>
                  </a:lnTo>
                  <a:lnTo>
                    <a:pt x="2042" y="1"/>
                  </a:lnTo>
                  <a:lnTo>
                    <a:pt x="2071" y="35"/>
                  </a:lnTo>
                  <a:lnTo>
                    <a:pt x="2093" y="29"/>
                  </a:lnTo>
                  <a:lnTo>
                    <a:pt x="2125" y="15"/>
                  </a:lnTo>
                  <a:lnTo>
                    <a:pt x="2150" y="14"/>
                  </a:lnTo>
                  <a:lnTo>
                    <a:pt x="2163" y="26"/>
                  </a:lnTo>
                  <a:lnTo>
                    <a:pt x="2163" y="114"/>
                  </a:lnTo>
                  <a:lnTo>
                    <a:pt x="909" y="89"/>
                  </a:lnTo>
                  <a:lnTo>
                    <a:pt x="893" y="92"/>
                  </a:lnTo>
                  <a:lnTo>
                    <a:pt x="0" y="82"/>
                  </a:lnTo>
                  <a:lnTo>
                    <a:pt x="0" y="18"/>
                  </a:lnTo>
                  <a:lnTo>
                    <a:pt x="13" y="27"/>
                  </a:lnTo>
                  <a:lnTo>
                    <a:pt x="32" y="31"/>
                  </a:lnTo>
                  <a:lnTo>
                    <a:pt x="56" y="32"/>
                  </a:lnTo>
                  <a:lnTo>
                    <a:pt x="75" y="35"/>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 name=""/>
            <p:cNvSpPr/>
            <p:nvPr/>
          </p:nvSpPr>
          <p:spPr>
            <a:xfrm>
              <a:off x="63360" y="487440"/>
              <a:ext cx="3435480" cy="187200"/>
            </a:xfrm>
            <a:custGeom>
              <a:avLst/>
              <a:gdLst/>
              <a:ahLst/>
              <a:rect l="l" t="t" r="r" b="b"/>
              <a:pathLst>
                <a:path w="2164" h="118">
                  <a:moveTo>
                    <a:pt x="29" y="114"/>
                  </a:moveTo>
                  <a:lnTo>
                    <a:pt x="46" y="116"/>
                  </a:lnTo>
                  <a:lnTo>
                    <a:pt x="66" y="117"/>
                  </a:lnTo>
                  <a:lnTo>
                    <a:pt x="2096" y="117"/>
                  </a:lnTo>
                  <a:lnTo>
                    <a:pt x="2120" y="115"/>
                  </a:lnTo>
                  <a:lnTo>
                    <a:pt x="2137" y="113"/>
                  </a:lnTo>
                  <a:lnTo>
                    <a:pt x="2152" y="106"/>
                  </a:lnTo>
                  <a:lnTo>
                    <a:pt x="2160" y="98"/>
                  </a:lnTo>
                  <a:lnTo>
                    <a:pt x="2163" y="90"/>
                  </a:lnTo>
                  <a:lnTo>
                    <a:pt x="2163" y="13"/>
                  </a:lnTo>
                  <a:lnTo>
                    <a:pt x="2144" y="0"/>
                  </a:lnTo>
                  <a:lnTo>
                    <a:pt x="2134" y="4"/>
                  </a:lnTo>
                  <a:lnTo>
                    <a:pt x="2125" y="17"/>
                  </a:lnTo>
                  <a:lnTo>
                    <a:pt x="2118" y="32"/>
                  </a:lnTo>
                  <a:lnTo>
                    <a:pt x="2109" y="31"/>
                  </a:lnTo>
                  <a:lnTo>
                    <a:pt x="2097" y="29"/>
                  </a:lnTo>
                  <a:lnTo>
                    <a:pt x="2071" y="22"/>
                  </a:lnTo>
                  <a:lnTo>
                    <a:pt x="2054" y="16"/>
                  </a:lnTo>
                  <a:lnTo>
                    <a:pt x="2027" y="13"/>
                  </a:lnTo>
                  <a:lnTo>
                    <a:pt x="1998" y="20"/>
                  </a:lnTo>
                  <a:lnTo>
                    <a:pt x="1970" y="31"/>
                  </a:lnTo>
                  <a:lnTo>
                    <a:pt x="1951" y="23"/>
                  </a:lnTo>
                  <a:lnTo>
                    <a:pt x="1934" y="22"/>
                  </a:lnTo>
                  <a:lnTo>
                    <a:pt x="1910" y="16"/>
                  </a:lnTo>
                  <a:lnTo>
                    <a:pt x="1885" y="18"/>
                  </a:lnTo>
                  <a:lnTo>
                    <a:pt x="1868" y="25"/>
                  </a:lnTo>
                  <a:lnTo>
                    <a:pt x="1861" y="35"/>
                  </a:lnTo>
                  <a:lnTo>
                    <a:pt x="1841" y="31"/>
                  </a:lnTo>
                  <a:lnTo>
                    <a:pt x="1813" y="31"/>
                  </a:lnTo>
                  <a:lnTo>
                    <a:pt x="1776" y="26"/>
                  </a:lnTo>
                  <a:lnTo>
                    <a:pt x="1744" y="35"/>
                  </a:lnTo>
                  <a:lnTo>
                    <a:pt x="1716" y="22"/>
                  </a:lnTo>
                  <a:lnTo>
                    <a:pt x="1679" y="31"/>
                  </a:lnTo>
                  <a:lnTo>
                    <a:pt x="1644" y="51"/>
                  </a:lnTo>
                  <a:lnTo>
                    <a:pt x="1614" y="44"/>
                  </a:lnTo>
                  <a:lnTo>
                    <a:pt x="1589" y="36"/>
                  </a:lnTo>
                  <a:lnTo>
                    <a:pt x="1560" y="32"/>
                  </a:lnTo>
                  <a:lnTo>
                    <a:pt x="1524" y="35"/>
                  </a:lnTo>
                  <a:lnTo>
                    <a:pt x="1467" y="41"/>
                  </a:lnTo>
                  <a:lnTo>
                    <a:pt x="1417" y="34"/>
                  </a:lnTo>
                  <a:lnTo>
                    <a:pt x="1395" y="38"/>
                  </a:lnTo>
                  <a:lnTo>
                    <a:pt x="1367" y="31"/>
                  </a:lnTo>
                  <a:lnTo>
                    <a:pt x="1348" y="23"/>
                  </a:lnTo>
                  <a:lnTo>
                    <a:pt x="1327" y="22"/>
                  </a:lnTo>
                  <a:lnTo>
                    <a:pt x="1287" y="26"/>
                  </a:lnTo>
                  <a:lnTo>
                    <a:pt x="1237" y="41"/>
                  </a:lnTo>
                  <a:lnTo>
                    <a:pt x="1194" y="28"/>
                  </a:lnTo>
                  <a:lnTo>
                    <a:pt x="1159" y="31"/>
                  </a:lnTo>
                  <a:lnTo>
                    <a:pt x="1125" y="48"/>
                  </a:lnTo>
                  <a:lnTo>
                    <a:pt x="1065" y="36"/>
                  </a:lnTo>
                  <a:lnTo>
                    <a:pt x="1019" y="42"/>
                  </a:lnTo>
                  <a:lnTo>
                    <a:pt x="988" y="36"/>
                  </a:lnTo>
                  <a:lnTo>
                    <a:pt x="943" y="39"/>
                  </a:lnTo>
                  <a:lnTo>
                    <a:pt x="897" y="48"/>
                  </a:lnTo>
                  <a:lnTo>
                    <a:pt x="866" y="45"/>
                  </a:lnTo>
                  <a:lnTo>
                    <a:pt x="801" y="42"/>
                  </a:lnTo>
                  <a:lnTo>
                    <a:pt x="760" y="48"/>
                  </a:lnTo>
                  <a:lnTo>
                    <a:pt x="692" y="44"/>
                  </a:lnTo>
                  <a:lnTo>
                    <a:pt x="636" y="39"/>
                  </a:lnTo>
                  <a:lnTo>
                    <a:pt x="575" y="31"/>
                  </a:lnTo>
                  <a:lnTo>
                    <a:pt x="518" y="39"/>
                  </a:lnTo>
                  <a:lnTo>
                    <a:pt x="454" y="22"/>
                  </a:lnTo>
                  <a:lnTo>
                    <a:pt x="404" y="22"/>
                  </a:lnTo>
                  <a:lnTo>
                    <a:pt x="371" y="33"/>
                  </a:lnTo>
                  <a:lnTo>
                    <a:pt x="349" y="24"/>
                  </a:lnTo>
                  <a:lnTo>
                    <a:pt x="322" y="29"/>
                  </a:lnTo>
                  <a:lnTo>
                    <a:pt x="287" y="31"/>
                  </a:lnTo>
                  <a:lnTo>
                    <a:pt x="252" y="34"/>
                  </a:lnTo>
                  <a:lnTo>
                    <a:pt x="211" y="41"/>
                  </a:lnTo>
                  <a:lnTo>
                    <a:pt x="176" y="33"/>
                  </a:lnTo>
                  <a:lnTo>
                    <a:pt x="143" y="37"/>
                  </a:lnTo>
                  <a:lnTo>
                    <a:pt x="99" y="40"/>
                  </a:lnTo>
                  <a:lnTo>
                    <a:pt x="71" y="37"/>
                  </a:lnTo>
                  <a:lnTo>
                    <a:pt x="20" y="35"/>
                  </a:lnTo>
                  <a:lnTo>
                    <a:pt x="0" y="44"/>
                  </a:lnTo>
                  <a:lnTo>
                    <a:pt x="2" y="69"/>
                  </a:lnTo>
                  <a:lnTo>
                    <a:pt x="5" y="91"/>
                  </a:lnTo>
                  <a:lnTo>
                    <a:pt x="16" y="110"/>
                  </a:lnTo>
                  <a:lnTo>
                    <a:pt x="29" y="114"/>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 name=""/>
            <p:cNvSpPr/>
            <p:nvPr/>
          </p:nvSpPr>
          <p:spPr>
            <a:xfrm>
              <a:off x="82440" y="165240"/>
              <a:ext cx="3381480" cy="242640"/>
            </a:xfrm>
            <a:custGeom>
              <a:avLst/>
              <a:gdLst/>
              <a:ahLst/>
              <a:rect l="l" t="t" r="r" b="b"/>
              <a:pathLst>
                <a:path w="2130" h="153">
                  <a:moveTo>
                    <a:pt x="0" y="74"/>
                  </a:moveTo>
                  <a:lnTo>
                    <a:pt x="0" y="115"/>
                  </a:lnTo>
                  <a:lnTo>
                    <a:pt x="0" y="152"/>
                  </a:lnTo>
                  <a:lnTo>
                    <a:pt x="5" y="122"/>
                  </a:lnTo>
                  <a:lnTo>
                    <a:pt x="7" y="98"/>
                  </a:lnTo>
                  <a:lnTo>
                    <a:pt x="9" y="55"/>
                  </a:lnTo>
                  <a:lnTo>
                    <a:pt x="15" y="34"/>
                  </a:lnTo>
                  <a:lnTo>
                    <a:pt x="28" y="27"/>
                  </a:lnTo>
                  <a:lnTo>
                    <a:pt x="60" y="22"/>
                  </a:lnTo>
                  <a:lnTo>
                    <a:pt x="101" y="24"/>
                  </a:lnTo>
                  <a:lnTo>
                    <a:pt x="200" y="24"/>
                  </a:lnTo>
                  <a:lnTo>
                    <a:pt x="243" y="28"/>
                  </a:lnTo>
                  <a:lnTo>
                    <a:pt x="306" y="24"/>
                  </a:lnTo>
                  <a:lnTo>
                    <a:pt x="378" y="26"/>
                  </a:lnTo>
                  <a:lnTo>
                    <a:pt x="431" y="25"/>
                  </a:lnTo>
                  <a:lnTo>
                    <a:pt x="537" y="28"/>
                  </a:lnTo>
                  <a:lnTo>
                    <a:pt x="574" y="27"/>
                  </a:lnTo>
                  <a:lnTo>
                    <a:pt x="645" y="24"/>
                  </a:lnTo>
                  <a:lnTo>
                    <a:pt x="669" y="29"/>
                  </a:lnTo>
                  <a:lnTo>
                    <a:pt x="735" y="24"/>
                  </a:lnTo>
                  <a:lnTo>
                    <a:pt x="836" y="27"/>
                  </a:lnTo>
                  <a:lnTo>
                    <a:pt x="870" y="31"/>
                  </a:lnTo>
                  <a:lnTo>
                    <a:pt x="923" y="28"/>
                  </a:lnTo>
                  <a:lnTo>
                    <a:pt x="968" y="33"/>
                  </a:lnTo>
                  <a:lnTo>
                    <a:pt x="1006" y="33"/>
                  </a:lnTo>
                  <a:lnTo>
                    <a:pt x="1080" y="28"/>
                  </a:lnTo>
                  <a:lnTo>
                    <a:pt x="1150" y="31"/>
                  </a:lnTo>
                  <a:lnTo>
                    <a:pt x="1212" y="38"/>
                  </a:lnTo>
                  <a:lnTo>
                    <a:pt x="1232" y="39"/>
                  </a:lnTo>
                  <a:lnTo>
                    <a:pt x="1316" y="35"/>
                  </a:lnTo>
                  <a:lnTo>
                    <a:pt x="1395" y="32"/>
                  </a:lnTo>
                  <a:lnTo>
                    <a:pt x="1414" y="30"/>
                  </a:lnTo>
                  <a:lnTo>
                    <a:pt x="1444" y="31"/>
                  </a:lnTo>
                  <a:lnTo>
                    <a:pt x="1526" y="34"/>
                  </a:lnTo>
                  <a:lnTo>
                    <a:pt x="1589" y="29"/>
                  </a:lnTo>
                  <a:lnTo>
                    <a:pt x="1621" y="30"/>
                  </a:lnTo>
                  <a:lnTo>
                    <a:pt x="1672" y="31"/>
                  </a:lnTo>
                  <a:lnTo>
                    <a:pt x="1714" y="27"/>
                  </a:lnTo>
                  <a:lnTo>
                    <a:pt x="1743" y="24"/>
                  </a:lnTo>
                  <a:lnTo>
                    <a:pt x="1781" y="30"/>
                  </a:lnTo>
                  <a:lnTo>
                    <a:pt x="1861" y="32"/>
                  </a:lnTo>
                  <a:lnTo>
                    <a:pt x="1914" y="24"/>
                  </a:lnTo>
                  <a:lnTo>
                    <a:pt x="1991" y="31"/>
                  </a:lnTo>
                  <a:lnTo>
                    <a:pt x="2046" y="31"/>
                  </a:lnTo>
                  <a:lnTo>
                    <a:pt x="2075" y="31"/>
                  </a:lnTo>
                  <a:lnTo>
                    <a:pt x="2094" y="44"/>
                  </a:lnTo>
                  <a:lnTo>
                    <a:pt x="2106" y="51"/>
                  </a:lnTo>
                  <a:lnTo>
                    <a:pt x="2115" y="64"/>
                  </a:lnTo>
                  <a:lnTo>
                    <a:pt x="2122" y="87"/>
                  </a:lnTo>
                  <a:lnTo>
                    <a:pt x="2129" y="117"/>
                  </a:lnTo>
                  <a:lnTo>
                    <a:pt x="2129" y="55"/>
                  </a:lnTo>
                  <a:lnTo>
                    <a:pt x="2129" y="39"/>
                  </a:lnTo>
                  <a:lnTo>
                    <a:pt x="2125" y="28"/>
                  </a:lnTo>
                  <a:lnTo>
                    <a:pt x="2120" y="15"/>
                  </a:lnTo>
                  <a:lnTo>
                    <a:pt x="2090" y="7"/>
                  </a:lnTo>
                  <a:lnTo>
                    <a:pt x="1974" y="5"/>
                  </a:lnTo>
                  <a:lnTo>
                    <a:pt x="1947" y="1"/>
                  </a:lnTo>
                  <a:lnTo>
                    <a:pt x="1856" y="1"/>
                  </a:lnTo>
                  <a:lnTo>
                    <a:pt x="1829" y="3"/>
                  </a:lnTo>
                  <a:lnTo>
                    <a:pt x="1774" y="3"/>
                  </a:lnTo>
                  <a:lnTo>
                    <a:pt x="1733" y="2"/>
                  </a:lnTo>
                  <a:lnTo>
                    <a:pt x="1658" y="7"/>
                  </a:lnTo>
                  <a:lnTo>
                    <a:pt x="1502" y="3"/>
                  </a:lnTo>
                  <a:lnTo>
                    <a:pt x="1453" y="5"/>
                  </a:lnTo>
                  <a:lnTo>
                    <a:pt x="1367" y="9"/>
                  </a:lnTo>
                  <a:lnTo>
                    <a:pt x="1312" y="6"/>
                  </a:lnTo>
                  <a:lnTo>
                    <a:pt x="1257" y="5"/>
                  </a:lnTo>
                  <a:lnTo>
                    <a:pt x="1212" y="5"/>
                  </a:lnTo>
                  <a:lnTo>
                    <a:pt x="1164" y="8"/>
                  </a:lnTo>
                  <a:lnTo>
                    <a:pt x="1135" y="4"/>
                  </a:lnTo>
                  <a:lnTo>
                    <a:pt x="1031" y="5"/>
                  </a:lnTo>
                  <a:lnTo>
                    <a:pt x="1000" y="5"/>
                  </a:lnTo>
                  <a:lnTo>
                    <a:pt x="945" y="4"/>
                  </a:lnTo>
                  <a:lnTo>
                    <a:pt x="837" y="6"/>
                  </a:lnTo>
                  <a:lnTo>
                    <a:pt x="741" y="4"/>
                  </a:lnTo>
                  <a:lnTo>
                    <a:pt x="652" y="4"/>
                  </a:lnTo>
                  <a:lnTo>
                    <a:pt x="610" y="5"/>
                  </a:lnTo>
                  <a:lnTo>
                    <a:pt x="569" y="2"/>
                  </a:lnTo>
                  <a:lnTo>
                    <a:pt x="535" y="2"/>
                  </a:lnTo>
                  <a:lnTo>
                    <a:pt x="431" y="2"/>
                  </a:lnTo>
                  <a:lnTo>
                    <a:pt x="312" y="4"/>
                  </a:lnTo>
                  <a:lnTo>
                    <a:pt x="256" y="2"/>
                  </a:lnTo>
                  <a:lnTo>
                    <a:pt x="190" y="4"/>
                  </a:lnTo>
                  <a:lnTo>
                    <a:pt x="107" y="0"/>
                  </a:lnTo>
                  <a:lnTo>
                    <a:pt x="56" y="0"/>
                  </a:lnTo>
                  <a:lnTo>
                    <a:pt x="34" y="1"/>
                  </a:lnTo>
                  <a:lnTo>
                    <a:pt x="19" y="5"/>
                  </a:lnTo>
                  <a:lnTo>
                    <a:pt x="5" y="17"/>
                  </a:lnTo>
                  <a:lnTo>
                    <a:pt x="1" y="35"/>
                  </a:lnTo>
                  <a:lnTo>
                    <a:pt x="0" y="53"/>
                  </a:lnTo>
                  <a:lnTo>
                    <a:pt x="0" y="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 name=""/>
            <p:cNvSpPr/>
            <p:nvPr/>
          </p:nvSpPr>
          <p:spPr>
            <a:xfrm>
              <a:off x="90360" y="550800"/>
              <a:ext cx="3378240" cy="98640"/>
            </a:xfrm>
            <a:custGeom>
              <a:avLst/>
              <a:gdLst/>
              <a:ahLst/>
              <a:rect l="l" t="t" r="r" b="b"/>
              <a:pathLst>
                <a:path w="2128" h="62">
                  <a:moveTo>
                    <a:pt x="0" y="31"/>
                  </a:moveTo>
                  <a:lnTo>
                    <a:pt x="0" y="14"/>
                  </a:lnTo>
                  <a:lnTo>
                    <a:pt x="0" y="0"/>
                  </a:lnTo>
                  <a:lnTo>
                    <a:pt x="6" y="12"/>
                  </a:lnTo>
                  <a:lnTo>
                    <a:pt x="7" y="21"/>
                  </a:lnTo>
                  <a:lnTo>
                    <a:pt x="8" y="39"/>
                  </a:lnTo>
                  <a:lnTo>
                    <a:pt x="15" y="47"/>
                  </a:lnTo>
                  <a:lnTo>
                    <a:pt x="27" y="49"/>
                  </a:lnTo>
                  <a:lnTo>
                    <a:pt x="40" y="47"/>
                  </a:lnTo>
                  <a:lnTo>
                    <a:pt x="59" y="47"/>
                  </a:lnTo>
                  <a:lnTo>
                    <a:pt x="91" y="46"/>
                  </a:lnTo>
                  <a:lnTo>
                    <a:pt x="110" y="47"/>
                  </a:lnTo>
                  <a:lnTo>
                    <a:pt x="127" y="47"/>
                  </a:lnTo>
                  <a:lnTo>
                    <a:pt x="162" y="48"/>
                  </a:lnTo>
                  <a:lnTo>
                    <a:pt x="175" y="48"/>
                  </a:lnTo>
                  <a:lnTo>
                    <a:pt x="192" y="49"/>
                  </a:lnTo>
                  <a:lnTo>
                    <a:pt x="219" y="47"/>
                  </a:lnTo>
                  <a:lnTo>
                    <a:pt x="248" y="46"/>
                  </a:lnTo>
                  <a:lnTo>
                    <a:pt x="284" y="45"/>
                  </a:lnTo>
                  <a:lnTo>
                    <a:pt x="327" y="49"/>
                  </a:lnTo>
                  <a:lnTo>
                    <a:pt x="383" y="50"/>
                  </a:lnTo>
                  <a:lnTo>
                    <a:pt x="413" y="49"/>
                  </a:lnTo>
                  <a:lnTo>
                    <a:pt x="431" y="50"/>
                  </a:lnTo>
                  <a:lnTo>
                    <a:pt x="479" y="50"/>
                  </a:lnTo>
                  <a:lnTo>
                    <a:pt x="496" y="47"/>
                  </a:lnTo>
                  <a:lnTo>
                    <a:pt x="517" y="50"/>
                  </a:lnTo>
                  <a:lnTo>
                    <a:pt x="574" y="49"/>
                  </a:lnTo>
                  <a:lnTo>
                    <a:pt x="645" y="51"/>
                  </a:lnTo>
                  <a:lnTo>
                    <a:pt x="669" y="49"/>
                  </a:lnTo>
                  <a:lnTo>
                    <a:pt x="725" y="47"/>
                  </a:lnTo>
                  <a:lnTo>
                    <a:pt x="762" y="46"/>
                  </a:lnTo>
                  <a:lnTo>
                    <a:pt x="805" y="48"/>
                  </a:lnTo>
                  <a:lnTo>
                    <a:pt x="835" y="49"/>
                  </a:lnTo>
                  <a:lnTo>
                    <a:pt x="869" y="48"/>
                  </a:lnTo>
                  <a:lnTo>
                    <a:pt x="929" y="50"/>
                  </a:lnTo>
                  <a:lnTo>
                    <a:pt x="968" y="47"/>
                  </a:lnTo>
                  <a:lnTo>
                    <a:pt x="1005" y="47"/>
                  </a:lnTo>
                  <a:lnTo>
                    <a:pt x="1044" y="44"/>
                  </a:lnTo>
                  <a:lnTo>
                    <a:pt x="1093" y="47"/>
                  </a:lnTo>
                  <a:lnTo>
                    <a:pt x="1157" y="45"/>
                  </a:lnTo>
                  <a:lnTo>
                    <a:pt x="1230" y="45"/>
                  </a:lnTo>
                  <a:lnTo>
                    <a:pt x="1295" y="47"/>
                  </a:lnTo>
                  <a:lnTo>
                    <a:pt x="1334" y="43"/>
                  </a:lnTo>
                  <a:lnTo>
                    <a:pt x="1377" y="44"/>
                  </a:lnTo>
                  <a:lnTo>
                    <a:pt x="1394" y="47"/>
                  </a:lnTo>
                  <a:lnTo>
                    <a:pt x="1412" y="48"/>
                  </a:lnTo>
                  <a:lnTo>
                    <a:pt x="1469" y="47"/>
                  </a:lnTo>
                  <a:lnTo>
                    <a:pt x="1519" y="48"/>
                  </a:lnTo>
                  <a:lnTo>
                    <a:pt x="1587" y="49"/>
                  </a:lnTo>
                  <a:lnTo>
                    <a:pt x="1606" y="48"/>
                  </a:lnTo>
                  <a:lnTo>
                    <a:pt x="1619" y="48"/>
                  </a:lnTo>
                  <a:lnTo>
                    <a:pt x="1636" y="46"/>
                  </a:lnTo>
                  <a:lnTo>
                    <a:pt x="1670" y="48"/>
                  </a:lnTo>
                  <a:lnTo>
                    <a:pt x="1686" y="49"/>
                  </a:lnTo>
                  <a:lnTo>
                    <a:pt x="1698" y="47"/>
                  </a:lnTo>
                  <a:lnTo>
                    <a:pt x="1712" y="49"/>
                  </a:lnTo>
                  <a:lnTo>
                    <a:pt x="1739" y="47"/>
                  </a:lnTo>
                  <a:lnTo>
                    <a:pt x="1782" y="49"/>
                  </a:lnTo>
                  <a:lnTo>
                    <a:pt x="1824" y="45"/>
                  </a:lnTo>
                  <a:lnTo>
                    <a:pt x="1841" y="47"/>
                  </a:lnTo>
                  <a:lnTo>
                    <a:pt x="1859" y="47"/>
                  </a:lnTo>
                  <a:lnTo>
                    <a:pt x="1937" y="45"/>
                  </a:lnTo>
                  <a:lnTo>
                    <a:pt x="2013" y="47"/>
                  </a:lnTo>
                  <a:lnTo>
                    <a:pt x="2072" y="45"/>
                  </a:lnTo>
                  <a:lnTo>
                    <a:pt x="2092" y="43"/>
                  </a:lnTo>
                  <a:lnTo>
                    <a:pt x="2104" y="40"/>
                  </a:lnTo>
                  <a:lnTo>
                    <a:pt x="2113" y="34"/>
                  </a:lnTo>
                  <a:lnTo>
                    <a:pt x="2120" y="26"/>
                  </a:lnTo>
                  <a:lnTo>
                    <a:pt x="2127" y="13"/>
                  </a:lnTo>
                  <a:lnTo>
                    <a:pt x="2127" y="39"/>
                  </a:lnTo>
                  <a:lnTo>
                    <a:pt x="2127" y="45"/>
                  </a:lnTo>
                  <a:lnTo>
                    <a:pt x="2124" y="49"/>
                  </a:lnTo>
                  <a:lnTo>
                    <a:pt x="2118" y="54"/>
                  </a:lnTo>
                  <a:lnTo>
                    <a:pt x="2107" y="58"/>
                  </a:lnTo>
                  <a:lnTo>
                    <a:pt x="2029" y="61"/>
                  </a:lnTo>
                  <a:lnTo>
                    <a:pt x="1972" y="58"/>
                  </a:lnTo>
                  <a:lnTo>
                    <a:pt x="1945" y="60"/>
                  </a:lnTo>
                  <a:lnTo>
                    <a:pt x="1854" y="60"/>
                  </a:lnTo>
                  <a:lnTo>
                    <a:pt x="1828" y="59"/>
                  </a:lnTo>
                  <a:lnTo>
                    <a:pt x="1800" y="61"/>
                  </a:lnTo>
                  <a:lnTo>
                    <a:pt x="1772" y="59"/>
                  </a:lnTo>
                  <a:lnTo>
                    <a:pt x="1739" y="61"/>
                  </a:lnTo>
                  <a:lnTo>
                    <a:pt x="1653" y="60"/>
                  </a:lnTo>
                  <a:lnTo>
                    <a:pt x="1628" y="57"/>
                  </a:lnTo>
                  <a:lnTo>
                    <a:pt x="1547" y="60"/>
                  </a:lnTo>
                  <a:lnTo>
                    <a:pt x="1493" y="56"/>
                  </a:lnTo>
                  <a:lnTo>
                    <a:pt x="1430" y="60"/>
                  </a:lnTo>
                  <a:lnTo>
                    <a:pt x="1382" y="58"/>
                  </a:lnTo>
                  <a:lnTo>
                    <a:pt x="1336" y="60"/>
                  </a:lnTo>
                  <a:lnTo>
                    <a:pt x="1310" y="58"/>
                  </a:lnTo>
                  <a:lnTo>
                    <a:pt x="1287" y="58"/>
                  </a:lnTo>
                  <a:lnTo>
                    <a:pt x="1256" y="58"/>
                  </a:lnTo>
                  <a:lnTo>
                    <a:pt x="1235" y="57"/>
                  </a:lnTo>
                  <a:lnTo>
                    <a:pt x="1212" y="59"/>
                  </a:lnTo>
                  <a:lnTo>
                    <a:pt x="1188" y="57"/>
                  </a:lnTo>
                  <a:lnTo>
                    <a:pt x="1163" y="57"/>
                  </a:lnTo>
                  <a:lnTo>
                    <a:pt x="1134" y="59"/>
                  </a:lnTo>
                  <a:lnTo>
                    <a:pt x="1106" y="60"/>
                  </a:lnTo>
                  <a:lnTo>
                    <a:pt x="1075" y="60"/>
                  </a:lnTo>
                  <a:lnTo>
                    <a:pt x="1030" y="59"/>
                  </a:lnTo>
                  <a:lnTo>
                    <a:pt x="998" y="60"/>
                  </a:lnTo>
                  <a:lnTo>
                    <a:pt x="971" y="59"/>
                  </a:lnTo>
                  <a:lnTo>
                    <a:pt x="945" y="59"/>
                  </a:lnTo>
                  <a:lnTo>
                    <a:pt x="885" y="61"/>
                  </a:lnTo>
                  <a:lnTo>
                    <a:pt x="837" y="58"/>
                  </a:lnTo>
                  <a:lnTo>
                    <a:pt x="784" y="61"/>
                  </a:lnTo>
                  <a:lnTo>
                    <a:pt x="740" y="59"/>
                  </a:lnTo>
                  <a:lnTo>
                    <a:pt x="692" y="61"/>
                  </a:lnTo>
                  <a:lnTo>
                    <a:pt x="652" y="59"/>
                  </a:lnTo>
                  <a:lnTo>
                    <a:pt x="609" y="58"/>
                  </a:lnTo>
                  <a:lnTo>
                    <a:pt x="569" y="59"/>
                  </a:lnTo>
                  <a:lnTo>
                    <a:pt x="534" y="59"/>
                  </a:lnTo>
                  <a:lnTo>
                    <a:pt x="431" y="59"/>
                  </a:lnTo>
                  <a:lnTo>
                    <a:pt x="401" y="60"/>
                  </a:lnTo>
                  <a:lnTo>
                    <a:pt x="311" y="59"/>
                  </a:lnTo>
                  <a:lnTo>
                    <a:pt x="256" y="59"/>
                  </a:lnTo>
                  <a:lnTo>
                    <a:pt x="103" y="58"/>
                  </a:lnTo>
                  <a:lnTo>
                    <a:pt x="19" y="58"/>
                  </a:lnTo>
                  <a:lnTo>
                    <a:pt x="4" y="54"/>
                  </a:lnTo>
                  <a:lnTo>
                    <a:pt x="1" y="46"/>
                  </a:lnTo>
                  <a:lnTo>
                    <a:pt x="0" y="39"/>
                  </a:lnTo>
                  <a:lnTo>
                    <a:pt x="0" y="31"/>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 name=""/>
          <p:cNvGrpSpPr/>
          <p:nvPr/>
        </p:nvGrpSpPr>
        <p:grpSpPr>
          <a:xfrm>
            <a:off x="5646600" y="154080"/>
            <a:ext cx="3435480" cy="552240"/>
            <a:chOff x="5646600" y="154080"/>
            <a:chExt cx="3435480" cy="552240"/>
          </a:xfrm>
        </p:grpSpPr>
        <p:sp>
          <p:nvSpPr>
            <p:cNvPr id="17" name=""/>
            <p:cNvSpPr/>
            <p:nvPr/>
          </p:nvSpPr>
          <p:spPr>
            <a:xfrm>
              <a:off x="5646600" y="154080"/>
              <a:ext cx="3435480" cy="450720"/>
            </a:xfrm>
            <a:custGeom>
              <a:avLst/>
              <a:gdLst/>
              <a:ahLst/>
              <a:rect l="l" t="t" r="r" b="b"/>
              <a:pathLst>
                <a:path w="2164" h="284">
                  <a:moveTo>
                    <a:pt x="29" y="4"/>
                  </a:moveTo>
                  <a:lnTo>
                    <a:pt x="46" y="0"/>
                  </a:lnTo>
                  <a:lnTo>
                    <a:pt x="2096" y="0"/>
                  </a:lnTo>
                  <a:lnTo>
                    <a:pt x="2120" y="3"/>
                  </a:lnTo>
                  <a:lnTo>
                    <a:pt x="2137" y="10"/>
                  </a:lnTo>
                  <a:lnTo>
                    <a:pt x="2152" y="28"/>
                  </a:lnTo>
                  <a:lnTo>
                    <a:pt x="2160" y="49"/>
                  </a:lnTo>
                  <a:lnTo>
                    <a:pt x="2163" y="73"/>
                  </a:lnTo>
                  <a:lnTo>
                    <a:pt x="2163" y="283"/>
                  </a:lnTo>
                  <a:lnTo>
                    <a:pt x="81" y="283"/>
                  </a:lnTo>
                  <a:lnTo>
                    <a:pt x="0" y="283"/>
                  </a:lnTo>
                  <a:lnTo>
                    <a:pt x="0" y="87"/>
                  </a:lnTo>
                  <a:lnTo>
                    <a:pt x="1" y="59"/>
                  </a:lnTo>
                  <a:lnTo>
                    <a:pt x="9" y="31"/>
                  </a:lnTo>
                  <a:lnTo>
                    <a:pt x="16" y="16"/>
                  </a:lnTo>
                  <a:lnTo>
                    <a:pt x="29" y="4"/>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 name=""/>
            <p:cNvSpPr/>
            <p:nvPr/>
          </p:nvSpPr>
          <p:spPr>
            <a:xfrm>
              <a:off x="5646600" y="441360"/>
              <a:ext cx="3435480" cy="195120"/>
            </a:xfrm>
            <a:custGeom>
              <a:avLst/>
              <a:gdLst/>
              <a:ahLst/>
              <a:rect l="l" t="t" r="r" b="b"/>
              <a:pathLst>
                <a:path w="2164" h="123">
                  <a:moveTo>
                    <a:pt x="75" y="38"/>
                  </a:moveTo>
                  <a:lnTo>
                    <a:pt x="105" y="42"/>
                  </a:lnTo>
                  <a:lnTo>
                    <a:pt x="138" y="38"/>
                  </a:lnTo>
                  <a:lnTo>
                    <a:pt x="170" y="42"/>
                  </a:lnTo>
                  <a:lnTo>
                    <a:pt x="195" y="53"/>
                  </a:lnTo>
                  <a:lnTo>
                    <a:pt x="221" y="63"/>
                  </a:lnTo>
                  <a:lnTo>
                    <a:pt x="266" y="54"/>
                  </a:lnTo>
                  <a:lnTo>
                    <a:pt x="305" y="50"/>
                  </a:lnTo>
                  <a:lnTo>
                    <a:pt x="360" y="50"/>
                  </a:lnTo>
                  <a:lnTo>
                    <a:pt x="400" y="44"/>
                  </a:lnTo>
                  <a:lnTo>
                    <a:pt x="435" y="50"/>
                  </a:lnTo>
                  <a:lnTo>
                    <a:pt x="466" y="57"/>
                  </a:lnTo>
                  <a:lnTo>
                    <a:pt x="494" y="59"/>
                  </a:lnTo>
                  <a:lnTo>
                    <a:pt x="538" y="50"/>
                  </a:lnTo>
                  <a:lnTo>
                    <a:pt x="586" y="50"/>
                  </a:lnTo>
                  <a:lnTo>
                    <a:pt x="654" y="54"/>
                  </a:lnTo>
                  <a:lnTo>
                    <a:pt x="683" y="65"/>
                  </a:lnTo>
                  <a:lnTo>
                    <a:pt x="728" y="63"/>
                  </a:lnTo>
                  <a:lnTo>
                    <a:pt x="773" y="44"/>
                  </a:lnTo>
                  <a:lnTo>
                    <a:pt x="815" y="38"/>
                  </a:lnTo>
                  <a:lnTo>
                    <a:pt x="844" y="44"/>
                  </a:lnTo>
                  <a:lnTo>
                    <a:pt x="880" y="60"/>
                  </a:lnTo>
                  <a:lnTo>
                    <a:pt x="921" y="66"/>
                  </a:lnTo>
                  <a:lnTo>
                    <a:pt x="968" y="56"/>
                  </a:lnTo>
                  <a:lnTo>
                    <a:pt x="989" y="52"/>
                  </a:lnTo>
                  <a:lnTo>
                    <a:pt x="1013" y="60"/>
                  </a:lnTo>
                  <a:lnTo>
                    <a:pt x="1032" y="50"/>
                  </a:lnTo>
                  <a:lnTo>
                    <a:pt x="1053" y="38"/>
                  </a:lnTo>
                  <a:lnTo>
                    <a:pt x="1078" y="26"/>
                  </a:lnTo>
                  <a:lnTo>
                    <a:pt x="1105" y="22"/>
                  </a:lnTo>
                  <a:lnTo>
                    <a:pt x="1136" y="26"/>
                  </a:lnTo>
                  <a:lnTo>
                    <a:pt x="1167" y="21"/>
                  </a:lnTo>
                  <a:lnTo>
                    <a:pt x="1198" y="14"/>
                  </a:lnTo>
                  <a:lnTo>
                    <a:pt x="1218" y="14"/>
                  </a:lnTo>
                  <a:lnTo>
                    <a:pt x="1237" y="16"/>
                  </a:lnTo>
                  <a:lnTo>
                    <a:pt x="1265" y="32"/>
                  </a:lnTo>
                  <a:lnTo>
                    <a:pt x="1293" y="29"/>
                  </a:lnTo>
                  <a:lnTo>
                    <a:pt x="1316" y="44"/>
                  </a:lnTo>
                  <a:lnTo>
                    <a:pt x="1361" y="44"/>
                  </a:lnTo>
                  <a:lnTo>
                    <a:pt x="1399" y="35"/>
                  </a:lnTo>
                  <a:lnTo>
                    <a:pt x="1417" y="47"/>
                  </a:lnTo>
                  <a:lnTo>
                    <a:pt x="1436" y="59"/>
                  </a:lnTo>
                  <a:lnTo>
                    <a:pt x="1462" y="56"/>
                  </a:lnTo>
                  <a:lnTo>
                    <a:pt x="1493" y="63"/>
                  </a:lnTo>
                  <a:lnTo>
                    <a:pt x="1526" y="56"/>
                  </a:lnTo>
                  <a:lnTo>
                    <a:pt x="1589" y="63"/>
                  </a:lnTo>
                  <a:lnTo>
                    <a:pt x="1616" y="69"/>
                  </a:lnTo>
                  <a:lnTo>
                    <a:pt x="1647" y="52"/>
                  </a:lnTo>
                  <a:lnTo>
                    <a:pt x="1667" y="51"/>
                  </a:lnTo>
                  <a:lnTo>
                    <a:pt x="1691" y="57"/>
                  </a:lnTo>
                  <a:lnTo>
                    <a:pt x="1714" y="54"/>
                  </a:lnTo>
                  <a:lnTo>
                    <a:pt x="1743" y="38"/>
                  </a:lnTo>
                  <a:lnTo>
                    <a:pt x="1793" y="33"/>
                  </a:lnTo>
                  <a:lnTo>
                    <a:pt x="1817" y="35"/>
                  </a:lnTo>
                  <a:lnTo>
                    <a:pt x="1842" y="35"/>
                  </a:lnTo>
                  <a:lnTo>
                    <a:pt x="1878" y="14"/>
                  </a:lnTo>
                  <a:lnTo>
                    <a:pt x="1899" y="6"/>
                  </a:lnTo>
                  <a:lnTo>
                    <a:pt x="1926" y="10"/>
                  </a:lnTo>
                  <a:lnTo>
                    <a:pt x="1957" y="32"/>
                  </a:lnTo>
                  <a:lnTo>
                    <a:pt x="1988" y="18"/>
                  </a:lnTo>
                  <a:lnTo>
                    <a:pt x="2017" y="0"/>
                  </a:lnTo>
                  <a:lnTo>
                    <a:pt x="2042" y="1"/>
                  </a:lnTo>
                  <a:lnTo>
                    <a:pt x="2071" y="38"/>
                  </a:lnTo>
                  <a:lnTo>
                    <a:pt x="2093" y="32"/>
                  </a:lnTo>
                  <a:lnTo>
                    <a:pt x="2125" y="16"/>
                  </a:lnTo>
                  <a:lnTo>
                    <a:pt x="2150" y="16"/>
                  </a:lnTo>
                  <a:lnTo>
                    <a:pt x="2163" y="28"/>
                  </a:lnTo>
                  <a:lnTo>
                    <a:pt x="2163" y="122"/>
                  </a:lnTo>
                  <a:lnTo>
                    <a:pt x="909" y="95"/>
                  </a:lnTo>
                  <a:lnTo>
                    <a:pt x="893" y="99"/>
                  </a:lnTo>
                  <a:lnTo>
                    <a:pt x="0" y="88"/>
                  </a:lnTo>
                  <a:lnTo>
                    <a:pt x="0" y="19"/>
                  </a:lnTo>
                  <a:lnTo>
                    <a:pt x="13" y="29"/>
                  </a:lnTo>
                  <a:lnTo>
                    <a:pt x="32" y="33"/>
                  </a:lnTo>
                  <a:lnTo>
                    <a:pt x="56" y="34"/>
                  </a:lnTo>
                  <a:lnTo>
                    <a:pt x="75"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 name=""/>
            <p:cNvSpPr/>
            <p:nvPr/>
          </p:nvSpPr>
          <p:spPr>
            <a:xfrm>
              <a:off x="5646600" y="507960"/>
              <a:ext cx="3435480" cy="198360"/>
            </a:xfrm>
            <a:custGeom>
              <a:avLst/>
              <a:gdLst/>
              <a:ahLst/>
              <a:rect l="l" t="t" r="r" b="b"/>
              <a:pathLst>
                <a:path w="2164" h="125">
                  <a:moveTo>
                    <a:pt x="29" y="120"/>
                  </a:moveTo>
                  <a:lnTo>
                    <a:pt x="46" y="123"/>
                  </a:lnTo>
                  <a:lnTo>
                    <a:pt x="66" y="124"/>
                  </a:lnTo>
                  <a:lnTo>
                    <a:pt x="2096" y="124"/>
                  </a:lnTo>
                  <a:lnTo>
                    <a:pt x="2120" y="122"/>
                  </a:lnTo>
                  <a:lnTo>
                    <a:pt x="2137" y="120"/>
                  </a:lnTo>
                  <a:lnTo>
                    <a:pt x="2152" y="113"/>
                  </a:lnTo>
                  <a:lnTo>
                    <a:pt x="2160" y="104"/>
                  </a:lnTo>
                  <a:lnTo>
                    <a:pt x="2163" y="95"/>
                  </a:lnTo>
                  <a:lnTo>
                    <a:pt x="2163" y="14"/>
                  </a:lnTo>
                  <a:lnTo>
                    <a:pt x="2144" y="0"/>
                  </a:lnTo>
                  <a:lnTo>
                    <a:pt x="2134" y="4"/>
                  </a:lnTo>
                  <a:lnTo>
                    <a:pt x="2125" y="18"/>
                  </a:lnTo>
                  <a:lnTo>
                    <a:pt x="2118" y="34"/>
                  </a:lnTo>
                  <a:lnTo>
                    <a:pt x="2109" y="33"/>
                  </a:lnTo>
                  <a:lnTo>
                    <a:pt x="2097" y="31"/>
                  </a:lnTo>
                  <a:lnTo>
                    <a:pt x="2071" y="23"/>
                  </a:lnTo>
                  <a:lnTo>
                    <a:pt x="2054" y="17"/>
                  </a:lnTo>
                  <a:lnTo>
                    <a:pt x="2027" y="14"/>
                  </a:lnTo>
                  <a:lnTo>
                    <a:pt x="1998" y="21"/>
                  </a:lnTo>
                  <a:lnTo>
                    <a:pt x="1970" y="33"/>
                  </a:lnTo>
                  <a:lnTo>
                    <a:pt x="1951" y="25"/>
                  </a:lnTo>
                  <a:lnTo>
                    <a:pt x="1934" y="23"/>
                  </a:lnTo>
                  <a:lnTo>
                    <a:pt x="1910" y="17"/>
                  </a:lnTo>
                  <a:lnTo>
                    <a:pt x="1885" y="19"/>
                  </a:lnTo>
                  <a:lnTo>
                    <a:pt x="1868" y="27"/>
                  </a:lnTo>
                  <a:lnTo>
                    <a:pt x="1861" y="37"/>
                  </a:lnTo>
                  <a:lnTo>
                    <a:pt x="1841" y="33"/>
                  </a:lnTo>
                  <a:lnTo>
                    <a:pt x="1813" y="33"/>
                  </a:lnTo>
                  <a:lnTo>
                    <a:pt x="1776" y="28"/>
                  </a:lnTo>
                  <a:lnTo>
                    <a:pt x="1744" y="37"/>
                  </a:lnTo>
                  <a:lnTo>
                    <a:pt x="1716" y="24"/>
                  </a:lnTo>
                  <a:lnTo>
                    <a:pt x="1679" y="33"/>
                  </a:lnTo>
                  <a:lnTo>
                    <a:pt x="1644" y="54"/>
                  </a:lnTo>
                  <a:lnTo>
                    <a:pt x="1614" y="46"/>
                  </a:lnTo>
                  <a:lnTo>
                    <a:pt x="1589" y="38"/>
                  </a:lnTo>
                  <a:lnTo>
                    <a:pt x="1560" y="34"/>
                  </a:lnTo>
                  <a:lnTo>
                    <a:pt x="1524" y="37"/>
                  </a:lnTo>
                  <a:lnTo>
                    <a:pt x="1467" y="44"/>
                  </a:lnTo>
                  <a:lnTo>
                    <a:pt x="1417" y="36"/>
                  </a:lnTo>
                  <a:lnTo>
                    <a:pt x="1395" y="40"/>
                  </a:lnTo>
                  <a:lnTo>
                    <a:pt x="1367" y="33"/>
                  </a:lnTo>
                  <a:lnTo>
                    <a:pt x="1348" y="25"/>
                  </a:lnTo>
                  <a:lnTo>
                    <a:pt x="1327" y="24"/>
                  </a:lnTo>
                  <a:lnTo>
                    <a:pt x="1287" y="28"/>
                  </a:lnTo>
                  <a:lnTo>
                    <a:pt x="1237" y="43"/>
                  </a:lnTo>
                  <a:lnTo>
                    <a:pt x="1194" y="30"/>
                  </a:lnTo>
                  <a:lnTo>
                    <a:pt x="1159" y="33"/>
                  </a:lnTo>
                  <a:lnTo>
                    <a:pt x="1125" y="51"/>
                  </a:lnTo>
                  <a:lnTo>
                    <a:pt x="1065" y="38"/>
                  </a:lnTo>
                  <a:lnTo>
                    <a:pt x="1019" y="45"/>
                  </a:lnTo>
                  <a:lnTo>
                    <a:pt x="988" y="38"/>
                  </a:lnTo>
                  <a:lnTo>
                    <a:pt x="943" y="42"/>
                  </a:lnTo>
                  <a:lnTo>
                    <a:pt x="897" y="51"/>
                  </a:lnTo>
                  <a:lnTo>
                    <a:pt x="866" y="48"/>
                  </a:lnTo>
                  <a:lnTo>
                    <a:pt x="801" y="45"/>
                  </a:lnTo>
                  <a:lnTo>
                    <a:pt x="760" y="51"/>
                  </a:lnTo>
                  <a:lnTo>
                    <a:pt x="692" y="46"/>
                  </a:lnTo>
                  <a:lnTo>
                    <a:pt x="636" y="42"/>
                  </a:lnTo>
                  <a:lnTo>
                    <a:pt x="575" y="33"/>
                  </a:lnTo>
                  <a:lnTo>
                    <a:pt x="518" y="42"/>
                  </a:lnTo>
                  <a:lnTo>
                    <a:pt x="454" y="23"/>
                  </a:lnTo>
                  <a:lnTo>
                    <a:pt x="404" y="24"/>
                  </a:lnTo>
                  <a:lnTo>
                    <a:pt x="371" y="35"/>
                  </a:lnTo>
                  <a:lnTo>
                    <a:pt x="349" y="26"/>
                  </a:lnTo>
                  <a:lnTo>
                    <a:pt x="322" y="31"/>
                  </a:lnTo>
                  <a:lnTo>
                    <a:pt x="287" y="33"/>
                  </a:lnTo>
                  <a:lnTo>
                    <a:pt x="252" y="36"/>
                  </a:lnTo>
                  <a:lnTo>
                    <a:pt x="211" y="44"/>
                  </a:lnTo>
                  <a:lnTo>
                    <a:pt x="176" y="35"/>
                  </a:lnTo>
                  <a:lnTo>
                    <a:pt x="143" y="39"/>
                  </a:lnTo>
                  <a:lnTo>
                    <a:pt x="99" y="43"/>
                  </a:lnTo>
                  <a:lnTo>
                    <a:pt x="71" y="39"/>
                  </a:lnTo>
                  <a:lnTo>
                    <a:pt x="20" y="37"/>
                  </a:lnTo>
                  <a:lnTo>
                    <a:pt x="0" y="46"/>
                  </a:lnTo>
                  <a:lnTo>
                    <a:pt x="2" y="73"/>
                  </a:lnTo>
                  <a:lnTo>
                    <a:pt x="5" y="96"/>
                  </a:lnTo>
                  <a:lnTo>
                    <a:pt x="16" y="116"/>
                  </a:lnTo>
                  <a:lnTo>
                    <a:pt x="29" y="120"/>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 name=""/>
            <p:cNvSpPr/>
            <p:nvPr/>
          </p:nvSpPr>
          <p:spPr>
            <a:xfrm>
              <a:off x="5667480" y="165240"/>
              <a:ext cx="3379680" cy="257040"/>
            </a:xfrm>
            <a:custGeom>
              <a:avLst/>
              <a:gdLst/>
              <a:ahLst/>
              <a:rect l="l" t="t" r="r" b="b"/>
              <a:pathLst>
                <a:path w="2129" h="162">
                  <a:moveTo>
                    <a:pt x="0" y="78"/>
                  </a:moveTo>
                  <a:lnTo>
                    <a:pt x="0" y="122"/>
                  </a:lnTo>
                  <a:lnTo>
                    <a:pt x="0" y="161"/>
                  </a:lnTo>
                  <a:lnTo>
                    <a:pt x="5" y="129"/>
                  </a:lnTo>
                  <a:lnTo>
                    <a:pt x="7" y="104"/>
                  </a:lnTo>
                  <a:lnTo>
                    <a:pt x="9" y="58"/>
                  </a:lnTo>
                  <a:lnTo>
                    <a:pt x="15" y="36"/>
                  </a:lnTo>
                  <a:lnTo>
                    <a:pt x="28" y="29"/>
                  </a:lnTo>
                  <a:lnTo>
                    <a:pt x="60" y="24"/>
                  </a:lnTo>
                  <a:lnTo>
                    <a:pt x="101" y="25"/>
                  </a:lnTo>
                  <a:lnTo>
                    <a:pt x="200" y="25"/>
                  </a:lnTo>
                  <a:lnTo>
                    <a:pt x="243" y="29"/>
                  </a:lnTo>
                  <a:lnTo>
                    <a:pt x="306" y="25"/>
                  </a:lnTo>
                  <a:lnTo>
                    <a:pt x="378" y="28"/>
                  </a:lnTo>
                  <a:lnTo>
                    <a:pt x="431" y="27"/>
                  </a:lnTo>
                  <a:lnTo>
                    <a:pt x="537" y="29"/>
                  </a:lnTo>
                  <a:lnTo>
                    <a:pt x="574" y="29"/>
                  </a:lnTo>
                  <a:lnTo>
                    <a:pt x="645" y="25"/>
                  </a:lnTo>
                  <a:lnTo>
                    <a:pt x="669" y="30"/>
                  </a:lnTo>
                  <a:lnTo>
                    <a:pt x="735" y="25"/>
                  </a:lnTo>
                  <a:lnTo>
                    <a:pt x="836" y="29"/>
                  </a:lnTo>
                  <a:lnTo>
                    <a:pt x="870" y="33"/>
                  </a:lnTo>
                  <a:lnTo>
                    <a:pt x="923" y="29"/>
                  </a:lnTo>
                  <a:lnTo>
                    <a:pt x="968" y="35"/>
                  </a:lnTo>
                  <a:lnTo>
                    <a:pt x="1006" y="35"/>
                  </a:lnTo>
                  <a:lnTo>
                    <a:pt x="1079" y="29"/>
                  </a:lnTo>
                  <a:lnTo>
                    <a:pt x="1149" y="33"/>
                  </a:lnTo>
                  <a:lnTo>
                    <a:pt x="1212" y="40"/>
                  </a:lnTo>
                  <a:lnTo>
                    <a:pt x="1231" y="41"/>
                  </a:lnTo>
                  <a:lnTo>
                    <a:pt x="1316" y="37"/>
                  </a:lnTo>
                  <a:lnTo>
                    <a:pt x="1395" y="34"/>
                  </a:lnTo>
                  <a:lnTo>
                    <a:pt x="1414" y="32"/>
                  </a:lnTo>
                  <a:lnTo>
                    <a:pt x="1443" y="33"/>
                  </a:lnTo>
                  <a:lnTo>
                    <a:pt x="1525" y="36"/>
                  </a:lnTo>
                  <a:lnTo>
                    <a:pt x="1588" y="30"/>
                  </a:lnTo>
                  <a:lnTo>
                    <a:pt x="1621" y="32"/>
                  </a:lnTo>
                  <a:lnTo>
                    <a:pt x="1671" y="33"/>
                  </a:lnTo>
                  <a:lnTo>
                    <a:pt x="1714" y="29"/>
                  </a:lnTo>
                  <a:lnTo>
                    <a:pt x="1742" y="25"/>
                  </a:lnTo>
                  <a:lnTo>
                    <a:pt x="1781" y="32"/>
                  </a:lnTo>
                  <a:lnTo>
                    <a:pt x="1860" y="34"/>
                  </a:lnTo>
                  <a:lnTo>
                    <a:pt x="1913" y="25"/>
                  </a:lnTo>
                  <a:lnTo>
                    <a:pt x="1990" y="33"/>
                  </a:lnTo>
                  <a:lnTo>
                    <a:pt x="2046" y="33"/>
                  </a:lnTo>
                  <a:lnTo>
                    <a:pt x="2075" y="33"/>
                  </a:lnTo>
                  <a:lnTo>
                    <a:pt x="2093" y="47"/>
                  </a:lnTo>
                  <a:lnTo>
                    <a:pt x="2105" y="54"/>
                  </a:lnTo>
                  <a:lnTo>
                    <a:pt x="2115" y="68"/>
                  </a:lnTo>
                  <a:lnTo>
                    <a:pt x="2122" y="92"/>
                  </a:lnTo>
                  <a:lnTo>
                    <a:pt x="2128" y="124"/>
                  </a:lnTo>
                  <a:lnTo>
                    <a:pt x="2128" y="58"/>
                  </a:lnTo>
                  <a:lnTo>
                    <a:pt x="2128" y="41"/>
                  </a:lnTo>
                  <a:lnTo>
                    <a:pt x="2125" y="30"/>
                  </a:lnTo>
                  <a:lnTo>
                    <a:pt x="2120" y="16"/>
                  </a:lnTo>
                  <a:lnTo>
                    <a:pt x="2089" y="7"/>
                  </a:lnTo>
                  <a:lnTo>
                    <a:pt x="1974" y="6"/>
                  </a:lnTo>
                  <a:lnTo>
                    <a:pt x="1946" y="1"/>
                  </a:lnTo>
                  <a:lnTo>
                    <a:pt x="1855" y="1"/>
                  </a:lnTo>
                  <a:lnTo>
                    <a:pt x="1829" y="3"/>
                  </a:lnTo>
                  <a:lnTo>
                    <a:pt x="1774" y="3"/>
                  </a:lnTo>
                  <a:lnTo>
                    <a:pt x="1733" y="2"/>
                  </a:lnTo>
                  <a:lnTo>
                    <a:pt x="1658" y="8"/>
                  </a:lnTo>
                  <a:lnTo>
                    <a:pt x="1501" y="3"/>
                  </a:lnTo>
                  <a:lnTo>
                    <a:pt x="1453" y="6"/>
                  </a:lnTo>
                  <a:lnTo>
                    <a:pt x="1366" y="10"/>
                  </a:lnTo>
                  <a:lnTo>
                    <a:pt x="1311" y="6"/>
                  </a:lnTo>
                  <a:lnTo>
                    <a:pt x="1256" y="6"/>
                  </a:lnTo>
                  <a:lnTo>
                    <a:pt x="1212" y="6"/>
                  </a:lnTo>
                  <a:lnTo>
                    <a:pt x="1164" y="9"/>
                  </a:lnTo>
                  <a:lnTo>
                    <a:pt x="1135" y="4"/>
                  </a:lnTo>
                  <a:lnTo>
                    <a:pt x="1031" y="6"/>
                  </a:lnTo>
                  <a:lnTo>
                    <a:pt x="1000" y="6"/>
                  </a:lnTo>
                  <a:lnTo>
                    <a:pt x="945" y="4"/>
                  </a:lnTo>
                  <a:lnTo>
                    <a:pt x="837" y="6"/>
                  </a:lnTo>
                  <a:lnTo>
                    <a:pt x="741" y="4"/>
                  </a:lnTo>
                  <a:lnTo>
                    <a:pt x="652" y="4"/>
                  </a:lnTo>
                  <a:lnTo>
                    <a:pt x="610" y="6"/>
                  </a:lnTo>
                  <a:lnTo>
                    <a:pt x="569" y="2"/>
                  </a:lnTo>
                  <a:lnTo>
                    <a:pt x="535" y="2"/>
                  </a:lnTo>
                  <a:lnTo>
                    <a:pt x="431" y="2"/>
                  </a:lnTo>
                  <a:lnTo>
                    <a:pt x="312" y="4"/>
                  </a:lnTo>
                  <a:lnTo>
                    <a:pt x="256" y="2"/>
                  </a:lnTo>
                  <a:lnTo>
                    <a:pt x="190" y="4"/>
                  </a:lnTo>
                  <a:lnTo>
                    <a:pt x="107" y="0"/>
                  </a:lnTo>
                  <a:lnTo>
                    <a:pt x="56" y="0"/>
                  </a:lnTo>
                  <a:lnTo>
                    <a:pt x="34" y="1"/>
                  </a:lnTo>
                  <a:lnTo>
                    <a:pt x="19" y="6"/>
                  </a:lnTo>
                  <a:lnTo>
                    <a:pt x="5" y="18"/>
                  </a:lnTo>
                  <a:lnTo>
                    <a:pt x="1" y="37"/>
                  </a:lnTo>
                  <a:lnTo>
                    <a:pt x="0" y="56"/>
                  </a:lnTo>
                  <a:lnTo>
                    <a:pt x="0" y="7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 name=""/>
            <p:cNvSpPr/>
            <p:nvPr/>
          </p:nvSpPr>
          <p:spPr>
            <a:xfrm>
              <a:off x="5673600" y="576360"/>
              <a:ext cx="3378240" cy="102960"/>
            </a:xfrm>
            <a:custGeom>
              <a:avLst/>
              <a:gdLst/>
              <a:ahLst/>
              <a:rect l="l" t="t" r="r" b="b"/>
              <a:pathLst>
                <a:path w="2128" h="65">
                  <a:moveTo>
                    <a:pt x="0" y="32"/>
                  </a:moveTo>
                  <a:lnTo>
                    <a:pt x="0" y="15"/>
                  </a:lnTo>
                  <a:lnTo>
                    <a:pt x="0" y="0"/>
                  </a:lnTo>
                  <a:lnTo>
                    <a:pt x="6" y="12"/>
                  </a:lnTo>
                  <a:lnTo>
                    <a:pt x="7" y="22"/>
                  </a:lnTo>
                  <a:lnTo>
                    <a:pt x="8" y="40"/>
                  </a:lnTo>
                  <a:lnTo>
                    <a:pt x="15" y="49"/>
                  </a:lnTo>
                  <a:lnTo>
                    <a:pt x="27" y="52"/>
                  </a:lnTo>
                  <a:lnTo>
                    <a:pt x="40" y="50"/>
                  </a:lnTo>
                  <a:lnTo>
                    <a:pt x="59" y="49"/>
                  </a:lnTo>
                  <a:lnTo>
                    <a:pt x="91" y="48"/>
                  </a:lnTo>
                  <a:lnTo>
                    <a:pt x="110" y="49"/>
                  </a:lnTo>
                  <a:lnTo>
                    <a:pt x="127" y="49"/>
                  </a:lnTo>
                  <a:lnTo>
                    <a:pt x="162" y="50"/>
                  </a:lnTo>
                  <a:lnTo>
                    <a:pt x="175" y="51"/>
                  </a:lnTo>
                  <a:lnTo>
                    <a:pt x="192" y="51"/>
                  </a:lnTo>
                  <a:lnTo>
                    <a:pt x="219" y="49"/>
                  </a:lnTo>
                  <a:lnTo>
                    <a:pt x="248" y="48"/>
                  </a:lnTo>
                  <a:lnTo>
                    <a:pt x="284" y="48"/>
                  </a:lnTo>
                  <a:lnTo>
                    <a:pt x="327" y="51"/>
                  </a:lnTo>
                  <a:lnTo>
                    <a:pt x="383" y="53"/>
                  </a:lnTo>
                  <a:lnTo>
                    <a:pt x="413" y="51"/>
                  </a:lnTo>
                  <a:lnTo>
                    <a:pt x="431" y="53"/>
                  </a:lnTo>
                  <a:lnTo>
                    <a:pt x="479" y="53"/>
                  </a:lnTo>
                  <a:lnTo>
                    <a:pt x="496" y="50"/>
                  </a:lnTo>
                  <a:lnTo>
                    <a:pt x="517" y="52"/>
                  </a:lnTo>
                  <a:lnTo>
                    <a:pt x="574" y="52"/>
                  </a:lnTo>
                  <a:lnTo>
                    <a:pt x="645" y="53"/>
                  </a:lnTo>
                  <a:lnTo>
                    <a:pt x="669" y="51"/>
                  </a:lnTo>
                  <a:lnTo>
                    <a:pt x="725" y="49"/>
                  </a:lnTo>
                  <a:lnTo>
                    <a:pt x="762" y="48"/>
                  </a:lnTo>
                  <a:lnTo>
                    <a:pt x="805" y="50"/>
                  </a:lnTo>
                  <a:lnTo>
                    <a:pt x="835" y="52"/>
                  </a:lnTo>
                  <a:lnTo>
                    <a:pt x="869" y="50"/>
                  </a:lnTo>
                  <a:lnTo>
                    <a:pt x="929" y="52"/>
                  </a:lnTo>
                  <a:lnTo>
                    <a:pt x="968" y="49"/>
                  </a:lnTo>
                  <a:lnTo>
                    <a:pt x="1005" y="49"/>
                  </a:lnTo>
                  <a:lnTo>
                    <a:pt x="1044" y="46"/>
                  </a:lnTo>
                  <a:lnTo>
                    <a:pt x="1093" y="50"/>
                  </a:lnTo>
                  <a:lnTo>
                    <a:pt x="1157" y="47"/>
                  </a:lnTo>
                  <a:lnTo>
                    <a:pt x="1230" y="47"/>
                  </a:lnTo>
                  <a:lnTo>
                    <a:pt x="1295" y="49"/>
                  </a:lnTo>
                  <a:lnTo>
                    <a:pt x="1334" y="46"/>
                  </a:lnTo>
                  <a:lnTo>
                    <a:pt x="1377" y="46"/>
                  </a:lnTo>
                  <a:lnTo>
                    <a:pt x="1394" y="50"/>
                  </a:lnTo>
                  <a:lnTo>
                    <a:pt x="1412" y="51"/>
                  </a:lnTo>
                  <a:lnTo>
                    <a:pt x="1469" y="49"/>
                  </a:lnTo>
                  <a:lnTo>
                    <a:pt x="1519" y="51"/>
                  </a:lnTo>
                  <a:lnTo>
                    <a:pt x="1587" y="51"/>
                  </a:lnTo>
                  <a:lnTo>
                    <a:pt x="1606" y="51"/>
                  </a:lnTo>
                  <a:lnTo>
                    <a:pt x="1619" y="51"/>
                  </a:lnTo>
                  <a:lnTo>
                    <a:pt x="1636" y="48"/>
                  </a:lnTo>
                  <a:lnTo>
                    <a:pt x="1670" y="50"/>
                  </a:lnTo>
                  <a:lnTo>
                    <a:pt x="1686" y="51"/>
                  </a:lnTo>
                  <a:lnTo>
                    <a:pt x="1698" y="50"/>
                  </a:lnTo>
                  <a:lnTo>
                    <a:pt x="1712" y="52"/>
                  </a:lnTo>
                  <a:lnTo>
                    <a:pt x="1739" y="49"/>
                  </a:lnTo>
                  <a:lnTo>
                    <a:pt x="1782" y="51"/>
                  </a:lnTo>
                  <a:lnTo>
                    <a:pt x="1824" y="48"/>
                  </a:lnTo>
                  <a:lnTo>
                    <a:pt x="1841" y="50"/>
                  </a:lnTo>
                  <a:lnTo>
                    <a:pt x="1859" y="50"/>
                  </a:lnTo>
                  <a:lnTo>
                    <a:pt x="1937" y="48"/>
                  </a:lnTo>
                  <a:lnTo>
                    <a:pt x="2013" y="50"/>
                  </a:lnTo>
                  <a:lnTo>
                    <a:pt x="2072" y="47"/>
                  </a:lnTo>
                  <a:lnTo>
                    <a:pt x="2092" y="45"/>
                  </a:lnTo>
                  <a:lnTo>
                    <a:pt x="2104" y="42"/>
                  </a:lnTo>
                  <a:lnTo>
                    <a:pt x="2113" y="36"/>
                  </a:lnTo>
                  <a:lnTo>
                    <a:pt x="2120" y="27"/>
                  </a:lnTo>
                  <a:lnTo>
                    <a:pt x="2127" y="14"/>
                  </a:lnTo>
                  <a:lnTo>
                    <a:pt x="2127" y="40"/>
                  </a:lnTo>
                  <a:lnTo>
                    <a:pt x="2127" y="47"/>
                  </a:lnTo>
                  <a:lnTo>
                    <a:pt x="2124" y="51"/>
                  </a:lnTo>
                  <a:lnTo>
                    <a:pt x="2118" y="57"/>
                  </a:lnTo>
                  <a:lnTo>
                    <a:pt x="2107" y="61"/>
                  </a:lnTo>
                  <a:lnTo>
                    <a:pt x="2029" y="64"/>
                  </a:lnTo>
                  <a:lnTo>
                    <a:pt x="1972" y="61"/>
                  </a:lnTo>
                  <a:lnTo>
                    <a:pt x="1945" y="63"/>
                  </a:lnTo>
                  <a:lnTo>
                    <a:pt x="1854" y="63"/>
                  </a:lnTo>
                  <a:lnTo>
                    <a:pt x="1828" y="62"/>
                  </a:lnTo>
                  <a:lnTo>
                    <a:pt x="1800" y="64"/>
                  </a:lnTo>
                  <a:lnTo>
                    <a:pt x="1772" y="62"/>
                  </a:lnTo>
                  <a:lnTo>
                    <a:pt x="1739" y="64"/>
                  </a:lnTo>
                  <a:lnTo>
                    <a:pt x="1653" y="63"/>
                  </a:lnTo>
                  <a:lnTo>
                    <a:pt x="1628" y="60"/>
                  </a:lnTo>
                  <a:lnTo>
                    <a:pt x="1547" y="63"/>
                  </a:lnTo>
                  <a:lnTo>
                    <a:pt x="1493" y="59"/>
                  </a:lnTo>
                  <a:lnTo>
                    <a:pt x="1430" y="63"/>
                  </a:lnTo>
                  <a:lnTo>
                    <a:pt x="1382" y="61"/>
                  </a:lnTo>
                  <a:lnTo>
                    <a:pt x="1336" y="63"/>
                  </a:lnTo>
                  <a:lnTo>
                    <a:pt x="1310" y="61"/>
                  </a:lnTo>
                  <a:lnTo>
                    <a:pt x="1287" y="61"/>
                  </a:lnTo>
                  <a:lnTo>
                    <a:pt x="1256" y="61"/>
                  </a:lnTo>
                  <a:lnTo>
                    <a:pt x="1235" y="60"/>
                  </a:lnTo>
                  <a:lnTo>
                    <a:pt x="1212" y="62"/>
                  </a:lnTo>
                  <a:lnTo>
                    <a:pt x="1188" y="60"/>
                  </a:lnTo>
                  <a:lnTo>
                    <a:pt x="1163" y="60"/>
                  </a:lnTo>
                  <a:lnTo>
                    <a:pt x="1134" y="62"/>
                  </a:lnTo>
                  <a:lnTo>
                    <a:pt x="1106" y="63"/>
                  </a:lnTo>
                  <a:lnTo>
                    <a:pt x="1075" y="63"/>
                  </a:lnTo>
                  <a:lnTo>
                    <a:pt x="1030" y="62"/>
                  </a:lnTo>
                  <a:lnTo>
                    <a:pt x="998" y="63"/>
                  </a:lnTo>
                  <a:lnTo>
                    <a:pt x="971" y="62"/>
                  </a:lnTo>
                  <a:lnTo>
                    <a:pt x="945" y="62"/>
                  </a:lnTo>
                  <a:lnTo>
                    <a:pt x="885" y="64"/>
                  </a:lnTo>
                  <a:lnTo>
                    <a:pt x="837" y="61"/>
                  </a:lnTo>
                  <a:lnTo>
                    <a:pt x="784" y="64"/>
                  </a:lnTo>
                  <a:lnTo>
                    <a:pt x="740" y="62"/>
                  </a:lnTo>
                  <a:lnTo>
                    <a:pt x="692" y="64"/>
                  </a:lnTo>
                  <a:lnTo>
                    <a:pt x="652" y="62"/>
                  </a:lnTo>
                  <a:lnTo>
                    <a:pt x="609" y="61"/>
                  </a:lnTo>
                  <a:lnTo>
                    <a:pt x="569" y="62"/>
                  </a:lnTo>
                  <a:lnTo>
                    <a:pt x="534" y="62"/>
                  </a:lnTo>
                  <a:lnTo>
                    <a:pt x="431" y="62"/>
                  </a:lnTo>
                  <a:lnTo>
                    <a:pt x="401" y="63"/>
                  </a:lnTo>
                  <a:lnTo>
                    <a:pt x="311" y="62"/>
                  </a:lnTo>
                  <a:lnTo>
                    <a:pt x="256" y="62"/>
                  </a:lnTo>
                  <a:lnTo>
                    <a:pt x="103" y="61"/>
                  </a:lnTo>
                  <a:lnTo>
                    <a:pt x="19" y="61"/>
                  </a:lnTo>
                  <a:lnTo>
                    <a:pt x="4" y="56"/>
                  </a:lnTo>
                  <a:lnTo>
                    <a:pt x="1" y="49"/>
                  </a:lnTo>
                  <a:lnTo>
                    <a:pt x="0" y="41"/>
                  </a:lnTo>
                  <a:lnTo>
                    <a:pt x="0" y="3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C5C5-824B-4CA1-B084-3D9B58239749}" type="slidenum">
              <a:rPr b="0" lang="es-E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61" name=""/>
          <p:cNvSpPr/>
          <p:nvPr/>
        </p:nvSpPr>
        <p:spPr>
          <a:xfrm>
            <a:off x="3024360" y="46080"/>
            <a:ext cx="3144600" cy="1046160"/>
          </a:xfrm>
          <a:custGeom>
            <a:avLst/>
            <a:gdLst/>
            <a:ahLst/>
            <a:rect l="l" t="t" r="r" b="b"/>
            <a:pathLst>
              <a:path w="1981" h="659">
                <a:moveTo>
                  <a:pt x="26" y="107"/>
                </a:moveTo>
                <a:lnTo>
                  <a:pt x="42" y="100"/>
                </a:lnTo>
                <a:lnTo>
                  <a:pt x="717" y="100"/>
                </a:lnTo>
                <a:lnTo>
                  <a:pt x="767" y="64"/>
                </a:lnTo>
                <a:lnTo>
                  <a:pt x="801" y="44"/>
                </a:lnTo>
                <a:lnTo>
                  <a:pt x="835" y="28"/>
                </a:lnTo>
                <a:lnTo>
                  <a:pt x="877" y="18"/>
                </a:lnTo>
                <a:lnTo>
                  <a:pt x="917" y="9"/>
                </a:lnTo>
                <a:lnTo>
                  <a:pt x="960" y="4"/>
                </a:lnTo>
                <a:lnTo>
                  <a:pt x="1014" y="0"/>
                </a:lnTo>
                <a:lnTo>
                  <a:pt x="1076" y="9"/>
                </a:lnTo>
                <a:lnTo>
                  <a:pt x="1133" y="24"/>
                </a:lnTo>
                <a:lnTo>
                  <a:pt x="1174" y="44"/>
                </a:lnTo>
                <a:lnTo>
                  <a:pt x="1219" y="64"/>
                </a:lnTo>
                <a:lnTo>
                  <a:pt x="1247" y="82"/>
                </a:lnTo>
                <a:lnTo>
                  <a:pt x="1273" y="103"/>
                </a:lnTo>
                <a:lnTo>
                  <a:pt x="1919" y="100"/>
                </a:lnTo>
                <a:lnTo>
                  <a:pt x="1941" y="105"/>
                </a:lnTo>
                <a:lnTo>
                  <a:pt x="1956" y="116"/>
                </a:lnTo>
                <a:lnTo>
                  <a:pt x="1970" y="146"/>
                </a:lnTo>
                <a:lnTo>
                  <a:pt x="1978" y="180"/>
                </a:lnTo>
                <a:lnTo>
                  <a:pt x="1980" y="220"/>
                </a:lnTo>
                <a:lnTo>
                  <a:pt x="1980" y="559"/>
                </a:lnTo>
                <a:lnTo>
                  <a:pt x="1284" y="560"/>
                </a:lnTo>
                <a:lnTo>
                  <a:pt x="1112" y="656"/>
                </a:lnTo>
                <a:lnTo>
                  <a:pt x="829" y="658"/>
                </a:lnTo>
                <a:lnTo>
                  <a:pt x="694" y="554"/>
                </a:lnTo>
                <a:lnTo>
                  <a:pt x="74" y="559"/>
                </a:lnTo>
                <a:lnTo>
                  <a:pt x="0" y="559"/>
                </a:lnTo>
                <a:lnTo>
                  <a:pt x="0" y="243"/>
                </a:lnTo>
                <a:lnTo>
                  <a:pt x="0" y="196"/>
                </a:lnTo>
                <a:lnTo>
                  <a:pt x="8" y="151"/>
                </a:lnTo>
                <a:lnTo>
                  <a:pt x="15" y="128"/>
                </a:lnTo>
                <a:lnTo>
                  <a:pt x="26" y="10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2" name=""/>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
          <p:cNvSpPr/>
          <p:nvPr/>
        </p:nvSpPr>
        <p:spPr>
          <a:xfrm>
            <a:off x="3022560" y="684360"/>
            <a:ext cx="3146400" cy="485640"/>
          </a:xfrm>
          <a:custGeom>
            <a:avLst/>
            <a:gdLst/>
            <a:ahLst/>
            <a:rect l="l" t="t" r="r" b="b"/>
            <a:pathLst>
              <a:path w="1982" h="306">
                <a:moveTo>
                  <a:pt x="68" y="61"/>
                </a:moveTo>
                <a:lnTo>
                  <a:pt x="96" y="68"/>
                </a:lnTo>
                <a:lnTo>
                  <a:pt x="126" y="61"/>
                </a:lnTo>
                <a:lnTo>
                  <a:pt x="156" y="68"/>
                </a:lnTo>
                <a:lnTo>
                  <a:pt x="178" y="86"/>
                </a:lnTo>
                <a:lnTo>
                  <a:pt x="203" y="101"/>
                </a:lnTo>
                <a:lnTo>
                  <a:pt x="244" y="88"/>
                </a:lnTo>
                <a:lnTo>
                  <a:pt x="279" y="82"/>
                </a:lnTo>
                <a:lnTo>
                  <a:pt x="330" y="82"/>
                </a:lnTo>
                <a:lnTo>
                  <a:pt x="366" y="71"/>
                </a:lnTo>
                <a:lnTo>
                  <a:pt x="398" y="81"/>
                </a:lnTo>
                <a:lnTo>
                  <a:pt x="427" y="92"/>
                </a:lnTo>
                <a:lnTo>
                  <a:pt x="452" y="95"/>
                </a:lnTo>
                <a:lnTo>
                  <a:pt x="493" y="82"/>
                </a:lnTo>
                <a:lnTo>
                  <a:pt x="536" y="82"/>
                </a:lnTo>
                <a:lnTo>
                  <a:pt x="599" y="87"/>
                </a:lnTo>
                <a:lnTo>
                  <a:pt x="625" y="105"/>
                </a:lnTo>
                <a:lnTo>
                  <a:pt x="667" y="101"/>
                </a:lnTo>
                <a:lnTo>
                  <a:pt x="725" y="95"/>
                </a:lnTo>
                <a:lnTo>
                  <a:pt x="766" y="128"/>
                </a:lnTo>
                <a:lnTo>
                  <a:pt x="790" y="135"/>
                </a:lnTo>
                <a:lnTo>
                  <a:pt x="814" y="158"/>
                </a:lnTo>
                <a:lnTo>
                  <a:pt x="826" y="194"/>
                </a:lnTo>
                <a:lnTo>
                  <a:pt x="850" y="208"/>
                </a:lnTo>
                <a:lnTo>
                  <a:pt x="880" y="208"/>
                </a:lnTo>
                <a:lnTo>
                  <a:pt x="917" y="206"/>
                </a:lnTo>
                <a:lnTo>
                  <a:pt x="953" y="208"/>
                </a:lnTo>
                <a:lnTo>
                  <a:pt x="979" y="222"/>
                </a:lnTo>
                <a:lnTo>
                  <a:pt x="999" y="211"/>
                </a:lnTo>
                <a:lnTo>
                  <a:pt x="1033" y="210"/>
                </a:lnTo>
                <a:lnTo>
                  <a:pt x="1065" y="189"/>
                </a:lnTo>
                <a:lnTo>
                  <a:pt x="1091" y="194"/>
                </a:lnTo>
                <a:lnTo>
                  <a:pt x="1136" y="187"/>
                </a:lnTo>
                <a:lnTo>
                  <a:pt x="1156" y="162"/>
                </a:lnTo>
                <a:lnTo>
                  <a:pt x="1208" y="141"/>
                </a:lnTo>
                <a:lnTo>
                  <a:pt x="1220" y="109"/>
                </a:lnTo>
                <a:lnTo>
                  <a:pt x="1246" y="93"/>
                </a:lnTo>
                <a:lnTo>
                  <a:pt x="1291" y="83"/>
                </a:lnTo>
                <a:lnTo>
                  <a:pt x="1315" y="95"/>
                </a:lnTo>
                <a:lnTo>
                  <a:pt x="1339" y="90"/>
                </a:lnTo>
                <a:lnTo>
                  <a:pt x="1368" y="101"/>
                </a:lnTo>
                <a:lnTo>
                  <a:pt x="1398" y="91"/>
                </a:lnTo>
                <a:lnTo>
                  <a:pt x="1455" y="101"/>
                </a:lnTo>
                <a:lnTo>
                  <a:pt x="1480" y="111"/>
                </a:lnTo>
                <a:lnTo>
                  <a:pt x="1508" y="84"/>
                </a:lnTo>
                <a:lnTo>
                  <a:pt x="1527" y="82"/>
                </a:lnTo>
                <a:lnTo>
                  <a:pt x="1549" y="92"/>
                </a:lnTo>
                <a:lnTo>
                  <a:pt x="1569" y="88"/>
                </a:lnTo>
                <a:lnTo>
                  <a:pt x="1596" y="61"/>
                </a:lnTo>
                <a:lnTo>
                  <a:pt x="1642" y="53"/>
                </a:lnTo>
                <a:lnTo>
                  <a:pt x="1664" y="57"/>
                </a:lnTo>
                <a:lnTo>
                  <a:pt x="1687" y="57"/>
                </a:lnTo>
                <a:lnTo>
                  <a:pt x="1720" y="23"/>
                </a:lnTo>
                <a:lnTo>
                  <a:pt x="1739" y="11"/>
                </a:lnTo>
                <a:lnTo>
                  <a:pt x="1764" y="16"/>
                </a:lnTo>
                <a:lnTo>
                  <a:pt x="1792" y="51"/>
                </a:lnTo>
                <a:lnTo>
                  <a:pt x="1820" y="29"/>
                </a:lnTo>
                <a:lnTo>
                  <a:pt x="1847" y="0"/>
                </a:lnTo>
                <a:lnTo>
                  <a:pt x="1870" y="1"/>
                </a:lnTo>
                <a:lnTo>
                  <a:pt x="1896" y="61"/>
                </a:lnTo>
                <a:lnTo>
                  <a:pt x="1917" y="51"/>
                </a:lnTo>
                <a:lnTo>
                  <a:pt x="1946" y="26"/>
                </a:lnTo>
                <a:lnTo>
                  <a:pt x="1969" y="25"/>
                </a:lnTo>
                <a:lnTo>
                  <a:pt x="1981" y="46"/>
                </a:lnTo>
                <a:lnTo>
                  <a:pt x="1981" y="196"/>
                </a:lnTo>
                <a:lnTo>
                  <a:pt x="1304" y="230"/>
                </a:lnTo>
                <a:lnTo>
                  <a:pt x="1098" y="293"/>
                </a:lnTo>
                <a:lnTo>
                  <a:pt x="893" y="305"/>
                </a:lnTo>
                <a:lnTo>
                  <a:pt x="792" y="250"/>
                </a:lnTo>
                <a:lnTo>
                  <a:pt x="699" y="157"/>
                </a:lnTo>
                <a:lnTo>
                  <a:pt x="0" y="141"/>
                </a:lnTo>
                <a:lnTo>
                  <a:pt x="0" y="31"/>
                </a:lnTo>
                <a:lnTo>
                  <a:pt x="12" y="47"/>
                </a:lnTo>
                <a:lnTo>
                  <a:pt x="29" y="53"/>
                </a:lnTo>
                <a:lnTo>
                  <a:pt x="51" y="55"/>
                </a:lnTo>
                <a:lnTo>
                  <a:pt x="68" y="61"/>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 name=""/>
          <p:cNvSpPr/>
          <p:nvPr/>
        </p:nvSpPr>
        <p:spPr>
          <a:xfrm>
            <a:off x="3022560" y="771480"/>
            <a:ext cx="3146400" cy="490680"/>
          </a:xfrm>
          <a:custGeom>
            <a:avLst/>
            <a:gdLst/>
            <a:ahLst/>
            <a:rect l="l" t="t" r="r" b="b"/>
            <a:pathLst>
              <a:path w="1982" h="309">
                <a:moveTo>
                  <a:pt x="26" y="196"/>
                </a:moveTo>
                <a:lnTo>
                  <a:pt x="42" y="200"/>
                </a:lnTo>
                <a:lnTo>
                  <a:pt x="61" y="201"/>
                </a:lnTo>
                <a:lnTo>
                  <a:pt x="714" y="201"/>
                </a:lnTo>
                <a:lnTo>
                  <a:pt x="727" y="217"/>
                </a:lnTo>
                <a:lnTo>
                  <a:pt x="772" y="249"/>
                </a:lnTo>
                <a:lnTo>
                  <a:pt x="811" y="267"/>
                </a:lnTo>
                <a:lnTo>
                  <a:pt x="844" y="281"/>
                </a:lnTo>
                <a:lnTo>
                  <a:pt x="887" y="296"/>
                </a:lnTo>
                <a:lnTo>
                  <a:pt x="932" y="301"/>
                </a:lnTo>
                <a:lnTo>
                  <a:pt x="1001" y="308"/>
                </a:lnTo>
                <a:lnTo>
                  <a:pt x="1065" y="301"/>
                </a:lnTo>
                <a:lnTo>
                  <a:pt x="1147" y="285"/>
                </a:lnTo>
                <a:lnTo>
                  <a:pt x="1221" y="253"/>
                </a:lnTo>
                <a:lnTo>
                  <a:pt x="1264" y="221"/>
                </a:lnTo>
                <a:lnTo>
                  <a:pt x="1287" y="200"/>
                </a:lnTo>
                <a:lnTo>
                  <a:pt x="1920" y="201"/>
                </a:lnTo>
                <a:lnTo>
                  <a:pt x="1942" y="199"/>
                </a:lnTo>
                <a:lnTo>
                  <a:pt x="1957" y="195"/>
                </a:lnTo>
                <a:lnTo>
                  <a:pt x="1971" y="184"/>
                </a:lnTo>
                <a:lnTo>
                  <a:pt x="1979" y="170"/>
                </a:lnTo>
                <a:lnTo>
                  <a:pt x="1981" y="155"/>
                </a:lnTo>
                <a:lnTo>
                  <a:pt x="1981" y="23"/>
                </a:lnTo>
                <a:lnTo>
                  <a:pt x="1964" y="0"/>
                </a:lnTo>
                <a:lnTo>
                  <a:pt x="1955" y="7"/>
                </a:lnTo>
                <a:lnTo>
                  <a:pt x="1946" y="29"/>
                </a:lnTo>
                <a:lnTo>
                  <a:pt x="1940" y="55"/>
                </a:lnTo>
                <a:lnTo>
                  <a:pt x="1931" y="53"/>
                </a:lnTo>
                <a:lnTo>
                  <a:pt x="1920" y="51"/>
                </a:lnTo>
                <a:lnTo>
                  <a:pt x="1897" y="38"/>
                </a:lnTo>
                <a:lnTo>
                  <a:pt x="1881" y="27"/>
                </a:lnTo>
                <a:lnTo>
                  <a:pt x="1856" y="23"/>
                </a:lnTo>
                <a:lnTo>
                  <a:pt x="1830" y="35"/>
                </a:lnTo>
                <a:lnTo>
                  <a:pt x="1805" y="53"/>
                </a:lnTo>
                <a:lnTo>
                  <a:pt x="1787" y="40"/>
                </a:lnTo>
                <a:lnTo>
                  <a:pt x="1771" y="38"/>
                </a:lnTo>
                <a:lnTo>
                  <a:pt x="1749" y="27"/>
                </a:lnTo>
                <a:lnTo>
                  <a:pt x="1727" y="31"/>
                </a:lnTo>
                <a:lnTo>
                  <a:pt x="1711" y="44"/>
                </a:lnTo>
                <a:lnTo>
                  <a:pt x="1705" y="61"/>
                </a:lnTo>
                <a:lnTo>
                  <a:pt x="1686" y="53"/>
                </a:lnTo>
                <a:lnTo>
                  <a:pt x="1660" y="53"/>
                </a:lnTo>
                <a:lnTo>
                  <a:pt x="1627" y="46"/>
                </a:lnTo>
                <a:lnTo>
                  <a:pt x="1597" y="61"/>
                </a:lnTo>
                <a:lnTo>
                  <a:pt x="1571" y="39"/>
                </a:lnTo>
                <a:lnTo>
                  <a:pt x="1538" y="53"/>
                </a:lnTo>
                <a:lnTo>
                  <a:pt x="1505" y="89"/>
                </a:lnTo>
                <a:lnTo>
                  <a:pt x="1479" y="76"/>
                </a:lnTo>
                <a:lnTo>
                  <a:pt x="1455" y="62"/>
                </a:lnTo>
                <a:lnTo>
                  <a:pt x="1429" y="55"/>
                </a:lnTo>
                <a:lnTo>
                  <a:pt x="1396" y="61"/>
                </a:lnTo>
                <a:lnTo>
                  <a:pt x="1344" y="72"/>
                </a:lnTo>
                <a:lnTo>
                  <a:pt x="1297" y="60"/>
                </a:lnTo>
                <a:lnTo>
                  <a:pt x="1281" y="69"/>
                </a:lnTo>
                <a:lnTo>
                  <a:pt x="1259" y="91"/>
                </a:lnTo>
                <a:lnTo>
                  <a:pt x="1242" y="130"/>
                </a:lnTo>
                <a:lnTo>
                  <a:pt x="1222" y="150"/>
                </a:lnTo>
                <a:lnTo>
                  <a:pt x="1214" y="178"/>
                </a:lnTo>
                <a:lnTo>
                  <a:pt x="1192" y="190"/>
                </a:lnTo>
                <a:lnTo>
                  <a:pt x="1156" y="196"/>
                </a:lnTo>
                <a:lnTo>
                  <a:pt x="1115" y="199"/>
                </a:lnTo>
                <a:lnTo>
                  <a:pt x="1106" y="213"/>
                </a:lnTo>
                <a:lnTo>
                  <a:pt x="1053" y="209"/>
                </a:lnTo>
                <a:lnTo>
                  <a:pt x="1005" y="221"/>
                </a:lnTo>
                <a:lnTo>
                  <a:pt x="960" y="218"/>
                </a:lnTo>
                <a:lnTo>
                  <a:pt x="883" y="233"/>
                </a:lnTo>
                <a:lnTo>
                  <a:pt x="840" y="196"/>
                </a:lnTo>
                <a:lnTo>
                  <a:pt x="792" y="186"/>
                </a:lnTo>
                <a:lnTo>
                  <a:pt x="742" y="121"/>
                </a:lnTo>
                <a:lnTo>
                  <a:pt x="721" y="91"/>
                </a:lnTo>
                <a:lnTo>
                  <a:pt x="696" y="84"/>
                </a:lnTo>
                <a:lnTo>
                  <a:pt x="634" y="76"/>
                </a:lnTo>
                <a:lnTo>
                  <a:pt x="582" y="68"/>
                </a:lnTo>
                <a:lnTo>
                  <a:pt x="526" y="53"/>
                </a:lnTo>
                <a:lnTo>
                  <a:pt x="475" y="68"/>
                </a:lnTo>
                <a:lnTo>
                  <a:pt x="415" y="38"/>
                </a:lnTo>
                <a:lnTo>
                  <a:pt x="370" y="39"/>
                </a:lnTo>
                <a:lnTo>
                  <a:pt x="339" y="57"/>
                </a:lnTo>
                <a:lnTo>
                  <a:pt x="320" y="42"/>
                </a:lnTo>
                <a:lnTo>
                  <a:pt x="295" y="51"/>
                </a:lnTo>
                <a:lnTo>
                  <a:pt x="263" y="53"/>
                </a:lnTo>
                <a:lnTo>
                  <a:pt x="231" y="59"/>
                </a:lnTo>
                <a:lnTo>
                  <a:pt x="193" y="72"/>
                </a:lnTo>
                <a:lnTo>
                  <a:pt x="162" y="57"/>
                </a:lnTo>
                <a:lnTo>
                  <a:pt x="131" y="64"/>
                </a:lnTo>
                <a:lnTo>
                  <a:pt x="90" y="70"/>
                </a:lnTo>
                <a:lnTo>
                  <a:pt x="65" y="64"/>
                </a:lnTo>
                <a:lnTo>
                  <a:pt x="18" y="61"/>
                </a:lnTo>
                <a:lnTo>
                  <a:pt x="0" y="76"/>
                </a:lnTo>
                <a:lnTo>
                  <a:pt x="2" y="120"/>
                </a:lnTo>
                <a:lnTo>
                  <a:pt x="5" y="157"/>
                </a:lnTo>
                <a:lnTo>
                  <a:pt x="14" y="190"/>
                </a:lnTo>
                <a:lnTo>
                  <a:pt x="26" y="196"/>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 name=""/>
          <p:cNvSpPr/>
          <p:nvPr/>
        </p:nvSpPr>
        <p:spPr>
          <a:xfrm>
            <a:off x="3044880" y="851040"/>
            <a:ext cx="3085920" cy="365040"/>
          </a:xfrm>
          <a:custGeom>
            <a:avLst/>
            <a:gdLst/>
            <a:ahLst/>
            <a:rect l="l" t="t" r="r" b="b"/>
            <a:pathLst>
              <a:path w="1944" h="230">
                <a:moveTo>
                  <a:pt x="537" y="77"/>
                </a:moveTo>
                <a:lnTo>
                  <a:pt x="477" y="72"/>
                </a:lnTo>
                <a:lnTo>
                  <a:pt x="416" y="81"/>
                </a:lnTo>
                <a:lnTo>
                  <a:pt x="348" y="81"/>
                </a:lnTo>
                <a:lnTo>
                  <a:pt x="255" y="77"/>
                </a:lnTo>
                <a:lnTo>
                  <a:pt x="154" y="81"/>
                </a:lnTo>
                <a:lnTo>
                  <a:pt x="103" y="83"/>
                </a:lnTo>
                <a:lnTo>
                  <a:pt x="64" y="79"/>
                </a:lnTo>
                <a:lnTo>
                  <a:pt x="25" y="83"/>
                </a:lnTo>
                <a:lnTo>
                  <a:pt x="12" y="58"/>
                </a:lnTo>
                <a:lnTo>
                  <a:pt x="2" y="38"/>
                </a:lnTo>
                <a:lnTo>
                  <a:pt x="0" y="74"/>
                </a:lnTo>
                <a:lnTo>
                  <a:pt x="12" y="107"/>
                </a:lnTo>
                <a:lnTo>
                  <a:pt x="73" y="103"/>
                </a:lnTo>
                <a:lnTo>
                  <a:pt x="128" y="99"/>
                </a:lnTo>
                <a:lnTo>
                  <a:pt x="163" y="101"/>
                </a:lnTo>
                <a:lnTo>
                  <a:pt x="193" y="103"/>
                </a:lnTo>
                <a:lnTo>
                  <a:pt x="212" y="105"/>
                </a:lnTo>
                <a:lnTo>
                  <a:pt x="270" y="103"/>
                </a:lnTo>
                <a:lnTo>
                  <a:pt x="324" y="109"/>
                </a:lnTo>
                <a:lnTo>
                  <a:pt x="451" y="103"/>
                </a:lnTo>
                <a:lnTo>
                  <a:pt x="541" y="101"/>
                </a:lnTo>
                <a:lnTo>
                  <a:pt x="616" y="103"/>
                </a:lnTo>
                <a:lnTo>
                  <a:pt x="698" y="103"/>
                </a:lnTo>
                <a:lnTo>
                  <a:pt x="737" y="147"/>
                </a:lnTo>
                <a:lnTo>
                  <a:pt x="769" y="168"/>
                </a:lnTo>
                <a:lnTo>
                  <a:pt x="836" y="210"/>
                </a:lnTo>
                <a:lnTo>
                  <a:pt x="885" y="218"/>
                </a:lnTo>
                <a:lnTo>
                  <a:pt x="945" y="229"/>
                </a:lnTo>
                <a:lnTo>
                  <a:pt x="1018" y="229"/>
                </a:lnTo>
                <a:lnTo>
                  <a:pt x="1085" y="220"/>
                </a:lnTo>
                <a:lnTo>
                  <a:pt x="1154" y="194"/>
                </a:lnTo>
                <a:lnTo>
                  <a:pt x="1205" y="170"/>
                </a:lnTo>
                <a:lnTo>
                  <a:pt x="1246" y="131"/>
                </a:lnTo>
                <a:lnTo>
                  <a:pt x="1278" y="115"/>
                </a:lnTo>
                <a:lnTo>
                  <a:pt x="1311" y="107"/>
                </a:lnTo>
                <a:lnTo>
                  <a:pt x="1390" y="119"/>
                </a:lnTo>
                <a:lnTo>
                  <a:pt x="1485" y="109"/>
                </a:lnTo>
                <a:lnTo>
                  <a:pt x="1577" y="111"/>
                </a:lnTo>
                <a:lnTo>
                  <a:pt x="1618" y="107"/>
                </a:lnTo>
                <a:lnTo>
                  <a:pt x="1697" y="113"/>
                </a:lnTo>
                <a:lnTo>
                  <a:pt x="1773" y="107"/>
                </a:lnTo>
                <a:lnTo>
                  <a:pt x="1839" y="115"/>
                </a:lnTo>
                <a:lnTo>
                  <a:pt x="1919" y="111"/>
                </a:lnTo>
                <a:lnTo>
                  <a:pt x="1938" y="91"/>
                </a:lnTo>
                <a:lnTo>
                  <a:pt x="1943" y="54"/>
                </a:lnTo>
                <a:lnTo>
                  <a:pt x="1940" y="0"/>
                </a:lnTo>
                <a:lnTo>
                  <a:pt x="1919" y="60"/>
                </a:lnTo>
                <a:lnTo>
                  <a:pt x="1908" y="89"/>
                </a:lnTo>
                <a:lnTo>
                  <a:pt x="1857" y="95"/>
                </a:lnTo>
                <a:lnTo>
                  <a:pt x="1762" y="93"/>
                </a:lnTo>
                <a:lnTo>
                  <a:pt x="1687" y="91"/>
                </a:lnTo>
                <a:lnTo>
                  <a:pt x="1558" y="87"/>
                </a:lnTo>
                <a:lnTo>
                  <a:pt x="1491" y="93"/>
                </a:lnTo>
                <a:lnTo>
                  <a:pt x="1403" y="91"/>
                </a:lnTo>
                <a:lnTo>
                  <a:pt x="1349" y="99"/>
                </a:lnTo>
                <a:lnTo>
                  <a:pt x="1313" y="89"/>
                </a:lnTo>
                <a:lnTo>
                  <a:pt x="1291" y="85"/>
                </a:lnTo>
                <a:lnTo>
                  <a:pt x="1274" y="74"/>
                </a:lnTo>
                <a:lnTo>
                  <a:pt x="1283" y="52"/>
                </a:lnTo>
                <a:lnTo>
                  <a:pt x="1283" y="28"/>
                </a:lnTo>
                <a:lnTo>
                  <a:pt x="1265" y="36"/>
                </a:lnTo>
                <a:lnTo>
                  <a:pt x="1246" y="79"/>
                </a:lnTo>
                <a:lnTo>
                  <a:pt x="1205" y="115"/>
                </a:lnTo>
                <a:lnTo>
                  <a:pt x="1182" y="139"/>
                </a:lnTo>
                <a:lnTo>
                  <a:pt x="1139" y="162"/>
                </a:lnTo>
                <a:lnTo>
                  <a:pt x="1111" y="158"/>
                </a:lnTo>
                <a:lnTo>
                  <a:pt x="1063" y="180"/>
                </a:lnTo>
                <a:lnTo>
                  <a:pt x="1020" y="190"/>
                </a:lnTo>
                <a:lnTo>
                  <a:pt x="980" y="198"/>
                </a:lnTo>
                <a:lnTo>
                  <a:pt x="928" y="174"/>
                </a:lnTo>
                <a:lnTo>
                  <a:pt x="883" y="176"/>
                </a:lnTo>
                <a:lnTo>
                  <a:pt x="866" y="147"/>
                </a:lnTo>
                <a:lnTo>
                  <a:pt x="825" y="149"/>
                </a:lnTo>
                <a:lnTo>
                  <a:pt x="803" y="158"/>
                </a:lnTo>
                <a:lnTo>
                  <a:pt x="771" y="137"/>
                </a:lnTo>
                <a:lnTo>
                  <a:pt x="743" y="123"/>
                </a:lnTo>
                <a:lnTo>
                  <a:pt x="730" y="99"/>
                </a:lnTo>
                <a:lnTo>
                  <a:pt x="707" y="46"/>
                </a:lnTo>
                <a:lnTo>
                  <a:pt x="685" y="38"/>
                </a:lnTo>
                <a:lnTo>
                  <a:pt x="674" y="70"/>
                </a:lnTo>
                <a:lnTo>
                  <a:pt x="655" y="68"/>
                </a:lnTo>
                <a:lnTo>
                  <a:pt x="591" y="89"/>
                </a:lnTo>
                <a:lnTo>
                  <a:pt x="537" y="77"/>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 name=""/>
          <p:cNvSpPr/>
          <p:nvPr/>
        </p:nvSpPr>
        <p:spPr>
          <a:xfrm>
            <a:off x="5057640" y="358920"/>
            <a:ext cx="193680" cy="649080"/>
          </a:xfrm>
          <a:custGeom>
            <a:avLst/>
            <a:gdLst/>
            <a:ahLst/>
            <a:rect l="l" t="t" r="r" b="b"/>
            <a:pathLst>
              <a:path w="122" h="409">
                <a:moveTo>
                  <a:pt x="82" y="10"/>
                </a:moveTo>
                <a:lnTo>
                  <a:pt x="75" y="40"/>
                </a:lnTo>
                <a:lnTo>
                  <a:pt x="121" y="44"/>
                </a:lnTo>
                <a:lnTo>
                  <a:pt x="103" y="98"/>
                </a:lnTo>
                <a:lnTo>
                  <a:pt x="105" y="140"/>
                </a:lnTo>
                <a:lnTo>
                  <a:pt x="116" y="176"/>
                </a:lnTo>
                <a:lnTo>
                  <a:pt x="97" y="214"/>
                </a:lnTo>
                <a:lnTo>
                  <a:pt x="90" y="252"/>
                </a:lnTo>
                <a:lnTo>
                  <a:pt x="82" y="290"/>
                </a:lnTo>
                <a:lnTo>
                  <a:pt x="66" y="316"/>
                </a:lnTo>
                <a:lnTo>
                  <a:pt x="51" y="342"/>
                </a:lnTo>
                <a:lnTo>
                  <a:pt x="32" y="368"/>
                </a:lnTo>
                <a:lnTo>
                  <a:pt x="21" y="386"/>
                </a:lnTo>
                <a:lnTo>
                  <a:pt x="0" y="408"/>
                </a:lnTo>
                <a:lnTo>
                  <a:pt x="12" y="368"/>
                </a:lnTo>
                <a:lnTo>
                  <a:pt x="38" y="340"/>
                </a:lnTo>
                <a:lnTo>
                  <a:pt x="34" y="308"/>
                </a:lnTo>
                <a:lnTo>
                  <a:pt x="58" y="268"/>
                </a:lnTo>
                <a:lnTo>
                  <a:pt x="71" y="220"/>
                </a:lnTo>
                <a:lnTo>
                  <a:pt x="64" y="174"/>
                </a:lnTo>
                <a:lnTo>
                  <a:pt x="69" y="136"/>
                </a:lnTo>
                <a:lnTo>
                  <a:pt x="64" y="110"/>
                </a:lnTo>
                <a:lnTo>
                  <a:pt x="30" y="58"/>
                </a:lnTo>
                <a:lnTo>
                  <a:pt x="10" y="6"/>
                </a:lnTo>
                <a:lnTo>
                  <a:pt x="79" y="0"/>
                </a:lnTo>
                <a:lnTo>
                  <a:pt x="82" y="10"/>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 name=""/>
          <p:cNvSpPr/>
          <p:nvPr/>
        </p:nvSpPr>
        <p:spPr>
          <a:xfrm>
            <a:off x="3052800" y="4680"/>
            <a:ext cx="3092400" cy="642960"/>
          </a:xfrm>
          <a:custGeom>
            <a:avLst/>
            <a:gdLst/>
            <a:ahLst/>
            <a:rect l="l" t="t" r="r" b="b"/>
            <a:pathLst>
              <a:path w="1948" h="405">
                <a:moveTo>
                  <a:pt x="0" y="271"/>
                </a:moveTo>
                <a:lnTo>
                  <a:pt x="0" y="341"/>
                </a:lnTo>
                <a:lnTo>
                  <a:pt x="0" y="405"/>
                </a:lnTo>
                <a:lnTo>
                  <a:pt x="5" y="353"/>
                </a:lnTo>
                <a:lnTo>
                  <a:pt x="6" y="312"/>
                </a:lnTo>
                <a:lnTo>
                  <a:pt x="8" y="238"/>
                </a:lnTo>
                <a:lnTo>
                  <a:pt x="14" y="202"/>
                </a:lnTo>
                <a:lnTo>
                  <a:pt x="25" y="190"/>
                </a:lnTo>
                <a:lnTo>
                  <a:pt x="37" y="199"/>
                </a:lnTo>
                <a:lnTo>
                  <a:pt x="53" y="201"/>
                </a:lnTo>
                <a:lnTo>
                  <a:pt x="75" y="211"/>
                </a:lnTo>
                <a:lnTo>
                  <a:pt x="88" y="224"/>
                </a:lnTo>
                <a:lnTo>
                  <a:pt x="106" y="224"/>
                </a:lnTo>
                <a:lnTo>
                  <a:pt x="120" y="217"/>
                </a:lnTo>
                <a:lnTo>
                  <a:pt x="135" y="195"/>
                </a:lnTo>
                <a:lnTo>
                  <a:pt x="148" y="197"/>
                </a:lnTo>
                <a:lnTo>
                  <a:pt x="172" y="214"/>
                </a:lnTo>
                <a:lnTo>
                  <a:pt x="185" y="222"/>
                </a:lnTo>
                <a:lnTo>
                  <a:pt x="200" y="229"/>
                </a:lnTo>
                <a:lnTo>
                  <a:pt x="216" y="232"/>
                </a:lnTo>
                <a:lnTo>
                  <a:pt x="242" y="222"/>
                </a:lnTo>
                <a:lnTo>
                  <a:pt x="271" y="243"/>
                </a:lnTo>
                <a:lnTo>
                  <a:pt x="293" y="232"/>
                </a:lnTo>
                <a:lnTo>
                  <a:pt x="330" y="211"/>
                </a:lnTo>
                <a:lnTo>
                  <a:pt x="353" y="211"/>
                </a:lnTo>
                <a:lnTo>
                  <a:pt x="378" y="194"/>
                </a:lnTo>
                <a:lnTo>
                  <a:pt x="395" y="186"/>
                </a:lnTo>
                <a:lnTo>
                  <a:pt x="421" y="208"/>
                </a:lnTo>
                <a:lnTo>
                  <a:pt x="441" y="203"/>
                </a:lnTo>
                <a:lnTo>
                  <a:pt x="458" y="211"/>
                </a:lnTo>
                <a:lnTo>
                  <a:pt x="470" y="211"/>
                </a:lnTo>
                <a:lnTo>
                  <a:pt x="484" y="211"/>
                </a:lnTo>
                <a:lnTo>
                  <a:pt x="495" y="219"/>
                </a:lnTo>
                <a:lnTo>
                  <a:pt x="512" y="211"/>
                </a:lnTo>
                <a:lnTo>
                  <a:pt x="525" y="190"/>
                </a:lnTo>
                <a:lnTo>
                  <a:pt x="573" y="210"/>
                </a:lnTo>
                <a:lnTo>
                  <a:pt x="597" y="234"/>
                </a:lnTo>
                <a:lnTo>
                  <a:pt x="606" y="272"/>
                </a:lnTo>
                <a:lnTo>
                  <a:pt x="712" y="184"/>
                </a:lnTo>
                <a:lnTo>
                  <a:pt x="738" y="152"/>
                </a:lnTo>
                <a:lnTo>
                  <a:pt x="763" y="136"/>
                </a:lnTo>
                <a:lnTo>
                  <a:pt x="791" y="124"/>
                </a:lnTo>
                <a:lnTo>
                  <a:pt x="787" y="148"/>
                </a:lnTo>
                <a:lnTo>
                  <a:pt x="755" y="188"/>
                </a:lnTo>
                <a:lnTo>
                  <a:pt x="776" y="181"/>
                </a:lnTo>
                <a:lnTo>
                  <a:pt x="806" y="166"/>
                </a:lnTo>
                <a:lnTo>
                  <a:pt x="827" y="176"/>
                </a:lnTo>
                <a:lnTo>
                  <a:pt x="842" y="203"/>
                </a:lnTo>
                <a:lnTo>
                  <a:pt x="833" y="225"/>
                </a:lnTo>
                <a:lnTo>
                  <a:pt x="863" y="228"/>
                </a:lnTo>
                <a:lnTo>
                  <a:pt x="887" y="243"/>
                </a:lnTo>
                <a:lnTo>
                  <a:pt x="895" y="262"/>
                </a:lnTo>
                <a:lnTo>
                  <a:pt x="917" y="259"/>
                </a:lnTo>
                <a:lnTo>
                  <a:pt x="929" y="275"/>
                </a:lnTo>
                <a:lnTo>
                  <a:pt x="948" y="305"/>
                </a:lnTo>
                <a:lnTo>
                  <a:pt x="963" y="299"/>
                </a:lnTo>
                <a:lnTo>
                  <a:pt x="955" y="275"/>
                </a:lnTo>
                <a:lnTo>
                  <a:pt x="948" y="250"/>
                </a:lnTo>
                <a:lnTo>
                  <a:pt x="936" y="240"/>
                </a:lnTo>
                <a:lnTo>
                  <a:pt x="921" y="223"/>
                </a:lnTo>
                <a:lnTo>
                  <a:pt x="929" y="186"/>
                </a:lnTo>
                <a:lnTo>
                  <a:pt x="919" y="161"/>
                </a:lnTo>
                <a:lnTo>
                  <a:pt x="889" y="156"/>
                </a:lnTo>
                <a:lnTo>
                  <a:pt x="898" y="136"/>
                </a:lnTo>
                <a:lnTo>
                  <a:pt x="917" y="120"/>
                </a:lnTo>
                <a:lnTo>
                  <a:pt x="867" y="122"/>
                </a:lnTo>
                <a:lnTo>
                  <a:pt x="889" y="110"/>
                </a:lnTo>
                <a:lnTo>
                  <a:pt x="931" y="94"/>
                </a:lnTo>
                <a:lnTo>
                  <a:pt x="910" y="90"/>
                </a:lnTo>
                <a:lnTo>
                  <a:pt x="857" y="104"/>
                </a:lnTo>
                <a:lnTo>
                  <a:pt x="831" y="96"/>
                </a:lnTo>
                <a:lnTo>
                  <a:pt x="849" y="80"/>
                </a:lnTo>
                <a:lnTo>
                  <a:pt x="887" y="76"/>
                </a:lnTo>
                <a:lnTo>
                  <a:pt x="919" y="72"/>
                </a:lnTo>
                <a:lnTo>
                  <a:pt x="951" y="58"/>
                </a:lnTo>
                <a:lnTo>
                  <a:pt x="1006" y="50"/>
                </a:lnTo>
                <a:lnTo>
                  <a:pt x="1046" y="56"/>
                </a:lnTo>
                <a:lnTo>
                  <a:pt x="1072" y="78"/>
                </a:lnTo>
                <a:lnTo>
                  <a:pt x="1098" y="92"/>
                </a:lnTo>
                <a:lnTo>
                  <a:pt x="1117" y="82"/>
                </a:lnTo>
                <a:lnTo>
                  <a:pt x="1142" y="86"/>
                </a:lnTo>
                <a:lnTo>
                  <a:pt x="1174" y="106"/>
                </a:lnTo>
                <a:lnTo>
                  <a:pt x="1202" y="132"/>
                </a:lnTo>
                <a:lnTo>
                  <a:pt x="1225" y="164"/>
                </a:lnTo>
                <a:lnTo>
                  <a:pt x="1264" y="174"/>
                </a:lnTo>
                <a:lnTo>
                  <a:pt x="1294" y="195"/>
                </a:lnTo>
                <a:lnTo>
                  <a:pt x="1313" y="214"/>
                </a:lnTo>
                <a:lnTo>
                  <a:pt x="1341" y="232"/>
                </a:lnTo>
                <a:lnTo>
                  <a:pt x="1373" y="227"/>
                </a:lnTo>
                <a:lnTo>
                  <a:pt x="1394" y="217"/>
                </a:lnTo>
                <a:lnTo>
                  <a:pt x="1433" y="217"/>
                </a:lnTo>
                <a:lnTo>
                  <a:pt x="1454" y="193"/>
                </a:lnTo>
                <a:lnTo>
                  <a:pt x="1471" y="195"/>
                </a:lnTo>
                <a:lnTo>
                  <a:pt x="1483" y="195"/>
                </a:lnTo>
                <a:lnTo>
                  <a:pt x="1499" y="206"/>
                </a:lnTo>
                <a:lnTo>
                  <a:pt x="1517" y="214"/>
                </a:lnTo>
                <a:lnTo>
                  <a:pt x="1530" y="197"/>
                </a:lnTo>
                <a:lnTo>
                  <a:pt x="1544" y="193"/>
                </a:lnTo>
                <a:lnTo>
                  <a:pt x="1555" y="198"/>
                </a:lnTo>
                <a:lnTo>
                  <a:pt x="1569" y="190"/>
                </a:lnTo>
                <a:lnTo>
                  <a:pt x="1593" y="202"/>
                </a:lnTo>
                <a:lnTo>
                  <a:pt x="1608" y="224"/>
                </a:lnTo>
                <a:lnTo>
                  <a:pt x="1626" y="227"/>
                </a:lnTo>
                <a:lnTo>
                  <a:pt x="1637" y="229"/>
                </a:lnTo>
                <a:lnTo>
                  <a:pt x="1651" y="222"/>
                </a:lnTo>
                <a:lnTo>
                  <a:pt x="1662" y="212"/>
                </a:lnTo>
                <a:lnTo>
                  <a:pt x="1671" y="208"/>
                </a:lnTo>
                <a:lnTo>
                  <a:pt x="1686" y="199"/>
                </a:lnTo>
                <a:lnTo>
                  <a:pt x="1703" y="198"/>
                </a:lnTo>
                <a:lnTo>
                  <a:pt x="1718" y="214"/>
                </a:lnTo>
                <a:lnTo>
                  <a:pt x="1742" y="225"/>
                </a:lnTo>
                <a:lnTo>
                  <a:pt x="1764" y="214"/>
                </a:lnTo>
                <a:lnTo>
                  <a:pt x="1774" y="208"/>
                </a:lnTo>
                <a:lnTo>
                  <a:pt x="1789" y="214"/>
                </a:lnTo>
                <a:lnTo>
                  <a:pt x="1799" y="217"/>
                </a:lnTo>
                <a:lnTo>
                  <a:pt x="1814" y="229"/>
                </a:lnTo>
                <a:lnTo>
                  <a:pt x="1830" y="229"/>
                </a:lnTo>
                <a:lnTo>
                  <a:pt x="1848" y="225"/>
                </a:lnTo>
                <a:lnTo>
                  <a:pt x="1871" y="219"/>
                </a:lnTo>
                <a:lnTo>
                  <a:pt x="1898" y="211"/>
                </a:lnTo>
                <a:lnTo>
                  <a:pt x="1916" y="219"/>
                </a:lnTo>
                <a:lnTo>
                  <a:pt x="1927" y="231"/>
                </a:lnTo>
                <a:lnTo>
                  <a:pt x="1936" y="254"/>
                </a:lnTo>
                <a:lnTo>
                  <a:pt x="1942" y="294"/>
                </a:lnTo>
                <a:lnTo>
                  <a:pt x="1948" y="346"/>
                </a:lnTo>
                <a:lnTo>
                  <a:pt x="1948" y="238"/>
                </a:lnTo>
                <a:lnTo>
                  <a:pt x="1948" y="210"/>
                </a:lnTo>
                <a:lnTo>
                  <a:pt x="1945" y="192"/>
                </a:lnTo>
                <a:lnTo>
                  <a:pt x="1940" y="170"/>
                </a:lnTo>
                <a:lnTo>
                  <a:pt x="1930" y="151"/>
                </a:lnTo>
                <a:lnTo>
                  <a:pt x="1910" y="142"/>
                </a:lnTo>
                <a:lnTo>
                  <a:pt x="1881" y="140"/>
                </a:lnTo>
                <a:lnTo>
                  <a:pt x="1858" y="142"/>
                </a:lnTo>
                <a:lnTo>
                  <a:pt x="1832" y="137"/>
                </a:lnTo>
                <a:lnTo>
                  <a:pt x="1807" y="152"/>
                </a:lnTo>
                <a:lnTo>
                  <a:pt x="1781" y="145"/>
                </a:lnTo>
                <a:lnTo>
                  <a:pt x="1759" y="140"/>
                </a:lnTo>
                <a:lnTo>
                  <a:pt x="1742" y="140"/>
                </a:lnTo>
                <a:lnTo>
                  <a:pt x="1698" y="145"/>
                </a:lnTo>
                <a:lnTo>
                  <a:pt x="1674" y="148"/>
                </a:lnTo>
                <a:lnTo>
                  <a:pt x="1648" y="142"/>
                </a:lnTo>
                <a:lnTo>
                  <a:pt x="1623" y="149"/>
                </a:lnTo>
                <a:lnTo>
                  <a:pt x="1592" y="142"/>
                </a:lnTo>
                <a:lnTo>
                  <a:pt x="1580" y="140"/>
                </a:lnTo>
                <a:lnTo>
                  <a:pt x="1555" y="140"/>
                </a:lnTo>
                <a:lnTo>
                  <a:pt x="1531" y="137"/>
                </a:lnTo>
                <a:lnTo>
                  <a:pt x="1514" y="145"/>
                </a:lnTo>
                <a:lnTo>
                  <a:pt x="1500" y="142"/>
                </a:lnTo>
                <a:lnTo>
                  <a:pt x="1469" y="140"/>
                </a:lnTo>
                <a:lnTo>
                  <a:pt x="1442" y="145"/>
                </a:lnTo>
                <a:lnTo>
                  <a:pt x="1417" y="145"/>
                </a:lnTo>
                <a:lnTo>
                  <a:pt x="1389" y="137"/>
                </a:lnTo>
                <a:lnTo>
                  <a:pt x="1365" y="146"/>
                </a:lnTo>
                <a:lnTo>
                  <a:pt x="1346" y="140"/>
                </a:lnTo>
                <a:lnTo>
                  <a:pt x="1328" y="149"/>
                </a:lnTo>
                <a:lnTo>
                  <a:pt x="1310" y="145"/>
                </a:lnTo>
                <a:lnTo>
                  <a:pt x="1287" y="140"/>
                </a:lnTo>
                <a:lnTo>
                  <a:pt x="1274" y="132"/>
                </a:lnTo>
                <a:lnTo>
                  <a:pt x="1244" y="102"/>
                </a:lnTo>
                <a:lnTo>
                  <a:pt x="1211" y="74"/>
                </a:lnTo>
                <a:lnTo>
                  <a:pt x="1181" y="55"/>
                </a:lnTo>
                <a:lnTo>
                  <a:pt x="1153" y="39"/>
                </a:lnTo>
                <a:lnTo>
                  <a:pt x="1110" y="19"/>
                </a:lnTo>
                <a:lnTo>
                  <a:pt x="1057" y="7"/>
                </a:lnTo>
                <a:lnTo>
                  <a:pt x="1008" y="0"/>
                </a:lnTo>
                <a:lnTo>
                  <a:pt x="927" y="3"/>
                </a:lnTo>
                <a:lnTo>
                  <a:pt x="858" y="18"/>
                </a:lnTo>
                <a:lnTo>
                  <a:pt x="821" y="31"/>
                </a:lnTo>
                <a:lnTo>
                  <a:pt x="765" y="60"/>
                </a:lnTo>
                <a:lnTo>
                  <a:pt x="720" y="94"/>
                </a:lnTo>
                <a:lnTo>
                  <a:pt x="676" y="130"/>
                </a:lnTo>
                <a:lnTo>
                  <a:pt x="633" y="142"/>
                </a:lnTo>
                <a:lnTo>
                  <a:pt x="597" y="150"/>
                </a:lnTo>
                <a:lnTo>
                  <a:pt x="558" y="152"/>
                </a:lnTo>
                <a:lnTo>
                  <a:pt x="521" y="147"/>
                </a:lnTo>
                <a:lnTo>
                  <a:pt x="490" y="147"/>
                </a:lnTo>
                <a:lnTo>
                  <a:pt x="395" y="147"/>
                </a:lnTo>
                <a:lnTo>
                  <a:pt x="367" y="145"/>
                </a:lnTo>
                <a:lnTo>
                  <a:pt x="285" y="150"/>
                </a:lnTo>
                <a:lnTo>
                  <a:pt x="234" y="147"/>
                </a:lnTo>
                <a:lnTo>
                  <a:pt x="173" y="140"/>
                </a:lnTo>
                <a:lnTo>
                  <a:pt x="97" y="142"/>
                </a:lnTo>
                <a:lnTo>
                  <a:pt x="51" y="142"/>
                </a:lnTo>
                <a:lnTo>
                  <a:pt x="31" y="145"/>
                </a:lnTo>
                <a:lnTo>
                  <a:pt x="17" y="152"/>
                </a:lnTo>
                <a:lnTo>
                  <a:pt x="4" y="172"/>
                </a:lnTo>
                <a:lnTo>
                  <a:pt x="0" y="203"/>
                </a:lnTo>
                <a:lnTo>
                  <a:pt x="0" y="235"/>
                </a:lnTo>
                <a:lnTo>
                  <a:pt x="0" y="27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 name=""/>
          <p:cNvSpPr/>
          <p:nvPr/>
        </p:nvSpPr>
        <p:spPr>
          <a:xfrm>
            <a:off x="3981600" y="334800"/>
            <a:ext cx="142560" cy="638280"/>
          </a:xfrm>
          <a:custGeom>
            <a:avLst/>
            <a:gdLst/>
            <a:ahLst/>
            <a:rect l="l" t="t" r="r" b="b"/>
            <a:pathLst>
              <a:path w="90" h="402">
                <a:moveTo>
                  <a:pt x="21" y="10"/>
                </a:moveTo>
                <a:lnTo>
                  <a:pt x="28" y="40"/>
                </a:lnTo>
                <a:lnTo>
                  <a:pt x="21" y="54"/>
                </a:lnTo>
                <a:lnTo>
                  <a:pt x="10" y="99"/>
                </a:lnTo>
                <a:lnTo>
                  <a:pt x="2" y="138"/>
                </a:lnTo>
                <a:lnTo>
                  <a:pt x="0" y="173"/>
                </a:lnTo>
                <a:lnTo>
                  <a:pt x="8" y="215"/>
                </a:lnTo>
                <a:lnTo>
                  <a:pt x="13" y="256"/>
                </a:lnTo>
                <a:lnTo>
                  <a:pt x="21" y="295"/>
                </a:lnTo>
                <a:lnTo>
                  <a:pt x="43" y="319"/>
                </a:lnTo>
                <a:lnTo>
                  <a:pt x="52" y="348"/>
                </a:lnTo>
                <a:lnTo>
                  <a:pt x="71" y="374"/>
                </a:lnTo>
                <a:lnTo>
                  <a:pt x="89" y="401"/>
                </a:lnTo>
                <a:lnTo>
                  <a:pt x="82" y="376"/>
                </a:lnTo>
                <a:lnTo>
                  <a:pt x="65" y="346"/>
                </a:lnTo>
                <a:lnTo>
                  <a:pt x="69" y="313"/>
                </a:lnTo>
                <a:lnTo>
                  <a:pt x="45" y="272"/>
                </a:lnTo>
                <a:lnTo>
                  <a:pt x="23" y="223"/>
                </a:lnTo>
                <a:lnTo>
                  <a:pt x="19" y="150"/>
                </a:lnTo>
                <a:lnTo>
                  <a:pt x="28" y="103"/>
                </a:lnTo>
                <a:lnTo>
                  <a:pt x="41" y="54"/>
                </a:lnTo>
                <a:lnTo>
                  <a:pt x="43" y="20"/>
                </a:lnTo>
                <a:lnTo>
                  <a:pt x="23" y="0"/>
                </a:lnTo>
                <a:lnTo>
                  <a:pt x="21" y="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9" name=""/>
          <p:cNvGrpSpPr/>
          <p:nvPr/>
        </p:nvGrpSpPr>
        <p:grpSpPr>
          <a:xfrm>
            <a:off x="135000" y="209520"/>
            <a:ext cx="2808360" cy="844560"/>
            <a:chOff x="135000" y="209520"/>
            <a:chExt cx="2808360" cy="844560"/>
          </a:xfrm>
        </p:grpSpPr>
        <p:sp>
          <p:nvSpPr>
            <p:cNvPr id="70" name=""/>
            <p:cNvSpPr/>
            <p:nvPr/>
          </p:nvSpPr>
          <p:spPr>
            <a:xfrm>
              <a:off x="147600" y="209520"/>
              <a:ext cx="2795760" cy="677880"/>
            </a:xfrm>
            <a:custGeom>
              <a:avLst/>
              <a:gdLst/>
              <a:ahLst/>
              <a:rect l="l" t="t" r="r" b="b"/>
              <a:pathLst>
                <a:path w="1761" h="427">
                  <a:moveTo>
                    <a:pt x="23" y="6"/>
                  </a:moveTo>
                  <a:lnTo>
                    <a:pt x="37" y="0"/>
                  </a:lnTo>
                  <a:lnTo>
                    <a:pt x="1706" y="0"/>
                  </a:lnTo>
                  <a:lnTo>
                    <a:pt x="1725" y="4"/>
                  </a:lnTo>
                  <a:lnTo>
                    <a:pt x="1739" y="15"/>
                  </a:lnTo>
                  <a:lnTo>
                    <a:pt x="1751" y="42"/>
                  </a:lnTo>
                  <a:lnTo>
                    <a:pt x="1758" y="74"/>
                  </a:lnTo>
                  <a:lnTo>
                    <a:pt x="1760" y="110"/>
                  </a:lnTo>
                  <a:lnTo>
                    <a:pt x="1760" y="426"/>
                  </a:lnTo>
                  <a:lnTo>
                    <a:pt x="66" y="426"/>
                  </a:lnTo>
                  <a:lnTo>
                    <a:pt x="0" y="426"/>
                  </a:lnTo>
                  <a:lnTo>
                    <a:pt x="0" y="132"/>
                  </a:lnTo>
                  <a:lnTo>
                    <a:pt x="0" y="89"/>
                  </a:lnTo>
                  <a:lnTo>
                    <a:pt x="7" y="47"/>
                  </a:lnTo>
                  <a:lnTo>
                    <a:pt x="13" y="25"/>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 name=""/>
            <p:cNvSpPr/>
            <p:nvPr/>
          </p:nvSpPr>
          <p:spPr>
            <a:xfrm>
              <a:off x="135000" y="654120"/>
              <a:ext cx="2795400" cy="293760"/>
            </a:xfrm>
            <a:custGeom>
              <a:avLst/>
              <a:gdLst/>
              <a:ahLst/>
              <a:rect l="l" t="t" r="r" b="b"/>
              <a:pathLst>
                <a:path w="1761" h="185">
                  <a:moveTo>
                    <a:pt x="61" y="57"/>
                  </a:moveTo>
                  <a:lnTo>
                    <a:pt x="85" y="63"/>
                  </a:lnTo>
                  <a:lnTo>
                    <a:pt x="112" y="57"/>
                  </a:lnTo>
                  <a:lnTo>
                    <a:pt x="138" y="63"/>
                  </a:lnTo>
                  <a:lnTo>
                    <a:pt x="158" y="81"/>
                  </a:lnTo>
                  <a:lnTo>
                    <a:pt x="180" y="95"/>
                  </a:lnTo>
                  <a:lnTo>
                    <a:pt x="217" y="82"/>
                  </a:lnTo>
                  <a:lnTo>
                    <a:pt x="248" y="76"/>
                  </a:lnTo>
                  <a:lnTo>
                    <a:pt x="293" y="76"/>
                  </a:lnTo>
                  <a:lnTo>
                    <a:pt x="325" y="67"/>
                  </a:lnTo>
                  <a:lnTo>
                    <a:pt x="354" y="76"/>
                  </a:lnTo>
                  <a:lnTo>
                    <a:pt x="379" y="86"/>
                  </a:lnTo>
                  <a:lnTo>
                    <a:pt x="402" y="89"/>
                  </a:lnTo>
                  <a:lnTo>
                    <a:pt x="438" y="76"/>
                  </a:lnTo>
                  <a:lnTo>
                    <a:pt x="477" y="76"/>
                  </a:lnTo>
                  <a:lnTo>
                    <a:pt x="532" y="82"/>
                  </a:lnTo>
                  <a:lnTo>
                    <a:pt x="555" y="99"/>
                  </a:lnTo>
                  <a:lnTo>
                    <a:pt x="592" y="95"/>
                  </a:lnTo>
                  <a:lnTo>
                    <a:pt x="629" y="67"/>
                  </a:lnTo>
                  <a:lnTo>
                    <a:pt x="663" y="57"/>
                  </a:lnTo>
                  <a:lnTo>
                    <a:pt x="687" y="67"/>
                  </a:lnTo>
                  <a:lnTo>
                    <a:pt x="716" y="90"/>
                  </a:lnTo>
                  <a:lnTo>
                    <a:pt x="750" y="100"/>
                  </a:lnTo>
                  <a:lnTo>
                    <a:pt x="787" y="85"/>
                  </a:lnTo>
                  <a:lnTo>
                    <a:pt x="805" y="79"/>
                  </a:lnTo>
                  <a:lnTo>
                    <a:pt x="824" y="90"/>
                  </a:lnTo>
                  <a:lnTo>
                    <a:pt x="840" y="76"/>
                  </a:lnTo>
                  <a:lnTo>
                    <a:pt x="857" y="57"/>
                  </a:lnTo>
                  <a:lnTo>
                    <a:pt x="877" y="39"/>
                  </a:lnTo>
                  <a:lnTo>
                    <a:pt x="899" y="34"/>
                  </a:lnTo>
                  <a:lnTo>
                    <a:pt x="924" y="39"/>
                  </a:lnTo>
                  <a:lnTo>
                    <a:pt x="949" y="31"/>
                  </a:lnTo>
                  <a:lnTo>
                    <a:pt x="975" y="22"/>
                  </a:lnTo>
                  <a:lnTo>
                    <a:pt x="991" y="22"/>
                  </a:lnTo>
                  <a:lnTo>
                    <a:pt x="1006" y="25"/>
                  </a:lnTo>
                  <a:lnTo>
                    <a:pt x="1030" y="48"/>
                  </a:lnTo>
                  <a:lnTo>
                    <a:pt x="1052" y="44"/>
                  </a:lnTo>
                  <a:lnTo>
                    <a:pt x="1071" y="67"/>
                  </a:lnTo>
                  <a:lnTo>
                    <a:pt x="1107" y="67"/>
                  </a:lnTo>
                  <a:lnTo>
                    <a:pt x="1138" y="53"/>
                  </a:lnTo>
                  <a:lnTo>
                    <a:pt x="1153" y="71"/>
                  </a:lnTo>
                  <a:lnTo>
                    <a:pt x="1168" y="89"/>
                  </a:lnTo>
                  <a:lnTo>
                    <a:pt x="1190" y="84"/>
                  </a:lnTo>
                  <a:lnTo>
                    <a:pt x="1215" y="95"/>
                  </a:lnTo>
                  <a:lnTo>
                    <a:pt x="1242" y="85"/>
                  </a:lnTo>
                  <a:lnTo>
                    <a:pt x="1293" y="95"/>
                  </a:lnTo>
                  <a:lnTo>
                    <a:pt x="1315" y="104"/>
                  </a:lnTo>
                  <a:lnTo>
                    <a:pt x="1340" y="79"/>
                  </a:lnTo>
                  <a:lnTo>
                    <a:pt x="1357" y="77"/>
                  </a:lnTo>
                  <a:lnTo>
                    <a:pt x="1376" y="86"/>
                  </a:lnTo>
                  <a:lnTo>
                    <a:pt x="1394" y="82"/>
                  </a:lnTo>
                  <a:lnTo>
                    <a:pt x="1418" y="57"/>
                  </a:lnTo>
                  <a:lnTo>
                    <a:pt x="1458" y="50"/>
                  </a:lnTo>
                  <a:lnTo>
                    <a:pt x="1478" y="53"/>
                  </a:lnTo>
                  <a:lnTo>
                    <a:pt x="1498" y="53"/>
                  </a:lnTo>
                  <a:lnTo>
                    <a:pt x="1528" y="22"/>
                  </a:lnTo>
                  <a:lnTo>
                    <a:pt x="1545" y="10"/>
                  </a:lnTo>
                  <a:lnTo>
                    <a:pt x="1567" y="15"/>
                  </a:lnTo>
                  <a:lnTo>
                    <a:pt x="1592" y="48"/>
                  </a:lnTo>
                  <a:lnTo>
                    <a:pt x="1617" y="27"/>
                  </a:lnTo>
                  <a:lnTo>
                    <a:pt x="1641" y="0"/>
                  </a:lnTo>
                  <a:lnTo>
                    <a:pt x="1661" y="1"/>
                  </a:lnTo>
                  <a:lnTo>
                    <a:pt x="1685" y="57"/>
                  </a:lnTo>
                  <a:lnTo>
                    <a:pt x="1703" y="48"/>
                  </a:lnTo>
                  <a:lnTo>
                    <a:pt x="1729" y="25"/>
                  </a:lnTo>
                  <a:lnTo>
                    <a:pt x="1750" y="24"/>
                  </a:lnTo>
                  <a:lnTo>
                    <a:pt x="1760" y="43"/>
                  </a:lnTo>
                  <a:lnTo>
                    <a:pt x="1760" y="184"/>
                  </a:lnTo>
                  <a:lnTo>
                    <a:pt x="740" y="144"/>
                  </a:lnTo>
                  <a:lnTo>
                    <a:pt x="727" y="149"/>
                  </a:lnTo>
                  <a:lnTo>
                    <a:pt x="0" y="133"/>
                  </a:lnTo>
                  <a:lnTo>
                    <a:pt x="0" y="29"/>
                  </a:lnTo>
                  <a:lnTo>
                    <a:pt x="10" y="44"/>
                  </a:lnTo>
                  <a:lnTo>
                    <a:pt x="26" y="50"/>
                  </a:lnTo>
                  <a:lnTo>
                    <a:pt x="46" y="51"/>
                  </a:lnTo>
                  <a:lnTo>
                    <a:pt x="61" y="57"/>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 name=""/>
            <p:cNvSpPr/>
            <p:nvPr/>
          </p:nvSpPr>
          <p:spPr>
            <a:xfrm>
              <a:off x="135000" y="755640"/>
              <a:ext cx="2795400" cy="298440"/>
            </a:xfrm>
            <a:custGeom>
              <a:avLst/>
              <a:gdLst/>
              <a:ahLst/>
              <a:rect l="l" t="t" r="r" b="b"/>
              <a:pathLst>
                <a:path w="1761" h="188">
                  <a:moveTo>
                    <a:pt x="23" y="182"/>
                  </a:moveTo>
                  <a:lnTo>
                    <a:pt x="37" y="185"/>
                  </a:lnTo>
                  <a:lnTo>
                    <a:pt x="54" y="187"/>
                  </a:lnTo>
                  <a:lnTo>
                    <a:pt x="1706" y="187"/>
                  </a:lnTo>
                  <a:lnTo>
                    <a:pt x="1725" y="184"/>
                  </a:lnTo>
                  <a:lnTo>
                    <a:pt x="1739" y="181"/>
                  </a:lnTo>
                  <a:lnTo>
                    <a:pt x="1751" y="170"/>
                  </a:lnTo>
                  <a:lnTo>
                    <a:pt x="1758" y="158"/>
                  </a:lnTo>
                  <a:lnTo>
                    <a:pt x="1760" y="143"/>
                  </a:lnTo>
                  <a:lnTo>
                    <a:pt x="1760" y="22"/>
                  </a:lnTo>
                  <a:lnTo>
                    <a:pt x="1745" y="0"/>
                  </a:lnTo>
                  <a:lnTo>
                    <a:pt x="1736" y="6"/>
                  </a:lnTo>
                  <a:lnTo>
                    <a:pt x="1729" y="27"/>
                  </a:lnTo>
                  <a:lnTo>
                    <a:pt x="1723" y="51"/>
                  </a:lnTo>
                  <a:lnTo>
                    <a:pt x="1716" y="49"/>
                  </a:lnTo>
                  <a:lnTo>
                    <a:pt x="1706" y="47"/>
                  </a:lnTo>
                  <a:lnTo>
                    <a:pt x="1685" y="35"/>
                  </a:lnTo>
                  <a:lnTo>
                    <a:pt x="1671" y="25"/>
                  </a:lnTo>
                  <a:lnTo>
                    <a:pt x="1649" y="22"/>
                  </a:lnTo>
                  <a:lnTo>
                    <a:pt x="1625" y="32"/>
                  </a:lnTo>
                  <a:lnTo>
                    <a:pt x="1603" y="49"/>
                  </a:lnTo>
                  <a:lnTo>
                    <a:pt x="1588" y="37"/>
                  </a:lnTo>
                  <a:lnTo>
                    <a:pt x="1574" y="35"/>
                  </a:lnTo>
                  <a:lnTo>
                    <a:pt x="1554" y="25"/>
                  </a:lnTo>
                  <a:lnTo>
                    <a:pt x="1534" y="28"/>
                  </a:lnTo>
                  <a:lnTo>
                    <a:pt x="1520" y="40"/>
                  </a:lnTo>
                  <a:lnTo>
                    <a:pt x="1514" y="56"/>
                  </a:lnTo>
                  <a:lnTo>
                    <a:pt x="1498" y="49"/>
                  </a:lnTo>
                  <a:lnTo>
                    <a:pt x="1475" y="49"/>
                  </a:lnTo>
                  <a:lnTo>
                    <a:pt x="1445" y="43"/>
                  </a:lnTo>
                  <a:lnTo>
                    <a:pt x="1419" y="56"/>
                  </a:lnTo>
                  <a:lnTo>
                    <a:pt x="1396" y="36"/>
                  </a:lnTo>
                  <a:lnTo>
                    <a:pt x="1366" y="49"/>
                  </a:lnTo>
                  <a:lnTo>
                    <a:pt x="1337" y="82"/>
                  </a:lnTo>
                  <a:lnTo>
                    <a:pt x="1314" y="70"/>
                  </a:lnTo>
                  <a:lnTo>
                    <a:pt x="1293" y="58"/>
                  </a:lnTo>
                  <a:lnTo>
                    <a:pt x="1270" y="51"/>
                  </a:lnTo>
                  <a:lnTo>
                    <a:pt x="1240" y="56"/>
                  </a:lnTo>
                  <a:lnTo>
                    <a:pt x="1194" y="66"/>
                  </a:lnTo>
                  <a:lnTo>
                    <a:pt x="1153" y="55"/>
                  </a:lnTo>
                  <a:lnTo>
                    <a:pt x="1135" y="60"/>
                  </a:lnTo>
                  <a:lnTo>
                    <a:pt x="1112" y="49"/>
                  </a:lnTo>
                  <a:lnTo>
                    <a:pt x="1097" y="38"/>
                  </a:lnTo>
                  <a:lnTo>
                    <a:pt x="1079" y="36"/>
                  </a:lnTo>
                  <a:lnTo>
                    <a:pt x="1047" y="43"/>
                  </a:lnTo>
                  <a:lnTo>
                    <a:pt x="1006" y="65"/>
                  </a:lnTo>
                  <a:lnTo>
                    <a:pt x="972" y="45"/>
                  </a:lnTo>
                  <a:lnTo>
                    <a:pt x="943" y="50"/>
                  </a:lnTo>
                  <a:lnTo>
                    <a:pt x="916" y="78"/>
                  </a:lnTo>
                  <a:lnTo>
                    <a:pt x="866" y="58"/>
                  </a:lnTo>
                  <a:lnTo>
                    <a:pt x="829" y="68"/>
                  </a:lnTo>
                  <a:lnTo>
                    <a:pt x="804" y="58"/>
                  </a:lnTo>
                  <a:lnTo>
                    <a:pt x="767" y="63"/>
                  </a:lnTo>
                  <a:lnTo>
                    <a:pt x="730" y="78"/>
                  </a:lnTo>
                  <a:lnTo>
                    <a:pt x="704" y="73"/>
                  </a:lnTo>
                  <a:lnTo>
                    <a:pt x="652" y="68"/>
                  </a:lnTo>
                  <a:lnTo>
                    <a:pt x="619" y="78"/>
                  </a:lnTo>
                  <a:lnTo>
                    <a:pt x="563" y="70"/>
                  </a:lnTo>
                  <a:lnTo>
                    <a:pt x="517" y="63"/>
                  </a:lnTo>
                  <a:lnTo>
                    <a:pt x="468" y="49"/>
                  </a:lnTo>
                  <a:lnTo>
                    <a:pt x="422" y="63"/>
                  </a:lnTo>
                  <a:lnTo>
                    <a:pt x="369" y="35"/>
                  </a:lnTo>
                  <a:lnTo>
                    <a:pt x="329" y="36"/>
                  </a:lnTo>
                  <a:lnTo>
                    <a:pt x="301" y="53"/>
                  </a:lnTo>
                  <a:lnTo>
                    <a:pt x="284" y="39"/>
                  </a:lnTo>
                  <a:lnTo>
                    <a:pt x="262" y="47"/>
                  </a:lnTo>
                  <a:lnTo>
                    <a:pt x="233" y="49"/>
                  </a:lnTo>
                  <a:lnTo>
                    <a:pt x="205" y="55"/>
                  </a:lnTo>
                  <a:lnTo>
                    <a:pt x="171" y="66"/>
                  </a:lnTo>
                  <a:lnTo>
                    <a:pt x="143" y="53"/>
                  </a:lnTo>
                  <a:lnTo>
                    <a:pt x="116" y="59"/>
                  </a:lnTo>
                  <a:lnTo>
                    <a:pt x="80" y="65"/>
                  </a:lnTo>
                  <a:lnTo>
                    <a:pt x="58" y="59"/>
                  </a:lnTo>
                  <a:lnTo>
                    <a:pt x="16" y="56"/>
                  </a:lnTo>
                  <a:lnTo>
                    <a:pt x="0" y="70"/>
                  </a:lnTo>
                  <a:lnTo>
                    <a:pt x="2" y="111"/>
                  </a:lnTo>
                  <a:lnTo>
                    <a:pt x="4" y="146"/>
                  </a:lnTo>
                  <a:lnTo>
                    <a:pt x="13" y="175"/>
                  </a:lnTo>
                  <a:lnTo>
                    <a:pt x="23" y="18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 name=""/>
            <p:cNvSpPr/>
            <p:nvPr/>
          </p:nvSpPr>
          <p:spPr>
            <a:xfrm>
              <a:off x="150840" y="239760"/>
              <a:ext cx="2751120" cy="388800"/>
            </a:xfrm>
            <a:custGeom>
              <a:avLst/>
              <a:gdLst/>
              <a:ahLst/>
              <a:rect l="l" t="t" r="r" b="b"/>
              <a:pathLst>
                <a:path w="1733" h="245">
                  <a:moveTo>
                    <a:pt x="0" y="119"/>
                  </a:moveTo>
                  <a:lnTo>
                    <a:pt x="0" y="185"/>
                  </a:lnTo>
                  <a:lnTo>
                    <a:pt x="0" y="244"/>
                  </a:lnTo>
                  <a:lnTo>
                    <a:pt x="4" y="196"/>
                  </a:lnTo>
                  <a:lnTo>
                    <a:pt x="5" y="157"/>
                  </a:lnTo>
                  <a:lnTo>
                    <a:pt x="7" y="88"/>
                  </a:lnTo>
                  <a:lnTo>
                    <a:pt x="12" y="55"/>
                  </a:lnTo>
                  <a:lnTo>
                    <a:pt x="22" y="44"/>
                  </a:lnTo>
                  <a:lnTo>
                    <a:pt x="48" y="36"/>
                  </a:lnTo>
                  <a:lnTo>
                    <a:pt x="82" y="39"/>
                  </a:lnTo>
                  <a:lnTo>
                    <a:pt x="162" y="39"/>
                  </a:lnTo>
                  <a:lnTo>
                    <a:pt x="198" y="45"/>
                  </a:lnTo>
                  <a:lnTo>
                    <a:pt x="249" y="39"/>
                  </a:lnTo>
                  <a:lnTo>
                    <a:pt x="308" y="42"/>
                  </a:lnTo>
                  <a:lnTo>
                    <a:pt x="351" y="40"/>
                  </a:lnTo>
                  <a:lnTo>
                    <a:pt x="437" y="45"/>
                  </a:lnTo>
                  <a:lnTo>
                    <a:pt x="467" y="44"/>
                  </a:lnTo>
                  <a:lnTo>
                    <a:pt x="525" y="39"/>
                  </a:lnTo>
                  <a:lnTo>
                    <a:pt x="544" y="46"/>
                  </a:lnTo>
                  <a:lnTo>
                    <a:pt x="598" y="39"/>
                  </a:lnTo>
                  <a:lnTo>
                    <a:pt x="680" y="44"/>
                  </a:lnTo>
                  <a:lnTo>
                    <a:pt x="708" y="51"/>
                  </a:lnTo>
                  <a:lnTo>
                    <a:pt x="751" y="45"/>
                  </a:lnTo>
                  <a:lnTo>
                    <a:pt x="788" y="53"/>
                  </a:lnTo>
                  <a:lnTo>
                    <a:pt x="818" y="53"/>
                  </a:lnTo>
                  <a:lnTo>
                    <a:pt x="878" y="45"/>
                  </a:lnTo>
                  <a:lnTo>
                    <a:pt x="935" y="51"/>
                  </a:lnTo>
                  <a:lnTo>
                    <a:pt x="986" y="61"/>
                  </a:lnTo>
                  <a:lnTo>
                    <a:pt x="1002" y="63"/>
                  </a:lnTo>
                  <a:lnTo>
                    <a:pt x="1071" y="57"/>
                  </a:lnTo>
                  <a:lnTo>
                    <a:pt x="1135" y="52"/>
                  </a:lnTo>
                  <a:lnTo>
                    <a:pt x="1150" y="49"/>
                  </a:lnTo>
                  <a:lnTo>
                    <a:pt x="1174" y="51"/>
                  </a:lnTo>
                  <a:lnTo>
                    <a:pt x="1241" y="54"/>
                  </a:lnTo>
                  <a:lnTo>
                    <a:pt x="1292" y="46"/>
                  </a:lnTo>
                  <a:lnTo>
                    <a:pt x="1319" y="49"/>
                  </a:lnTo>
                  <a:lnTo>
                    <a:pt x="1360" y="51"/>
                  </a:lnTo>
                  <a:lnTo>
                    <a:pt x="1395" y="44"/>
                  </a:lnTo>
                  <a:lnTo>
                    <a:pt x="1418" y="39"/>
                  </a:lnTo>
                  <a:lnTo>
                    <a:pt x="1449" y="48"/>
                  </a:lnTo>
                  <a:lnTo>
                    <a:pt x="1514" y="52"/>
                  </a:lnTo>
                  <a:lnTo>
                    <a:pt x="1557" y="39"/>
                  </a:lnTo>
                  <a:lnTo>
                    <a:pt x="1620" y="51"/>
                  </a:lnTo>
                  <a:lnTo>
                    <a:pt x="1665" y="51"/>
                  </a:lnTo>
                  <a:lnTo>
                    <a:pt x="1688" y="51"/>
                  </a:lnTo>
                  <a:lnTo>
                    <a:pt x="1703" y="71"/>
                  </a:lnTo>
                  <a:lnTo>
                    <a:pt x="1713" y="82"/>
                  </a:lnTo>
                  <a:lnTo>
                    <a:pt x="1721" y="104"/>
                  </a:lnTo>
                  <a:lnTo>
                    <a:pt x="1727" y="140"/>
                  </a:lnTo>
                  <a:lnTo>
                    <a:pt x="1732" y="189"/>
                  </a:lnTo>
                  <a:lnTo>
                    <a:pt x="1732" y="88"/>
                  </a:lnTo>
                  <a:lnTo>
                    <a:pt x="1732" y="63"/>
                  </a:lnTo>
                  <a:lnTo>
                    <a:pt x="1729" y="46"/>
                  </a:lnTo>
                  <a:lnTo>
                    <a:pt x="1725" y="25"/>
                  </a:lnTo>
                  <a:lnTo>
                    <a:pt x="1700" y="11"/>
                  </a:lnTo>
                  <a:lnTo>
                    <a:pt x="1606" y="9"/>
                  </a:lnTo>
                  <a:lnTo>
                    <a:pt x="1584" y="2"/>
                  </a:lnTo>
                  <a:lnTo>
                    <a:pt x="1510" y="2"/>
                  </a:lnTo>
                  <a:lnTo>
                    <a:pt x="1488" y="5"/>
                  </a:lnTo>
                  <a:lnTo>
                    <a:pt x="1443" y="5"/>
                  </a:lnTo>
                  <a:lnTo>
                    <a:pt x="1410" y="3"/>
                  </a:lnTo>
                  <a:lnTo>
                    <a:pt x="1349" y="12"/>
                  </a:lnTo>
                  <a:lnTo>
                    <a:pt x="1222" y="5"/>
                  </a:lnTo>
                  <a:lnTo>
                    <a:pt x="1182" y="9"/>
                  </a:lnTo>
                  <a:lnTo>
                    <a:pt x="1112" y="15"/>
                  </a:lnTo>
                  <a:lnTo>
                    <a:pt x="1067" y="10"/>
                  </a:lnTo>
                  <a:lnTo>
                    <a:pt x="1022" y="9"/>
                  </a:lnTo>
                  <a:lnTo>
                    <a:pt x="986" y="9"/>
                  </a:lnTo>
                  <a:lnTo>
                    <a:pt x="947" y="13"/>
                  </a:lnTo>
                  <a:lnTo>
                    <a:pt x="923" y="6"/>
                  </a:lnTo>
                  <a:lnTo>
                    <a:pt x="839" y="9"/>
                  </a:lnTo>
                  <a:lnTo>
                    <a:pt x="813" y="9"/>
                  </a:lnTo>
                  <a:lnTo>
                    <a:pt x="769" y="6"/>
                  </a:lnTo>
                  <a:lnTo>
                    <a:pt x="681" y="10"/>
                  </a:lnTo>
                  <a:lnTo>
                    <a:pt x="603" y="6"/>
                  </a:lnTo>
                  <a:lnTo>
                    <a:pt x="531" y="6"/>
                  </a:lnTo>
                  <a:lnTo>
                    <a:pt x="496" y="9"/>
                  </a:lnTo>
                  <a:lnTo>
                    <a:pt x="463" y="4"/>
                  </a:lnTo>
                  <a:lnTo>
                    <a:pt x="435" y="4"/>
                  </a:lnTo>
                  <a:lnTo>
                    <a:pt x="351" y="4"/>
                  </a:lnTo>
                  <a:lnTo>
                    <a:pt x="253" y="6"/>
                  </a:lnTo>
                  <a:lnTo>
                    <a:pt x="208" y="4"/>
                  </a:lnTo>
                  <a:lnTo>
                    <a:pt x="155" y="6"/>
                  </a:lnTo>
                  <a:lnTo>
                    <a:pt x="87" y="0"/>
                  </a:lnTo>
                  <a:lnTo>
                    <a:pt x="45" y="0"/>
                  </a:lnTo>
                  <a:lnTo>
                    <a:pt x="28" y="2"/>
                  </a:lnTo>
                  <a:lnTo>
                    <a:pt x="15" y="9"/>
                  </a:lnTo>
                  <a:lnTo>
                    <a:pt x="4" y="27"/>
                  </a:lnTo>
                  <a:lnTo>
                    <a:pt x="0" y="56"/>
                  </a:lnTo>
                  <a:lnTo>
                    <a:pt x="0" y="86"/>
                  </a:lnTo>
                  <a:lnTo>
                    <a:pt x="0" y="1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4" name=""/>
            <p:cNvSpPr/>
            <p:nvPr/>
          </p:nvSpPr>
          <p:spPr>
            <a:xfrm>
              <a:off x="155520" y="855720"/>
              <a:ext cx="2751120" cy="158760"/>
            </a:xfrm>
            <a:custGeom>
              <a:avLst/>
              <a:gdLst/>
              <a:ahLst/>
              <a:rect l="l" t="t" r="r" b="b"/>
              <a:pathLst>
                <a:path w="1733" h="100">
                  <a:moveTo>
                    <a:pt x="0" y="50"/>
                  </a:moveTo>
                  <a:lnTo>
                    <a:pt x="0" y="24"/>
                  </a:lnTo>
                  <a:lnTo>
                    <a:pt x="0" y="0"/>
                  </a:lnTo>
                  <a:lnTo>
                    <a:pt x="4" y="19"/>
                  </a:lnTo>
                  <a:lnTo>
                    <a:pt x="5" y="35"/>
                  </a:lnTo>
                  <a:lnTo>
                    <a:pt x="6" y="63"/>
                  </a:lnTo>
                  <a:lnTo>
                    <a:pt x="12" y="76"/>
                  </a:lnTo>
                  <a:lnTo>
                    <a:pt x="22" y="80"/>
                  </a:lnTo>
                  <a:lnTo>
                    <a:pt x="33" y="77"/>
                  </a:lnTo>
                  <a:lnTo>
                    <a:pt x="48" y="76"/>
                  </a:lnTo>
                  <a:lnTo>
                    <a:pt x="74" y="75"/>
                  </a:lnTo>
                  <a:lnTo>
                    <a:pt x="90" y="76"/>
                  </a:lnTo>
                  <a:lnTo>
                    <a:pt x="103" y="76"/>
                  </a:lnTo>
                  <a:lnTo>
                    <a:pt x="132" y="78"/>
                  </a:lnTo>
                  <a:lnTo>
                    <a:pt x="143" y="79"/>
                  </a:lnTo>
                  <a:lnTo>
                    <a:pt x="156" y="80"/>
                  </a:lnTo>
                  <a:lnTo>
                    <a:pt x="178" y="76"/>
                  </a:lnTo>
                  <a:lnTo>
                    <a:pt x="202" y="75"/>
                  </a:lnTo>
                  <a:lnTo>
                    <a:pt x="231" y="74"/>
                  </a:lnTo>
                  <a:lnTo>
                    <a:pt x="266" y="80"/>
                  </a:lnTo>
                  <a:lnTo>
                    <a:pt x="311" y="82"/>
                  </a:lnTo>
                  <a:lnTo>
                    <a:pt x="336" y="79"/>
                  </a:lnTo>
                  <a:lnTo>
                    <a:pt x="351" y="82"/>
                  </a:lnTo>
                  <a:lnTo>
                    <a:pt x="390" y="82"/>
                  </a:lnTo>
                  <a:lnTo>
                    <a:pt x="404" y="77"/>
                  </a:lnTo>
                  <a:lnTo>
                    <a:pt x="421" y="81"/>
                  </a:lnTo>
                  <a:lnTo>
                    <a:pt x="467" y="80"/>
                  </a:lnTo>
                  <a:lnTo>
                    <a:pt x="525" y="83"/>
                  </a:lnTo>
                  <a:lnTo>
                    <a:pt x="545" y="80"/>
                  </a:lnTo>
                  <a:lnTo>
                    <a:pt x="590" y="76"/>
                  </a:lnTo>
                  <a:lnTo>
                    <a:pt x="620" y="75"/>
                  </a:lnTo>
                  <a:lnTo>
                    <a:pt x="656" y="78"/>
                  </a:lnTo>
                  <a:lnTo>
                    <a:pt x="680" y="80"/>
                  </a:lnTo>
                  <a:lnTo>
                    <a:pt x="708" y="78"/>
                  </a:lnTo>
                  <a:lnTo>
                    <a:pt x="757" y="81"/>
                  </a:lnTo>
                  <a:lnTo>
                    <a:pt x="788" y="77"/>
                  </a:lnTo>
                  <a:lnTo>
                    <a:pt x="818" y="77"/>
                  </a:lnTo>
                  <a:lnTo>
                    <a:pt x="850" y="71"/>
                  </a:lnTo>
                  <a:lnTo>
                    <a:pt x="890" y="77"/>
                  </a:lnTo>
                  <a:lnTo>
                    <a:pt x="942" y="73"/>
                  </a:lnTo>
                  <a:lnTo>
                    <a:pt x="1002" y="73"/>
                  </a:lnTo>
                  <a:lnTo>
                    <a:pt x="1055" y="76"/>
                  </a:lnTo>
                  <a:lnTo>
                    <a:pt x="1086" y="71"/>
                  </a:lnTo>
                  <a:lnTo>
                    <a:pt x="1121" y="71"/>
                  </a:lnTo>
                  <a:lnTo>
                    <a:pt x="1135" y="77"/>
                  </a:lnTo>
                  <a:lnTo>
                    <a:pt x="1150" y="79"/>
                  </a:lnTo>
                  <a:lnTo>
                    <a:pt x="1196" y="76"/>
                  </a:lnTo>
                  <a:lnTo>
                    <a:pt x="1237" y="79"/>
                  </a:lnTo>
                  <a:lnTo>
                    <a:pt x="1292" y="80"/>
                  </a:lnTo>
                  <a:lnTo>
                    <a:pt x="1308" y="79"/>
                  </a:lnTo>
                  <a:lnTo>
                    <a:pt x="1319" y="79"/>
                  </a:lnTo>
                  <a:lnTo>
                    <a:pt x="1332" y="75"/>
                  </a:lnTo>
                  <a:lnTo>
                    <a:pt x="1360" y="78"/>
                  </a:lnTo>
                  <a:lnTo>
                    <a:pt x="1373" y="80"/>
                  </a:lnTo>
                  <a:lnTo>
                    <a:pt x="1382" y="77"/>
                  </a:lnTo>
                  <a:lnTo>
                    <a:pt x="1394" y="80"/>
                  </a:lnTo>
                  <a:lnTo>
                    <a:pt x="1416" y="76"/>
                  </a:lnTo>
                  <a:lnTo>
                    <a:pt x="1451" y="80"/>
                  </a:lnTo>
                  <a:lnTo>
                    <a:pt x="1485" y="74"/>
                  </a:lnTo>
                  <a:lnTo>
                    <a:pt x="1499" y="77"/>
                  </a:lnTo>
                  <a:lnTo>
                    <a:pt x="1514" y="77"/>
                  </a:lnTo>
                  <a:lnTo>
                    <a:pt x="1578" y="74"/>
                  </a:lnTo>
                  <a:lnTo>
                    <a:pt x="1639" y="77"/>
                  </a:lnTo>
                  <a:lnTo>
                    <a:pt x="1687" y="73"/>
                  </a:lnTo>
                  <a:lnTo>
                    <a:pt x="1703" y="70"/>
                  </a:lnTo>
                  <a:lnTo>
                    <a:pt x="1713" y="65"/>
                  </a:lnTo>
                  <a:lnTo>
                    <a:pt x="1721" y="56"/>
                  </a:lnTo>
                  <a:lnTo>
                    <a:pt x="1727" y="42"/>
                  </a:lnTo>
                  <a:lnTo>
                    <a:pt x="1732" y="22"/>
                  </a:lnTo>
                  <a:lnTo>
                    <a:pt x="1732" y="63"/>
                  </a:lnTo>
                  <a:lnTo>
                    <a:pt x="1732" y="73"/>
                  </a:lnTo>
                  <a:lnTo>
                    <a:pt x="1730" y="80"/>
                  </a:lnTo>
                  <a:lnTo>
                    <a:pt x="1725" y="88"/>
                  </a:lnTo>
                  <a:lnTo>
                    <a:pt x="1716" y="95"/>
                  </a:lnTo>
                  <a:lnTo>
                    <a:pt x="1652" y="99"/>
                  </a:lnTo>
                  <a:lnTo>
                    <a:pt x="1606" y="95"/>
                  </a:lnTo>
                  <a:lnTo>
                    <a:pt x="1583" y="97"/>
                  </a:lnTo>
                  <a:lnTo>
                    <a:pt x="1510" y="97"/>
                  </a:lnTo>
                  <a:lnTo>
                    <a:pt x="1488" y="97"/>
                  </a:lnTo>
                  <a:lnTo>
                    <a:pt x="1466" y="99"/>
                  </a:lnTo>
                  <a:lnTo>
                    <a:pt x="1443" y="96"/>
                  </a:lnTo>
                  <a:lnTo>
                    <a:pt x="1416" y="99"/>
                  </a:lnTo>
                  <a:lnTo>
                    <a:pt x="1346" y="97"/>
                  </a:lnTo>
                  <a:lnTo>
                    <a:pt x="1325" y="93"/>
                  </a:lnTo>
                  <a:lnTo>
                    <a:pt x="1260" y="97"/>
                  </a:lnTo>
                  <a:lnTo>
                    <a:pt x="1216" y="92"/>
                  </a:lnTo>
                  <a:lnTo>
                    <a:pt x="1165" y="97"/>
                  </a:lnTo>
                  <a:lnTo>
                    <a:pt x="1125" y="94"/>
                  </a:lnTo>
                  <a:lnTo>
                    <a:pt x="1088" y="97"/>
                  </a:lnTo>
                  <a:lnTo>
                    <a:pt x="1067" y="94"/>
                  </a:lnTo>
                  <a:lnTo>
                    <a:pt x="1048" y="95"/>
                  </a:lnTo>
                  <a:lnTo>
                    <a:pt x="1022" y="95"/>
                  </a:lnTo>
                  <a:lnTo>
                    <a:pt x="1006" y="92"/>
                  </a:lnTo>
                  <a:lnTo>
                    <a:pt x="987" y="97"/>
                  </a:lnTo>
                  <a:lnTo>
                    <a:pt x="967" y="92"/>
                  </a:lnTo>
                  <a:lnTo>
                    <a:pt x="947" y="93"/>
                  </a:lnTo>
                  <a:lnTo>
                    <a:pt x="923" y="95"/>
                  </a:lnTo>
                  <a:lnTo>
                    <a:pt x="901" y="97"/>
                  </a:lnTo>
                  <a:lnTo>
                    <a:pt x="875" y="97"/>
                  </a:lnTo>
                  <a:lnTo>
                    <a:pt x="839" y="97"/>
                  </a:lnTo>
                  <a:lnTo>
                    <a:pt x="813" y="97"/>
                  </a:lnTo>
                  <a:lnTo>
                    <a:pt x="791" y="95"/>
                  </a:lnTo>
                  <a:lnTo>
                    <a:pt x="769" y="95"/>
                  </a:lnTo>
                  <a:lnTo>
                    <a:pt x="720" y="99"/>
                  </a:lnTo>
                  <a:lnTo>
                    <a:pt x="681" y="94"/>
                  </a:lnTo>
                  <a:lnTo>
                    <a:pt x="638" y="99"/>
                  </a:lnTo>
                  <a:lnTo>
                    <a:pt x="603" y="95"/>
                  </a:lnTo>
                  <a:lnTo>
                    <a:pt x="563" y="99"/>
                  </a:lnTo>
                  <a:lnTo>
                    <a:pt x="531" y="95"/>
                  </a:lnTo>
                  <a:lnTo>
                    <a:pt x="496" y="95"/>
                  </a:lnTo>
                  <a:lnTo>
                    <a:pt x="463" y="97"/>
                  </a:lnTo>
                  <a:lnTo>
                    <a:pt x="435" y="97"/>
                  </a:lnTo>
                  <a:lnTo>
                    <a:pt x="351" y="97"/>
                  </a:lnTo>
                  <a:lnTo>
                    <a:pt x="326" y="97"/>
                  </a:lnTo>
                  <a:lnTo>
                    <a:pt x="254" y="95"/>
                  </a:lnTo>
                  <a:lnTo>
                    <a:pt x="208" y="97"/>
                  </a:lnTo>
                  <a:lnTo>
                    <a:pt x="84" y="94"/>
                  </a:lnTo>
                  <a:lnTo>
                    <a:pt x="15" y="95"/>
                  </a:lnTo>
                  <a:lnTo>
                    <a:pt x="3" y="88"/>
                  </a:lnTo>
                  <a:lnTo>
                    <a:pt x="0" y="76"/>
                  </a:lnTo>
                  <a:lnTo>
                    <a:pt x="0" y="63"/>
                  </a:lnTo>
                  <a:lnTo>
                    <a:pt x="0" y="50"/>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75" name=""/>
          <p:cNvGrpSpPr/>
          <p:nvPr/>
        </p:nvGrpSpPr>
        <p:grpSpPr>
          <a:xfrm>
            <a:off x="6243480" y="222120"/>
            <a:ext cx="2795760" cy="866880"/>
            <a:chOff x="6243480" y="222120"/>
            <a:chExt cx="2795760" cy="866880"/>
          </a:xfrm>
        </p:grpSpPr>
        <p:sp>
          <p:nvSpPr>
            <p:cNvPr id="76" name=""/>
            <p:cNvSpPr/>
            <p:nvPr/>
          </p:nvSpPr>
          <p:spPr>
            <a:xfrm>
              <a:off x="6243480" y="222120"/>
              <a:ext cx="2795760" cy="706680"/>
            </a:xfrm>
            <a:custGeom>
              <a:avLst/>
              <a:gdLst/>
              <a:ahLst/>
              <a:rect l="l" t="t" r="r" b="b"/>
              <a:pathLst>
                <a:path w="1761" h="445">
                  <a:moveTo>
                    <a:pt x="23" y="6"/>
                  </a:moveTo>
                  <a:lnTo>
                    <a:pt x="37" y="0"/>
                  </a:lnTo>
                  <a:lnTo>
                    <a:pt x="1706" y="0"/>
                  </a:lnTo>
                  <a:lnTo>
                    <a:pt x="1725" y="4"/>
                  </a:lnTo>
                  <a:lnTo>
                    <a:pt x="1739" y="15"/>
                  </a:lnTo>
                  <a:lnTo>
                    <a:pt x="1751" y="44"/>
                  </a:lnTo>
                  <a:lnTo>
                    <a:pt x="1758" y="77"/>
                  </a:lnTo>
                  <a:lnTo>
                    <a:pt x="1760" y="115"/>
                  </a:lnTo>
                  <a:lnTo>
                    <a:pt x="1760" y="444"/>
                  </a:lnTo>
                  <a:lnTo>
                    <a:pt x="66" y="444"/>
                  </a:lnTo>
                  <a:lnTo>
                    <a:pt x="0" y="444"/>
                  </a:lnTo>
                  <a:lnTo>
                    <a:pt x="0" y="138"/>
                  </a:lnTo>
                  <a:lnTo>
                    <a:pt x="0" y="93"/>
                  </a:lnTo>
                  <a:lnTo>
                    <a:pt x="7" y="49"/>
                  </a:lnTo>
                  <a:lnTo>
                    <a:pt x="13" y="26"/>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 name=""/>
            <p:cNvSpPr/>
            <p:nvPr/>
          </p:nvSpPr>
          <p:spPr>
            <a:xfrm>
              <a:off x="6243480" y="674640"/>
              <a:ext cx="2795760" cy="301680"/>
            </a:xfrm>
            <a:custGeom>
              <a:avLst/>
              <a:gdLst/>
              <a:ahLst/>
              <a:rect l="l" t="t" r="r" b="b"/>
              <a:pathLst>
                <a:path w="1761" h="190">
                  <a:moveTo>
                    <a:pt x="61" y="59"/>
                  </a:moveTo>
                  <a:lnTo>
                    <a:pt x="85" y="65"/>
                  </a:lnTo>
                  <a:lnTo>
                    <a:pt x="112" y="59"/>
                  </a:lnTo>
                  <a:lnTo>
                    <a:pt x="138" y="65"/>
                  </a:lnTo>
                  <a:lnTo>
                    <a:pt x="158" y="83"/>
                  </a:lnTo>
                  <a:lnTo>
                    <a:pt x="180" y="97"/>
                  </a:lnTo>
                  <a:lnTo>
                    <a:pt x="217" y="85"/>
                  </a:lnTo>
                  <a:lnTo>
                    <a:pt x="248" y="78"/>
                  </a:lnTo>
                  <a:lnTo>
                    <a:pt x="293" y="78"/>
                  </a:lnTo>
                  <a:lnTo>
                    <a:pt x="325" y="69"/>
                  </a:lnTo>
                  <a:lnTo>
                    <a:pt x="354" y="78"/>
                  </a:lnTo>
                  <a:lnTo>
                    <a:pt x="379" y="88"/>
                  </a:lnTo>
                  <a:lnTo>
                    <a:pt x="402" y="92"/>
                  </a:lnTo>
                  <a:lnTo>
                    <a:pt x="438" y="78"/>
                  </a:lnTo>
                  <a:lnTo>
                    <a:pt x="477" y="78"/>
                  </a:lnTo>
                  <a:lnTo>
                    <a:pt x="532" y="84"/>
                  </a:lnTo>
                  <a:lnTo>
                    <a:pt x="555" y="102"/>
                  </a:lnTo>
                  <a:lnTo>
                    <a:pt x="592" y="97"/>
                  </a:lnTo>
                  <a:lnTo>
                    <a:pt x="629" y="69"/>
                  </a:lnTo>
                  <a:lnTo>
                    <a:pt x="663" y="59"/>
                  </a:lnTo>
                  <a:lnTo>
                    <a:pt x="687" y="69"/>
                  </a:lnTo>
                  <a:lnTo>
                    <a:pt x="716" y="93"/>
                  </a:lnTo>
                  <a:lnTo>
                    <a:pt x="750" y="102"/>
                  </a:lnTo>
                  <a:lnTo>
                    <a:pt x="787" y="87"/>
                  </a:lnTo>
                  <a:lnTo>
                    <a:pt x="805" y="81"/>
                  </a:lnTo>
                  <a:lnTo>
                    <a:pt x="824" y="93"/>
                  </a:lnTo>
                  <a:lnTo>
                    <a:pt x="840" y="78"/>
                  </a:lnTo>
                  <a:lnTo>
                    <a:pt x="857" y="59"/>
                  </a:lnTo>
                  <a:lnTo>
                    <a:pt x="877" y="40"/>
                  </a:lnTo>
                  <a:lnTo>
                    <a:pt x="899" y="35"/>
                  </a:lnTo>
                  <a:lnTo>
                    <a:pt x="924" y="40"/>
                  </a:lnTo>
                  <a:lnTo>
                    <a:pt x="949" y="32"/>
                  </a:lnTo>
                  <a:lnTo>
                    <a:pt x="975" y="23"/>
                  </a:lnTo>
                  <a:lnTo>
                    <a:pt x="991" y="23"/>
                  </a:lnTo>
                  <a:lnTo>
                    <a:pt x="1006" y="25"/>
                  </a:lnTo>
                  <a:lnTo>
                    <a:pt x="1030" y="49"/>
                  </a:lnTo>
                  <a:lnTo>
                    <a:pt x="1052" y="45"/>
                  </a:lnTo>
                  <a:lnTo>
                    <a:pt x="1071" y="69"/>
                  </a:lnTo>
                  <a:lnTo>
                    <a:pt x="1107" y="69"/>
                  </a:lnTo>
                  <a:lnTo>
                    <a:pt x="1138" y="55"/>
                  </a:lnTo>
                  <a:lnTo>
                    <a:pt x="1153" y="73"/>
                  </a:lnTo>
                  <a:lnTo>
                    <a:pt x="1168" y="92"/>
                  </a:lnTo>
                  <a:lnTo>
                    <a:pt x="1190" y="86"/>
                  </a:lnTo>
                  <a:lnTo>
                    <a:pt x="1215" y="97"/>
                  </a:lnTo>
                  <a:lnTo>
                    <a:pt x="1242" y="87"/>
                  </a:lnTo>
                  <a:lnTo>
                    <a:pt x="1293" y="97"/>
                  </a:lnTo>
                  <a:lnTo>
                    <a:pt x="1315" y="107"/>
                  </a:lnTo>
                  <a:lnTo>
                    <a:pt x="1340" y="81"/>
                  </a:lnTo>
                  <a:lnTo>
                    <a:pt x="1357" y="79"/>
                  </a:lnTo>
                  <a:lnTo>
                    <a:pt x="1376" y="88"/>
                  </a:lnTo>
                  <a:lnTo>
                    <a:pt x="1394" y="85"/>
                  </a:lnTo>
                  <a:lnTo>
                    <a:pt x="1418" y="59"/>
                  </a:lnTo>
                  <a:lnTo>
                    <a:pt x="1458" y="51"/>
                  </a:lnTo>
                  <a:lnTo>
                    <a:pt x="1478" y="55"/>
                  </a:lnTo>
                  <a:lnTo>
                    <a:pt x="1498" y="55"/>
                  </a:lnTo>
                  <a:lnTo>
                    <a:pt x="1528" y="23"/>
                  </a:lnTo>
                  <a:lnTo>
                    <a:pt x="1545" y="10"/>
                  </a:lnTo>
                  <a:lnTo>
                    <a:pt x="1567" y="15"/>
                  </a:lnTo>
                  <a:lnTo>
                    <a:pt x="1592" y="49"/>
                  </a:lnTo>
                  <a:lnTo>
                    <a:pt x="1617" y="28"/>
                  </a:lnTo>
                  <a:lnTo>
                    <a:pt x="1641" y="0"/>
                  </a:lnTo>
                  <a:lnTo>
                    <a:pt x="1661" y="1"/>
                  </a:lnTo>
                  <a:lnTo>
                    <a:pt x="1685" y="59"/>
                  </a:lnTo>
                  <a:lnTo>
                    <a:pt x="1703" y="49"/>
                  </a:lnTo>
                  <a:lnTo>
                    <a:pt x="1729" y="25"/>
                  </a:lnTo>
                  <a:lnTo>
                    <a:pt x="1750" y="24"/>
                  </a:lnTo>
                  <a:lnTo>
                    <a:pt x="1760" y="44"/>
                  </a:lnTo>
                  <a:lnTo>
                    <a:pt x="1760" y="189"/>
                  </a:lnTo>
                  <a:lnTo>
                    <a:pt x="740" y="148"/>
                  </a:lnTo>
                  <a:lnTo>
                    <a:pt x="727" y="153"/>
                  </a:lnTo>
                  <a:lnTo>
                    <a:pt x="0" y="136"/>
                  </a:lnTo>
                  <a:lnTo>
                    <a:pt x="0" y="30"/>
                  </a:lnTo>
                  <a:lnTo>
                    <a:pt x="10" y="46"/>
                  </a:lnTo>
                  <a:lnTo>
                    <a:pt x="26" y="51"/>
                  </a:lnTo>
                  <a:lnTo>
                    <a:pt x="46" y="53"/>
                  </a:lnTo>
                  <a:lnTo>
                    <a:pt x="61" y="59"/>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 name=""/>
            <p:cNvSpPr/>
            <p:nvPr/>
          </p:nvSpPr>
          <p:spPr>
            <a:xfrm>
              <a:off x="6243480" y="776160"/>
              <a:ext cx="2795760" cy="312840"/>
            </a:xfrm>
            <a:custGeom>
              <a:avLst/>
              <a:gdLst/>
              <a:ahLst/>
              <a:rect l="l" t="t" r="r" b="b"/>
              <a:pathLst>
                <a:path w="1761" h="197">
                  <a:moveTo>
                    <a:pt x="23" y="191"/>
                  </a:moveTo>
                  <a:lnTo>
                    <a:pt x="37" y="194"/>
                  </a:lnTo>
                  <a:lnTo>
                    <a:pt x="54" y="196"/>
                  </a:lnTo>
                  <a:lnTo>
                    <a:pt x="1706" y="196"/>
                  </a:lnTo>
                  <a:lnTo>
                    <a:pt x="1725" y="193"/>
                  </a:lnTo>
                  <a:lnTo>
                    <a:pt x="1739" y="189"/>
                  </a:lnTo>
                  <a:lnTo>
                    <a:pt x="1751" y="178"/>
                  </a:lnTo>
                  <a:lnTo>
                    <a:pt x="1758" y="165"/>
                  </a:lnTo>
                  <a:lnTo>
                    <a:pt x="1760" y="150"/>
                  </a:lnTo>
                  <a:lnTo>
                    <a:pt x="1760" y="23"/>
                  </a:lnTo>
                  <a:lnTo>
                    <a:pt x="1745" y="0"/>
                  </a:lnTo>
                  <a:lnTo>
                    <a:pt x="1736" y="7"/>
                  </a:lnTo>
                  <a:lnTo>
                    <a:pt x="1729" y="28"/>
                  </a:lnTo>
                  <a:lnTo>
                    <a:pt x="1723" y="53"/>
                  </a:lnTo>
                  <a:lnTo>
                    <a:pt x="1716" y="52"/>
                  </a:lnTo>
                  <a:lnTo>
                    <a:pt x="1706" y="50"/>
                  </a:lnTo>
                  <a:lnTo>
                    <a:pt x="1685" y="37"/>
                  </a:lnTo>
                  <a:lnTo>
                    <a:pt x="1671" y="26"/>
                  </a:lnTo>
                  <a:lnTo>
                    <a:pt x="1649" y="23"/>
                  </a:lnTo>
                  <a:lnTo>
                    <a:pt x="1625" y="34"/>
                  </a:lnTo>
                  <a:lnTo>
                    <a:pt x="1603" y="52"/>
                  </a:lnTo>
                  <a:lnTo>
                    <a:pt x="1588" y="39"/>
                  </a:lnTo>
                  <a:lnTo>
                    <a:pt x="1574" y="37"/>
                  </a:lnTo>
                  <a:lnTo>
                    <a:pt x="1554" y="26"/>
                  </a:lnTo>
                  <a:lnTo>
                    <a:pt x="1534" y="30"/>
                  </a:lnTo>
                  <a:lnTo>
                    <a:pt x="1520" y="42"/>
                  </a:lnTo>
                  <a:lnTo>
                    <a:pt x="1514" y="59"/>
                  </a:lnTo>
                  <a:lnTo>
                    <a:pt x="1498" y="52"/>
                  </a:lnTo>
                  <a:lnTo>
                    <a:pt x="1475" y="52"/>
                  </a:lnTo>
                  <a:lnTo>
                    <a:pt x="1445" y="45"/>
                  </a:lnTo>
                  <a:lnTo>
                    <a:pt x="1419" y="59"/>
                  </a:lnTo>
                  <a:lnTo>
                    <a:pt x="1396" y="37"/>
                  </a:lnTo>
                  <a:lnTo>
                    <a:pt x="1366" y="52"/>
                  </a:lnTo>
                  <a:lnTo>
                    <a:pt x="1337" y="86"/>
                  </a:lnTo>
                  <a:lnTo>
                    <a:pt x="1314" y="73"/>
                  </a:lnTo>
                  <a:lnTo>
                    <a:pt x="1293" y="61"/>
                  </a:lnTo>
                  <a:lnTo>
                    <a:pt x="1270" y="53"/>
                  </a:lnTo>
                  <a:lnTo>
                    <a:pt x="1240" y="59"/>
                  </a:lnTo>
                  <a:lnTo>
                    <a:pt x="1194" y="69"/>
                  </a:lnTo>
                  <a:lnTo>
                    <a:pt x="1153" y="58"/>
                  </a:lnTo>
                  <a:lnTo>
                    <a:pt x="1135" y="63"/>
                  </a:lnTo>
                  <a:lnTo>
                    <a:pt x="1112" y="52"/>
                  </a:lnTo>
                  <a:lnTo>
                    <a:pt x="1097" y="40"/>
                  </a:lnTo>
                  <a:lnTo>
                    <a:pt x="1079" y="37"/>
                  </a:lnTo>
                  <a:lnTo>
                    <a:pt x="1047" y="45"/>
                  </a:lnTo>
                  <a:lnTo>
                    <a:pt x="1006" y="68"/>
                  </a:lnTo>
                  <a:lnTo>
                    <a:pt x="972" y="47"/>
                  </a:lnTo>
                  <a:lnTo>
                    <a:pt x="943" y="53"/>
                  </a:lnTo>
                  <a:lnTo>
                    <a:pt x="916" y="82"/>
                  </a:lnTo>
                  <a:lnTo>
                    <a:pt x="866" y="61"/>
                  </a:lnTo>
                  <a:lnTo>
                    <a:pt x="829" y="71"/>
                  </a:lnTo>
                  <a:lnTo>
                    <a:pt x="804" y="61"/>
                  </a:lnTo>
                  <a:lnTo>
                    <a:pt x="767" y="66"/>
                  </a:lnTo>
                  <a:lnTo>
                    <a:pt x="730" y="82"/>
                  </a:lnTo>
                  <a:lnTo>
                    <a:pt x="704" y="76"/>
                  </a:lnTo>
                  <a:lnTo>
                    <a:pt x="652" y="71"/>
                  </a:lnTo>
                  <a:lnTo>
                    <a:pt x="619" y="82"/>
                  </a:lnTo>
                  <a:lnTo>
                    <a:pt x="563" y="73"/>
                  </a:lnTo>
                  <a:lnTo>
                    <a:pt x="517" y="66"/>
                  </a:lnTo>
                  <a:lnTo>
                    <a:pt x="468" y="52"/>
                  </a:lnTo>
                  <a:lnTo>
                    <a:pt x="422" y="66"/>
                  </a:lnTo>
                  <a:lnTo>
                    <a:pt x="369" y="37"/>
                  </a:lnTo>
                  <a:lnTo>
                    <a:pt x="329" y="37"/>
                  </a:lnTo>
                  <a:lnTo>
                    <a:pt x="301" y="55"/>
                  </a:lnTo>
                  <a:lnTo>
                    <a:pt x="284" y="41"/>
                  </a:lnTo>
                  <a:lnTo>
                    <a:pt x="262" y="50"/>
                  </a:lnTo>
                  <a:lnTo>
                    <a:pt x="233" y="52"/>
                  </a:lnTo>
                  <a:lnTo>
                    <a:pt x="205" y="57"/>
                  </a:lnTo>
                  <a:lnTo>
                    <a:pt x="171" y="69"/>
                  </a:lnTo>
                  <a:lnTo>
                    <a:pt x="143" y="55"/>
                  </a:lnTo>
                  <a:lnTo>
                    <a:pt x="116" y="62"/>
                  </a:lnTo>
                  <a:lnTo>
                    <a:pt x="80" y="68"/>
                  </a:lnTo>
                  <a:lnTo>
                    <a:pt x="58" y="62"/>
                  </a:lnTo>
                  <a:lnTo>
                    <a:pt x="16" y="59"/>
                  </a:lnTo>
                  <a:lnTo>
                    <a:pt x="0" y="73"/>
                  </a:lnTo>
                  <a:lnTo>
                    <a:pt x="2" y="116"/>
                  </a:lnTo>
                  <a:lnTo>
                    <a:pt x="4" y="153"/>
                  </a:lnTo>
                  <a:lnTo>
                    <a:pt x="13" y="184"/>
                  </a:lnTo>
                  <a:lnTo>
                    <a:pt x="23" y="191"/>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9" name=""/>
            <p:cNvSpPr/>
            <p:nvPr/>
          </p:nvSpPr>
          <p:spPr>
            <a:xfrm>
              <a:off x="6259680" y="241200"/>
              <a:ext cx="2751120" cy="403200"/>
            </a:xfrm>
            <a:custGeom>
              <a:avLst/>
              <a:gdLst/>
              <a:ahLst/>
              <a:rect l="l" t="t" r="r" b="b"/>
              <a:pathLst>
                <a:path w="1733" h="254">
                  <a:moveTo>
                    <a:pt x="0" y="123"/>
                  </a:moveTo>
                  <a:lnTo>
                    <a:pt x="0" y="191"/>
                  </a:lnTo>
                  <a:lnTo>
                    <a:pt x="0" y="253"/>
                  </a:lnTo>
                  <a:lnTo>
                    <a:pt x="4" y="203"/>
                  </a:lnTo>
                  <a:lnTo>
                    <a:pt x="5" y="163"/>
                  </a:lnTo>
                  <a:lnTo>
                    <a:pt x="7" y="92"/>
                  </a:lnTo>
                  <a:lnTo>
                    <a:pt x="12" y="57"/>
                  </a:lnTo>
                  <a:lnTo>
                    <a:pt x="22" y="46"/>
                  </a:lnTo>
                  <a:lnTo>
                    <a:pt x="48" y="38"/>
                  </a:lnTo>
                  <a:lnTo>
                    <a:pt x="82" y="40"/>
                  </a:lnTo>
                  <a:lnTo>
                    <a:pt x="162" y="40"/>
                  </a:lnTo>
                  <a:lnTo>
                    <a:pt x="198" y="46"/>
                  </a:lnTo>
                  <a:lnTo>
                    <a:pt x="249" y="40"/>
                  </a:lnTo>
                  <a:lnTo>
                    <a:pt x="308" y="44"/>
                  </a:lnTo>
                  <a:lnTo>
                    <a:pt x="351" y="42"/>
                  </a:lnTo>
                  <a:lnTo>
                    <a:pt x="437" y="46"/>
                  </a:lnTo>
                  <a:lnTo>
                    <a:pt x="467" y="46"/>
                  </a:lnTo>
                  <a:lnTo>
                    <a:pt x="525" y="40"/>
                  </a:lnTo>
                  <a:lnTo>
                    <a:pt x="544" y="48"/>
                  </a:lnTo>
                  <a:lnTo>
                    <a:pt x="598" y="40"/>
                  </a:lnTo>
                  <a:lnTo>
                    <a:pt x="680" y="46"/>
                  </a:lnTo>
                  <a:lnTo>
                    <a:pt x="708" y="53"/>
                  </a:lnTo>
                  <a:lnTo>
                    <a:pt x="751" y="46"/>
                  </a:lnTo>
                  <a:lnTo>
                    <a:pt x="788" y="55"/>
                  </a:lnTo>
                  <a:lnTo>
                    <a:pt x="818" y="55"/>
                  </a:lnTo>
                  <a:lnTo>
                    <a:pt x="878" y="46"/>
                  </a:lnTo>
                  <a:lnTo>
                    <a:pt x="935" y="53"/>
                  </a:lnTo>
                  <a:lnTo>
                    <a:pt x="986" y="63"/>
                  </a:lnTo>
                  <a:lnTo>
                    <a:pt x="1002" y="65"/>
                  </a:lnTo>
                  <a:lnTo>
                    <a:pt x="1071" y="59"/>
                  </a:lnTo>
                  <a:lnTo>
                    <a:pt x="1135" y="54"/>
                  </a:lnTo>
                  <a:lnTo>
                    <a:pt x="1150" y="51"/>
                  </a:lnTo>
                  <a:lnTo>
                    <a:pt x="1174" y="53"/>
                  </a:lnTo>
                  <a:lnTo>
                    <a:pt x="1241" y="56"/>
                  </a:lnTo>
                  <a:lnTo>
                    <a:pt x="1292" y="48"/>
                  </a:lnTo>
                  <a:lnTo>
                    <a:pt x="1319" y="51"/>
                  </a:lnTo>
                  <a:lnTo>
                    <a:pt x="1360" y="53"/>
                  </a:lnTo>
                  <a:lnTo>
                    <a:pt x="1395" y="46"/>
                  </a:lnTo>
                  <a:lnTo>
                    <a:pt x="1418" y="40"/>
                  </a:lnTo>
                  <a:lnTo>
                    <a:pt x="1449" y="50"/>
                  </a:lnTo>
                  <a:lnTo>
                    <a:pt x="1514" y="53"/>
                  </a:lnTo>
                  <a:lnTo>
                    <a:pt x="1557" y="40"/>
                  </a:lnTo>
                  <a:lnTo>
                    <a:pt x="1620" y="53"/>
                  </a:lnTo>
                  <a:lnTo>
                    <a:pt x="1665" y="53"/>
                  </a:lnTo>
                  <a:lnTo>
                    <a:pt x="1688" y="53"/>
                  </a:lnTo>
                  <a:lnTo>
                    <a:pt x="1703" y="74"/>
                  </a:lnTo>
                  <a:lnTo>
                    <a:pt x="1713" y="85"/>
                  </a:lnTo>
                  <a:lnTo>
                    <a:pt x="1721" y="107"/>
                  </a:lnTo>
                  <a:lnTo>
                    <a:pt x="1727" y="145"/>
                  </a:lnTo>
                  <a:lnTo>
                    <a:pt x="1732" y="196"/>
                  </a:lnTo>
                  <a:lnTo>
                    <a:pt x="1732" y="92"/>
                  </a:lnTo>
                  <a:lnTo>
                    <a:pt x="1732" y="65"/>
                  </a:lnTo>
                  <a:lnTo>
                    <a:pt x="1729" y="47"/>
                  </a:lnTo>
                  <a:lnTo>
                    <a:pt x="1725" y="26"/>
                  </a:lnTo>
                  <a:lnTo>
                    <a:pt x="1700" y="12"/>
                  </a:lnTo>
                  <a:lnTo>
                    <a:pt x="1606" y="9"/>
                  </a:lnTo>
                  <a:lnTo>
                    <a:pt x="1584" y="2"/>
                  </a:lnTo>
                  <a:lnTo>
                    <a:pt x="1510" y="2"/>
                  </a:lnTo>
                  <a:lnTo>
                    <a:pt x="1488" y="5"/>
                  </a:lnTo>
                  <a:lnTo>
                    <a:pt x="1443" y="6"/>
                  </a:lnTo>
                  <a:lnTo>
                    <a:pt x="1410" y="3"/>
                  </a:lnTo>
                  <a:lnTo>
                    <a:pt x="1349" y="13"/>
                  </a:lnTo>
                  <a:lnTo>
                    <a:pt x="1222" y="6"/>
                  </a:lnTo>
                  <a:lnTo>
                    <a:pt x="1182" y="9"/>
                  </a:lnTo>
                  <a:lnTo>
                    <a:pt x="1112" y="15"/>
                  </a:lnTo>
                  <a:lnTo>
                    <a:pt x="1067" y="10"/>
                  </a:lnTo>
                  <a:lnTo>
                    <a:pt x="1022" y="9"/>
                  </a:lnTo>
                  <a:lnTo>
                    <a:pt x="986" y="9"/>
                  </a:lnTo>
                  <a:lnTo>
                    <a:pt x="947" y="14"/>
                  </a:lnTo>
                  <a:lnTo>
                    <a:pt x="923" y="7"/>
                  </a:lnTo>
                  <a:lnTo>
                    <a:pt x="839" y="9"/>
                  </a:lnTo>
                  <a:lnTo>
                    <a:pt x="813" y="9"/>
                  </a:lnTo>
                  <a:lnTo>
                    <a:pt x="769" y="7"/>
                  </a:lnTo>
                  <a:lnTo>
                    <a:pt x="681" y="10"/>
                  </a:lnTo>
                  <a:lnTo>
                    <a:pt x="603" y="7"/>
                  </a:lnTo>
                  <a:lnTo>
                    <a:pt x="531" y="7"/>
                  </a:lnTo>
                  <a:lnTo>
                    <a:pt x="496" y="9"/>
                  </a:lnTo>
                  <a:lnTo>
                    <a:pt x="463" y="4"/>
                  </a:lnTo>
                  <a:lnTo>
                    <a:pt x="435" y="4"/>
                  </a:lnTo>
                  <a:lnTo>
                    <a:pt x="351" y="4"/>
                  </a:lnTo>
                  <a:lnTo>
                    <a:pt x="253" y="7"/>
                  </a:lnTo>
                  <a:lnTo>
                    <a:pt x="208" y="4"/>
                  </a:lnTo>
                  <a:lnTo>
                    <a:pt x="155" y="7"/>
                  </a:lnTo>
                  <a:lnTo>
                    <a:pt x="87" y="0"/>
                  </a:lnTo>
                  <a:lnTo>
                    <a:pt x="45" y="0"/>
                  </a:lnTo>
                  <a:lnTo>
                    <a:pt x="28" y="2"/>
                  </a:lnTo>
                  <a:lnTo>
                    <a:pt x="15" y="9"/>
                  </a:lnTo>
                  <a:lnTo>
                    <a:pt x="4" y="28"/>
                  </a:lnTo>
                  <a:lnTo>
                    <a:pt x="0" y="58"/>
                  </a:lnTo>
                  <a:lnTo>
                    <a:pt x="0" y="89"/>
                  </a:lnTo>
                  <a:lnTo>
                    <a:pt x="0" y="12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 name=""/>
            <p:cNvSpPr/>
            <p:nvPr/>
          </p:nvSpPr>
          <p:spPr>
            <a:xfrm>
              <a:off x="6264360" y="882720"/>
              <a:ext cx="2751120" cy="163440"/>
            </a:xfrm>
            <a:custGeom>
              <a:avLst/>
              <a:gdLst/>
              <a:ahLst/>
              <a:rect l="l" t="t" r="r" b="b"/>
              <a:pathLst>
                <a:path w="1733" h="103">
                  <a:moveTo>
                    <a:pt x="0" y="52"/>
                  </a:moveTo>
                  <a:lnTo>
                    <a:pt x="0" y="24"/>
                  </a:lnTo>
                  <a:lnTo>
                    <a:pt x="0" y="0"/>
                  </a:lnTo>
                  <a:lnTo>
                    <a:pt x="4" y="20"/>
                  </a:lnTo>
                  <a:lnTo>
                    <a:pt x="5" y="36"/>
                  </a:lnTo>
                  <a:lnTo>
                    <a:pt x="6" y="65"/>
                  </a:lnTo>
                  <a:lnTo>
                    <a:pt x="12" y="78"/>
                  </a:lnTo>
                  <a:lnTo>
                    <a:pt x="22" y="83"/>
                  </a:lnTo>
                  <a:lnTo>
                    <a:pt x="33" y="80"/>
                  </a:lnTo>
                  <a:lnTo>
                    <a:pt x="48" y="78"/>
                  </a:lnTo>
                  <a:lnTo>
                    <a:pt x="74" y="77"/>
                  </a:lnTo>
                  <a:lnTo>
                    <a:pt x="90" y="78"/>
                  </a:lnTo>
                  <a:lnTo>
                    <a:pt x="103" y="78"/>
                  </a:lnTo>
                  <a:lnTo>
                    <a:pt x="132" y="80"/>
                  </a:lnTo>
                  <a:lnTo>
                    <a:pt x="143" y="81"/>
                  </a:lnTo>
                  <a:lnTo>
                    <a:pt x="156" y="82"/>
                  </a:lnTo>
                  <a:lnTo>
                    <a:pt x="178" y="78"/>
                  </a:lnTo>
                  <a:lnTo>
                    <a:pt x="202" y="77"/>
                  </a:lnTo>
                  <a:lnTo>
                    <a:pt x="231" y="76"/>
                  </a:lnTo>
                  <a:lnTo>
                    <a:pt x="266" y="82"/>
                  </a:lnTo>
                  <a:lnTo>
                    <a:pt x="311" y="85"/>
                  </a:lnTo>
                  <a:lnTo>
                    <a:pt x="336" y="82"/>
                  </a:lnTo>
                  <a:lnTo>
                    <a:pt x="351" y="85"/>
                  </a:lnTo>
                  <a:lnTo>
                    <a:pt x="390" y="85"/>
                  </a:lnTo>
                  <a:lnTo>
                    <a:pt x="404" y="80"/>
                  </a:lnTo>
                  <a:lnTo>
                    <a:pt x="421" y="83"/>
                  </a:lnTo>
                  <a:lnTo>
                    <a:pt x="467" y="83"/>
                  </a:lnTo>
                  <a:lnTo>
                    <a:pt x="525" y="85"/>
                  </a:lnTo>
                  <a:lnTo>
                    <a:pt x="545" y="82"/>
                  </a:lnTo>
                  <a:lnTo>
                    <a:pt x="590" y="78"/>
                  </a:lnTo>
                  <a:lnTo>
                    <a:pt x="620" y="77"/>
                  </a:lnTo>
                  <a:lnTo>
                    <a:pt x="656" y="80"/>
                  </a:lnTo>
                  <a:lnTo>
                    <a:pt x="680" y="83"/>
                  </a:lnTo>
                  <a:lnTo>
                    <a:pt x="708" y="80"/>
                  </a:lnTo>
                  <a:lnTo>
                    <a:pt x="757" y="83"/>
                  </a:lnTo>
                  <a:lnTo>
                    <a:pt x="788" y="79"/>
                  </a:lnTo>
                  <a:lnTo>
                    <a:pt x="818" y="79"/>
                  </a:lnTo>
                  <a:lnTo>
                    <a:pt x="850" y="74"/>
                  </a:lnTo>
                  <a:lnTo>
                    <a:pt x="890" y="80"/>
                  </a:lnTo>
                  <a:lnTo>
                    <a:pt x="942" y="75"/>
                  </a:lnTo>
                  <a:lnTo>
                    <a:pt x="1002" y="75"/>
                  </a:lnTo>
                  <a:lnTo>
                    <a:pt x="1055" y="78"/>
                  </a:lnTo>
                  <a:lnTo>
                    <a:pt x="1086" y="73"/>
                  </a:lnTo>
                  <a:lnTo>
                    <a:pt x="1121" y="74"/>
                  </a:lnTo>
                  <a:lnTo>
                    <a:pt x="1135" y="80"/>
                  </a:lnTo>
                  <a:lnTo>
                    <a:pt x="1150" y="81"/>
                  </a:lnTo>
                  <a:lnTo>
                    <a:pt x="1196" y="78"/>
                  </a:lnTo>
                  <a:lnTo>
                    <a:pt x="1237" y="81"/>
                  </a:lnTo>
                  <a:lnTo>
                    <a:pt x="1292" y="82"/>
                  </a:lnTo>
                  <a:lnTo>
                    <a:pt x="1308" y="81"/>
                  </a:lnTo>
                  <a:lnTo>
                    <a:pt x="1319" y="81"/>
                  </a:lnTo>
                  <a:lnTo>
                    <a:pt x="1332" y="77"/>
                  </a:lnTo>
                  <a:lnTo>
                    <a:pt x="1360" y="80"/>
                  </a:lnTo>
                  <a:lnTo>
                    <a:pt x="1373" y="82"/>
                  </a:lnTo>
                  <a:lnTo>
                    <a:pt x="1382" y="80"/>
                  </a:lnTo>
                  <a:lnTo>
                    <a:pt x="1394" y="83"/>
                  </a:lnTo>
                  <a:lnTo>
                    <a:pt x="1416" y="78"/>
                  </a:lnTo>
                  <a:lnTo>
                    <a:pt x="1451" y="82"/>
                  </a:lnTo>
                  <a:lnTo>
                    <a:pt x="1485" y="76"/>
                  </a:lnTo>
                  <a:lnTo>
                    <a:pt x="1499" y="80"/>
                  </a:lnTo>
                  <a:lnTo>
                    <a:pt x="1514" y="80"/>
                  </a:lnTo>
                  <a:lnTo>
                    <a:pt x="1578" y="76"/>
                  </a:lnTo>
                  <a:lnTo>
                    <a:pt x="1639" y="80"/>
                  </a:lnTo>
                  <a:lnTo>
                    <a:pt x="1687" y="75"/>
                  </a:lnTo>
                  <a:lnTo>
                    <a:pt x="1703" y="72"/>
                  </a:lnTo>
                  <a:lnTo>
                    <a:pt x="1713" y="67"/>
                  </a:lnTo>
                  <a:lnTo>
                    <a:pt x="1721" y="58"/>
                  </a:lnTo>
                  <a:lnTo>
                    <a:pt x="1727" y="43"/>
                  </a:lnTo>
                  <a:lnTo>
                    <a:pt x="1732" y="23"/>
                  </a:lnTo>
                  <a:lnTo>
                    <a:pt x="1732" y="65"/>
                  </a:lnTo>
                  <a:lnTo>
                    <a:pt x="1732" y="75"/>
                  </a:lnTo>
                  <a:lnTo>
                    <a:pt x="1730" y="82"/>
                  </a:lnTo>
                  <a:lnTo>
                    <a:pt x="1725" y="91"/>
                  </a:lnTo>
                  <a:lnTo>
                    <a:pt x="1716" y="98"/>
                  </a:lnTo>
                  <a:lnTo>
                    <a:pt x="1652" y="102"/>
                  </a:lnTo>
                  <a:lnTo>
                    <a:pt x="1606" y="98"/>
                  </a:lnTo>
                  <a:lnTo>
                    <a:pt x="1583" y="100"/>
                  </a:lnTo>
                  <a:lnTo>
                    <a:pt x="1510" y="100"/>
                  </a:lnTo>
                  <a:lnTo>
                    <a:pt x="1488" y="100"/>
                  </a:lnTo>
                  <a:lnTo>
                    <a:pt x="1466" y="102"/>
                  </a:lnTo>
                  <a:lnTo>
                    <a:pt x="1443" y="99"/>
                  </a:lnTo>
                  <a:lnTo>
                    <a:pt x="1416" y="102"/>
                  </a:lnTo>
                  <a:lnTo>
                    <a:pt x="1346" y="100"/>
                  </a:lnTo>
                  <a:lnTo>
                    <a:pt x="1325" y="96"/>
                  </a:lnTo>
                  <a:lnTo>
                    <a:pt x="1260" y="100"/>
                  </a:lnTo>
                  <a:lnTo>
                    <a:pt x="1216" y="95"/>
                  </a:lnTo>
                  <a:lnTo>
                    <a:pt x="1165" y="100"/>
                  </a:lnTo>
                  <a:lnTo>
                    <a:pt x="1125" y="97"/>
                  </a:lnTo>
                  <a:lnTo>
                    <a:pt x="1088" y="100"/>
                  </a:lnTo>
                  <a:lnTo>
                    <a:pt x="1067" y="97"/>
                  </a:lnTo>
                  <a:lnTo>
                    <a:pt x="1048" y="98"/>
                  </a:lnTo>
                  <a:lnTo>
                    <a:pt x="1022" y="98"/>
                  </a:lnTo>
                  <a:lnTo>
                    <a:pt x="1006" y="95"/>
                  </a:lnTo>
                  <a:lnTo>
                    <a:pt x="987" y="100"/>
                  </a:lnTo>
                  <a:lnTo>
                    <a:pt x="967" y="95"/>
                  </a:lnTo>
                  <a:lnTo>
                    <a:pt x="947" y="96"/>
                  </a:lnTo>
                  <a:lnTo>
                    <a:pt x="923" y="98"/>
                  </a:lnTo>
                  <a:lnTo>
                    <a:pt x="901" y="100"/>
                  </a:lnTo>
                  <a:lnTo>
                    <a:pt x="875" y="100"/>
                  </a:lnTo>
                  <a:lnTo>
                    <a:pt x="839" y="100"/>
                  </a:lnTo>
                  <a:lnTo>
                    <a:pt x="813" y="100"/>
                  </a:lnTo>
                  <a:lnTo>
                    <a:pt x="791" y="98"/>
                  </a:lnTo>
                  <a:lnTo>
                    <a:pt x="769" y="98"/>
                  </a:lnTo>
                  <a:lnTo>
                    <a:pt x="720" y="102"/>
                  </a:lnTo>
                  <a:lnTo>
                    <a:pt x="681" y="97"/>
                  </a:lnTo>
                  <a:lnTo>
                    <a:pt x="638" y="102"/>
                  </a:lnTo>
                  <a:lnTo>
                    <a:pt x="603" y="98"/>
                  </a:lnTo>
                  <a:lnTo>
                    <a:pt x="563" y="102"/>
                  </a:lnTo>
                  <a:lnTo>
                    <a:pt x="531" y="98"/>
                  </a:lnTo>
                  <a:lnTo>
                    <a:pt x="496" y="98"/>
                  </a:lnTo>
                  <a:lnTo>
                    <a:pt x="463" y="100"/>
                  </a:lnTo>
                  <a:lnTo>
                    <a:pt x="435" y="100"/>
                  </a:lnTo>
                  <a:lnTo>
                    <a:pt x="351" y="100"/>
                  </a:lnTo>
                  <a:lnTo>
                    <a:pt x="326" y="100"/>
                  </a:lnTo>
                  <a:lnTo>
                    <a:pt x="254" y="98"/>
                  </a:lnTo>
                  <a:lnTo>
                    <a:pt x="208" y="100"/>
                  </a:lnTo>
                  <a:lnTo>
                    <a:pt x="84" y="97"/>
                  </a:lnTo>
                  <a:lnTo>
                    <a:pt x="15" y="98"/>
                  </a:lnTo>
                  <a:lnTo>
                    <a:pt x="3" y="90"/>
                  </a:lnTo>
                  <a:lnTo>
                    <a:pt x="0" y="78"/>
                  </a:lnTo>
                  <a:lnTo>
                    <a:pt x="0" y="65"/>
                  </a:lnTo>
                  <a:lnTo>
                    <a:pt x="0" y="5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8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8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DA7B-ADAA-44E0-AF53-73F8744978EB}" type="slidenum">
              <a:rPr b="0" lang="es-E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904760"/>
            <a:ext cx="78487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Times New Roman"/>
              </a:rPr>
              <a:t>Antecedentes históricos de la Comunidad Andina de Naciones –CAN- y el</a:t>
            </a:r>
            <a:br>
              <a:rPr sz="3200"/>
            </a:br>
            <a:r>
              <a:rPr b="1" lang="es-ES" sz="3200" spc="-1" strike="noStrike">
                <a:solidFill>
                  <a:srgbClr val="ffffcc"/>
                </a:solidFill>
                <a:latin typeface="Times New Roman"/>
              </a:rPr>
              <a:t>Convenio Andrés Bello</a:t>
            </a:r>
            <a:endParaRPr b="0" lang="en-US" sz="3200" spc="-1" strike="noStrike">
              <a:solidFill>
                <a:srgbClr val="ffffcc"/>
              </a:solidFill>
              <a:latin typeface="Times New Roman"/>
            </a:endParaRPr>
          </a:p>
        </p:txBody>
      </p:sp>
      <p:sp>
        <p:nvSpPr>
          <p:cNvPr id="123" name="PlaceHolder 2"/>
          <p:cNvSpPr>
            <a:spLocks noGrp="1"/>
          </p:cNvSpPr>
          <p:nvPr>
            <p:ph type="subTitle"/>
          </p:nvPr>
        </p:nvSpPr>
        <p:spPr>
          <a:xfrm>
            <a:off x="1371600" y="4647960"/>
            <a:ext cx="6400800" cy="99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Iris Vittini</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Profesora Jean Monnet</a:t>
            </a:r>
            <a:endParaRPr b="0" lang="en-US" sz="3200" spc="-1" strike="noStrike">
              <a:solidFill>
                <a:srgbClr val="ffffcc"/>
              </a:solidFill>
              <a:latin typeface="Times New Roman"/>
            </a:endParaRPr>
          </a:p>
        </p:txBody>
      </p:sp>
      <p:sp>
        <p:nvSpPr>
          <p:cNvPr id="4" name="PlaceHolder 3"/>
          <p:cNvSpPr>
            <a:spLocks noGrp="1"/>
          </p:cNvSpPr>
          <p:nvPr>
            <p:ph type="sldNum" idx="6"/>
          </p:nvPr>
        </p:nvSpPr>
        <p:spPr/>
        <p:txBody>
          <a:bodyPr/>
          <a:p>
            <a:fld id="{77489A2A-980F-4929-B4C7-CCEB010002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4640" y="685440"/>
            <a:ext cx="8885160" cy="1359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Times New Roman"/>
              </a:rPr>
              <a:t>II.- Antecedentes históricos del Convenio Andrés Bello</a:t>
            </a:r>
            <a:endParaRPr b="0" lang="en-US" sz="4000" spc="-1" strike="noStrike">
              <a:solidFill>
                <a:srgbClr val="ffffcc"/>
              </a:solidFill>
              <a:latin typeface="Times New Roman"/>
            </a:endParaRPr>
          </a:p>
        </p:txBody>
      </p:sp>
      <p:sp>
        <p:nvSpPr>
          <p:cNvPr id="135"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1.- </a:t>
            </a:r>
            <a:r>
              <a:rPr b="1" lang="es-ES" sz="2000" spc="-1" strike="noStrike" u="sng">
                <a:solidFill>
                  <a:srgbClr val="ffffcc"/>
                </a:solidFill>
                <a:uFillTx/>
                <a:latin typeface="Times New Roman"/>
              </a:rPr>
              <a:t>VI REUNIÓN DEL CONSEJO INTERAMERICANO CULTURAL</a:t>
            </a:r>
            <a:r>
              <a:rPr b="1" lang="es-ES" sz="2000" spc="-1" strike="noStrike">
                <a:solidFill>
                  <a:srgbClr val="ffffcc"/>
                </a:solidFill>
                <a:latin typeface="Times New Roman"/>
              </a:rPr>
              <a:t>: </a:t>
            </a:r>
            <a:r>
              <a:rPr b="0" lang="es-ES" sz="2000" spc="-1" strike="noStrike">
                <a:solidFill>
                  <a:srgbClr val="ffffcc"/>
                </a:solidFill>
                <a:latin typeface="Times New Roman"/>
              </a:rPr>
              <a:t>El Ministro de Educación de Colombia, Octavio Arizmendi Posada, presentó la idea como un compromiso multilateral, 1969.</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2.- </a:t>
            </a:r>
            <a:r>
              <a:rPr b="1" lang="es-ES" sz="2000" spc="-1" strike="noStrike" u="sng">
                <a:solidFill>
                  <a:srgbClr val="ffffcc"/>
                </a:solidFill>
                <a:uFillTx/>
                <a:latin typeface="Times New Roman"/>
              </a:rPr>
              <a:t>DECLARACIÓN DE PUERTO ESPAÑA</a:t>
            </a:r>
            <a:r>
              <a:rPr b="1" lang="es-ES" sz="2000" spc="-1" strike="noStrike">
                <a:solidFill>
                  <a:srgbClr val="ffffcc"/>
                </a:solidFill>
                <a:latin typeface="Times New Roman"/>
              </a:rPr>
              <a:t>: </a:t>
            </a:r>
            <a:r>
              <a:rPr b="0" lang="es-ES" sz="2000" spc="-1" strike="noStrike">
                <a:solidFill>
                  <a:srgbClr val="ffffcc"/>
                </a:solidFill>
                <a:latin typeface="Times New Roman"/>
              </a:rPr>
              <a:t>Puerto España, Trinidad y Tobago,</a:t>
            </a:r>
            <a:r>
              <a:rPr b="1" lang="es-ES" sz="2000" spc="-1" strike="noStrike">
                <a:solidFill>
                  <a:srgbClr val="ffffcc"/>
                </a:solidFill>
                <a:latin typeface="Times New Roman"/>
              </a:rPr>
              <a:t> </a:t>
            </a:r>
            <a:r>
              <a:rPr b="0" lang="es-ES" sz="2000" spc="-1" strike="noStrike">
                <a:solidFill>
                  <a:srgbClr val="ffffcc"/>
                </a:solidFill>
                <a:latin typeface="Times New Roman"/>
              </a:rPr>
              <a:t>30 de junio de 1969, acto en el que  se consolida la idea del Convenio Andrés Bello. Se suscribió el 31 de enero de 1970 y comenzó a regir el 24 de noviembre de ese año.</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     </a:t>
            </a:r>
            <a:r>
              <a:rPr b="1" lang="es-ES" sz="2000" spc="-1" strike="noStrike">
                <a:solidFill>
                  <a:srgbClr val="ffffcc"/>
                </a:solidFill>
                <a:latin typeface="Times New Roman"/>
              </a:rPr>
              <a:t>Países fundadores:</a:t>
            </a:r>
            <a:r>
              <a:rPr b="0" lang="es-ES" sz="2000" spc="-1" strike="noStrike">
                <a:solidFill>
                  <a:srgbClr val="ffffcc"/>
                </a:solidFill>
                <a:latin typeface="Times New Roman"/>
              </a:rPr>
              <a:t>   Bolivia, Chile, Colombia, Ecuador, Perú y Venezuela.</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     </a:t>
            </a:r>
            <a:r>
              <a:rPr b="1" lang="es-ES" sz="2000" spc="-1" strike="noStrike">
                <a:solidFill>
                  <a:srgbClr val="ffffcc"/>
                </a:solidFill>
                <a:latin typeface="Times New Roman"/>
              </a:rPr>
              <a:t>Nombre: </a:t>
            </a:r>
            <a:r>
              <a:rPr b="0" lang="es-ES" sz="2000" spc="-1" strike="noStrike">
                <a:solidFill>
                  <a:srgbClr val="ffffcc"/>
                </a:solidFill>
                <a:latin typeface="Times New Roman"/>
              </a:rPr>
              <a:t> “Organización del Convenio Andrés Bello de Integración educativa, científica, tecnológica y cultural”. En reconocimiento al insigne humanista americano.                                               </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     </a:t>
            </a:r>
            <a:r>
              <a:rPr b="1" lang="es-ES" sz="2000" spc="-1" strike="noStrike">
                <a:solidFill>
                  <a:srgbClr val="ffffcc"/>
                </a:solidFill>
                <a:latin typeface="Times New Roman"/>
              </a:rPr>
              <a:t>Países miembros: </a:t>
            </a:r>
            <a:r>
              <a:rPr b="0" lang="es-ES" sz="2000" spc="-1" strike="noStrike">
                <a:solidFill>
                  <a:srgbClr val="ffffcc"/>
                </a:solidFill>
                <a:latin typeface="Times New Roman"/>
              </a:rPr>
              <a:t>(Argentina), Bolivia, Colombia, Cuba, Chile, Ecuador, España, México, Panamá, Paraguay, Perú, República Dominicana y Venezuela.</a:t>
            </a:r>
            <a:endParaRPr b="0" lang="en-US" sz="2000" spc="-1" strike="noStrike">
              <a:solidFill>
                <a:srgbClr val="ffffcc"/>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4" name="PlaceHolder 3"/>
          <p:cNvSpPr>
            <a:spLocks noGrp="1"/>
          </p:cNvSpPr>
          <p:nvPr>
            <p:ph type="sldNum" idx="3"/>
          </p:nvPr>
        </p:nvSpPr>
        <p:spPr/>
        <p:txBody>
          <a:bodyPr/>
          <a:p>
            <a:fld id="{692A95DA-29DE-4E84-8C7D-7EC1F8C7FE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6" name=""/>
          <p:cNvSpPr/>
          <p:nvPr/>
        </p:nvSpPr>
        <p:spPr>
          <a:xfrm>
            <a:off x="457200" y="228600"/>
            <a:ext cx="8305920" cy="58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Objetivos: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1.- </a:t>
            </a:r>
            <a:r>
              <a:rPr b="0" lang="es-ES" sz="2000" spc="-1" strike="noStrike">
                <a:solidFill>
                  <a:srgbClr val="ffffcc"/>
                </a:solidFill>
                <a:latin typeface="Times New Roman"/>
              </a:rPr>
              <a:t>Estimular el conocimiento recíproco y la fraternidad entre los países miembro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2.-</a:t>
            </a:r>
            <a:r>
              <a:rPr b="0" lang="es-ES" sz="2000" spc="-1" strike="noStrike">
                <a:solidFill>
                  <a:srgbClr val="ffffcc"/>
                </a:solidFill>
                <a:latin typeface="Times New Roman"/>
              </a:rPr>
              <a:t> Contribuir al logro de un adecuado equilibrio en el proceso de desarrollo educativo, científico, tecnológico y cultural.</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1" lang="es-ES" sz="2000" spc="-1" strike="noStrike">
                <a:solidFill>
                  <a:srgbClr val="ffffcc"/>
                </a:solidFill>
                <a:latin typeface="Times New Roman"/>
              </a:rPr>
              <a:t>3.-</a:t>
            </a:r>
            <a:r>
              <a:rPr b="0" lang="es-ES" sz="2000" spc="-1" strike="noStrike">
                <a:solidFill>
                  <a:srgbClr val="ffffcc"/>
                </a:solidFill>
                <a:latin typeface="Times New Roman"/>
              </a:rPr>
              <a:t> Realizar esfuerzos conjuntos a favor de la educación, la ciencia,</a:t>
            </a:r>
            <a:r>
              <a:rPr b="0" lang="es-ES_tradnl" sz="2000" spc="-1" strike="noStrike">
                <a:solidFill>
                  <a:srgbClr val="ffffcc"/>
                </a:solidFill>
                <a:latin typeface="Times New Roman"/>
              </a:rPr>
              <a:t> la tecnología, y la cultura para lograr el desarrollo integral de sus nacione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4.-</a:t>
            </a:r>
            <a:r>
              <a:rPr b="0" lang="es-ES_tradnl" sz="2000" spc="-1" strike="noStrike">
                <a:solidFill>
                  <a:srgbClr val="ffffcc"/>
                </a:solidFill>
                <a:latin typeface="Times New Roman"/>
              </a:rPr>
              <a:t> Aplicar la ciencia y la tecnología a la elevación del nivel de vida de sus pueblos, según Resolución Nº 05/90 (Art. 2).</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Adhesiones:</a:t>
            </a:r>
            <a:r>
              <a:rPr b="0" lang="es-ES" sz="2000" spc="-1" strike="noStrike">
                <a:solidFill>
                  <a:srgbClr val="ffffcc"/>
                </a:solidFill>
                <a:latin typeface="Times New Roman"/>
              </a:rPr>
              <a:t>   Panamá en 1980; España en 1982 suscribe un Protocolo de Adhesión, ingresando como miembro pleno en 1990; Cuba adhiere en 2001; y México adhiere en 2004.</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2" name="PlaceHolder 1"/>
          <p:cNvSpPr>
            <a:spLocks noGrp="1"/>
          </p:cNvSpPr>
          <p:nvPr>
            <p:ph type="sldNum" idx="3"/>
          </p:nvPr>
        </p:nvSpPr>
        <p:spPr/>
        <p:txBody>
          <a:bodyPr/>
          <a:p>
            <a:fld id="{68C5A76C-FDAA-4FFC-BB64-75FC9DDCB2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533160"/>
            <a:ext cx="7772400" cy="5562360"/>
          </a:xfrm>
          <a:prstGeom prst="rect">
            <a:avLst/>
          </a:prstGeom>
          <a:noFill/>
          <a:ln w="0">
            <a:noFill/>
          </a:ln>
        </p:spPr>
        <p:txBody>
          <a:bodyPr lIns="92160" rIns="92160" tIns="46080" bIns="46080" anchor="t">
            <a:normAutofit fontScale="94000"/>
          </a:bodyPr>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3. </a:t>
            </a:r>
            <a:r>
              <a:rPr b="1" lang="es-ES_tradnl" sz="2000" spc="-1" strike="noStrike" u="sng">
                <a:solidFill>
                  <a:srgbClr val="ffffcc"/>
                </a:solidFill>
                <a:uFillTx/>
                <a:latin typeface="Times New Roman"/>
              </a:rPr>
              <a:t>MARCO DOCTRINARIO DEL C.A.B</a:t>
            </a:r>
            <a:r>
              <a:rPr b="1" lang="es-ES_tradnl" sz="2000" spc="-1" strike="noStrike">
                <a:solidFill>
                  <a:srgbClr val="ffffcc"/>
                </a:solidFill>
                <a:latin typeface="Times New Roman"/>
              </a:rPr>
              <a:t>.:</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3.1.- </a:t>
            </a:r>
            <a:r>
              <a:rPr b="1" lang="es-ES_tradnl" sz="2000" spc="-1" strike="noStrike" u="sng">
                <a:solidFill>
                  <a:srgbClr val="ffffcc"/>
                </a:solidFill>
                <a:uFillTx/>
                <a:latin typeface="Times New Roman"/>
              </a:rPr>
              <a:t>DECLARACIÓN DE LIMA</a:t>
            </a:r>
            <a:r>
              <a:rPr b="1" lang="es-ES_tradnl" sz="2000" spc="-1" strike="noStrike">
                <a:solidFill>
                  <a:srgbClr val="ffffcc"/>
                </a:solidFill>
                <a:latin typeface="Times New Roman"/>
              </a:rPr>
              <a:t>: </a:t>
            </a:r>
            <a:r>
              <a:rPr b="0" lang="es-ES_tradnl" sz="2000" spc="-1" strike="noStrike">
                <a:solidFill>
                  <a:srgbClr val="ffffcc"/>
                </a:solidFill>
                <a:latin typeface="Times New Roman"/>
              </a:rPr>
              <a:t>Fue realizada en Lima el 05 Febrero 1971.</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      </a:t>
            </a:r>
            <a:r>
              <a:rPr b="1" lang="es-ES" sz="2000" spc="-1" strike="noStrike">
                <a:solidFill>
                  <a:srgbClr val="ffffcc"/>
                </a:solidFill>
                <a:latin typeface="Times New Roman"/>
              </a:rPr>
              <a:t>Objetivos:</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0" lang="es-ES" sz="2000" spc="-1" strike="noStrike">
                <a:solidFill>
                  <a:srgbClr val="ffffcc"/>
                </a:solidFill>
                <a:latin typeface="Times New Roman"/>
              </a:rPr>
              <a:t>1.- Estableció “</a:t>
            </a:r>
            <a:r>
              <a:rPr b="0" i="1" lang="es-ES" sz="2000" spc="-1" strike="noStrike">
                <a:solidFill>
                  <a:srgbClr val="ffffcc"/>
                </a:solidFill>
                <a:latin typeface="Times New Roman"/>
              </a:rPr>
              <a:t>El Planteamiento Doctrinario Común Sobre Política Cultural, Educacional y Tecnológica de los países signatarios del Convenio Andrés Bello.”</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0" i="1" lang="es-ES" sz="2000" spc="-1" strike="noStrike" u="sng">
                <a:solidFill>
                  <a:srgbClr val="ffffcc"/>
                </a:solidFill>
                <a:uFillTx/>
                <a:latin typeface="Times New Roman"/>
              </a:rPr>
              <a:t>Considerando 1º instauró la filosofía del CAB</a:t>
            </a:r>
            <a:r>
              <a:rPr b="0" lang="es-ES" sz="2000" spc="-1" strike="noStrike">
                <a:solidFill>
                  <a:srgbClr val="ffffcc"/>
                </a:solidFill>
                <a:latin typeface="Times New Roman"/>
              </a:rPr>
              <a:t> “</a:t>
            </a:r>
            <a:r>
              <a:rPr b="0" i="1" lang="es-ES" sz="2000" spc="-1" strike="noStrike">
                <a:solidFill>
                  <a:srgbClr val="ffffcc"/>
                </a:solidFill>
                <a:latin typeface="Times New Roman"/>
              </a:rPr>
              <a:t>la conquista y la afirmación de la independencia cultural de los países de la región y la integración de los pueblos para lograr su bienestar material y espiritual”.</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0" lang="es-ES" sz="2000" spc="-1" strike="noStrike">
                <a:solidFill>
                  <a:srgbClr val="ffffcc"/>
                </a:solidFill>
                <a:latin typeface="Times New Roman"/>
              </a:rPr>
              <a:t>2.- En la educación su objetivos es enfatizar la importancia de la formulación de políticas educativas como parte de un proceso de transformación integral de las estructuras socioeconómicas que tengan como finalidad la participación activa de la población  y la eliminación de estructuras de poder que coarten el desarrollo y la libertad individual.</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3" name="PlaceHolder 2"/>
          <p:cNvSpPr>
            <a:spLocks noGrp="1"/>
          </p:cNvSpPr>
          <p:nvPr>
            <p:ph type="sldNum" idx="3"/>
          </p:nvPr>
        </p:nvSpPr>
        <p:spPr/>
        <p:txBody>
          <a:bodyPr/>
          <a:p>
            <a:fld id="{5E773DBF-7887-4D7E-935A-F74827AA94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09480" y="457200"/>
            <a:ext cx="7772400" cy="5410080"/>
          </a:xfrm>
          <a:prstGeom prst="rect">
            <a:avLst/>
          </a:prstGeom>
          <a:noFill/>
          <a:ln w="0">
            <a:noFill/>
          </a:ln>
        </p:spPr>
        <p:txBody>
          <a:bodyPr lIns="92160" rIns="92160" tIns="46080" bIns="46080" anchor="t">
            <a:normAutofit fontScale="77000"/>
          </a:bodyPr>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3.- En la cultura, establece como prioridad el fomento de la capacidad creadora de la población y la importancia en este proceso de la cooperación nacional como regional, idea que sigue siendo una aspiración.</a:t>
            </a: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4.-</a:t>
            </a:r>
            <a:r>
              <a:rPr b="1" lang="es-ES_tradnl" sz="2000" spc="-1" strike="noStrike">
                <a:solidFill>
                  <a:srgbClr val="ffffcc"/>
                </a:solidFill>
                <a:latin typeface="Times New Roman"/>
              </a:rPr>
              <a:t> </a:t>
            </a:r>
            <a:r>
              <a:rPr b="0" lang="es-ES_tradnl" sz="2000" spc="-1" strike="noStrike">
                <a:solidFill>
                  <a:srgbClr val="ffffcc"/>
                </a:solidFill>
                <a:latin typeface="Times New Roman"/>
              </a:rPr>
              <a:t>En materia de ciencia y tecnología se  propone que la orientación de las políticas respectivas a estas áreas sean instrumentos a disposición del desarrollo económico, social y cultural de los países</a:t>
            </a: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5.- Su principal objetivo fue enfatizar la importancia del desarrollo humano, concepto que se ha mantenido, vigente hasta ahora.</a:t>
            </a: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3.2.- </a:t>
            </a:r>
            <a:r>
              <a:rPr b="1" lang="es-ES_tradnl" sz="2000" spc="-1" strike="noStrike" u="sng">
                <a:solidFill>
                  <a:srgbClr val="ffffcc"/>
                </a:solidFill>
                <a:uFillTx/>
                <a:latin typeface="Times New Roman"/>
              </a:rPr>
              <a:t>CONSENSO DE CARACAS</a:t>
            </a:r>
            <a:r>
              <a:rPr b="1" lang="es-ES_tradnl" sz="2000" spc="-1" strike="noStrike">
                <a:solidFill>
                  <a:srgbClr val="ffffcc"/>
                </a:solidFill>
                <a:latin typeface="Times New Roman"/>
              </a:rPr>
              <a:t>:</a:t>
            </a:r>
            <a:r>
              <a:rPr b="0" lang="es-ES_tradnl" sz="2000" spc="-1" strike="noStrike">
                <a:solidFill>
                  <a:srgbClr val="ffffcc"/>
                </a:solidFill>
                <a:latin typeface="Times New Roman"/>
              </a:rPr>
              <a:t> Fue realizado en Caracas en 1973.</a:t>
            </a: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Objetivos:</a:t>
            </a:r>
            <a:endParaRPr b="0" lang="en-US" sz="2000" spc="-1" strike="noStrike">
              <a:solidFill>
                <a:srgbClr val="ffffcc"/>
              </a:solidFill>
              <a:latin typeface="Times New Roman"/>
            </a:endParaRPr>
          </a:p>
          <a:p>
            <a:pPr marL="26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1.-</a:t>
            </a:r>
            <a:r>
              <a:rPr b="0" lang="es-ES_tradnl" sz="2000" spc="-1" strike="noStrike">
                <a:solidFill>
                  <a:srgbClr val="ffffcc"/>
                </a:solidFill>
                <a:latin typeface="Times New Roman"/>
              </a:rPr>
              <a:t> Este se refirió a la “</a:t>
            </a:r>
            <a:r>
              <a:rPr b="0" i="1" lang="es-ES_tradnl" sz="2000" spc="-1" strike="noStrike">
                <a:solidFill>
                  <a:srgbClr val="ffffcc"/>
                </a:solidFill>
                <a:latin typeface="Times New Roman"/>
              </a:rPr>
              <a:t>Política Educacional del Área </a:t>
            </a:r>
            <a:r>
              <a:rPr b="0" lang="es-ES_tradnl" sz="2000" spc="-1" strike="noStrike">
                <a:solidFill>
                  <a:srgbClr val="ffffcc"/>
                </a:solidFill>
                <a:latin typeface="Times New Roman"/>
              </a:rPr>
              <a:t>Andina”, </a:t>
            </a:r>
            <a:r>
              <a:rPr b="0" lang="es-ES_tradnl" sz="2000" spc="-1" strike="noStrike" u="sng">
                <a:solidFill>
                  <a:srgbClr val="ffffcc"/>
                </a:solidFill>
                <a:uFillTx/>
                <a:latin typeface="Times New Roman"/>
              </a:rPr>
              <a:t>enfatizando el concepto de “</a:t>
            </a:r>
            <a:r>
              <a:rPr b="0" i="1" lang="es-ES_tradnl" sz="2000" spc="-1" strike="noStrike" u="sng">
                <a:solidFill>
                  <a:srgbClr val="ffffcc"/>
                </a:solidFill>
                <a:uFillTx/>
                <a:latin typeface="Times New Roman"/>
              </a:rPr>
              <a:t>Aprender a Ser</a:t>
            </a:r>
            <a:r>
              <a:rPr b="0" lang="es-ES_tradnl" sz="2000" spc="-1" strike="noStrike" u="sng">
                <a:solidFill>
                  <a:srgbClr val="ffffcc"/>
                </a:solidFill>
                <a:uFillTx/>
                <a:latin typeface="Times New Roman"/>
              </a:rPr>
              <a:t>” de</a:t>
            </a:r>
            <a:r>
              <a:rPr b="0" lang="es-ES_tradnl" sz="2000" spc="-1" strike="noStrike">
                <a:solidFill>
                  <a:srgbClr val="ffffcc"/>
                </a:solidFill>
                <a:latin typeface="Times New Roman"/>
              </a:rPr>
              <a:t> </a:t>
            </a:r>
            <a:r>
              <a:rPr b="0" lang="es-ES_tradnl" sz="2000" spc="-1" strike="noStrike" u="sng">
                <a:solidFill>
                  <a:srgbClr val="ffffcc"/>
                </a:solidFill>
                <a:uFillTx/>
                <a:latin typeface="Times New Roman"/>
              </a:rPr>
              <a:t>Naciones Unidas</a:t>
            </a:r>
            <a:r>
              <a:rPr b="0" lang="es-ES_tradnl" sz="2000" spc="-1" strike="noStrike">
                <a:solidFill>
                  <a:srgbClr val="ffffcc"/>
                </a:solidFill>
                <a:latin typeface="Times New Roman"/>
              </a:rPr>
              <a:t>.</a:t>
            </a:r>
            <a:endParaRPr b="0" lang="en-US" sz="2000" spc="-1" strike="noStrike">
              <a:solidFill>
                <a:srgbClr val="ffffcc"/>
              </a:solidFill>
              <a:latin typeface="Times New Roman"/>
            </a:endParaRPr>
          </a:p>
          <a:p>
            <a:pPr marL="26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ste supone </a:t>
            </a:r>
            <a:r>
              <a:rPr b="0" i="1" lang="es-ES_tradnl" sz="2000" spc="-1" strike="noStrike">
                <a:solidFill>
                  <a:srgbClr val="ffffcc"/>
                </a:solidFill>
                <a:latin typeface="Times New Roman"/>
              </a:rPr>
              <a:t>un desarrollo correlativo de la capacidad  crítica y creativa, conceptos plenamente vigentes en las reformas educativas implementadas por los países latinoamericanos.</a:t>
            </a: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Times New Roman"/>
              </a:rPr>
              <a:t>                                          </a:t>
            </a: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F4E9D7A8-5A19-45F9-B8AF-04A157AD40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9" name=""/>
          <p:cNvSpPr/>
          <p:nvPr/>
        </p:nvSpPr>
        <p:spPr>
          <a:xfrm>
            <a:off x="380880" y="762120"/>
            <a:ext cx="8169480" cy="6037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Posteriormente, </a:t>
            </a:r>
            <a:r>
              <a:rPr b="0" lang="es-ES" sz="2000" spc="-1" strike="noStrike">
                <a:solidFill>
                  <a:srgbClr val="ffffcc"/>
                </a:solidFill>
                <a:latin typeface="Times New Roman"/>
                <a:ea typeface="Times New Roman"/>
              </a:rPr>
              <a:t>casi 20 años después, con la </a:t>
            </a:r>
            <a:r>
              <a:rPr b="1" lang="es-ES" sz="2000" spc="-1" strike="noStrike" u="sng">
                <a:solidFill>
                  <a:srgbClr val="ffffcc"/>
                </a:solidFill>
                <a:uFillTx/>
                <a:latin typeface="Times New Roman"/>
                <a:ea typeface="Times New Roman"/>
              </a:rPr>
              <a:t>Resolución 12/95</a:t>
            </a:r>
            <a:r>
              <a:rPr b="0" lang="es-ES" sz="2000" spc="-1" strike="noStrike">
                <a:solidFill>
                  <a:srgbClr val="ffffcc"/>
                </a:solidFill>
                <a:latin typeface="Times New Roman"/>
                <a:ea typeface="Times New Roman"/>
              </a:rPr>
              <a:t>, se acordó: “Encomendar al Convenio Andrés Bello para proponer un programa conjunto con las  organizaciones de Naciones Unidas, UNESCO, UNICEF y FAO, que permita promover y realizar acciones para que los niños reciban educación, alimentación y salud en los establecimientos escolares.........” (Art. 2º)</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 Se plantea la necesidad de </a:t>
            </a:r>
            <a:r>
              <a:rPr b="0" lang="es-ES_tradnl" sz="2000" spc="-1" strike="noStrike" u="sng">
                <a:solidFill>
                  <a:srgbClr val="ffffcc"/>
                </a:solidFill>
                <a:uFillTx/>
                <a:latin typeface="Times New Roman"/>
              </a:rPr>
              <a:t>dar un “</a:t>
            </a:r>
            <a:r>
              <a:rPr b="0" i="1" lang="es-ES_tradnl" sz="2000" spc="-1" strike="noStrike" u="sng">
                <a:solidFill>
                  <a:srgbClr val="ffffcc"/>
                </a:solidFill>
                <a:uFillTx/>
                <a:latin typeface="Times New Roman"/>
              </a:rPr>
              <a:t>carácter social</a:t>
            </a:r>
            <a:r>
              <a:rPr b="0" lang="es-ES_tradnl" sz="2000" spc="-1" strike="noStrike" u="sng">
                <a:solidFill>
                  <a:srgbClr val="ffffcc"/>
                </a:solidFill>
                <a:uFillTx/>
                <a:latin typeface="Times New Roman"/>
              </a:rPr>
              <a:t>”</a:t>
            </a:r>
            <a:r>
              <a:rPr b="0" lang="es-ES_tradnl" sz="2000" spc="-1" strike="noStrike">
                <a:solidFill>
                  <a:srgbClr val="ffffcc"/>
                </a:solidFill>
                <a:latin typeface="Times New Roman"/>
              </a:rPr>
              <a:t> al proceso educativo, en el sentido de que es la sociedad en su conjunto la que debe involucrarse en éste, como una manera de expandir las posibilidades de desarrollo de los educandos.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3.- </a:t>
            </a:r>
            <a:r>
              <a:rPr b="0" lang="es-ES_tradnl" sz="2000" spc="-1" strike="noStrike">
                <a:solidFill>
                  <a:srgbClr val="ffffcc"/>
                </a:solidFill>
                <a:latin typeface="Times New Roman"/>
                <a:ea typeface="Times New Roman"/>
              </a:rPr>
              <a:t>Se instaura el concepto de  “</a:t>
            </a:r>
            <a:r>
              <a:rPr b="0" i="1" lang="es-ES_tradnl" sz="2000" spc="-1" strike="noStrike" u="sng">
                <a:solidFill>
                  <a:srgbClr val="ffffcc"/>
                </a:solidFill>
                <a:uFillTx/>
                <a:latin typeface="Times New Roman"/>
                <a:ea typeface="Times New Roman"/>
              </a:rPr>
              <a:t>Educación Permanente</a:t>
            </a:r>
            <a:r>
              <a:rPr b="0" lang="es-ES_tradnl" sz="2000" spc="-1" strike="noStrike">
                <a:solidFill>
                  <a:srgbClr val="ffffcc"/>
                </a:solidFill>
                <a:latin typeface="Times New Roman"/>
                <a:ea typeface="Times New Roman"/>
              </a:rPr>
              <a:t>”, lo cual significa que no es escuela tradicionalmente concebida, el único y aislado lugar en que el hombre debe y puede educarse, sino que han de proporcionársele nuevas y diversificadas posibilidades educativas, de manera que la sociedad en su conjunto sea una gran escuela durante toda la vida del ser humano.”</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                                            </a:t>
            </a:r>
            <a:endParaRPr b="0" lang="en-US" sz="1600" spc="-1" strike="noStrike">
              <a:solidFill>
                <a:srgbClr val="ffffcc"/>
              </a:solidFill>
              <a:latin typeface="Times New Roman"/>
            </a:endParaRPr>
          </a:p>
        </p:txBody>
      </p:sp>
      <p:sp>
        <p:nvSpPr>
          <p:cNvPr id="2" name="PlaceHolder 1"/>
          <p:cNvSpPr>
            <a:spLocks noGrp="1"/>
          </p:cNvSpPr>
          <p:nvPr>
            <p:ph type="sldNum" idx="3"/>
          </p:nvPr>
        </p:nvSpPr>
        <p:spPr/>
        <p:txBody>
          <a:bodyPr/>
          <a:p>
            <a:fld id="{DB65FFA0-52CD-4940-A487-A9C71F86FE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304920"/>
            <a:ext cx="7772400" cy="403848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  </a:t>
            </a:r>
            <a:endParaRPr b="0" lang="en-US" sz="1800" spc="-1" strike="noStrike">
              <a:solidFill>
                <a:srgbClr val="ffffcc"/>
              </a:solidFill>
              <a:latin typeface="Times New Roman"/>
            </a:endParaRPr>
          </a:p>
        </p:txBody>
      </p:sp>
      <p:sp>
        <p:nvSpPr>
          <p:cNvPr id="141" name=""/>
          <p:cNvSpPr/>
          <p:nvPr/>
        </p:nvSpPr>
        <p:spPr>
          <a:xfrm>
            <a:off x="228600" y="762120"/>
            <a:ext cx="8686800" cy="6084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3.3.- </a:t>
            </a:r>
            <a:r>
              <a:rPr b="1" lang="es-ES_tradnl" sz="2000" spc="-1" strike="noStrike" u="sng">
                <a:solidFill>
                  <a:srgbClr val="ffffcc"/>
                </a:solidFill>
                <a:uFillTx/>
                <a:latin typeface="Times New Roman"/>
              </a:rPr>
              <a:t>DECLARACIÓN DE BOGOTÁ</a:t>
            </a:r>
            <a:r>
              <a:rPr b="1" lang="es-ES_tradnl" sz="2000" spc="-1" strike="noStrike">
                <a:solidFill>
                  <a:srgbClr val="ffffcc"/>
                </a:solidFill>
                <a:latin typeface="Times New Roman"/>
              </a:rPr>
              <a:t>: </a:t>
            </a:r>
            <a:r>
              <a:rPr b="0" lang="es-ES_tradnl" sz="2000" spc="-1" strike="noStrike">
                <a:solidFill>
                  <a:srgbClr val="ffffcc"/>
                </a:solidFill>
                <a:latin typeface="Times New Roman"/>
              </a:rPr>
              <a:t>Se realizó en Bogotá en 1976.</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Objetivos:</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 Fijaron las “</a:t>
            </a:r>
            <a:r>
              <a:rPr b="0" i="1" lang="es-ES_tradnl" sz="2000" spc="-1" strike="noStrike" u="sng">
                <a:solidFill>
                  <a:srgbClr val="ffffcc"/>
                </a:solidFill>
                <a:uFillTx/>
                <a:latin typeface="Times New Roman"/>
              </a:rPr>
              <a:t>Orientaciones generales para el desarrollo de acciones prioritarias del Convenio que sirve de marco de referencia para el cumplimiento de sus tareas</a:t>
            </a:r>
            <a:r>
              <a:rPr b="0" lang="es-ES_tradnl" sz="2000" spc="-1" strike="noStrike">
                <a:solidFill>
                  <a:srgbClr val="ffffcc"/>
                </a:solidFill>
                <a:latin typeface="Times New Roman"/>
              </a:rPr>
              <a:t>.”</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n dicho documento se ratificó el concepto de “</a:t>
            </a:r>
            <a:r>
              <a:rPr b="0" i="1" lang="es-ES_tradnl" sz="2000" spc="-1" strike="noStrike">
                <a:solidFill>
                  <a:srgbClr val="ffffcc"/>
                </a:solidFill>
                <a:latin typeface="Times New Roman"/>
              </a:rPr>
              <a:t>Educación Permanente</a:t>
            </a:r>
            <a:r>
              <a:rPr b="0" lang="es-ES_tradnl" sz="2000" spc="-1" strike="noStrike">
                <a:solidFill>
                  <a:srgbClr val="ffffcc"/>
                </a:solidFill>
                <a:latin typeface="Times New Roman"/>
              </a:rPr>
              <a:t>”en las áreas del CAB y, por primera vez, se hace referencia a la juventud, en el sentido que las políticas y el accionar del CAB deben dirigirse fundamentalmente hacia la población joven de la región con el fin de despertar en esas mentes los valores e ideales indispensables para el logro de la meta integracionista.”</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 Se plantea la necesidad de seguir “</a:t>
            </a:r>
            <a:r>
              <a:rPr b="0" lang="es-ES_tradnl" sz="2000" spc="-1" strike="noStrike" u="sng">
                <a:solidFill>
                  <a:srgbClr val="ffffcc"/>
                </a:solidFill>
                <a:uFillTx/>
                <a:latin typeface="Times New Roman"/>
              </a:rPr>
              <a:t>el desarrollo de la educación preescolar con criterio de atención intersectorial</a:t>
            </a:r>
            <a:r>
              <a:rPr b="0" lang="es-ES_tradnl" sz="2000" spc="-1" strike="noStrike">
                <a:solidFill>
                  <a:srgbClr val="ffffcc"/>
                </a:solidFill>
                <a:latin typeface="Times New Roman"/>
              </a:rPr>
              <a:t> considerando aspectos de salud y nutrición, garantizando de manera el principio de igualdad de oportunidades......”</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 name="PlaceHolder 2"/>
          <p:cNvSpPr>
            <a:spLocks noGrp="1"/>
          </p:cNvSpPr>
          <p:nvPr>
            <p:ph type="sldNum" idx="3"/>
          </p:nvPr>
        </p:nvSpPr>
        <p:spPr/>
        <p:txBody>
          <a:bodyPr/>
          <a:p>
            <a:fld id="{6ED499A1-C6DF-4EC5-BC12-0B8343AA71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380520"/>
            <a:ext cx="8229600" cy="57150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3.- En la </a:t>
            </a:r>
            <a:r>
              <a:rPr b="0" i="1" lang="es-ES" sz="2000" spc="-1" strike="noStrike" u="sng">
                <a:solidFill>
                  <a:srgbClr val="ffffcc"/>
                </a:solidFill>
                <a:uFillTx/>
                <a:latin typeface="Times New Roman"/>
              </a:rPr>
              <a:t>cultura</a:t>
            </a:r>
            <a:r>
              <a:rPr b="0" lang="es-ES" sz="2000" spc="-1" strike="noStrike">
                <a:solidFill>
                  <a:srgbClr val="ffffcc"/>
                </a:solidFill>
                <a:latin typeface="Times New Roman"/>
              </a:rPr>
              <a:t>, se promueve el establecimiento por parte de cada país, de políticas que contemplen los medios para a difusión de los valores culturales del resto de los países del Convenio, así como la conservación, revaloración, y difusión de manifestaciones culturales propias de la región.</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4.- En cuanto a la </a:t>
            </a:r>
            <a:r>
              <a:rPr b="0" i="1" lang="es-ES" sz="2000" spc="-1" strike="noStrike" u="sng">
                <a:solidFill>
                  <a:srgbClr val="ffffcc"/>
                </a:solidFill>
                <a:uFillTx/>
                <a:latin typeface="Times New Roman"/>
              </a:rPr>
              <a:t>ciencia y la tecnología</a:t>
            </a:r>
            <a:r>
              <a:rPr b="0" lang="es-ES" sz="2000" spc="-1" strike="noStrike">
                <a:solidFill>
                  <a:srgbClr val="ffffcc"/>
                </a:solidFill>
                <a:latin typeface="Times New Roman"/>
              </a:rPr>
              <a:t>, se plantea como condición previa al establecimiento de las políticas antes mencionadas, los siguientes requisitos:</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La fijación de una política “...que contemple (....) los medios para el fortalecimiento de la infraestructura necesaria;</a:t>
            </a:r>
            <a:endParaRPr b="0" lang="en-US" sz="2000" spc="-1" strike="noStrike">
              <a:solidFill>
                <a:srgbClr val="ffffcc"/>
              </a:solidFill>
              <a:latin typeface="Times New Roman"/>
            </a:endParaRPr>
          </a:p>
          <a:p>
            <a:pPr marL="343080" indent="-343080">
              <a:spcBef>
                <a:spcPts val="499"/>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l desarrollo e intercambio de proyectos de investigación en sus diversas secuencias científicas con la finalidad de obtener en un mediano plazo el uso generalizado de elementos tecnológicos propios;</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0" lang="es-ES" sz="2000" spc="-1" strike="noStrike">
                <a:solidFill>
                  <a:srgbClr val="ffffcc"/>
                </a:solidFill>
                <a:latin typeface="Times New Roman"/>
              </a:rPr>
              <a:t>- El desarrollo de proyectos encaminados a instaurar el equilibrio ecológico, mediante la conservación de los recursos naturales y la preservación del ambiente.”</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 name="PlaceHolder 2"/>
          <p:cNvSpPr>
            <a:spLocks noGrp="1"/>
          </p:cNvSpPr>
          <p:nvPr>
            <p:ph type="sldNum" idx="3"/>
          </p:nvPr>
        </p:nvSpPr>
        <p:spPr/>
        <p:txBody>
          <a:bodyPr/>
          <a:p>
            <a:fld id="{7214563A-8A14-41AD-BAFE-B05F16B89A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16000" y="837720"/>
            <a:ext cx="8734320" cy="5405400"/>
          </a:xfrm>
          <a:prstGeom prst="rect">
            <a:avLst/>
          </a:prstGeom>
          <a:noFill/>
          <a:ln w="0">
            <a:noFill/>
          </a:ln>
        </p:spPr>
        <p:txBody>
          <a:bodyPr lIns="92160" rIns="92160" tIns="46080" bIns="46080" anchor="t">
            <a:normAutofit fontScale="91000"/>
          </a:bodyPr>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3.4.- </a:t>
            </a:r>
            <a:r>
              <a:rPr b="1" lang="es-ES" sz="2000" spc="-1" strike="noStrike" u="sng">
                <a:solidFill>
                  <a:srgbClr val="ffffcc"/>
                </a:solidFill>
                <a:uFillTx/>
                <a:latin typeface="Times New Roman"/>
              </a:rPr>
              <a:t>CARTA DE QUITO</a:t>
            </a:r>
            <a:r>
              <a:rPr b="1" lang="es-ES" sz="2000" spc="-1" strike="noStrike">
                <a:solidFill>
                  <a:srgbClr val="ffffcc"/>
                </a:solidFill>
                <a:latin typeface="Times New Roman"/>
              </a:rPr>
              <a:t>:</a:t>
            </a:r>
            <a:r>
              <a:rPr b="0" lang="es-ES" sz="2000" spc="-1" strike="noStrike">
                <a:solidFill>
                  <a:srgbClr val="ffffcc"/>
                </a:solidFill>
                <a:latin typeface="Times New Roman"/>
              </a:rPr>
              <a:t> Se realizó en Quito en 1978</a:t>
            </a:r>
            <a:r>
              <a:rPr b="1"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     </a:t>
            </a:r>
            <a:r>
              <a:rPr b="1" lang="es-ES_tradnl" sz="2000" spc="-1" strike="noStrike">
                <a:solidFill>
                  <a:srgbClr val="ffffcc"/>
                </a:solidFill>
                <a:latin typeface="Times New Roman"/>
              </a:rPr>
              <a:t>Objetivo:</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lang="es-ES_tradnl" sz="2000" spc="-1" strike="noStrike">
                <a:solidFill>
                  <a:srgbClr val="ffffcc"/>
                </a:solidFill>
                <a:latin typeface="Times New Roman"/>
              </a:rPr>
              <a:t>Establecer  los mecanismos y acciones que permitieron la implementación de las políticas del CAB enunciadas en las Declaraciones anteriormente expuestas, por medio de las siguientes medidas: </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 La adopción de la estructura orgánica del Convenio.</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 Creación de los organismos descentralizados y de las Comisiones Asesoras;</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3.- Creación del Fondo de Financiamiento.</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4.- Adopción de la tabla de equivalencias de estudios de primaria y secundaria de los países signatarios.</a:t>
            </a:r>
            <a:endParaRPr b="0" lang="en-US" sz="2000" spc="-1" strike="noStrike">
              <a:solidFill>
                <a:srgbClr val="ffffcc"/>
              </a:solidFill>
              <a:latin typeface="Times New Roman"/>
            </a:endParaRPr>
          </a:p>
          <a:p>
            <a:pPr marL="312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5.- Reconocimiento por medio de normas legales en cada país del Convenio de estudios primarios o de enseñanza básica, realizados en cualquiera de los países signatarios.</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6.- Inicio de la armonización de las políticas desarrollo científico tecnológico y estudio de tecnologías apropiadas a la realidad de los países del Convenio. </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                                         </a:t>
            </a: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119A4872-B016-48D2-96B4-C1E6803B5BF6}"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cc"/>
                </a:solidFill>
                <a:latin typeface="Times New Roman"/>
              </a:rPr>
              <a:t>I.- Antecedentes históricos de la Comunidad Andina de Naciones</a:t>
            </a:r>
            <a:endParaRPr b="0" lang="en-US" sz="3600" spc="-1" strike="noStrike">
              <a:solidFill>
                <a:srgbClr val="ffffcc"/>
              </a:solidFill>
              <a:latin typeface="Times New Roman"/>
            </a:endParaRPr>
          </a:p>
        </p:txBody>
      </p:sp>
      <p:sp>
        <p:nvSpPr>
          <p:cNvPr id="125"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rPr>
              <a:t>1.- </a:t>
            </a:r>
            <a:r>
              <a:rPr b="1" lang="es-ES" sz="2400" spc="-1" strike="noStrike" u="sng">
                <a:solidFill>
                  <a:srgbClr val="ffffcc"/>
                </a:solidFill>
                <a:uFillTx/>
                <a:latin typeface="Times New Roman"/>
              </a:rPr>
              <a:t>CARTA DE PUNTA DE ESTE</a:t>
            </a:r>
            <a:r>
              <a:rPr b="1" lang="es-ES" sz="2400" spc="-1" strike="noStrike">
                <a:solidFill>
                  <a:srgbClr val="ffffcc"/>
                </a:solidFill>
                <a:latin typeface="Times New Roman"/>
              </a:rPr>
              <a:t>:</a:t>
            </a:r>
            <a:r>
              <a:rPr b="0" lang="es-ES" sz="2400" spc="-1" strike="noStrike">
                <a:solidFill>
                  <a:srgbClr val="ffffcc"/>
                </a:solidFill>
                <a:latin typeface="Times New Roman"/>
              </a:rPr>
              <a:t> Se celebró en 1961, en Punta del Este, Uruguay.</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     </a:t>
            </a:r>
            <a:r>
              <a:rPr b="0" lang="es-ES" sz="2400" spc="-1" strike="noStrike">
                <a:solidFill>
                  <a:srgbClr val="ffffcc"/>
                </a:solidFill>
                <a:latin typeface="Times New Roman"/>
              </a:rPr>
              <a:t>En ella se realizó la reunión de los representantes de las Repúblicas Americanas para fundar la </a:t>
            </a:r>
            <a:r>
              <a:rPr b="0" i="1" lang="es-ES" sz="2400" spc="-1" strike="noStrike" u="sng">
                <a:solidFill>
                  <a:srgbClr val="ffffcc"/>
                </a:solidFill>
                <a:uFillTx/>
                <a:latin typeface="Times New Roman"/>
              </a:rPr>
              <a:t>Alianza por el Progreso</a:t>
            </a:r>
            <a:r>
              <a:rPr b="0" lang="es-ES" sz="2400" spc="-1" strike="noStrike">
                <a:solidFill>
                  <a:srgbClr val="ffffcc"/>
                </a:solidFill>
                <a:latin typeface="Times New Roman"/>
              </a:rPr>
              <a:t> a iniciativa del Presidente de EEUU, John F. Kennedy.</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rPr>
              <a:t>Objetivo:</a:t>
            </a:r>
            <a:r>
              <a:rPr b="0" lang="es-ES" sz="2400" spc="-1" strike="noStrike">
                <a:solidFill>
                  <a:srgbClr val="ffffcc"/>
                </a:solidFill>
                <a:latin typeface="Times New Roman"/>
              </a:rPr>
              <a:t> Acelerar la integración en América Latina para lograr el desarrollo económico y cultural del continente.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    </a:t>
            </a:r>
            <a:r>
              <a:rPr b="0" lang="es-ES" sz="2400" spc="-1" strike="noStrike">
                <a:solidFill>
                  <a:srgbClr val="ffffcc"/>
                </a:solidFill>
                <a:latin typeface="Times New Roman"/>
              </a:rPr>
              <a:t>Aquí se expresa que esta transformación “</a:t>
            </a:r>
            <a:r>
              <a:rPr b="0" i="1" lang="es-ES" sz="2400" spc="-1" strike="noStrike">
                <a:solidFill>
                  <a:srgbClr val="ffffcc"/>
                </a:solidFill>
                <a:latin typeface="Times New Roman"/>
              </a:rPr>
              <a:t>sólo puede ser el resultado del esfuerzo propio de cada país</a:t>
            </a:r>
            <a:r>
              <a:rPr b="0" lang="es-ES" sz="2400" spc="-1" strike="noStrike">
                <a:solidFill>
                  <a:srgbClr val="ffffcc"/>
                </a:solidFill>
                <a:latin typeface="Times New Roman"/>
              </a:rPr>
              <a: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4" name="PlaceHolder 3"/>
          <p:cNvSpPr>
            <a:spLocks noGrp="1"/>
          </p:cNvSpPr>
          <p:nvPr>
            <p:ph type="sldNum" idx="3"/>
          </p:nvPr>
        </p:nvSpPr>
        <p:spPr/>
        <p:txBody>
          <a:bodyPr/>
          <a:p>
            <a:fld id="{275FA93A-FABD-4B6F-A0CD-A999C4A9F3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228600"/>
            <a:ext cx="8229600" cy="58672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Times New Roman"/>
              </a:rPr>
              <a:t>Contexto histórico:</a:t>
            </a:r>
            <a:r>
              <a:rPr b="0" lang="es-ES" sz="2800" spc="-1" strike="noStrike">
                <a:solidFill>
                  <a:srgbClr val="ffffcc"/>
                </a:solidFill>
                <a:latin typeface="Times New Roman"/>
              </a:rPr>
              <a:t> La Organización de Naciones Unidas, en la década del 60 proclamó la “Primera década de desarrollo en América Latina” que tuvo el mérito de ampliar el proceso de integración económica e incluir aspectos de integración cultural y social.</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imes New Roman"/>
              </a:rPr>
              <a:t>     </a:t>
            </a:r>
            <a:r>
              <a:rPr b="0" lang="es-ES" sz="2800" spc="-1" strike="noStrike">
                <a:solidFill>
                  <a:srgbClr val="ffffcc"/>
                </a:solidFill>
                <a:latin typeface="Times New Roman"/>
              </a:rPr>
              <a:t>La década de 1960 se definió por los europeos y norteamericanos como “ The golden sixties”, según expresó F. Herrera en “El escenario latinoamericano y el desafío cultural”. SECAB, 1981.</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 name="PlaceHolder 2"/>
          <p:cNvSpPr>
            <a:spLocks noGrp="1"/>
          </p:cNvSpPr>
          <p:nvPr>
            <p:ph type="sldNum" idx="3"/>
          </p:nvPr>
        </p:nvSpPr>
        <p:spPr/>
        <p:txBody>
          <a:bodyPr/>
          <a:p>
            <a:fld id="{B5CD942A-9C6D-412A-81B5-4BF94278FB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35000" y="1052280"/>
            <a:ext cx="8896320" cy="51987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cc"/>
                </a:solidFill>
                <a:latin typeface="Times New Roman"/>
              </a:rPr>
              <a:t>2.- </a:t>
            </a:r>
            <a:r>
              <a:rPr b="1" lang="es-MX" sz="2800" spc="-1" strike="noStrike" u="sng">
                <a:solidFill>
                  <a:srgbClr val="ffffcc"/>
                </a:solidFill>
                <a:uFillTx/>
                <a:latin typeface="Times New Roman"/>
              </a:rPr>
              <a:t>CARTA DEL PRESIDENTE DE CHILE EDUARDO FREI MONTALVA</a:t>
            </a:r>
            <a:r>
              <a:rPr b="1" lang="es-MX" sz="2800" spc="-1" strike="noStrike">
                <a:solidFill>
                  <a:srgbClr val="ffffcc"/>
                </a:solidFill>
                <a:latin typeface="Times New Roman"/>
              </a:rPr>
              <a:t>:</a:t>
            </a:r>
            <a:r>
              <a:rPr b="0" lang="es-MX" sz="2800" spc="-1" strike="noStrike">
                <a:solidFill>
                  <a:srgbClr val="ffffcc"/>
                </a:solidFill>
                <a:latin typeface="Times New Roman"/>
              </a:rPr>
              <a:t> La realizó el 06 de enero de 1965 en Santiago, Chile, dirigiéndola  a los 4 economistas más relevantes de la época: Raúl Prebisch; José Antonio Mayobre; Felipe Herrera y Carlos Sanz de Santa María.</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cc"/>
                </a:solidFill>
                <a:latin typeface="Times New Roman"/>
              </a:rPr>
              <a:t>3.- </a:t>
            </a:r>
            <a:r>
              <a:rPr b="1" lang="es-MX" sz="2800" spc="-1" strike="noStrike" u="sng">
                <a:solidFill>
                  <a:srgbClr val="ffffcc"/>
                </a:solidFill>
                <a:uFillTx/>
                <a:latin typeface="Times New Roman"/>
              </a:rPr>
              <a:t>DOCUMENTO DE LOS CUATRO</a:t>
            </a:r>
            <a:r>
              <a:rPr b="0" lang="es-MX" sz="2800" spc="-1" strike="noStrike">
                <a:solidFill>
                  <a:srgbClr val="ffffcc"/>
                </a:solidFill>
                <a:latin typeface="Times New Roman"/>
              </a:rPr>
              <a:t>: Es una respuesta a la carta del Presidente Frei Montalva, en la cual los aludidos hacen proposiciones para la creación del Mercado Común Latinoamericano, basado en  </a:t>
            </a:r>
            <a:r>
              <a:rPr b="0" i="1" lang="es-MX" sz="2800" spc="-1" strike="noStrike">
                <a:solidFill>
                  <a:srgbClr val="ffffcc"/>
                </a:solidFill>
                <a:latin typeface="Times New Roman"/>
              </a:rPr>
              <a:t>“aprender a trabajar en comunidad para formar la comunidad del pueblo latinoamericano”.</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 name="PlaceHolder 2"/>
          <p:cNvSpPr>
            <a:spLocks noGrp="1"/>
          </p:cNvSpPr>
          <p:nvPr>
            <p:ph type="sldNum" idx="3"/>
          </p:nvPr>
        </p:nvSpPr>
        <p:spPr/>
        <p:txBody>
          <a:bodyPr/>
          <a:p>
            <a:fld id="{9117F4F9-0CC8-4D04-A85D-B049D10D4E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304920"/>
            <a:ext cx="8229600" cy="5790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9" name=""/>
          <p:cNvSpPr/>
          <p:nvPr/>
        </p:nvSpPr>
        <p:spPr>
          <a:xfrm>
            <a:off x="380880" y="762120"/>
            <a:ext cx="8305920" cy="973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ea typeface="Times New Roman"/>
              </a:rPr>
              <a:t>4.- </a:t>
            </a:r>
            <a:r>
              <a:rPr b="1" lang="es-ES" sz="2400" spc="-1" strike="noStrike" u="sng">
                <a:solidFill>
                  <a:srgbClr val="ffffcc"/>
                </a:solidFill>
                <a:uFillTx/>
                <a:latin typeface="Times New Roman"/>
                <a:ea typeface="Times New Roman"/>
              </a:rPr>
              <a:t>DECLARACIÓN DE BOGOTÁ</a:t>
            </a:r>
            <a:r>
              <a:rPr b="1" lang="es-ES" sz="2400" spc="-1" strike="noStrike">
                <a:solidFill>
                  <a:srgbClr val="ffffcc"/>
                </a:solidFill>
                <a:latin typeface="Times New Roman"/>
                <a:ea typeface="Times New Roman"/>
              </a:rPr>
              <a:t>:</a:t>
            </a:r>
            <a:r>
              <a:rPr b="0" lang="es-ES" sz="2400" spc="-1" strike="noStrike">
                <a:solidFill>
                  <a:srgbClr val="ffffcc"/>
                </a:solidFill>
                <a:latin typeface="Times New Roman"/>
                <a:ea typeface="Times New Roman"/>
              </a:rPr>
              <a:t> Se celebró e 15 de agosto de 1966 en Bogotá, Colombia.</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ea typeface="Times New Roman"/>
              </a:rPr>
              <a:t>Asistentes:</a:t>
            </a:r>
            <a:r>
              <a:rPr b="0" lang="es-ES" sz="2400" spc="-1" strike="noStrike">
                <a:solidFill>
                  <a:srgbClr val="ffffcc"/>
                </a:solidFill>
                <a:latin typeface="Times New Roman"/>
                <a:ea typeface="Times New Roman"/>
              </a:rPr>
              <a:t> </a:t>
            </a:r>
            <a:r>
              <a:rPr b="0" lang="es-MX" sz="2400" spc="-1" strike="noStrike">
                <a:solidFill>
                  <a:srgbClr val="ffffcc"/>
                </a:solidFill>
                <a:latin typeface="Times New Roman"/>
                <a:ea typeface="Times New Roman"/>
              </a:rPr>
              <a:t>Colombia; Chile; Venezuela; y representantes personales de los Presidentes de Ecuador y Perú. </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ea typeface="Times New Roman"/>
              </a:rPr>
              <a:t>Objetivos:</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ea typeface="Times New Roman"/>
              </a:rPr>
              <a:t>A.- Crear mercados subregionales con la participación exclusiva de países de menor desarrollo relativo y mercados insuficientes, a fin de ampliar sus mercados en el marco de la integración de América Latina.</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ea typeface="Times New Roman"/>
              </a:rPr>
              <a:t>B.- Promover la integración latinoamericana de un modo más equilibrado y acelerado, superando las limitaciones del Tratado de Montevideo.</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ea typeface="Times New Roman"/>
              </a:rPr>
              <a:t>C.-Constituir una Comisión Mixta para proponer las medidas indispensables para el cumplimiento de los acuerdos adoptados en la Declaración y la constitución de la Corporación Andina de Fomento –C.A.F.-  </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B573163B-3FEB-4C69-91C2-EB76253C0A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380520"/>
            <a:ext cx="8229600" cy="5715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Times New Roman"/>
              </a:rPr>
              <a:t>5.- </a:t>
            </a:r>
            <a:r>
              <a:rPr b="1" lang="es-ES" sz="2800" spc="-1" strike="noStrike" u="sng">
                <a:solidFill>
                  <a:srgbClr val="ffffcc"/>
                </a:solidFill>
                <a:uFillTx/>
                <a:latin typeface="Times New Roman"/>
              </a:rPr>
              <a:t>DECLARACIÓN DE PRESIDENTES DE AMÉRICA</a:t>
            </a:r>
            <a:r>
              <a:rPr b="1" lang="es-ES" sz="2800" spc="-1" strike="noStrike">
                <a:solidFill>
                  <a:srgbClr val="ffffcc"/>
                </a:solidFill>
                <a:latin typeface="Times New Roman"/>
              </a:rPr>
              <a:t>:</a:t>
            </a:r>
            <a:r>
              <a:rPr b="0" lang="es-ES" sz="2800" spc="-1" strike="noStrike">
                <a:solidFill>
                  <a:srgbClr val="ffffcc"/>
                </a:solidFill>
                <a:latin typeface="Times New Roman"/>
              </a:rPr>
              <a:t> Se celebró entre el 12 y el 14 de abril de 1967 en Punta del Este, Uruguay.</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Times New Roman"/>
              </a:rPr>
              <a:t>Objetivo:</a:t>
            </a:r>
            <a:r>
              <a:rPr b="0" lang="es-ES" sz="2800" spc="-1" strike="noStrike">
                <a:solidFill>
                  <a:srgbClr val="ffffcc"/>
                </a:solidFill>
                <a:latin typeface="Times New Roman"/>
              </a:rPr>
              <a:t> Fue la reunión más importante de Jefes de Estado del Continente. En ella se acuerda:</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imes New Roman"/>
              </a:rPr>
              <a:t>A.- Dar un fuerte impulso a la Alianza por el Progreso, acentuando su carácter multilateral, a fin de acelerar la integración armónica de la región.</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 name="PlaceHolder 2"/>
          <p:cNvSpPr>
            <a:spLocks noGrp="1"/>
          </p:cNvSpPr>
          <p:nvPr>
            <p:ph type="sldNum" idx="3"/>
          </p:nvPr>
        </p:nvSpPr>
        <p:spPr/>
        <p:txBody>
          <a:bodyPr/>
          <a:p>
            <a:fld id="{AB2A940D-81D1-496B-8C87-93349015D5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380880"/>
            <a:ext cx="8229600" cy="6019920"/>
          </a:xfrm>
          <a:prstGeom prst="rect">
            <a:avLst/>
          </a:prstGeom>
          <a:noFill/>
          <a:ln w="0">
            <a:noFill/>
          </a:ln>
        </p:spPr>
        <p:txBody>
          <a:bodyPr lIns="92160" rIns="92160" tIns="46080" bIns="46080" anchor="t">
            <a:normAutofit fontScale="84000"/>
          </a:bodyPr>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B.- Proclamar que a través del perfeccionamiento de los sistemas de integración vigentes se debía lograr la integración económica de la región a través del Mercado Común Latinoamericano.</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C.- Impulsar “</a:t>
            </a:r>
            <a:r>
              <a:rPr b="0" i="1" lang="es-ES" sz="2400" spc="-1" strike="noStrike">
                <a:solidFill>
                  <a:srgbClr val="ffffcc"/>
                </a:solidFill>
                <a:latin typeface="Times New Roman"/>
              </a:rPr>
              <a:t>decisivamente la educación en función del desarrollo</a:t>
            </a:r>
            <a:r>
              <a:rPr b="0" lang="es-ES" sz="2400" spc="-1" strike="noStrike">
                <a:solidFill>
                  <a:srgbClr val="ffffcc"/>
                </a:solidFill>
                <a:latin typeface="Times New Roman"/>
              </a:rPr>
              <a:t>”.</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D.- En el ámbito cultural, se acuerda que de acuerdo a las necesidades de cada país se debían “</a:t>
            </a:r>
            <a:r>
              <a:rPr b="0" i="1" lang="es-ES" sz="2400" spc="-1" strike="noStrike">
                <a:solidFill>
                  <a:srgbClr val="ffffcc"/>
                </a:solidFill>
                <a:latin typeface="Times New Roman"/>
              </a:rPr>
              <a:t>crear o ampliar los servicios de extensión y conservación del patrimonio cultural y estimular la actividad intelectual y artística</a:t>
            </a:r>
            <a:r>
              <a:rPr b="0" lang="es-ES" sz="2400" spc="-1" strike="noStrike">
                <a:solidFill>
                  <a:srgbClr val="ffffcc"/>
                </a:solidFill>
                <a:latin typeface="Times New Roman"/>
              </a:rPr>
              <a:t>.”</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cc"/>
                </a:solidFill>
                <a:latin typeface="Times New Roman"/>
              </a:rPr>
              <a:t>6.- </a:t>
            </a:r>
            <a:r>
              <a:rPr b="1" lang="es-MX" sz="2400" spc="-1" strike="noStrike" u="sng">
                <a:solidFill>
                  <a:srgbClr val="ffffcc"/>
                </a:solidFill>
                <a:uFillTx/>
                <a:latin typeface="Times New Roman"/>
              </a:rPr>
              <a:t>ACUERDO DE CARTAGENA</a:t>
            </a:r>
            <a:r>
              <a:rPr b="1" lang="es-MX" sz="2400" spc="-1" strike="noStrike">
                <a:solidFill>
                  <a:srgbClr val="ffffcc"/>
                </a:solidFill>
                <a:latin typeface="Times New Roman"/>
              </a:rPr>
              <a:t>:</a:t>
            </a:r>
            <a:r>
              <a:rPr b="0" lang="es-MX" sz="2400" spc="-1" strike="noStrike">
                <a:solidFill>
                  <a:srgbClr val="ffffcc"/>
                </a:solidFill>
                <a:latin typeface="Times New Roman"/>
              </a:rPr>
              <a:t> Este Acuerdo de Integración Subregional Andino, fue celebrado el 26 de mayo de 1969 en Cartagena de Indias, Colombia. (Carlos Lleras Restrepo) </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    </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Países fundadores:</a:t>
            </a:r>
            <a:r>
              <a:rPr b="0" lang="es-MX" sz="2400" spc="-1" strike="noStrike">
                <a:solidFill>
                  <a:srgbClr val="ffffcc"/>
                </a:solidFill>
                <a:latin typeface="Times New Roman"/>
              </a:rPr>
              <a:t> Bolivia; Chile; Colombia; Ecuador; y Perú.</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Objetivos:</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A.- </a:t>
            </a:r>
            <a:r>
              <a:rPr b="0" lang="es-MX" sz="2400" spc="-1" strike="noStrike">
                <a:solidFill>
                  <a:srgbClr val="ffffcc"/>
                </a:solidFill>
                <a:latin typeface="Times New Roman"/>
              </a:rPr>
              <a:t>Acelerar el proceso de integración iniciado por los países miembros de la ALALC.</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6A83D9CB-5A99-4F7E-86C2-93D3C28C9E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304920"/>
            <a:ext cx="8229600" cy="5790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A.-</a:t>
            </a:r>
            <a:r>
              <a:rPr b="1" lang="es-MX" sz="2400" spc="-1" strike="noStrike">
                <a:solidFill>
                  <a:srgbClr val="ffffcc"/>
                </a:solidFill>
                <a:latin typeface="Times New Roman"/>
              </a:rPr>
              <a:t> </a:t>
            </a:r>
            <a:r>
              <a:rPr b="0" lang="es-MX" sz="2400" spc="-1" strike="noStrike">
                <a:solidFill>
                  <a:srgbClr val="ffffcc"/>
                </a:solidFill>
                <a:latin typeface="Times New Roman"/>
              </a:rPr>
              <a:t>Promover el desarrollo armónico y equilibrado de los países miembros.</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B.- Acelerar su crecimiento mediante la integración económica.</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C.-Facilitar su participación en el proceso de integración previsto en el Tratado de Montevideo;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D.- Establecer condiciones favorables para la conversión de la ALALC en un mercado común; y</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E.- Establecer numerosos mecanismos para el logro de los objetivos citados, como por ejemplo: la armonización de las políticas monetarias y económicas de cada país miembro; la programación industrial; la programación de liberalización; la fijación de un Arancel Externo Común, entre otras.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 name="PlaceHolder 2"/>
          <p:cNvSpPr>
            <a:spLocks noGrp="1"/>
          </p:cNvSpPr>
          <p:nvPr>
            <p:ph type="sldNum" idx="3"/>
          </p:nvPr>
        </p:nvSpPr>
        <p:spPr/>
        <p:txBody>
          <a:bodyPr/>
          <a:p>
            <a:fld id="{E8E2673A-77DF-4AC7-A36D-477982C978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5000" y="914040"/>
            <a:ext cx="8896320" cy="53370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7.- </a:t>
            </a:r>
            <a:r>
              <a:rPr b="1" lang="es-MX" sz="2400" spc="-1" strike="noStrike" u="sng">
                <a:solidFill>
                  <a:srgbClr val="ffffcc"/>
                </a:solidFill>
                <a:uFillTx/>
                <a:latin typeface="Times New Roman"/>
              </a:rPr>
              <a:t>ADHESIÓN DE VENEZUELA</a:t>
            </a:r>
            <a:r>
              <a:rPr b="1" lang="es-MX" sz="2400" spc="-1" strike="noStrike">
                <a:solidFill>
                  <a:srgbClr val="ffffcc"/>
                </a:solidFill>
                <a:latin typeface="Times New Roman"/>
              </a:rPr>
              <a:t>:</a:t>
            </a:r>
            <a:r>
              <a:rPr b="0" lang="es-MX" sz="2400" spc="-1" strike="noStrike">
                <a:solidFill>
                  <a:srgbClr val="ffffcc"/>
                </a:solidFill>
                <a:latin typeface="Times New Roman"/>
              </a:rPr>
              <a:t> El 13 de febrero de 1973 Venezuela adhiere al Acuerdo de Cartagena.</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8.- </a:t>
            </a:r>
            <a:r>
              <a:rPr b="1" lang="es-MX" sz="2400" spc="-1" strike="noStrike" u="sng">
                <a:solidFill>
                  <a:srgbClr val="ffffcc"/>
                </a:solidFill>
                <a:uFillTx/>
                <a:latin typeface="Times New Roman"/>
              </a:rPr>
              <a:t>RETIRO DE CHILE</a:t>
            </a:r>
            <a:r>
              <a:rPr b="1" lang="es-MX" sz="2400" spc="-1" strike="noStrike">
                <a:solidFill>
                  <a:srgbClr val="ffffcc"/>
                </a:solidFill>
                <a:latin typeface="Times New Roman"/>
              </a:rPr>
              <a:t>:</a:t>
            </a:r>
            <a:r>
              <a:rPr b="0" lang="es-MX" sz="2400" spc="-1" strike="noStrike">
                <a:solidFill>
                  <a:srgbClr val="ffffcc"/>
                </a:solidFill>
                <a:latin typeface="Times New Roman"/>
              </a:rPr>
              <a:t> El 30 de octubre de 1976, Chile se retira del Acuerdo de Cartagena.   </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9.-</a:t>
            </a:r>
            <a:r>
              <a:rPr b="1" lang="es-MX" sz="2400" spc="-1" strike="noStrike" u="sng">
                <a:solidFill>
                  <a:srgbClr val="ffffcc"/>
                </a:solidFill>
                <a:uFillTx/>
                <a:latin typeface="Times New Roman"/>
              </a:rPr>
              <a:t>RETIRO DE VENEZUELA</a:t>
            </a:r>
            <a:r>
              <a:rPr b="1" lang="es-MX" sz="2400" spc="-1" strike="noStrike">
                <a:solidFill>
                  <a:srgbClr val="ffffcc"/>
                </a:solidFill>
                <a:latin typeface="Times New Roman"/>
              </a:rPr>
              <a:t>:</a:t>
            </a:r>
            <a:r>
              <a:rPr b="0" lang="es-MX" sz="2400" spc="-1" strike="noStrike">
                <a:solidFill>
                  <a:srgbClr val="ffffcc"/>
                </a:solidFill>
                <a:latin typeface="Times New Roman"/>
              </a:rPr>
              <a:t> El 22 de abril de 2006, la República Bolivariana de Venezuela se retira de la CAN.</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rPr>
              <a:t>10.- </a:t>
            </a:r>
            <a:r>
              <a:rPr b="1" lang="es-ES" sz="2400" spc="-1" strike="noStrike" u="sng">
                <a:solidFill>
                  <a:srgbClr val="ffffcc"/>
                </a:solidFill>
                <a:uFillTx/>
                <a:latin typeface="Times New Roman"/>
              </a:rPr>
              <a:t>RETORNO DE CHILE</a:t>
            </a:r>
            <a:r>
              <a:rPr b="1" lang="es-ES" sz="2400" spc="-1" strike="noStrike">
                <a:solidFill>
                  <a:srgbClr val="ffffcc"/>
                </a:solidFill>
                <a:latin typeface="Times New Roman"/>
              </a:rPr>
              <a:t>:</a:t>
            </a:r>
            <a:r>
              <a:rPr b="0" lang="es-ES" sz="2400" spc="-1" strike="noStrike">
                <a:solidFill>
                  <a:srgbClr val="ffffcc"/>
                </a:solidFill>
                <a:latin typeface="Times New Roman"/>
              </a:rPr>
              <a:t> El 12 de junio de 2007, durante la celebración del XVII Consejo Presidencial Andino, realizado en la ciudad de Tarija, Bolivia, Chile retorna a la CAN en calidad de socio comercial.</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D72FD6BC-644F-4E0E-BE6C-8AA991DCA2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4T08:19:56Z</dcterms:created>
  <dc:creator>Iris Vittini</dc:creator>
  <dc:description/>
  <dc:language>en-US</dc:language>
  <cp:lastModifiedBy>Judith Baeza</cp:lastModifiedBy>
  <dcterms:modified xsi:type="dcterms:W3CDTF">2008-10-06T17:02:30Z</dcterms:modified>
  <cp:revision>44</cp:revision>
  <dc:subject/>
  <dc:title>MERCOSUR</dc:title>
</cp:coreProperties>
</file>