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2215E86-0A88-4F87-BF08-949D3CEA1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2ACABC-365E-4391-8E4C-8315306CF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D88344C-F4DE-4B9C-89DB-2B6E7B120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7520AF5-1AB7-439A-89EB-CF96F4401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4A914-780D-494A-A3BE-BE71EE860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9A80D-15C2-4B62-9E80-49AD548B2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60EA5-C4F9-45EE-9056-086B878A1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E2484-25B4-42E5-A965-0FAB444E0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CDBCA-2B23-4E37-AD69-332836521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A615D-BD16-419C-9EDA-F4FF9032D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08C80-FE95-4DDC-B06C-9501846CE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1C15CB6-31AE-4BC4-AD09-51EABAA30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1019E-39B0-4580-897D-585BE40E4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270F3-3E81-4A8F-B87F-13DD0C83A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E745B-5C43-46ED-87A9-3EE694BA2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F3BB8-595A-4D06-AA2D-C93D9AC6B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A570E-CB70-4233-BF47-9FB17A253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463DE2-8438-4F8B-A441-01F65A509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68BAAE7-ABEF-4AAF-8A15-78B49905C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7B830F9-B084-4448-B864-37DCADD74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ED305E-C642-47F9-AF66-B1D2AB0BB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E886EA-9ADC-423A-9A17-C677C6B8E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74C782-CA6D-48E0-850E-84E47CFA0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E73500-36CE-44C8-93D3-4B8B8CC2B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5382-4FC8-4800-AAE6-6C514AC8F111}"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2881-9E53-4288-AB04-D115F8582791}"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u="sng">
                <a:solidFill>
                  <a:srgbClr val="e5e5ff"/>
                </a:solidFill>
                <a:uFillTx/>
                <a:latin typeface="Garamond"/>
              </a:rPr>
              <a:t>ALADI</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3600" spc="-1" strike="noStrike">
                <a:solidFill>
                  <a:srgbClr val="ffffff"/>
                </a:solidFill>
                <a:latin typeface="Garamond"/>
              </a:rPr>
              <a:t>Asociación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Latinoamericana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De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Integración</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000" spc="-1" strike="noStrike">
                <a:solidFill>
                  <a:srgbClr val="ffffff"/>
                </a:solidFill>
                <a:latin typeface="Garamond"/>
              </a:rPr>
              <a:t>Profesora: Iris Vittini G.</a:t>
            </a:r>
            <a:endParaRPr b="0" lang="en-US" sz="20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                                                                 </a:t>
            </a:r>
            <a:r>
              <a:rPr b="1" lang="es-ES" sz="2000" spc="-1" strike="noStrike">
                <a:solidFill>
                  <a:srgbClr val="ffffff"/>
                </a:solidFill>
                <a:latin typeface="Garamond"/>
              </a:rPr>
              <a:t>Ayudante: Judith Baeza H.</a:t>
            </a:r>
            <a:endParaRPr b="0" lang="en-US" sz="20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pic>
        <p:nvPicPr>
          <p:cNvPr id="101" name="" descr=""/>
          <p:cNvPicPr/>
          <p:nvPr/>
        </p:nvPicPr>
        <p:blipFill>
          <a:blip r:embed="rId1"/>
          <a:stretch/>
        </p:blipFill>
        <p:spPr>
          <a:xfrm>
            <a:off x="395280" y="380880"/>
            <a:ext cx="4081320" cy="6000840"/>
          </a:xfrm>
          <a:prstGeom prst="rect">
            <a:avLst/>
          </a:prstGeom>
          <a:ln w="0">
            <a:noFill/>
          </a:ln>
        </p:spPr>
      </p:pic>
      <p:sp>
        <p:nvSpPr>
          <p:cNvPr id="4" name="PlaceHolder 3"/>
          <p:cNvSpPr>
            <a:spLocks noGrp="1"/>
          </p:cNvSpPr>
          <p:nvPr>
            <p:ph type="sldNum" idx="2"/>
          </p:nvPr>
        </p:nvSpPr>
        <p:spPr/>
        <p:txBody>
          <a:bodyPr/>
          <a:p>
            <a:fld id="{8193255C-8689-4F16-A411-8B7596D831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Posibilita distintas formas de concertación entre los países miembros – Instrumentos comerci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armonía con los objetivos y funciones del proceso de integración. </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inamizar y ampliar mercado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7917575B-AAD7-4D87-B617-C772C3622C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Mecanismos </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LADI propicia la creación de un área de preferencias económicas en la región, con el objetivo final de lograr un mercado común latinoamericano, mediante tres mecanismos: </a:t>
            </a:r>
            <a:endParaRPr b="0" lang="en-US" sz="3200" spc="-1" strike="noStrike">
              <a:solidFill>
                <a:srgbClr val="ffffff"/>
              </a:solidFill>
              <a:latin typeface="Garamond"/>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parcial.</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627385B-8321-42C0-A510-322701C4E6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5: </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i="1" lang="es-ES" sz="3200" spc="-1" strike="noStrike">
                <a:solidFill>
                  <a:srgbClr val="ffffff"/>
                </a:solidFill>
                <a:latin typeface="Garamond"/>
              </a:rPr>
              <a:t>“ </a:t>
            </a:r>
            <a:r>
              <a:rPr b="0" i="1" lang="es-ES" sz="3200" spc="-1" strike="noStrike">
                <a:solidFill>
                  <a:srgbClr val="ffffff"/>
                </a:solidFill>
                <a:latin typeface="Garamond"/>
              </a:rPr>
              <a:t>Los países mienbros se otorgarán recíprocamente una preferencia arancelaria regional, que se aplicará con referencia al nivel que rija para terceros países y se sujetará a la regalementación correspondiente”</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Garamond"/>
              </a:rPr>
              <a:t>-  </a:t>
            </a:r>
            <a:r>
              <a:rPr b="0" lang="es-ES" sz="3200" spc="-1" strike="noStrike">
                <a:solidFill>
                  <a:srgbClr val="ffffff"/>
                </a:solidFill>
                <a:latin typeface="Garamond"/>
              </a:rPr>
              <a:t>Se aplica a productos originarios de países miembros frente a los aranceles vigentes para terceros países. </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28C27F00-9E5E-425C-8C1B-B983E1267F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quellos en que participa la totalidad de los países miembro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elebrarán en el marco de los objetivos y disposiciones de la ALADI.</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drán referirse a las materias e instrumentos previstos para los acuerdos de alcance parcial. (art. 6)</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6E24E2FE-4D66-48D6-9BCE-8362CEF14F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parci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ticipación de dos más países miembros.</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enden a profundizar el proceso de integración regional mediante su progresiva multilateralización.</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erechos y obligaciones que de ellos emanan regirán exclusivamente para los países miembros que los suscriban o se adhieren.</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5E1EC4DD-813F-483A-A8CD-19C0D3BB51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Garamond"/>
              </a:rPr>
              <a:t>Clasificación de los acuerd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merciales. (Art. 10)</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 complementación económica. (Art. 11)</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gropecuarios. (Art. 12)</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ción del comercio. (Art. 13)</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demás los países miembros … “podrán establecer, mediante la reglamentaciones correspondientes, normas específicas para la concertación de otras modalidades de acuerdo de alcance parcial</a:t>
            </a:r>
            <a:r>
              <a:rPr b="0" i="1" lang="es-ES" sz="3200" spc="-1" strike="noStrike">
                <a:solidFill>
                  <a:srgbClr val="ffffff"/>
                </a:solidFill>
                <a:latin typeface="Garamond"/>
              </a:rPr>
              <a:t>”</a:t>
            </a:r>
            <a:r>
              <a:rPr b="0" lang="es-ES" sz="3200" spc="-1" strike="noStrike">
                <a:solidFill>
                  <a:srgbClr val="ffffff"/>
                </a:solidFill>
                <a:latin typeface="Garamond"/>
              </a:rPr>
              <a:t> (Art. 14).</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B041D9F2-A193-4E80-9814-929B227899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rmas que rigen a los acuerdos (Art. 9):</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ben estar abiertos a la adhesión de los demá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láusulas de convergencia – beneeficios alcancen a todos lo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tendrá tratamientos diferenciales en función a las tres categorías de países reconocidas por el Tratado de Montevide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esgravación podrá efectuarse sobre la base de una rebaja porcentual respecto de los gravámenes  aplicados a la importación originaria de los países no participante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lazo mínimo de duración 1 añ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eden contener normas específicas sobre ciertas materias.</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745C8372-99E3-45FF-A6B9-2A39A8BD23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rganismos</a:t>
            </a:r>
            <a:endParaRPr b="1" lang="en-US" sz="4400" spc="-1" strike="noStrike">
              <a:solidFill>
                <a:srgbClr val="e5e5ff"/>
              </a:solidFill>
              <a:latin typeface="Garamond"/>
            </a:endParaRPr>
          </a:p>
        </p:txBody>
      </p:sp>
      <p:sp>
        <p:nvSpPr>
          <p:cNvPr id="12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s político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nsej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Conferenci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mité.</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 técnic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Secretaría General</a:t>
            </a:r>
            <a:endParaRPr b="0" lang="en-US" sz="2800" spc="-1" strike="noStrike">
              <a:solidFill>
                <a:srgbClr val="ffffff"/>
              </a:solidFill>
              <a:latin typeface="Garamond"/>
            </a:endParaRPr>
          </a:p>
        </p:txBody>
      </p:sp>
      <p:pic>
        <p:nvPicPr>
          <p:cNvPr id="127" name="" descr=""/>
          <p:cNvPicPr/>
          <p:nvPr/>
        </p:nvPicPr>
        <p:blipFill>
          <a:blip r:embed="rId1"/>
          <a:stretch/>
        </p:blipFill>
        <p:spPr>
          <a:xfrm>
            <a:off x="611280" y="1916280"/>
            <a:ext cx="3529080" cy="3600360"/>
          </a:xfrm>
          <a:prstGeom prst="rect">
            <a:avLst/>
          </a:prstGeom>
          <a:ln w="0">
            <a:noFill/>
          </a:ln>
        </p:spPr>
      </p:pic>
      <p:sp>
        <p:nvSpPr>
          <p:cNvPr id="4" name="PlaceHolder 3"/>
          <p:cNvSpPr>
            <a:spLocks noGrp="1"/>
          </p:cNvSpPr>
          <p:nvPr>
            <p:ph type="sldNum" idx="2"/>
          </p:nvPr>
        </p:nvSpPr>
        <p:spPr/>
        <p:txBody>
          <a:bodyPr/>
          <a:p>
            <a:fld id="{077D1E66-404D-49B7-AB93-FFFA357F52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SEJO DE MINISTROS DE RELACIONES EXTERIORES.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Órgano supremo de la Asociación.</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o por los Ministros de RR.EE de los paíse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ducción política de la ALADI.</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por convocatoria del Comité.</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sionará con la totalidad de su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0.</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AB036B18-4D46-43C9-A882-72A92C0B02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FERENCIA DE EVALUACIÓN Y CONVERGENCIA.</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a por plenipotenciarios de los paíse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cada tres años por convocatoria del Comité.</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ara toma de decisiones se requiere la presencia de todos lo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3.</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EBDEF8D7-1CC9-4232-8735-C362C06EE5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33000"/>
            <a:ext cx="83628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Tratado Montevideo, 1980.</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yor grupo latinoamericano de integració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iembr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Argentin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Boliv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Federativa del Brasil.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olombi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hile.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ub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Ecuador.</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Estados Unidos Mexican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ara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erú.</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Oriental del Uru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Venezuela.</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p:txBody>
      </p:sp>
      <p:sp>
        <p:nvSpPr>
          <p:cNvPr id="3" name="PlaceHolder 2"/>
          <p:cNvSpPr>
            <a:spLocks noGrp="1"/>
          </p:cNvSpPr>
          <p:nvPr>
            <p:ph type="sldNum" idx="2"/>
          </p:nvPr>
        </p:nvSpPr>
        <p:spPr/>
        <p:txBody>
          <a:bodyPr/>
          <a:p>
            <a:fld id="{7670006E-C4CB-44A4-BE0C-E22D298598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MITÉ DE REPRESENTA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Representantes  Permanentes de cada país miembro con derecho a un voto.</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Quorum de dos tercios de los países miembros para poder sesionar.</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Atribuciones art. 35. </a:t>
            </a: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C0360478-C2BE-4221-873C-743C0FFCA5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Toma de decisione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tres órganos políticos adoptarán sus decisiones con el voto afirmativo de dos tercios de los países miembro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exceptúan las materias dispuestas en el artículo 43. – lista no es taxativa, el Consejo puede eliminar temas con dos tercios de votos afirmativos y sin que haya voto negativo.</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bstención no significa voto negativo.</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6E7A6B59-637E-49DC-9278-79BD141450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CRETARÍA GENER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rigida por un Secretario General, designado por el Consej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ersonal técnico y administrativo, los que en el desempeño de sus funciones no solicitarán ni recibirán instrucciones de los gobiernos ni de entidades nacionales o internacion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8.</a:t>
            </a:r>
            <a:fld id="{F2858B16-5925-44D7-A593-85E11B81D1EF}" type="slidenum">
              <a:rPr b="0" lang="es-CL" sz="3200" spc="-1" strike="noStrike">
                <a:solidFill>
                  <a:srgbClr val="ffffff"/>
                </a:solidFill>
                <a:latin typeface="Garamond"/>
              </a:rPr>
              <a:t>&lt;number&gt;</a:t>
            </a:fld>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7E061518-9C45-4BF5-A0C1-36F448B98A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11280" y="404640"/>
            <a:ext cx="7921440" cy="5977080"/>
          </a:xfrm>
          <a:prstGeom prst="rect">
            <a:avLst/>
          </a:prstGeom>
          <a:ln w="0">
            <a:noFill/>
          </a:ln>
        </p:spPr>
      </p:pic>
      <p:sp>
        <p:nvSpPr>
          <p:cNvPr id="2" name="PlaceHolder 1"/>
          <p:cNvSpPr>
            <a:spLocks noGrp="1"/>
          </p:cNvSpPr>
          <p:nvPr>
            <p:ph type="sldNum" idx="2"/>
          </p:nvPr>
        </p:nvSpPr>
        <p:spPr/>
        <p:txBody>
          <a:bodyPr/>
          <a:p>
            <a:fld id="{E4AD0A1D-9AEF-4D4B-A180-2446FED07C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4" name=""/>
          <p:cNvGrpSpPr/>
          <p:nvPr/>
        </p:nvGrpSpPr>
        <p:grpSpPr>
          <a:xfrm>
            <a:off x="0" y="0"/>
            <a:ext cx="9143640" cy="6629400"/>
            <a:chOff x="0" y="0"/>
            <a:chExt cx="9143640" cy="6629400"/>
          </a:xfrm>
        </p:grpSpPr>
        <p:grpSp>
          <p:nvGrpSpPr>
            <p:cNvPr id="135" name=""/>
            <p:cNvGrpSpPr/>
            <p:nvPr/>
          </p:nvGrpSpPr>
          <p:grpSpPr>
            <a:xfrm>
              <a:off x="5760" y="3960"/>
              <a:ext cx="9131040" cy="6620760"/>
              <a:chOff x="5760" y="3960"/>
              <a:chExt cx="9131040" cy="6620760"/>
            </a:xfrm>
          </p:grpSpPr>
          <p:grpSp>
            <p:nvGrpSpPr>
              <p:cNvPr id="136" name=""/>
              <p:cNvGrpSpPr/>
              <p:nvPr/>
            </p:nvGrpSpPr>
            <p:grpSpPr>
              <a:xfrm>
                <a:off x="5760" y="3960"/>
                <a:ext cx="9131040" cy="382680"/>
                <a:chOff x="5760" y="3960"/>
                <a:chExt cx="9131040" cy="382680"/>
              </a:xfrm>
            </p:grpSpPr>
            <p:sp>
              <p:nvSpPr>
                <p:cNvPr id="137" name=""/>
                <p:cNvSpPr/>
                <p:nvPr/>
              </p:nvSpPr>
              <p:spPr>
                <a:xfrm>
                  <a:off x="5760" y="3960"/>
                  <a:ext cx="9131040" cy="382680"/>
                </a:xfrm>
                <a:prstGeom prst="rect">
                  <a:avLst/>
                </a:prstGeom>
                <a:noFill/>
                <a:ln w="0">
                  <a:noFill/>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Times New Roman"/>
                    </a:rPr>
                    <a:t>ACUERDOS  CELEBRADOS  ENTRE  CHILE Y  MIEMBROS DE LA  AlAD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 name=""/>
                <p:cNvSpPr/>
                <p:nvPr/>
              </p:nvSpPr>
              <p:spPr>
                <a:xfrm>
                  <a:off x="5760" y="3960"/>
                  <a:ext cx="91310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5760" y="386640"/>
                <a:ext cx="1808640" cy="528480"/>
                <a:chOff x="5760" y="386640"/>
                <a:chExt cx="1808640" cy="528480"/>
              </a:xfrm>
            </p:grpSpPr>
            <p:sp>
              <p:nvSpPr>
                <p:cNvPr id="140" name=""/>
                <p:cNvSpPr/>
                <p:nvPr/>
              </p:nvSpPr>
              <p:spPr>
                <a:xfrm>
                  <a:off x="5760" y="386640"/>
                  <a:ext cx="1808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1" name=""/>
                <p:cNvGrpSpPr/>
                <p:nvPr/>
              </p:nvGrpSpPr>
              <p:grpSpPr>
                <a:xfrm>
                  <a:off x="5760" y="386640"/>
                  <a:ext cx="1808280" cy="528480"/>
                  <a:chOff x="5760" y="386640"/>
                  <a:chExt cx="1808280" cy="528480"/>
                </a:xfrm>
              </p:grpSpPr>
              <p:sp>
                <p:nvSpPr>
                  <p:cNvPr id="142" name=""/>
                  <p:cNvSpPr/>
                  <p:nvPr/>
                </p:nvSpPr>
                <p:spPr>
                  <a:xfrm>
                    <a:off x="5760" y="386640"/>
                    <a:ext cx="1808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Times New Roman"/>
                        <a:ea typeface="Times New Roman"/>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Times New Roman"/>
                        <a:ea typeface="Times New Roman"/>
                      </a:rPr>
                      <a:t>País o Grupo de Paí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
                  <p:cNvSpPr/>
                  <p:nvPr/>
                </p:nvSpPr>
                <p:spPr>
                  <a:xfrm>
                    <a:off x="5760" y="386640"/>
                    <a:ext cx="1808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
              <p:cNvGrpSpPr/>
              <p:nvPr/>
            </p:nvGrpSpPr>
            <p:grpSpPr>
              <a:xfrm>
                <a:off x="1814760" y="386640"/>
                <a:ext cx="4555080" cy="528480"/>
                <a:chOff x="1814760" y="386640"/>
                <a:chExt cx="4555080" cy="528480"/>
              </a:xfrm>
            </p:grpSpPr>
            <p:sp>
              <p:nvSpPr>
                <p:cNvPr id="145" name=""/>
                <p:cNvSpPr/>
                <p:nvPr/>
              </p:nvSpPr>
              <p:spPr>
                <a:xfrm>
                  <a:off x="1814760" y="386640"/>
                  <a:ext cx="455508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6" name=""/>
                <p:cNvGrpSpPr/>
                <p:nvPr/>
              </p:nvGrpSpPr>
              <p:grpSpPr>
                <a:xfrm>
                  <a:off x="1814760" y="386640"/>
                  <a:ext cx="4554720" cy="528480"/>
                  <a:chOff x="1814760" y="386640"/>
                  <a:chExt cx="4554720" cy="528480"/>
                </a:xfrm>
              </p:grpSpPr>
              <p:sp>
                <p:nvSpPr>
                  <p:cNvPr id="147" name=""/>
                  <p:cNvSpPr/>
                  <p:nvPr/>
                </p:nvSpPr>
                <p:spPr>
                  <a:xfrm>
                    <a:off x="1814760" y="386640"/>
                    <a:ext cx="455472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Arial"/>
                        <a:ea typeface="Times New Roman"/>
                      </a:rPr>
                      <a:t>              </a:t>
                    </a:r>
                    <a:r>
                      <a:rPr b="1" lang="es-CL" sz="1600" spc="-1" strike="noStrike">
                        <a:solidFill>
                          <a:srgbClr val="000514"/>
                        </a:solidFill>
                        <a:latin typeface="Arial"/>
                        <a:ea typeface="Times New Roman"/>
                      </a:rPr>
                      <a:t>Tipo de Acuerd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 name=""/>
                  <p:cNvSpPr/>
                  <p:nvPr/>
                </p:nvSpPr>
                <p:spPr>
                  <a:xfrm>
                    <a:off x="1814760" y="386640"/>
                    <a:ext cx="45547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9" name=""/>
              <p:cNvGrpSpPr/>
              <p:nvPr/>
            </p:nvGrpSpPr>
            <p:grpSpPr>
              <a:xfrm>
                <a:off x="6370200" y="386640"/>
                <a:ext cx="1322640" cy="528480"/>
                <a:chOff x="6370200" y="386640"/>
                <a:chExt cx="1322640" cy="528480"/>
              </a:xfrm>
            </p:grpSpPr>
            <p:sp>
              <p:nvSpPr>
                <p:cNvPr id="150" name=""/>
                <p:cNvSpPr/>
                <p:nvPr/>
              </p:nvSpPr>
              <p:spPr>
                <a:xfrm>
                  <a:off x="6370200" y="386640"/>
                  <a:ext cx="1322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6370200" y="386640"/>
                  <a:ext cx="1322280" cy="528480"/>
                  <a:chOff x="6370200" y="386640"/>
                  <a:chExt cx="1322280" cy="528480"/>
                </a:xfrm>
              </p:grpSpPr>
              <p:sp>
                <p:nvSpPr>
                  <p:cNvPr id="152" name=""/>
                  <p:cNvSpPr/>
                  <p:nvPr/>
                </p:nvSpPr>
                <p:spPr>
                  <a:xfrm>
                    <a:off x="6370200" y="386640"/>
                    <a:ext cx="1322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Fecha Firm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3" name=""/>
                  <p:cNvSpPr/>
                  <p:nvPr/>
                </p:nvSpPr>
                <p:spPr>
                  <a:xfrm>
                    <a:off x="6370200" y="386640"/>
                    <a:ext cx="1322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4" name=""/>
              <p:cNvGrpSpPr/>
              <p:nvPr/>
            </p:nvGrpSpPr>
            <p:grpSpPr>
              <a:xfrm>
                <a:off x="7693560" y="386640"/>
                <a:ext cx="1443240" cy="528480"/>
                <a:chOff x="7693560" y="386640"/>
                <a:chExt cx="1443240" cy="528480"/>
              </a:xfrm>
            </p:grpSpPr>
            <p:sp>
              <p:nvSpPr>
                <p:cNvPr id="155" name=""/>
                <p:cNvSpPr/>
                <p:nvPr/>
              </p:nvSpPr>
              <p:spPr>
                <a:xfrm>
                  <a:off x="7693560" y="386640"/>
                  <a:ext cx="14432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6" name=""/>
                <p:cNvGrpSpPr/>
                <p:nvPr/>
              </p:nvGrpSpPr>
              <p:grpSpPr>
                <a:xfrm>
                  <a:off x="7693560" y="386640"/>
                  <a:ext cx="1442880" cy="528480"/>
                  <a:chOff x="7693560" y="386640"/>
                  <a:chExt cx="1442880" cy="528480"/>
                </a:xfrm>
              </p:grpSpPr>
              <p:sp>
                <p:nvSpPr>
                  <p:cNvPr id="157" name=""/>
                  <p:cNvSpPr/>
                  <p:nvPr/>
                </p:nvSpPr>
                <p:spPr>
                  <a:xfrm>
                    <a:off x="7693560" y="386640"/>
                    <a:ext cx="14428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Entrada en Vigenc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8" name=""/>
                  <p:cNvSpPr/>
                  <p:nvPr/>
                </p:nvSpPr>
                <p:spPr>
                  <a:xfrm>
                    <a:off x="7693560" y="386640"/>
                    <a:ext cx="14428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9" name=""/>
              <p:cNvGrpSpPr/>
              <p:nvPr/>
            </p:nvGrpSpPr>
            <p:grpSpPr>
              <a:xfrm>
                <a:off x="5760" y="915480"/>
                <a:ext cx="1808640" cy="528480"/>
                <a:chOff x="5760" y="915480"/>
                <a:chExt cx="1808640" cy="528480"/>
              </a:xfrm>
            </p:grpSpPr>
            <p:sp>
              <p:nvSpPr>
                <p:cNvPr id="160" name=""/>
                <p:cNvSpPr/>
                <p:nvPr/>
              </p:nvSpPr>
              <p:spPr>
                <a:xfrm>
                  <a:off x="5760" y="91548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MEXICO</a:t>
                  </a:r>
                  <a:endParaRPr b="0" lang="en-US" sz="1600" spc="-1" strike="noStrike">
                    <a:solidFill>
                      <a:srgbClr val="ffffff"/>
                    </a:solidFill>
                    <a:latin typeface="Arial"/>
                  </a:endParaRPr>
                </a:p>
              </p:txBody>
            </p:sp>
            <p:sp>
              <p:nvSpPr>
                <p:cNvPr id="161" name=""/>
                <p:cNvSpPr/>
                <p:nvPr/>
              </p:nvSpPr>
              <p:spPr>
                <a:xfrm>
                  <a:off x="5760" y="91548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1814760" y="915480"/>
                <a:ext cx="4555080" cy="528480"/>
                <a:chOff x="1814760" y="915480"/>
                <a:chExt cx="4555080" cy="528480"/>
              </a:xfrm>
            </p:grpSpPr>
            <p:sp>
              <p:nvSpPr>
                <p:cNvPr id="163" name=""/>
                <p:cNvSpPr/>
                <p:nvPr/>
              </p:nvSpPr>
              <p:spPr>
                <a:xfrm>
                  <a:off x="1814760" y="91548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1) 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1814760" y="91548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6370200" y="915480"/>
                <a:ext cx="1322640" cy="528480"/>
                <a:chOff x="6370200" y="915480"/>
                <a:chExt cx="1322640" cy="528480"/>
              </a:xfrm>
            </p:grpSpPr>
            <p:sp>
              <p:nvSpPr>
                <p:cNvPr id="166" name=""/>
                <p:cNvSpPr/>
                <p:nvPr/>
              </p:nvSpPr>
              <p:spPr>
                <a:xfrm>
                  <a:off x="6370200" y="91548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17 de abril de 199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7" name=""/>
                <p:cNvSpPr/>
                <p:nvPr/>
              </p:nvSpPr>
              <p:spPr>
                <a:xfrm>
                  <a:off x="6370200" y="91548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7693560" y="915480"/>
                <a:ext cx="1443240" cy="528480"/>
                <a:chOff x="7693560" y="915480"/>
                <a:chExt cx="1443240" cy="528480"/>
              </a:xfrm>
            </p:grpSpPr>
            <p:sp>
              <p:nvSpPr>
                <p:cNvPr id="169" name=""/>
                <p:cNvSpPr/>
                <p:nvPr/>
              </p:nvSpPr>
              <p:spPr>
                <a:xfrm>
                  <a:off x="7693560" y="91548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agosto de 199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0" name=""/>
                <p:cNvSpPr/>
                <p:nvPr/>
              </p:nvSpPr>
              <p:spPr>
                <a:xfrm>
                  <a:off x="7693560" y="91548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5760" y="1444320"/>
                <a:ext cx="1808640" cy="633960"/>
                <a:chOff x="5760" y="1444320"/>
                <a:chExt cx="1808640" cy="633960"/>
              </a:xfrm>
            </p:grpSpPr>
            <p:sp>
              <p:nvSpPr>
                <p:cNvPr id="172" name=""/>
                <p:cNvSpPr/>
                <p:nvPr/>
              </p:nvSpPr>
              <p:spPr>
                <a:xfrm>
                  <a:off x="5760" y="1444320"/>
                  <a:ext cx="1808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OLOMB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
                <p:cNvSpPr/>
                <p:nvPr/>
              </p:nvSpPr>
              <p:spPr>
                <a:xfrm>
                  <a:off x="5760" y="1444320"/>
                  <a:ext cx="1808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1814760" y="1444320"/>
                <a:ext cx="4555080" cy="633960"/>
                <a:chOff x="1814760" y="1444320"/>
                <a:chExt cx="4555080" cy="633960"/>
              </a:xfrm>
            </p:grpSpPr>
            <p:sp>
              <p:nvSpPr>
                <p:cNvPr id="175" name=""/>
                <p:cNvSpPr/>
                <p:nvPr/>
              </p:nvSpPr>
              <p:spPr>
                <a:xfrm>
                  <a:off x="1814760" y="1444320"/>
                  <a:ext cx="455508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
                <p:cNvSpPr/>
                <p:nvPr/>
              </p:nvSpPr>
              <p:spPr>
                <a:xfrm>
                  <a:off x="1814760" y="1444320"/>
                  <a:ext cx="455508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6370200" y="1444320"/>
                <a:ext cx="1322640" cy="633960"/>
                <a:chOff x="6370200" y="1444320"/>
                <a:chExt cx="1322640" cy="633960"/>
              </a:xfrm>
            </p:grpSpPr>
            <p:sp>
              <p:nvSpPr>
                <p:cNvPr id="178" name=""/>
                <p:cNvSpPr/>
                <p:nvPr/>
              </p:nvSpPr>
              <p:spPr>
                <a:xfrm>
                  <a:off x="6370200" y="1444320"/>
                  <a:ext cx="1322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7 de noviembre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6370200" y="1444320"/>
                  <a:ext cx="1322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7693560" y="1444320"/>
                <a:ext cx="1443240" cy="633960"/>
                <a:chOff x="7693560" y="1444320"/>
                <a:chExt cx="1443240" cy="633960"/>
              </a:xfrm>
            </p:grpSpPr>
            <p:sp>
              <p:nvSpPr>
                <p:cNvPr id="181" name=""/>
                <p:cNvSpPr/>
                <p:nvPr/>
              </p:nvSpPr>
              <p:spPr>
                <a:xfrm>
                  <a:off x="7693560" y="1444320"/>
                  <a:ext cx="14432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cc00"/>
                      </a:solidFill>
                      <a:latin typeface="Arial"/>
                      <a:ea typeface="Times New Roman"/>
                    </a:rPr>
                    <a:t>Falta concluir tramitacion parlamentaria</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2" name=""/>
                <p:cNvSpPr/>
                <p:nvPr/>
              </p:nvSpPr>
              <p:spPr>
                <a:xfrm>
                  <a:off x="7693560" y="1444320"/>
                  <a:ext cx="14432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5760" y="2078640"/>
                <a:ext cx="1808640" cy="528480"/>
                <a:chOff x="5760" y="2078640"/>
                <a:chExt cx="1808640" cy="528480"/>
              </a:xfrm>
            </p:grpSpPr>
            <p:sp>
              <p:nvSpPr>
                <p:cNvPr id="184" name=""/>
                <p:cNvSpPr/>
                <p:nvPr/>
              </p:nvSpPr>
              <p:spPr>
                <a:xfrm>
                  <a:off x="5760" y="20786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Peru</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5760" y="20786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1814760" y="2078640"/>
                <a:ext cx="4555080" cy="528480"/>
                <a:chOff x="1814760" y="2078640"/>
                <a:chExt cx="4555080" cy="528480"/>
              </a:xfrm>
            </p:grpSpPr>
            <p:sp>
              <p:nvSpPr>
                <p:cNvPr id="187" name=""/>
                <p:cNvSpPr/>
                <p:nvPr/>
              </p:nvSpPr>
              <p:spPr>
                <a:xfrm>
                  <a:off x="1814760" y="20786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
                <p:cNvSpPr/>
                <p:nvPr/>
              </p:nvSpPr>
              <p:spPr>
                <a:xfrm>
                  <a:off x="1814760" y="20786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6370200" y="2078640"/>
                <a:ext cx="1322640" cy="528480"/>
                <a:chOff x="6370200" y="2078640"/>
                <a:chExt cx="1322640" cy="528480"/>
              </a:xfrm>
            </p:grpSpPr>
            <p:sp>
              <p:nvSpPr>
                <p:cNvPr id="190" name=""/>
                <p:cNvSpPr/>
                <p:nvPr/>
              </p:nvSpPr>
              <p:spPr>
                <a:xfrm>
                  <a:off x="6370200" y="20786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2 de agosto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
                <p:cNvSpPr/>
                <p:nvPr/>
              </p:nvSpPr>
              <p:spPr>
                <a:xfrm>
                  <a:off x="6370200" y="20786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7693560" y="2078640"/>
                <a:ext cx="1443240" cy="528480"/>
                <a:chOff x="7693560" y="2078640"/>
                <a:chExt cx="1443240" cy="528480"/>
              </a:xfrm>
            </p:grpSpPr>
            <p:sp>
              <p:nvSpPr>
                <p:cNvPr id="193" name=""/>
                <p:cNvSpPr/>
                <p:nvPr/>
              </p:nvSpPr>
              <p:spPr>
                <a:xfrm>
                  <a:off x="7693560" y="20786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marzo de 2009</a:t>
                  </a:r>
                  <a:r>
                    <a:rPr b="1" lang="es-CL"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94" name=""/>
                <p:cNvSpPr/>
                <p:nvPr/>
              </p:nvSpPr>
              <p:spPr>
                <a:xfrm>
                  <a:off x="7693560" y="20786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5760" y="2607120"/>
                <a:ext cx="1808640" cy="528480"/>
                <a:chOff x="5760" y="2607120"/>
                <a:chExt cx="1808640" cy="528480"/>
              </a:xfrm>
            </p:grpSpPr>
            <p:sp>
              <p:nvSpPr>
                <p:cNvPr id="196" name=""/>
                <p:cNvSpPr/>
                <p:nvPr/>
              </p:nvSpPr>
              <p:spPr>
                <a:xfrm>
                  <a:off x="5760" y="26071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Ecuad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
                <p:cNvSpPr/>
                <p:nvPr/>
              </p:nvSpPr>
              <p:spPr>
                <a:xfrm>
                  <a:off x="5760" y="26071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1814760" y="2607120"/>
                <a:ext cx="4555080" cy="528480"/>
                <a:chOff x="1814760" y="2607120"/>
                <a:chExt cx="4555080" cy="528480"/>
              </a:xfrm>
            </p:grpSpPr>
            <p:sp>
              <p:nvSpPr>
                <p:cNvPr id="199" name=""/>
                <p:cNvSpPr/>
                <p:nvPr/>
              </p:nvSpPr>
              <p:spPr>
                <a:xfrm>
                  <a:off x="1814760" y="26071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2) Acuerdo de Complementacion Economica Nº 3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0" name=""/>
                <p:cNvSpPr/>
                <p:nvPr/>
              </p:nvSpPr>
              <p:spPr>
                <a:xfrm>
                  <a:off x="1814760" y="26071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6370200" y="2607120"/>
                <a:ext cx="1322640" cy="528480"/>
                <a:chOff x="6370200" y="2607120"/>
                <a:chExt cx="1322640" cy="528480"/>
              </a:xfrm>
            </p:grpSpPr>
            <p:sp>
              <p:nvSpPr>
                <p:cNvPr id="202" name=""/>
                <p:cNvSpPr/>
                <p:nvPr/>
              </p:nvSpPr>
              <p:spPr>
                <a:xfrm>
                  <a:off x="6370200" y="26071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cc00"/>
                      </a:solidFill>
                      <a:latin typeface="Arial"/>
                      <a:ea typeface="Times New Roman"/>
                    </a:rPr>
                    <a:t>20 de diciembre de 199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
                <p:cNvSpPr/>
                <p:nvPr/>
              </p:nvSpPr>
              <p:spPr>
                <a:xfrm>
                  <a:off x="6370200" y="26071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7693560" y="2607120"/>
                <a:ext cx="1443240" cy="528480"/>
                <a:chOff x="7693560" y="2607120"/>
                <a:chExt cx="1443240" cy="528480"/>
              </a:xfrm>
            </p:grpSpPr>
            <p:sp>
              <p:nvSpPr>
                <p:cNvPr id="205" name=""/>
                <p:cNvSpPr/>
                <p:nvPr/>
              </p:nvSpPr>
              <p:spPr>
                <a:xfrm>
                  <a:off x="7693560" y="26071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enero de 19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
                <p:cNvSpPr/>
                <p:nvPr/>
              </p:nvSpPr>
              <p:spPr>
                <a:xfrm>
                  <a:off x="7693560" y="26071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5760" y="3135960"/>
                <a:ext cx="1808640" cy="528120"/>
                <a:chOff x="5760" y="3135960"/>
                <a:chExt cx="1808640" cy="528120"/>
              </a:xfrm>
            </p:grpSpPr>
            <p:sp>
              <p:nvSpPr>
                <p:cNvPr id="208" name=""/>
                <p:cNvSpPr/>
                <p:nvPr/>
              </p:nvSpPr>
              <p:spPr>
                <a:xfrm>
                  <a:off x="5760" y="3135960"/>
                  <a:ext cx="1808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Boliv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9" name=""/>
                <p:cNvSpPr/>
                <p:nvPr/>
              </p:nvSpPr>
              <p:spPr>
                <a:xfrm>
                  <a:off x="5760" y="3135960"/>
                  <a:ext cx="1808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1814760" y="3135960"/>
                <a:ext cx="4555080" cy="528120"/>
                <a:chOff x="1814760" y="3135960"/>
                <a:chExt cx="4555080" cy="528120"/>
              </a:xfrm>
            </p:grpSpPr>
            <p:sp>
              <p:nvSpPr>
                <p:cNvPr id="211" name=""/>
                <p:cNvSpPr/>
                <p:nvPr/>
              </p:nvSpPr>
              <p:spPr>
                <a:xfrm>
                  <a:off x="1814760" y="3135960"/>
                  <a:ext cx="455508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2" name=""/>
                <p:cNvSpPr/>
                <p:nvPr/>
              </p:nvSpPr>
              <p:spPr>
                <a:xfrm>
                  <a:off x="1814760" y="3135960"/>
                  <a:ext cx="455508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6370200" y="3135960"/>
                <a:ext cx="1322640" cy="528120"/>
                <a:chOff x="6370200" y="3135960"/>
                <a:chExt cx="1322640" cy="528120"/>
              </a:xfrm>
            </p:grpSpPr>
            <p:sp>
              <p:nvSpPr>
                <p:cNvPr id="214" name=""/>
                <p:cNvSpPr/>
                <p:nvPr/>
              </p:nvSpPr>
              <p:spPr>
                <a:xfrm>
                  <a:off x="6370200" y="3135960"/>
                  <a:ext cx="1322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6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
                <p:cNvSpPr/>
                <p:nvPr/>
              </p:nvSpPr>
              <p:spPr>
                <a:xfrm>
                  <a:off x="6370200" y="3135960"/>
                  <a:ext cx="1322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7693560" y="3135960"/>
                <a:ext cx="1443240" cy="528120"/>
                <a:chOff x="7693560" y="3135960"/>
                <a:chExt cx="1443240" cy="528120"/>
              </a:xfrm>
            </p:grpSpPr>
            <p:sp>
              <p:nvSpPr>
                <p:cNvPr id="217" name=""/>
                <p:cNvSpPr/>
                <p:nvPr/>
              </p:nvSpPr>
              <p:spPr>
                <a:xfrm>
                  <a:off x="7693560" y="3135960"/>
                  <a:ext cx="14432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7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
                <p:cNvSpPr/>
                <p:nvPr/>
              </p:nvSpPr>
              <p:spPr>
                <a:xfrm>
                  <a:off x="7693560" y="3135960"/>
                  <a:ext cx="14432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 name=""/>
              <p:cNvGrpSpPr/>
              <p:nvPr/>
            </p:nvGrpSpPr>
            <p:grpSpPr>
              <a:xfrm>
                <a:off x="5760" y="3664440"/>
                <a:ext cx="1808640" cy="528480"/>
                <a:chOff x="5760" y="3664440"/>
                <a:chExt cx="1808640" cy="528480"/>
              </a:xfrm>
            </p:grpSpPr>
            <p:sp>
              <p:nvSpPr>
                <p:cNvPr id="220" name=""/>
                <p:cNvSpPr/>
                <p:nvPr/>
              </p:nvSpPr>
              <p:spPr>
                <a:xfrm>
                  <a:off x="5760" y="36644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Venezuel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
                <p:cNvSpPr/>
                <p:nvPr/>
              </p:nvSpPr>
              <p:spPr>
                <a:xfrm>
                  <a:off x="5760" y="36644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2" name=""/>
              <p:cNvGrpSpPr/>
              <p:nvPr/>
            </p:nvGrpSpPr>
            <p:grpSpPr>
              <a:xfrm>
                <a:off x="1814760" y="3664440"/>
                <a:ext cx="4555080" cy="528480"/>
                <a:chOff x="1814760" y="3664440"/>
                <a:chExt cx="4555080" cy="528480"/>
              </a:xfrm>
            </p:grpSpPr>
            <p:sp>
              <p:nvSpPr>
                <p:cNvPr id="223" name=""/>
                <p:cNvSpPr/>
                <p:nvPr/>
              </p:nvSpPr>
              <p:spPr>
                <a:xfrm>
                  <a:off x="1814760" y="36644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1814760" y="36644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5" name=""/>
              <p:cNvGrpSpPr/>
              <p:nvPr/>
            </p:nvGrpSpPr>
            <p:grpSpPr>
              <a:xfrm>
                <a:off x="6370200" y="3664440"/>
                <a:ext cx="1322640" cy="528480"/>
                <a:chOff x="6370200" y="3664440"/>
                <a:chExt cx="1322640" cy="528480"/>
              </a:xfrm>
            </p:grpSpPr>
            <p:sp>
              <p:nvSpPr>
                <p:cNvPr id="226" name=""/>
                <p:cNvSpPr/>
                <p:nvPr/>
              </p:nvSpPr>
              <p:spPr>
                <a:xfrm>
                  <a:off x="6370200" y="36644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2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
                <p:cNvSpPr/>
                <p:nvPr/>
              </p:nvSpPr>
              <p:spPr>
                <a:xfrm>
                  <a:off x="6370200" y="36644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7693560" y="3664440"/>
                <a:ext cx="1443240" cy="528480"/>
                <a:chOff x="7693560" y="3664440"/>
                <a:chExt cx="1443240" cy="528480"/>
              </a:xfrm>
            </p:grpSpPr>
            <p:sp>
              <p:nvSpPr>
                <p:cNvPr id="229" name=""/>
                <p:cNvSpPr/>
                <p:nvPr/>
              </p:nvSpPr>
              <p:spPr>
                <a:xfrm>
                  <a:off x="7693560" y="36644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
                <p:cNvSpPr/>
                <p:nvPr/>
              </p:nvSpPr>
              <p:spPr>
                <a:xfrm>
                  <a:off x="7693560" y="36644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1" name=""/>
              <p:cNvGrpSpPr/>
              <p:nvPr/>
            </p:nvGrpSpPr>
            <p:grpSpPr>
              <a:xfrm>
                <a:off x="5760" y="4192920"/>
                <a:ext cx="1808640" cy="528480"/>
                <a:chOff x="5760" y="4192920"/>
                <a:chExt cx="1808640" cy="528480"/>
              </a:xfrm>
            </p:grpSpPr>
            <p:sp>
              <p:nvSpPr>
                <p:cNvPr id="232" name=""/>
                <p:cNvSpPr/>
                <p:nvPr/>
              </p:nvSpPr>
              <p:spPr>
                <a:xfrm>
                  <a:off x="5760" y="41929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uba</a:t>
                  </a:r>
                  <a:endParaRPr b="0" lang="en-US" sz="1600" spc="-1" strike="noStrike">
                    <a:solidFill>
                      <a:srgbClr val="ffffff"/>
                    </a:solidFill>
                    <a:latin typeface="Arial"/>
                  </a:endParaRPr>
                </a:p>
              </p:txBody>
            </p:sp>
            <p:sp>
              <p:nvSpPr>
                <p:cNvPr id="233" name=""/>
                <p:cNvSpPr/>
                <p:nvPr/>
              </p:nvSpPr>
              <p:spPr>
                <a:xfrm>
                  <a:off x="5760" y="41929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4" name=""/>
              <p:cNvGrpSpPr/>
              <p:nvPr/>
            </p:nvGrpSpPr>
            <p:grpSpPr>
              <a:xfrm>
                <a:off x="1814760" y="4192920"/>
                <a:ext cx="4555080" cy="528480"/>
                <a:chOff x="1814760" y="4192920"/>
                <a:chExt cx="4555080" cy="528480"/>
              </a:xfrm>
            </p:grpSpPr>
            <p:sp>
              <p:nvSpPr>
                <p:cNvPr id="235" name=""/>
                <p:cNvSpPr/>
                <p:nvPr/>
              </p:nvSpPr>
              <p:spPr>
                <a:xfrm>
                  <a:off x="1814760" y="41929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3) Acuerdo de Alcance Parci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 name=""/>
                <p:cNvSpPr/>
                <p:nvPr/>
              </p:nvSpPr>
              <p:spPr>
                <a:xfrm>
                  <a:off x="1814760" y="41929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7" name=""/>
              <p:cNvGrpSpPr/>
              <p:nvPr/>
            </p:nvGrpSpPr>
            <p:grpSpPr>
              <a:xfrm>
                <a:off x="6370200" y="4192920"/>
                <a:ext cx="1322640" cy="528480"/>
                <a:chOff x="6370200" y="4192920"/>
                <a:chExt cx="1322640" cy="528480"/>
              </a:xfrm>
            </p:grpSpPr>
            <p:sp>
              <p:nvSpPr>
                <p:cNvPr id="238" name=""/>
                <p:cNvSpPr/>
                <p:nvPr/>
              </p:nvSpPr>
              <p:spPr>
                <a:xfrm>
                  <a:off x="6370200" y="41929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0 de Diciembre de 1999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
                <p:cNvSpPr/>
                <p:nvPr/>
              </p:nvSpPr>
              <p:spPr>
                <a:xfrm>
                  <a:off x="6370200" y="41929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0" name=""/>
              <p:cNvGrpSpPr/>
              <p:nvPr/>
            </p:nvGrpSpPr>
            <p:grpSpPr>
              <a:xfrm>
                <a:off x="7693560" y="4192920"/>
                <a:ext cx="1443240" cy="528480"/>
                <a:chOff x="7693560" y="4192920"/>
                <a:chExt cx="1443240" cy="528480"/>
              </a:xfrm>
            </p:grpSpPr>
            <p:sp>
              <p:nvSpPr>
                <p:cNvPr id="241" name=""/>
                <p:cNvSpPr/>
                <p:nvPr/>
              </p:nvSpPr>
              <p:spPr>
                <a:xfrm>
                  <a:off x="7693560" y="41929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8 de Agosto de 200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
                <p:cNvSpPr/>
                <p:nvPr/>
              </p:nvSpPr>
              <p:spPr>
                <a:xfrm>
                  <a:off x="7693560" y="41929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3" name=""/>
              <p:cNvGrpSpPr/>
              <p:nvPr/>
            </p:nvGrpSpPr>
            <p:grpSpPr>
              <a:xfrm>
                <a:off x="5760" y="4721760"/>
                <a:ext cx="9131040" cy="739800"/>
                <a:chOff x="5760" y="4721760"/>
                <a:chExt cx="9131040" cy="739800"/>
              </a:xfrm>
            </p:grpSpPr>
            <p:sp>
              <p:nvSpPr>
                <p:cNvPr id="244" name=""/>
                <p:cNvSpPr/>
                <p:nvPr/>
              </p:nvSpPr>
              <p:spPr>
                <a:xfrm>
                  <a:off x="5760" y="4721760"/>
                  <a:ext cx="913104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1) </a:t>
                  </a:r>
                  <a:r>
                    <a:rPr b="0" lang="es-CL" sz="1000" spc="-1" strike="noStrike">
                      <a:solidFill>
                        <a:srgbClr val="ffffff"/>
                      </a:solidFill>
                      <a:latin typeface="Arial"/>
                      <a:ea typeface="Times New Roman"/>
                    </a:rPr>
                    <a:t>Es un acuerdo bilateral que persigue crear una zona de libre comercio que garantice la libre circulación de bienes, servicios y capitales, mediante una armonización de políticas y normas jurídicas pertinentes. Éstas deben asegurar bases competitivas homologables o comunes en ámbitos no directamente comerciales, pero que pueden tener una alta incidencia competitiva (medio ambiente, sanidad y fitosanidad, obstáculos técnicos al comercio, propiedad intelectual, solución de controversias, seguridad jurídica, etc.)</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45" name=""/>
                <p:cNvSpPr/>
                <p:nvPr/>
              </p:nvSpPr>
              <p:spPr>
                <a:xfrm>
                  <a:off x="5760" y="4721760"/>
                  <a:ext cx="9131040" cy="73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6" name=""/>
              <p:cNvGrpSpPr/>
              <p:nvPr/>
            </p:nvGrpSpPr>
            <p:grpSpPr>
              <a:xfrm>
                <a:off x="5760" y="5461920"/>
                <a:ext cx="9131040" cy="633960"/>
                <a:chOff x="5760" y="5461920"/>
                <a:chExt cx="9131040" cy="633960"/>
              </a:xfrm>
            </p:grpSpPr>
            <p:sp>
              <p:nvSpPr>
                <p:cNvPr id="247" name=""/>
                <p:cNvSpPr/>
                <p:nvPr/>
              </p:nvSpPr>
              <p:spPr>
                <a:xfrm>
                  <a:off x="5760" y="5461920"/>
                  <a:ext cx="91310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ea typeface="Times New Roman"/>
                    </a:rPr>
                    <a:t>(2) </a:t>
                  </a:r>
                  <a:r>
                    <a:rPr b="0" lang="es-CL" sz="1200" spc="-1" strike="noStrike">
                      <a:solidFill>
                        <a:srgbClr val="ffffff"/>
                      </a:solidFill>
                      <a:latin typeface="Arial"/>
                      <a:ea typeface="Times New Roman"/>
                    </a:rPr>
                    <a:t>Es la denominación que usan los países latinoamericanos en los acuerdos bilaterales que contraen entre sí para abrir recíprocamente sus mercados de mercancías, los que se inscriben en el marco jurídico de la ALADI. Los ACE apuntan a objetivos integradores de apertura de mercados mayores que los acuerdos de alcance parcial.</a:t>
                  </a:r>
                  <a:endParaRPr b="0" lang="en-US" sz="1200" spc="-1" strike="noStrike">
                    <a:solidFill>
                      <a:srgbClr val="ffffff"/>
                    </a:solidFill>
                    <a:latin typeface="Arial"/>
                  </a:endParaRPr>
                </a:p>
              </p:txBody>
            </p:sp>
            <p:sp>
              <p:nvSpPr>
                <p:cNvPr id="248" name=""/>
                <p:cNvSpPr/>
                <p:nvPr/>
              </p:nvSpPr>
              <p:spPr>
                <a:xfrm>
                  <a:off x="5760" y="5461920"/>
                  <a:ext cx="91310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9" name=""/>
              <p:cNvGrpSpPr/>
              <p:nvPr/>
            </p:nvGrpSpPr>
            <p:grpSpPr>
              <a:xfrm>
                <a:off x="5760" y="6096240"/>
                <a:ext cx="9131040" cy="528480"/>
                <a:chOff x="5760" y="6096240"/>
                <a:chExt cx="9131040" cy="528480"/>
              </a:xfrm>
            </p:grpSpPr>
            <p:sp>
              <p:nvSpPr>
                <p:cNvPr id="250" name=""/>
                <p:cNvSpPr/>
                <p:nvPr/>
              </p:nvSpPr>
              <p:spPr>
                <a:xfrm>
                  <a:off x="5760" y="6096240"/>
                  <a:ext cx="91310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a:t>
                  </a:r>
                  <a:r>
                    <a:rPr b="1" lang="es-CL" sz="1200" spc="-1" strike="noStrike">
                      <a:solidFill>
                        <a:srgbClr val="ffffff"/>
                      </a:solidFill>
                      <a:latin typeface="Arial"/>
                      <a:ea typeface="Times New Roman"/>
                    </a:rPr>
                    <a:t>3) </a:t>
                  </a:r>
                  <a:r>
                    <a:rPr b="0" lang="es-CL" sz="1200" spc="-1" strike="noStrike">
                      <a:solidFill>
                        <a:srgbClr val="ffffff"/>
                      </a:solidFill>
                      <a:latin typeface="Arial"/>
                      <a:ea typeface="Times New Roman"/>
                    </a:rPr>
                    <a:t>Es el tipo de acuerdo bilateral más básico en materias arancelarias que persigue liberar parcialmente el comercio de listados acotados de productos. Normalmente se le concibe como una primera etapa en un proceso de apertura mayor a largo plaz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
                <p:cNvSpPr/>
                <p:nvPr/>
              </p:nvSpPr>
              <p:spPr>
                <a:xfrm>
                  <a:off x="5760" y="6096240"/>
                  <a:ext cx="91310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52" name=""/>
            <p:cNvSpPr/>
            <p:nvPr/>
          </p:nvSpPr>
          <p:spPr>
            <a:xfrm>
              <a:off x="0" y="0"/>
              <a:ext cx="9143640" cy="6629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2"/>
          </p:nvPr>
        </p:nvSpPr>
        <p:spPr/>
        <p:txBody>
          <a:bodyPr/>
          <a:p>
            <a:fld id="{A9A6C56E-CD93-4882-9A64-899657F33AA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bjetivos:</a:t>
            </a:r>
            <a:endParaRPr b="1" lang="en-US" sz="4400" spc="-1" strike="noStrike">
              <a:solidFill>
                <a:srgbClr val="e5e5ff"/>
              </a:solidFill>
              <a:latin typeface="Garamond"/>
            </a:endParaRPr>
          </a:p>
        </p:txBody>
      </p:sp>
      <p:sp>
        <p:nvSpPr>
          <p:cNvPr id="104"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rtalecer los lazos de amistad entre los pueblos de América Latina.</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enerar y acelerar la integración económica regional – a objeto de mejorar el nivel de vida de los pueblo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ver el desarrollo económico-social, armónico y equilibrado de la región. (Art. 1)</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blecer en forma gradual y progresiva, un mercado común latinoamericano.</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0E3AA9F-1E1D-4EB2-820E-F8AFDFEB4D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arrollo de funciones básicas a sab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Promoción y regulación del comerc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recíproc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La complementación económic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cciones de cooperación a fin de ampliar lo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rcados.</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F9962871-9D5B-4A88-AB17-42284F956D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Principios rectores de la ALADI.</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Se encuentran consignados en el Art. 3 Tratado de Montevide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FA4445C-2AA0-440C-B366-89007B3B81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Sustentado en la voluntad de los países  </a:t>
            </a:r>
            <a:r>
              <a:rPr b="0" lang="es-ES" sz="3200" spc="-1" strike="noStrike">
                <a:solidFill>
                  <a:srgbClr val="ffffff"/>
                </a:solidFill>
                <a:latin typeface="Garamond"/>
              </a:rPr>
              <a:t>	</a:t>
            </a:r>
            <a:r>
              <a:rPr b="0" lang="es-ES" sz="3200" spc="-1" strike="noStrike">
                <a:solidFill>
                  <a:srgbClr val="ffffff"/>
                </a:solidFill>
                <a:latin typeface="Garamond"/>
              </a:rPr>
              <a:t>miembr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barca materias tanto políticas como </a:t>
            </a:r>
            <a:r>
              <a:rPr b="0" lang="es-ES" sz="3200" spc="-1" strike="noStrike">
                <a:solidFill>
                  <a:srgbClr val="ffffff"/>
                </a:solidFill>
                <a:latin typeface="Garamond"/>
              </a:rPr>
              <a:t>	</a:t>
            </a:r>
            <a:r>
              <a:rPr b="0" lang="es-ES" sz="3200" spc="-1" strike="noStrike">
                <a:solidFill>
                  <a:srgbClr val="ffffff"/>
                </a:solidFill>
                <a:latin typeface="Garamond"/>
              </a:rPr>
              <a:t>económic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2F20C641-A99A-4FFD-813C-CF47FFA5F2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Es el de mayor importa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Multilateralización progresiva de los acuerdos de          alcance parcial – hacia la formación de un mercado común latinoamerican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Negociaciones periódicas entre los países miembro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CAF4623A-BB2A-401E-8B50-9DAD462AD3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ermite celebración de acuerdos de alcance parci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Regulado de manera compatible con el principio de convergencia y el fortalecimiento de los vínculos de integración.</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39F2568C-1E94-43B2-A18F-90AF5CD927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determina en cada cas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anto mecanismos de alcance parcial como region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bre base de desarrollo de los países miembros- será más favorable a los países de menor desarrollo relativ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E8739D8-FA7D-4DEB-83FF-22B75B3D42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20:26:11Z</dcterms:created>
  <dc:creator>Sebastian Quiroz</dc:creator>
  <dc:description/>
  <dc:language>en-US</dc:language>
  <cp:lastModifiedBy>Judith María Baeza Henríquez</cp:lastModifiedBy>
  <dcterms:modified xsi:type="dcterms:W3CDTF">2009-04-23T16:49:18Z</dcterms:modified>
  <cp:revision>10</cp:revision>
  <dc:subject/>
  <dc:title>   ALADI</dc:title>
</cp:coreProperties>
</file>