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01FD652-61BA-4CE9-961F-24788DF99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3EFDF1E-806D-44A1-98D7-9057158E8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6FFDF6A-7DF9-4353-B785-5371D5B06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713C093-BD99-4C25-BF42-528687FF7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925F82-EF94-4C68-819E-2DA6F1B5C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3F45F-D9D1-4010-83FC-22B48E20E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FB47E-8F6A-4B63-8AC5-0F6B5FF98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119A7-4084-4912-8661-6B1A03AEE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71886-6C73-4B90-9990-0A4107B5B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B2C12-0B02-48BB-8F28-0F6C7D5A4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E0501-8EEF-40FD-817D-6578C1B94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94AC837-619D-41C7-8C9E-05BB81D01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E6082-3366-4713-A13B-8B957F11E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11A95-D8B4-404E-A7CE-6C7FAFF67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843AB-6004-4C66-861E-AFDB0F94D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6AC0E4-5C31-4966-A601-28344A763E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AF859A-237D-4BC1-B413-E0384874AF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7FE7981-963D-41D7-8E61-DC344850F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87EA5EF-65C8-41E4-8930-57D416D5B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A3174E0-CDC6-4FDD-B95A-65E270040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39104F3-5F9A-40A3-AFC6-BD11700A0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81A08E-814D-4E34-A7D4-2A480D230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C94579-0C75-4819-97D5-F15466ABB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D7B292-4B2E-49F2-981C-56CA59FF5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5507-93D9-4E5C-B260-4882E5F9664F}" type="slidenum">
              <a:rPr b="0" lang="es-CL"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12A3-DF0D-42C8-A37F-44EA5FAD1635}" type="slidenum">
              <a:rPr b="0" lang="es-CL"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	</a:t>
            </a:r>
            <a:r>
              <a:rPr b="1" lang="es-ES" sz="4400" spc="-1" strike="noStrike">
                <a:solidFill>
                  <a:srgbClr val="e5e5ff"/>
                </a:solidFill>
                <a:latin typeface="Garamond"/>
              </a:rPr>
              <a:t>	</a:t>
            </a:r>
            <a:r>
              <a:rPr b="1" lang="es-ES" sz="4400" spc="-1" strike="noStrike">
                <a:solidFill>
                  <a:srgbClr val="e5e5ff"/>
                </a:solidFill>
                <a:latin typeface="Garamond"/>
              </a:rPr>
              <a:t>	</a:t>
            </a:r>
            <a:r>
              <a:rPr b="1" lang="es-ES" sz="4400" spc="-1" strike="noStrike" u="sng">
                <a:solidFill>
                  <a:srgbClr val="e5e5ff"/>
                </a:solidFill>
                <a:uFillTx/>
                <a:latin typeface="Garamond"/>
              </a:rPr>
              <a:t>ALADI</a:t>
            </a: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3600" spc="-1" strike="noStrike">
                <a:solidFill>
                  <a:srgbClr val="ffffff"/>
                </a:solidFill>
                <a:latin typeface="Garamond"/>
              </a:rPr>
              <a:t>Asociación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Latinoamericana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De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Integración</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2000" spc="-1" strike="noStrike">
                <a:solidFill>
                  <a:srgbClr val="ffffff"/>
                </a:solidFill>
                <a:latin typeface="Garamond"/>
              </a:rPr>
              <a:t>Profesora: Iris Vittini G.</a:t>
            </a:r>
            <a:endParaRPr b="0" lang="en-US" sz="2000" spc="-1" strike="noStrike">
              <a:solidFill>
                <a:srgbClr val="ffffff"/>
              </a:solidFill>
              <a:latin typeface="Garamond"/>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                                                                 </a:t>
            </a:r>
            <a:r>
              <a:rPr b="1" lang="es-ES" sz="2000" spc="-1" strike="noStrike">
                <a:solidFill>
                  <a:srgbClr val="ffffff"/>
                </a:solidFill>
                <a:latin typeface="Garamond"/>
              </a:rPr>
              <a:t>Ayudante: Judith Baeza H.</a:t>
            </a:r>
            <a:endParaRPr b="0" lang="en-US" sz="2000" spc="-1" strike="noStrike">
              <a:solidFill>
                <a:srgbClr val="ffffff"/>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pic>
        <p:nvPicPr>
          <p:cNvPr id="101" name="" descr=""/>
          <p:cNvPicPr/>
          <p:nvPr/>
        </p:nvPicPr>
        <p:blipFill>
          <a:blip r:embed="rId1"/>
          <a:stretch/>
        </p:blipFill>
        <p:spPr>
          <a:xfrm>
            <a:off x="395280" y="380880"/>
            <a:ext cx="4081320" cy="6000840"/>
          </a:xfrm>
          <a:prstGeom prst="rect">
            <a:avLst/>
          </a:prstGeom>
          <a:ln w="0">
            <a:noFill/>
          </a:ln>
        </p:spPr>
      </p:pic>
      <p:sp>
        <p:nvSpPr>
          <p:cNvPr id="4" name="PlaceHolder 3"/>
          <p:cNvSpPr>
            <a:spLocks noGrp="1"/>
          </p:cNvSpPr>
          <p:nvPr>
            <p:ph type="sldNum" idx="2"/>
          </p:nvPr>
        </p:nvSpPr>
        <p:spPr/>
        <p:txBody>
          <a:bodyPr/>
          <a:p>
            <a:fld id="{09E672A0-C013-4229-91E9-E81F7C68E8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ultiplic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Posibilita distintas formas de concertación entre los países miembros – Instrumentos comercial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armonía con los objetivos y funciones del proceso de integración. </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inamizar y ampliar mercados</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E5BED895-63D6-4A11-A653-D77C88B0CD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Mecanismos </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LADI propicia la creación de un área de preferencias económicas en la región, con el objetivo final de lograr un mercado común latinoamericano, mediante tres mecanismos: </a:t>
            </a:r>
            <a:endParaRPr b="0" lang="en-US" sz="3200" spc="-1" strike="noStrike">
              <a:solidFill>
                <a:srgbClr val="ffffff"/>
              </a:solidFill>
              <a:latin typeface="Garamond"/>
            </a:endParaRPr>
          </a:p>
          <a:p>
            <a:pPr marL="560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eferencia arancelaria regional.</a:t>
            </a: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cuerdos de alcance regional.</a:t>
            </a: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cuerdos de alcance parcial.</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9FAF5871-2109-4359-AD77-FE71394ED1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Preferencia arancelaria regional:</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rt. 5: </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i="1" lang="es-ES" sz="3200" spc="-1" strike="noStrike">
                <a:solidFill>
                  <a:srgbClr val="ffffff"/>
                </a:solidFill>
                <a:latin typeface="Garamond"/>
              </a:rPr>
              <a:t>“ </a:t>
            </a:r>
            <a:r>
              <a:rPr b="0" i="1" lang="es-ES" sz="3200" spc="-1" strike="noStrike">
                <a:solidFill>
                  <a:srgbClr val="ffffff"/>
                </a:solidFill>
                <a:latin typeface="Garamond"/>
              </a:rPr>
              <a:t>Los países mienbros se otorgarán recíprocamente una preferencia arancelaria regional, que se aplicará con referencia al nivel que rija para terceros países y se sujetará a la regalementación correspondiente”</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Garamond"/>
              </a:rPr>
              <a:t>-  </a:t>
            </a:r>
            <a:r>
              <a:rPr b="0" lang="es-ES" sz="3200" spc="-1" strike="noStrike">
                <a:solidFill>
                  <a:srgbClr val="ffffff"/>
                </a:solidFill>
                <a:latin typeface="Garamond"/>
              </a:rPr>
              <a:t>Se aplica a productos originarios de países miembros frente a los aranceles vigentes para terceros países. </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7C48DC73-68D7-423D-8D60-8B08795ADC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Acuerdos de alcance region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quellos en que participa la totalidad de los países miembro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celebrarán en el marco de los objetivos y disposiciones de la ALADI.</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odrán referirse a las materias e instrumentos previstos para los acuerdos de alcance parcial. (art. 6)</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CD8F76AC-C4BD-49C2-AAB6-E74B5962DD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Acuerdos de alcance parcial:</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articipación de dos más países miembros.</a:t>
            </a: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enden a profundizar el proceso de integración regional mediante su progresiva multilateralización.</a:t>
            </a: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derechos y obligaciones que de ellos emanan regirán exclusivamente para los países miembros que los suscriban o se adhieren.</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640E4C68-95FD-4C90-ACE0-7BD54E00F8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Garamond"/>
              </a:rPr>
              <a:t>Clasificación de los acuerd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merciales. (Art. 10)</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 complementación económica. (Art. 11)</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gropecuarios. (Art. 12)</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moción del comercio. (Art. 13)</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demás los países miembros … “podrán establecer, mediante la reglamentaciones correspondientes, normas específicas para la concertación de otras modalidades de acuerdo de alcance parcial</a:t>
            </a:r>
            <a:r>
              <a:rPr b="0" i="1" lang="es-ES" sz="3200" spc="-1" strike="noStrike">
                <a:solidFill>
                  <a:srgbClr val="ffffff"/>
                </a:solidFill>
                <a:latin typeface="Garamond"/>
              </a:rPr>
              <a:t>”</a:t>
            </a:r>
            <a:r>
              <a:rPr b="0" lang="es-ES" sz="3200" spc="-1" strike="noStrike">
                <a:solidFill>
                  <a:srgbClr val="ffffff"/>
                </a:solidFill>
                <a:latin typeface="Garamond"/>
              </a:rPr>
              <a:t> (Art. 14).</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8B1AF184-CC05-4294-AE07-4FD40CAD10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88640"/>
            <a:ext cx="8229600" cy="66690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ormas que rigen a los acuerdos (Art. 9):</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ben estar abiertos a la adhesión de los demás países miembro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láusulas de convergencia – beneeficios alcancen a todos los países miembro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tendrá tratamientos diferenciales en función a las tres categorías de países reconocidas por el Tratado de Montevideo.</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esgravación podrá efectuarse sobre la base de una rebaja porcentual respecto de los gravámenes  aplicados a la importación originaria de los países no participante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lazo mínimo de duración 1 año.</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ueden contener normas específicas sobre ciertas materias.</a:t>
            </a: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8EDE13FD-1317-4B3C-86E6-87BA8DCE48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Organismos</a:t>
            </a:r>
            <a:endParaRPr b="1" lang="en-US" sz="4400" spc="-1" strike="noStrike">
              <a:solidFill>
                <a:srgbClr val="e5e5ff"/>
              </a:solidFill>
              <a:latin typeface="Garamond"/>
            </a:endParaRPr>
          </a:p>
        </p:txBody>
      </p:sp>
      <p:sp>
        <p:nvSpPr>
          <p:cNvPr id="12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Órganos político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El Consejo.</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 Conferenci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El Comité.</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Órgano técnico:</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 Secretaría General</a:t>
            </a:r>
            <a:endParaRPr b="0" lang="en-US" sz="2800" spc="-1" strike="noStrike">
              <a:solidFill>
                <a:srgbClr val="ffffff"/>
              </a:solidFill>
              <a:latin typeface="Garamond"/>
            </a:endParaRPr>
          </a:p>
        </p:txBody>
      </p:sp>
      <p:pic>
        <p:nvPicPr>
          <p:cNvPr id="127" name="" descr=""/>
          <p:cNvPicPr/>
          <p:nvPr/>
        </p:nvPicPr>
        <p:blipFill>
          <a:blip r:embed="rId1"/>
          <a:stretch/>
        </p:blipFill>
        <p:spPr>
          <a:xfrm>
            <a:off x="611280" y="1916280"/>
            <a:ext cx="3529080" cy="3600360"/>
          </a:xfrm>
          <a:prstGeom prst="rect">
            <a:avLst/>
          </a:prstGeom>
          <a:ln w="0">
            <a:noFill/>
          </a:ln>
        </p:spPr>
      </p:pic>
      <p:sp>
        <p:nvSpPr>
          <p:cNvPr id="4" name="PlaceHolder 3"/>
          <p:cNvSpPr>
            <a:spLocks noGrp="1"/>
          </p:cNvSpPr>
          <p:nvPr>
            <p:ph type="sldNum" idx="2"/>
          </p:nvPr>
        </p:nvSpPr>
        <p:spPr/>
        <p:txBody>
          <a:bodyPr/>
          <a:p>
            <a:fld id="{05C11B88-B081-439D-B55E-27EC081279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CONSEJO DE MINISTROS DE RELACIONES EXTERIORES. </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Órgano supremo de la Asociación.</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tegrado por los Ministros de RR.EE de los países miembr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ducción política de la ALADI.</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reúne por convocatoria del Comité.</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sionará con la totalidad de sus miembr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0.</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AF58904E-6D2E-4980-A4A2-A9942A96B7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CONFERENCIA DE EVALUACIÓN Y CONVERGENCIA.</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tegrada por plenipotenciarios de los países miembro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reúne cada tres años por convocatoria del Comité.</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ara toma de decisiones se requiere la presencia de todos los miembro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3.</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1E97FD5E-F16A-46E7-B7A6-24290D06AD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333000"/>
            <a:ext cx="83628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Tratado Montevideo, 1980.</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ayor grupo latinoamericano de integración.</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iembro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Argentin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Bolivi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Federativa del Brasil.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olombi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hile.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ub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Ecuador.</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Estados Unidos Mexicano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l Paraguay.</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l Perú.</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Oriental del Uruguay</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Venezuela.</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endParaRPr b="0" lang="en-US" sz="2000" spc="-1" strike="noStrike">
              <a:solidFill>
                <a:srgbClr val="ffffff"/>
              </a:solidFill>
              <a:latin typeface="Garamond"/>
            </a:endParaRPr>
          </a:p>
        </p:txBody>
      </p:sp>
      <p:sp>
        <p:nvSpPr>
          <p:cNvPr id="3" name="PlaceHolder 2"/>
          <p:cNvSpPr>
            <a:spLocks noGrp="1"/>
          </p:cNvSpPr>
          <p:nvPr>
            <p:ph type="sldNum" idx="2"/>
          </p:nvPr>
        </p:nvSpPr>
        <p:spPr/>
        <p:txBody>
          <a:bodyPr/>
          <a:p>
            <a:fld id="{3E370217-FC2E-411B-959E-BB584F4A20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MITÉ DE REPRESENTA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Representantes  Permanentes de cada país miembro con derecho a un voto.</a:t>
            </a:r>
            <a:endParaRPr b="0" lang="en-US" sz="36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Quorum de dos tercios de los países miembros para poder sesionar.</a:t>
            </a:r>
            <a:endParaRPr b="0" lang="en-US" sz="36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Atribuciones art. 35. </a:t>
            </a: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EEAEC2E9-88E2-4CE4-9BB9-FC423FEA2D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Toma de decisione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os tres órganos políticos adoptarán sus decisiones con el voto afirmativo de dos tercios de los países miembro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exceptúan las materias dispuestas en el artículo 43. – lista no es taxativa, el Consejo puede eliminar temas con dos tercios de votos afirmativos y sin que haya voto negativo.</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bstención no significa voto negativo.</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4BACE5C3-A086-4463-8A6D-C55D27CF01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CRETARÍA GENER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irigida por un Secretario General, designado por el Consej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ersonal técnico y administrativo, los que en el desempeño de sus funciones no solicitarán ni recibirán instrucciones de los gobiernos ni de entidades nacionales o internacional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8.</a:t>
            </a:r>
            <a:fld id="{203FC23D-293A-49AA-9E1C-0EC214C7B1CD}" type="slidenum">
              <a:rPr b="0" lang="es-CL" sz="3200" spc="-1" strike="noStrike">
                <a:solidFill>
                  <a:srgbClr val="ffffff"/>
                </a:solidFill>
                <a:latin typeface="Garamond"/>
              </a:rPr>
              <a:t>&lt;number&gt;</a:t>
            </a:fld>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FAC8032D-C66D-4E48-8D36-58BA47C43C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11280" y="404640"/>
            <a:ext cx="7921440" cy="5977080"/>
          </a:xfrm>
          <a:prstGeom prst="rect">
            <a:avLst/>
          </a:prstGeom>
          <a:ln w="0">
            <a:noFill/>
          </a:ln>
        </p:spPr>
      </p:pic>
      <p:sp>
        <p:nvSpPr>
          <p:cNvPr id="2" name="PlaceHolder 1"/>
          <p:cNvSpPr>
            <a:spLocks noGrp="1"/>
          </p:cNvSpPr>
          <p:nvPr>
            <p:ph type="sldNum" idx="2"/>
          </p:nvPr>
        </p:nvSpPr>
        <p:spPr/>
        <p:txBody>
          <a:bodyPr/>
          <a:p>
            <a:fld id="{89E185A2-1CE1-432C-980C-E60113F129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34" name=""/>
          <p:cNvGrpSpPr/>
          <p:nvPr/>
        </p:nvGrpSpPr>
        <p:grpSpPr>
          <a:xfrm>
            <a:off x="0" y="0"/>
            <a:ext cx="9143640" cy="6629400"/>
            <a:chOff x="0" y="0"/>
            <a:chExt cx="9143640" cy="6629400"/>
          </a:xfrm>
        </p:grpSpPr>
        <p:grpSp>
          <p:nvGrpSpPr>
            <p:cNvPr id="135" name=""/>
            <p:cNvGrpSpPr/>
            <p:nvPr/>
          </p:nvGrpSpPr>
          <p:grpSpPr>
            <a:xfrm>
              <a:off x="5760" y="3960"/>
              <a:ext cx="9131040" cy="6620760"/>
              <a:chOff x="5760" y="3960"/>
              <a:chExt cx="9131040" cy="6620760"/>
            </a:xfrm>
          </p:grpSpPr>
          <p:grpSp>
            <p:nvGrpSpPr>
              <p:cNvPr id="136" name=""/>
              <p:cNvGrpSpPr/>
              <p:nvPr/>
            </p:nvGrpSpPr>
            <p:grpSpPr>
              <a:xfrm>
                <a:off x="5760" y="3960"/>
                <a:ext cx="9131040" cy="382680"/>
                <a:chOff x="5760" y="3960"/>
                <a:chExt cx="9131040" cy="382680"/>
              </a:xfrm>
            </p:grpSpPr>
            <p:sp>
              <p:nvSpPr>
                <p:cNvPr id="137" name=""/>
                <p:cNvSpPr/>
                <p:nvPr/>
              </p:nvSpPr>
              <p:spPr>
                <a:xfrm>
                  <a:off x="5760" y="3960"/>
                  <a:ext cx="9131040" cy="382680"/>
                </a:xfrm>
                <a:prstGeom prst="rect">
                  <a:avLst/>
                </a:prstGeom>
                <a:noFill/>
                <a:ln w="0">
                  <a:noFill/>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Times New Roman"/>
                    </a:rPr>
                    <a:t>ACUERDOS  CELEBRADOS  ENTRE  CHILE Y  MIEMBROS DE LA  AlAD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 name=""/>
                <p:cNvSpPr/>
                <p:nvPr/>
              </p:nvSpPr>
              <p:spPr>
                <a:xfrm>
                  <a:off x="5760" y="3960"/>
                  <a:ext cx="91310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5760" y="386640"/>
                <a:ext cx="1808640" cy="528480"/>
                <a:chOff x="5760" y="386640"/>
                <a:chExt cx="1808640" cy="528480"/>
              </a:xfrm>
            </p:grpSpPr>
            <p:sp>
              <p:nvSpPr>
                <p:cNvPr id="140" name=""/>
                <p:cNvSpPr/>
                <p:nvPr/>
              </p:nvSpPr>
              <p:spPr>
                <a:xfrm>
                  <a:off x="5760" y="386640"/>
                  <a:ext cx="18086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1" name=""/>
                <p:cNvGrpSpPr/>
                <p:nvPr/>
              </p:nvGrpSpPr>
              <p:grpSpPr>
                <a:xfrm>
                  <a:off x="5760" y="386640"/>
                  <a:ext cx="1808280" cy="528480"/>
                  <a:chOff x="5760" y="386640"/>
                  <a:chExt cx="1808280" cy="528480"/>
                </a:xfrm>
              </p:grpSpPr>
              <p:sp>
                <p:nvSpPr>
                  <p:cNvPr id="142" name=""/>
                  <p:cNvSpPr/>
                  <p:nvPr/>
                </p:nvSpPr>
                <p:spPr>
                  <a:xfrm>
                    <a:off x="5760" y="386640"/>
                    <a:ext cx="18082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Times New Roman"/>
                        <a:ea typeface="Times New Roman"/>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514"/>
                        </a:solidFill>
                        <a:latin typeface="Times New Roman"/>
                        <a:ea typeface="Times New Roman"/>
                      </a:rPr>
                      <a:t>País o Grupo de Paí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 name=""/>
                  <p:cNvSpPr/>
                  <p:nvPr/>
                </p:nvSpPr>
                <p:spPr>
                  <a:xfrm>
                    <a:off x="5760" y="386640"/>
                    <a:ext cx="18082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
              <p:cNvGrpSpPr/>
              <p:nvPr/>
            </p:nvGrpSpPr>
            <p:grpSpPr>
              <a:xfrm>
                <a:off x="1814760" y="386640"/>
                <a:ext cx="4555080" cy="528480"/>
                <a:chOff x="1814760" y="386640"/>
                <a:chExt cx="4555080" cy="528480"/>
              </a:xfrm>
            </p:grpSpPr>
            <p:sp>
              <p:nvSpPr>
                <p:cNvPr id="145" name=""/>
                <p:cNvSpPr/>
                <p:nvPr/>
              </p:nvSpPr>
              <p:spPr>
                <a:xfrm>
                  <a:off x="1814760" y="386640"/>
                  <a:ext cx="455508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6" name=""/>
                <p:cNvGrpSpPr/>
                <p:nvPr/>
              </p:nvGrpSpPr>
              <p:grpSpPr>
                <a:xfrm>
                  <a:off x="1814760" y="386640"/>
                  <a:ext cx="4554720" cy="528480"/>
                  <a:chOff x="1814760" y="386640"/>
                  <a:chExt cx="4554720" cy="528480"/>
                </a:xfrm>
              </p:grpSpPr>
              <p:sp>
                <p:nvSpPr>
                  <p:cNvPr id="147" name=""/>
                  <p:cNvSpPr/>
                  <p:nvPr/>
                </p:nvSpPr>
                <p:spPr>
                  <a:xfrm>
                    <a:off x="1814760" y="386640"/>
                    <a:ext cx="455472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514"/>
                        </a:solidFill>
                        <a:latin typeface="Arial"/>
                        <a:ea typeface="Times New Roman"/>
                      </a:rPr>
                      <a:t>              </a:t>
                    </a:r>
                    <a:r>
                      <a:rPr b="1" lang="es-CL" sz="1600" spc="-1" strike="noStrike">
                        <a:solidFill>
                          <a:srgbClr val="000514"/>
                        </a:solidFill>
                        <a:latin typeface="Arial"/>
                        <a:ea typeface="Times New Roman"/>
                      </a:rPr>
                      <a:t>Tipo de Acuerd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 name=""/>
                  <p:cNvSpPr/>
                  <p:nvPr/>
                </p:nvSpPr>
                <p:spPr>
                  <a:xfrm>
                    <a:off x="1814760" y="386640"/>
                    <a:ext cx="45547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9" name=""/>
              <p:cNvGrpSpPr/>
              <p:nvPr/>
            </p:nvGrpSpPr>
            <p:grpSpPr>
              <a:xfrm>
                <a:off x="6370200" y="386640"/>
                <a:ext cx="1322640" cy="528480"/>
                <a:chOff x="6370200" y="386640"/>
                <a:chExt cx="1322640" cy="528480"/>
              </a:xfrm>
            </p:grpSpPr>
            <p:sp>
              <p:nvSpPr>
                <p:cNvPr id="150" name=""/>
                <p:cNvSpPr/>
                <p:nvPr/>
              </p:nvSpPr>
              <p:spPr>
                <a:xfrm>
                  <a:off x="6370200" y="386640"/>
                  <a:ext cx="13226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1" name=""/>
                <p:cNvGrpSpPr/>
                <p:nvPr/>
              </p:nvGrpSpPr>
              <p:grpSpPr>
                <a:xfrm>
                  <a:off x="6370200" y="386640"/>
                  <a:ext cx="1322280" cy="528480"/>
                  <a:chOff x="6370200" y="386640"/>
                  <a:chExt cx="1322280" cy="528480"/>
                </a:xfrm>
              </p:grpSpPr>
              <p:sp>
                <p:nvSpPr>
                  <p:cNvPr id="152" name=""/>
                  <p:cNvSpPr/>
                  <p:nvPr/>
                </p:nvSpPr>
                <p:spPr>
                  <a:xfrm>
                    <a:off x="6370200" y="386640"/>
                    <a:ext cx="13222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514"/>
                        </a:solidFill>
                        <a:latin typeface="Arial"/>
                        <a:ea typeface="Times New Roman"/>
                      </a:rPr>
                      <a:t>Fecha Firm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3" name=""/>
                  <p:cNvSpPr/>
                  <p:nvPr/>
                </p:nvSpPr>
                <p:spPr>
                  <a:xfrm>
                    <a:off x="6370200" y="386640"/>
                    <a:ext cx="13222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54" name=""/>
              <p:cNvGrpSpPr/>
              <p:nvPr/>
            </p:nvGrpSpPr>
            <p:grpSpPr>
              <a:xfrm>
                <a:off x="7693560" y="386640"/>
                <a:ext cx="1443240" cy="528480"/>
                <a:chOff x="7693560" y="386640"/>
                <a:chExt cx="1443240" cy="528480"/>
              </a:xfrm>
            </p:grpSpPr>
            <p:sp>
              <p:nvSpPr>
                <p:cNvPr id="155" name=""/>
                <p:cNvSpPr/>
                <p:nvPr/>
              </p:nvSpPr>
              <p:spPr>
                <a:xfrm>
                  <a:off x="7693560" y="386640"/>
                  <a:ext cx="14432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6" name=""/>
                <p:cNvGrpSpPr/>
                <p:nvPr/>
              </p:nvGrpSpPr>
              <p:grpSpPr>
                <a:xfrm>
                  <a:off x="7693560" y="386640"/>
                  <a:ext cx="1442880" cy="528480"/>
                  <a:chOff x="7693560" y="386640"/>
                  <a:chExt cx="1442880" cy="528480"/>
                </a:xfrm>
              </p:grpSpPr>
              <p:sp>
                <p:nvSpPr>
                  <p:cNvPr id="157" name=""/>
                  <p:cNvSpPr/>
                  <p:nvPr/>
                </p:nvSpPr>
                <p:spPr>
                  <a:xfrm>
                    <a:off x="7693560" y="386640"/>
                    <a:ext cx="14428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514"/>
                        </a:solidFill>
                        <a:latin typeface="Arial"/>
                        <a:ea typeface="Times New Roman"/>
                      </a:rPr>
                      <a:t>Entrada en Vigenci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8" name=""/>
                  <p:cNvSpPr/>
                  <p:nvPr/>
                </p:nvSpPr>
                <p:spPr>
                  <a:xfrm>
                    <a:off x="7693560" y="386640"/>
                    <a:ext cx="14428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59" name=""/>
              <p:cNvGrpSpPr/>
              <p:nvPr/>
            </p:nvGrpSpPr>
            <p:grpSpPr>
              <a:xfrm>
                <a:off x="5760" y="915480"/>
                <a:ext cx="1808640" cy="528480"/>
                <a:chOff x="5760" y="915480"/>
                <a:chExt cx="1808640" cy="528480"/>
              </a:xfrm>
            </p:grpSpPr>
            <p:sp>
              <p:nvSpPr>
                <p:cNvPr id="160" name=""/>
                <p:cNvSpPr/>
                <p:nvPr/>
              </p:nvSpPr>
              <p:spPr>
                <a:xfrm>
                  <a:off x="5760" y="91548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MEXICO</a:t>
                  </a:r>
                  <a:endParaRPr b="0" lang="en-US" sz="1600" spc="-1" strike="noStrike">
                    <a:solidFill>
                      <a:srgbClr val="ffffff"/>
                    </a:solidFill>
                    <a:latin typeface="Arial"/>
                  </a:endParaRPr>
                </a:p>
              </p:txBody>
            </p:sp>
            <p:sp>
              <p:nvSpPr>
                <p:cNvPr id="161" name=""/>
                <p:cNvSpPr/>
                <p:nvPr/>
              </p:nvSpPr>
              <p:spPr>
                <a:xfrm>
                  <a:off x="5760" y="91548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2" name=""/>
              <p:cNvGrpSpPr/>
              <p:nvPr/>
            </p:nvGrpSpPr>
            <p:grpSpPr>
              <a:xfrm>
                <a:off x="1814760" y="915480"/>
                <a:ext cx="4555080" cy="528480"/>
                <a:chOff x="1814760" y="915480"/>
                <a:chExt cx="4555080" cy="528480"/>
              </a:xfrm>
            </p:grpSpPr>
            <p:sp>
              <p:nvSpPr>
                <p:cNvPr id="163" name=""/>
                <p:cNvSpPr/>
                <p:nvPr/>
              </p:nvSpPr>
              <p:spPr>
                <a:xfrm>
                  <a:off x="1814760" y="91548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1) 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4" name=""/>
                <p:cNvSpPr/>
                <p:nvPr/>
              </p:nvSpPr>
              <p:spPr>
                <a:xfrm>
                  <a:off x="1814760" y="91548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
              <p:cNvGrpSpPr/>
              <p:nvPr/>
            </p:nvGrpSpPr>
            <p:grpSpPr>
              <a:xfrm>
                <a:off x="6370200" y="915480"/>
                <a:ext cx="1322640" cy="528480"/>
                <a:chOff x="6370200" y="915480"/>
                <a:chExt cx="1322640" cy="528480"/>
              </a:xfrm>
            </p:grpSpPr>
            <p:sp>
              <p:nvSpPr>
                <p:cNvPr id="166" name=""/>
                <p:cNvSpPr/>
                <p:nvPr/>
              </p:nvSpPr>
              <p:spPr>
                <a:xfrm>
                  <a:off x="6370200" y="91548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17 de abril de 199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7" name=""/>
                <p:cNvSpPr/>
                <p:nvPr/>
              </p:nvSpPr>
              <p:spPr>
                <a:xfrm>
                  <a:off x="6370200" y="91548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7693560" y="915480"/>
                <a:ext cx="1443240" cy="528480"/>
                <a:chOff x="7693560" y="915480"/>
                <a:chExt cx="1443240" cy="528480"/>
              </a:xfrm>
            </p:grpSpPr>
            <p:sp>
              <p:nvSpPr>
                <p:cNvPr id="169" name=""/>
                <p:cNvSpPr/>
                <p:nvPr/>
              </p:nvSpPr>
              <p:spPr>
                <a:xfrm>
                  <a:off x="7693560" y="91548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agosto de 199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0" name=""/>
                <p:cNvSpPr/>
                <p:nvPr/>
              </p:nvSpPr>
              <p:spPr>
                <a:xfrm>
                  <a:off x="7693560" y="91548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1" name=""/>
              <p:cNvGrpSpPr/>
              <p:nvPr/>
            </p:nvGrpSpPr>
            <p:grpSpPr>
              <a:xfrm>
                <a:off x="5760" y="1444320"/>
                <a:ext cx="1808640" cy="633960"/>
                <a:chOff x="5760" y="1444320"/>
                <a:chExt cx="1808640" cy="633960"/>
              </a:xfrm>
            </p:grpSpPr>
            <p:sp>
              <p:nvSpPr>
                <p:cNvPr id="172" name=""/>
                <p:cNvSpPr/>
                <p:nvPr/>
              </p:nvSpPr>
              <p:spPr>
                <a:xfrm>
                  <a:off x="5760" y="1444320"/>
                  <a:ext cx="18086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COLOMBI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3" name=""/>
                <p:cNvSpPr/>
                <p:nvPr/>
              </p:nvSpPr>
              <p:spPr>
                <a:xfrm>
                  <a:off x="5760" y="1444320"/>
                  <a:ext cx="18086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4" name=""/>
              <p:cNvGrpSpPr/>
              <p:nvPr/>
            </p:nvGrpSpPr>
            <p:grpSpPr>
              <a:xfrm>
                <a:off x="1814760" y="1444320"/>
                <a:ext cx="4555080" cy="633960"/>
                <a:chOff x="1814760" y="1444320"/>
                <a:chExt cx="4555080" cy="633960"/>
              </a:xfrm>
            </p:grpSpPr>
            <p:sp>
              <p:nvSpPr>
                <p:cNvPr id="175" name=""/>
                <p:cNvSpPr/>
                <p:nvPr/>
              </p:nvSpPr>
              <p:spPr>
                <a:xfrm>
                  <a:off x="1814760" y="1444320"/>
                  <a:ext cx="455508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6" name=""/>
                <p:cNvSpPr/>
                <p:nvPr/>
              </p:nvSpPr>
              <p:spPr>
                <a:xfrm>
                  <a:off x="1814760" y="1444320"/>
                  <a:ext cx="455508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 name=""/>
              <p:cNvGrpSpPr/>
              <p:nvPr/>
            </p:nvGrpSpPr>
            <p:grpSpPr>
              <a:xfrm>
                <a:off x="6370200" y="1444320"/>
                <a:ext cx="1322640" cy="633960"/>
                <a:chOff x="6370200" y="1444320"/>
                <a:chExt cx="1322640" cy="633960"/>
              </a:xfrm>
            </p:grpSpPr>
            <p:sp>
              <p:nvSpPr>
                <p:cNvPr id="178" name=""/>
                <p:cNvSpPr/>
                <p:nvPr/>
              </p:nvSpPr>
              <p:spPr>
                <a:xfrm>
                  <a:off x="6370200" y="1444320"/>
                  <a:ext cx="13226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7 de noviembre de 20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6370200" y="1444320"/>
                  <a:ext cx="13226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0" name=""/>
              <p:cNvGrpSpPr/>
              <p:nvPr/>
            </p:nvGrpSpPr>
            <p:grpSpPr>
              <a:xfrm>
                <a:off x="7693560" y="1444320"/>
                <a:ext cx="1443240" cy="633960"/>
                <a:chOff x="7693560" y="1444320"/>
                <a:chExt cx="1443240" cy="633960"/>
              </a:xfrm>
            </p:grpSpPr>
            <p:sp>
              <p:nvSpPr>
                <p:cNvPr id="181" name=""/>
                <p:cNvSpPr/>
                <p:nvPr/>
              </p:nvSpPr>
              <p:spPr>
                <a:xfrm>
                  <a:off x="7693560" y="1444320"/>
                  <a:ext cx="14432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cc00"/>
                      </a:solidFill>
                      <a:latin typeface="Arial"/>
                      <a:ea typeface="Times New Roman"/>
                    </a:rPr>
                    <a:t>Falta concluir tramitacion parlamentaria</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82" name=""/>
                <p:cNvSpPr/>
                <p:nvPr/>
              </p:nvSpPr>
              <p:spPr>
                <a:xfrm>
                  <a:off x="7693560" y="1444320"/>
                  <a:ext cx="14432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3" name=""/>
              <p:cNvGrpSpPr/>
              <p:nvPr/>
            </p:nvGrpSpPr>
            <p:grpSpPr>
              <a:xfrm>
                <a:off x="5760" y="2078640"/>
                <a:ext cx="1808640" cy="528480"/>
                <a:chOff x="5760" y="2078640"/>
                <a:chExt cx="1808640" cy="528480"/>
              </a:xfrm>
            </p:grpSpPr>
            <p:sp>
              <p:nvSpPr>
                <p:cNvPr id="184" name=""/>
                <p:cNvSpPr/>
                <p:nvPr/>
              </p:nvSpPr>
              <p:spPr>
                <a:xfrm>
                  <a:off x="5760" y="207864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Peru</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 name=""/>
                <p:cNvSpPr/>
                <p:nvPr/>
              </p:nvSpPr>
              <p:spPr>
                <a:xfrm>
                  <a:off x="5760" y="207864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 name=""/>
              <p:cNvGrpSpPr/>
              <p:nvPr/>
            </p:nvGrpSpPr>
            <p:grpSpPr>
              <a:xfrm>
                <a:off x="1814760" y="2078640"/>
                <a:ext cx="4555080" cy="528480"/>
                <a:chOff x="1814760" y="2078640"/>
                <a:chExt cx="4555080" cy="528480"/>
              </a:xfrm>
            </p:grpSpPr>
            <p:sp>
              <p:nvSpPr>
                <p:cNvPr id="187" name=""/>
                <p:cNvSpPr/>
                <p:nvPr/>
              </p:nvSpPr>
              <p:spPr>
                <a:xfrm>
                  <a:off x="1814760" y="207864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8" name=""/>
                <p:cNvSpPr/>
                <p:nvPr/>
              </p:nvSpPr>
              <p:spPr>
                <a:xfrm>
                  <a:off x="1814760" y="207864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9" name=""/>
              <p:cNvGrpSpPr/>
              <p:nvPr/>
            </p:nvGrpSpPr>
            <p:grpSpPr>
              <a:xfrm>
                <a:off x="6370200" y="2078640"/>
                <a:ext cx="1322640" cy="528480"/>
                <a:chOff x="6370200" y="2078640"/>
                <a:chExt cx="1322640" cy="528480"/>
              </a:xfrm>
            </p:grpSpPr>
            <p:sp>
              <p:nvSpPr>
                <p:cNvPr id="190" name=""/>
                <p:cNvSpPr/>
                <p:nvPr/>
              </p:nvSpPr>
              <p:spPr>
                <a:xfrm>
                  <a:off x="6370200" y="207864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2 de agosto de 20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
                <p:cNvSpPr/>
                <p:nvPr/>
              </p:nvSpPr>
              <p:spPr>
                <a:xfrm>
                  <a:off x="6370200" y="207864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 name=""/>
              <p:cNvGrpSpPr/>
              <p:nvPr/>
            </p:nvGrpSpPr>
            <p:grpSpPr>
              <a:xfrm>
                <a:off x="7693560" y="2078640"/>
                <a:ext cx="1443240" cy="528480"/>
                <a:chOff x="7693560" y="2078640"/>
                <a:chExt cx="1443240" cy="528480"/>
              </a:xfrm>
            </p:grpSpPr>
            <p:sp>
              <p:nvSpPr>
                <p:cNvPr id="193" name=""/>
                <p:cNvSpPr/>
                <p:nvPr/>
              </p:nvSpPr>
              <p:spPr>
                <a:xfrm>
                  <a:off x="7693560" y="207864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marzo de 2009</a:t>
                  </a:r>
                  <a:r>
                    <a:rPr b="1" lang="es-CL" sz="800" spc="-1" strike="noStrike">
                      <a:solidFill>
                        <a:srgbClr val="ffffff"/>
                      </a:solidFill>
                      <a:latin typeface="Arial"/>
                      <a:ea typeface="Times New Roman"/>
                    </a:rPr>
                    <a:t>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94" name=""/>
                <p:cNvSpPr/>
                <p:nvPr/>
              </p:nvSpPr>
              <p:spPr>
                <a:xfrm>
                  <a:off x="7693560" y="207864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
              <p:cNvGrpSpPr/>
              <p:nvPr/>
            </p:nvGrpSpPr>
            <p:grpSpPr>
              <a:xfrm>
                <a:off x="5760" y="2607120"/>
                <a:ext cx="1808640" cy="528480"/>
                <a:chOff x="5760" y="2607120"/>
                <a:chExt cx="1808640" cy="528480"/>
              </a:xfrm>
            </p:grpSpPr>
            <p:sp>
              <p:nvSpPr>
                <p:cNvPr id="196" name=""/>
                <p:cNvSpPr/>
                <p:nvPr/>
              </p:nvSpPr>
              <p:spPr>
                <a:xfrm>
                  <a:off x="5760" y="260712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Ecuado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 name=""/>
                <p:cNvSpPr/>
                <p:nvPr/>
              </p:nvSpPr>
              <p:spPr>
                <a:xfrm>
                  <a:off x="5760" y="260712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8" name=""/>
              <p:cNvGrpSpPr/>
              <p:nvPr/>
            </p:nvGrpSpPr>
            <p:grpSpPr>
              <a:xfrm>
                <a:off x="1814760" y="2607120"/>
                <a:ext cx="4555080" cy="528480"/>
                <a:chOff x="1814760" y="2607120"/>
                <a:chExt cx="4555080" cy="528480"/>
              </a:xfrm>
            </p:grpSpPr>
            <p:sp>
              <p:nvSpPr>
                <p:cNvPr id="199" name=""/>
                <p:cNvSpPr/>
                <p:nvPr/>
              </p:nvSpPr>
              <p:spPr>
                <a:xfrm>
                  <a:off x="1814760" y="260712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2) Acuerdo de Complementacion Economica Nº 3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0" name=""/>
                <p:cNvSpPr/>
                <p:nvPr/>
              </p:nvSpPr>
              <p:spPr>
                <a:xfrm>
                  <a:off x="1814760" y="260712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1" name=""/>
              <p:cNvGrpSpPr/>
              <p:nvPr/>
            </p:nvGrpSpPr>
            <p:grpSpPr>
              <a:xfrm>
                <a:off x="6370200" y="2607120"/>
                <a:ext cx="1322640" cy="528480"/>
                <a:chOff x="6370200" y="2607120"/>
                <a:chExt cx="1322640" cy="528480"/>
              </a:xfrm>
            </p:grpSpPr>
            <p:sp>
              <p:nvSpPr>
                <p:cNvPr id="202" name=""/>
                <p:cNvSpPr/>
                <p:nvPr/>
              </p:nvSpPr>
              <p:spPr>
                <a:xfrm>
                  <a:off x="6370200" y="260712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cc00"/>
                      </a:solidFill>
                      <a:latin typeface="Arial"/>
                      <a:ea typeface="Times New Roman"/>
                    </a:rPr>
                    <a:t>20 de diciembre de 199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
                <p:cNvSpPr/>
                <p:nvPr/>
              </p:nvSpPr>
              <p:spPr>
                <a:xfrm>
                  <a:off x="6370200" y="260712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4" name=""/>
              <p:cNvGrpSpPr/>
              <p:nvPr/>
            </p:nvGrpSpPr>
            <p:grpSpPr>
              <a:xfrm>
                <a:off x="7693560" y="2607120"/>
                <a:ext cx="1443240" cy="528480"/>
                <a:chOff x="7693560" y="2607120"/>
                <a:chExt cx="1443240" cy="528480"/>
              </a:xfrm>
            </p:grpSpPr>
            <p:sp>
              <p:nvSpPr>
                <p:cNvPr id="205" name=""/>
                <p:cNvSpPr/>
                <p:nvPr/>
              </p:nvSpPr>
              <p:spPr>
                <a:xfrm>
                  <a:off x="7693560" y="260712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enero de 199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
                <p:cNvSpPr/>
                <p:nvPr/>
              </p:nvSpPr>
              <p:spPr>
                <a:xfrm>
                  <a:off x="7693560" y="260712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
              <p:cNvGrpSpPr/>
              <p:nvPr/>
            </p:nvGrpSpPr>
            <p:grpSpPr>
              <a:xfrm>
                <a:off x="5760" y="3135960"/>
                <a:ext cx="1808640" cy="528120"/>
                <a:chOff x="5760" y="3135960"/>
                <a:chExt cx="1808640" cy="528120"/>
              </a:xfrm>
            </p:grpSpPr>
            <p:sp>
              <p:nvSpPr>
                <p:cNvPr id="208" name=""/>
                <p:cNvSpPr/>
                <p:nvPr/>
              </p:nvSpPr>
              <p:spPr>
                <a:xfrm>
                  <a:off x="5760" y="3135960"/>
                  <a:ext cx="18086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Bolivi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9" name=""/>
                <p:cNvSpPr/>
                <p:nvPr/>
              </p:nvSpPr>
              <p:spPr>
                <a:xfrm>
                  <a:off x="5760" y="3135960"/>
                  <a:ext cx="18086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0" name=""/>
              <p:cNvGrpSpPr/>
              <p:nvPr/>
            </p:nvGrpSpPr>
            <p:grpSpPr>
              <a:xfrm>
                <a:off x="1814760" y="3135960"/>
                <a:ext cx="4555080" cy="528120"/>
                <a:chOff x="1814760" y="3135960"/>
                <a:chExt cx="4555080" cy="528120"/>
              </a:xfrm>
            </p:grpSpPr>
            <p:sp>
              <p:nvSpPr>
                <p:cNvPr id="211" name=""/>
                <p:cNvSpPr/>
                <p:nvPr/>
              </p:nvSpPr>
              <p:spPr>
                <a:xfrm>
                  <a:off x="1814760" y="3135960"/>
                  <a:ext cx="455508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Acuerdo de Complementacion Economica Nº 2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2" name=""/>
                <p:cNvSpPr/>
                <p:nvPr/>
              </p:nvSpPr>
              <p:spPr>
                <a:xfrm>
                  <a:off x="1814760" y="3135960"/>
                  <a:ext cx="455508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3" name=""/>
              <p:cNvGrpSpPr/>
              <p:nvPr/>
            </p:nvGrpSpPr>
            <p:grpSpPr>
              <a:xfrm>
                <a:off x="6370200" y="3135960"/>
                <a:ext cx="1322640" cy="528120"/>
                <a:chOff x="6370200" y="3135960"/>
                <a:chExt cx="1322640" cy="528120"/>
              </a:xfrm>
            </p:grpSpPr>
            <p:sp>
              <p:nvSpPr>
                <p:cNvPr id="214" name=""/>
                <p:cNvSpPr/>
                <p:nvPr/>
              </p:nvSpPr>
              <p:spPr>
                <a:xfrm>
                  <a:off x="6370200" y="3135960"/>
                  <a:ext cx="13226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6 de abril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
                <p:cNvSpPr/>
                <p:nvPr/>
              </p:nvSpPr>
              <p:spPr>
                <a:xfrm>
                  <a:off x="6370200" y="3135960"/>
                  <a:ext cx="13226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6" name=""/>
              <p:cNvGrpSpPr/>
              <p:nvPr/>
            </p:nvGrpSpPr>
            <p:grpSpPr>
              <a:xfrm>
                <a:off x="7693560" y="3135960"/>
                <a:ext cx="1443240" cy="528120"/>
                <a:chOff x="7693560" y="3135960"/>
                <a:chExt cx="1443240" cy="528120"/>
              </a:xfrm>
            </p:grpSpPr>
            <p:sp>
              <p:nvSpPr>
                <p:cNvPr id="217" name=""/>
                <p:cNvSpPr/>
                <p:nvPr/>
              </p:nvSpPr>
              <p:spPr>
                <a:xfrm>
                  <a:off x="7693560" y="3135960"/>
                  <a:ext cx="14432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7 de julio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
                <p:cNvSpPr/>
                <p:nvPr/>
              </p:nvSpPr>
              <p:spPr>
                <a:xfrm>
                  <a:off x="7693560" y="3135960"/>
                  <a:ext cx="14432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9" name=""/>
              <p:cNvGrpSpPr/>
              <p:nvPr/>
            </p:nvGrpSpPr>
            <p:grpSpPr>
              <a:xfrm>
                <a:off x="5760" y="3664440"/>
                <a:ext cx="1808640" cy="528480"/>
                <a:chOff x="5760" y="3664440"/>
                <a:chExt cx="1808640" cy="528480"/>
              </a:xfrm>
            </p:grpSpPr>
            <p:sp>
              <p:nvSpPr>
                <p:cNvPr id="220" name=""/>
                <p:cNvSpPr/>
                <p:nvPr/>
              </p:nvSpPr>
              <p:spPr>
                <a:xfrm>
                  <a:off x="5760" y="366444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Venezuel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 name=""/>
                <p:cNvSpPr/>
                <p:nvPr/>
              </p:nvSpPr>
              <p:spPr>
                <a:xfrm>
                  <a:off x="5760" y="366444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2" name=""/>
              <p:cNvGrpSpPr/>
              <p:nvPr/>
            </p:nvGrpSpPr>
            <p:grpSpPr>
              <a:xfrm>
                <a:off x="1814760" y="3664440"/>
                <a:ext cx="4555080" cy="528480"/>
                <a:chOff x="1814760" y="3664440"/>
                <a:chExt cx="4555080" cy="528480"/>
              </a:xfrm>
            </p:grpSpPr>
            <p:sp>
              <p:nvSpPr>
                <p:cNvPr id="223" name=""/>
                <p:cNvSpPr/>
                <p:nvPr/>
              </p:nvSpPr>
              <p:spPr>
                <a:xfrm>
                  <a:off x="1814760" y="366444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Acuerdo de Complementacion Economica Nº 2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1814760" y="366444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5" name=""/>
              <p:cNvGrpSpPr/>
              <p:nvPr/>
            </p:nvGrpSpPr>
            <p:grpSpPr>
              <a:xfrm>
                <a:off x="6370200" y="3664440"/>
                <a:ext cx="1322640" cy="528480"/>
                <a:chOff x="6370200" y="3664440"/>
                <a:chExt cx="1322640" cy="528480"/>
              </a:xfrm>
            </p:grpSpPr>
            <p:sp>
              <p:nvSpPr>
                <p:cNvPr id="226" name=""/>
                <p:cNvSpPr/>
                <p:nvPr/>
              </p:nvSpPr>
              <p:spPr>
                <a:xfrm>
                  <a:off x="6370200" y="366444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2 de abril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
                <p:cNvSpPr/>
                <p:nvPr/>
              </p:nvSpPr>
              <p:spPr>
                <a:xfrm>
                  <a:off x="6370200" y="366444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8" name=""/>
              <p:cNvGrpSpPr/>
              <p:nvPr/>
            </p:nvGrpSpPr>
            <p:grpSpPr>
              <a:xfrm>
                <a:off x="7693560" y="3664440"/>
                <a:ext cx="1443240" cy="528480"/>
                <a:chOff x="7693560" y="3664440"/>
                <a:chExt cx="1443240" cy="528480"/>
              </a:xfrm>
            </p:grpSpPr>
            <p:sp>
              <p:nvSpPr>
                <p:cNvPr id="229" name=""/>
                <p:cNvSpPr/>
                <p:nvPr/>
              </p:nvSpPr>
              <p:spPr>
                <a:xfrm>
                  <a:off x="7693560" y="366444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julio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
                <p:cNvSpPr/>
                <p:nvPr/>
              </p:nvSpPr>
              <p:spPr>
                <a:xfrm>
                  <a:off x="7693560" y="366444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1" name=""/>
              <p:cNvGrpSpPr/>
              <p:nvPr/>
            </p:nvGrpSpPr>
            <p:grpSpPr>
              <a:xfrm>
                <a:off x="5760" y="4192920"/>
                <a:ext cx="1808640" cy="528480"/>
                <a:chOff x="5760" y="4192920"/>
                <a:chExt cx="1808640" cy="528480"/>
              </a:xfrm>
            </p:grpSpPr>
            <p:sp>
              <p:nvSpPr>
                <p:cNvPr id="232" name=""/>
                <p:cNvSpPr/>
                <p:nvPr/>
              </p:nvSpPr>
              <p:spPr>
                <a:xfrm>
                  <a:off x="5760" y="419292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Cuba</a:t>
                  </a:r>
                  <a:endParaRPr b="0" lang="en-US" sz="1600" spc="-1" strike="noStrike">
                    <a:solidFill>
                      <a:srgbClr val="ffffff"/>
                    </a:solidFill>
                    <a:latin typeface="Arial"/>
                  </a:endParaRPr>
                </a:p>
              </p:txBody>
            </p:sp>
            <p:sp>
              <p:nvSpPr>
                <p:cNvPr id="233" name=""/>
                <p:cNvSpPr/>
                <p:nvPr/>
              </p:nvSpPr>
              <p:spPr>
                <a:xfrm>
                  <a:off x="5760" y="419292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4" name=""/>
              <p:cNvGrpSpPr/>
              <p:nvPr/>
            </p:nvGrpSpPr>
            <p:grpSpPr>
              <a:xfrm>
                <a:off x="1814760" y="4192920"/>
                <a:ext cx="4555080" cy="528480"/>
                <a:chOff x="1814760" y="4192920"/>
                <a:chExt cx="4555080" cy="528480"/>
              </a:xfrm>
            </p:grpSpPr>
            <p:sp>
              <p:nvSpPr>
                <p:cNvPr id="235" name=""/>
                <p:cNvSpPr/>
                <p:nvPr/>
              </p:nvSpPr>
              <p:spPr>
                <a:xfrm>
                  <a:off x="1814760" y="419292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3) Acuerdo de Alcance Parci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 name=""/>
                <p:cNvSpPr/>
                <p:nvPr/>
              </p:nvSpPr>
              <p:spPr>
                <a:xfrm>
                  <a:off x="1814760" y="419292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7" name=""/>
              <p:cNvGrpSpPr/>
              <p:nvPr/>
            </p:nvGrpSpPr>
            <p:grpSpPr>
              <a:xfrm>
                <a:off x="6370200" y="4192920"/>
                <a:ext cx="1322640" cy="528480"/>
                <a:chOff x="6370200" y="4192920"/>
                <a:chExt cx="1322640" cy="528480"/>
              </a:xfrm>
            </p:grpSpPr>
            <p:sp>
              <p:nvSpPr>
                <p:cNvPr id="238" name=""/>
                <p:cNvSpPr/>
                <p:nvPr/>
              </p:nvSpPr>
              <p:spPr>
                <a:xfrm>
                  <a:off x="6370200" y="419292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0 de Diciembre de 1999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
                <p:cNvSpPr/>
                <p:nvPr/>
              </p:nvSpPr>
              <p:spPr>
                <a:xfrm>
                  <a:off x="6370200" y="419292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0" name=""/>
              <p:cNvGrpSpPr/>
              <p:nvPr/>
            </p:nvGrpSpPr>
            <p:grpSpPr>
              <a:xfrm>
                <a:off x="7693560" y="4192920"/>
                <a:ext cx="1443240" cy="528480"/>
                <a:chOff x="7693560" y="4192920"/>
                <a:chExt cx="1443240" cy="528480"/>
              </a:xfrm>
            </p:grpSpPr>
            <p:sp>
              <p:nvSpPr>
                <p:cNvPr id="241" name=""/>
                <p:cNvSpPr/>
                <p:nvPr/>
              </p:nvSpPr>
              <p:spPr>
                <a:xfrm>
                  <a:off x="7693560" y="419292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8 de Agosto de 200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
                <p:cNvSpPr/>
                <p:nvPr/>
              </p:nvSpPr>
              <p:spPr>
                <a:xfrm>
                  <a:off x="7693560" y="419292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3" name=""/>
              <p:cNvGrpSpPr/>
              <p:nvPr/>
            </p:nvGrpSpPr>
            <p:grpSpPr>
              <a:xfrm>
                <a:off x="5760" y="4721760"/>
                <a:ext cx="9131040" cy="739800"/>
                <a:chOff x="5760" y="4721760"/>
                <a:chExt cx="9131040" cy="739800"/>
              </a:xfrm>
            </p:grpSpPr>
            <p:sp>
              <p:nvSpPr>
                <p:cNvPr id="244" name=""/>
                <p:cNvSpPr/>
                <p:nvPr/>
              </p:nvSpPr>
              <p:spPr>
                <a:xfrm>
                  <a:off x="5760" y="4721760"/>
                  <a:ext cx="913104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ea typeface="Times New Roman"/>
                    </a:rPr>
                    <a:t>(1) </a:t>
                  </a:r>
                  <a:r>
                    <a:rPr b="0" lang="es-CL" sz="1000" spc="-1" strike="noStrike">
                      <a:solidFill>
                        <a:srgbClr val="ffffff"/>
                      </a:solidFill>
                      <a:latin typeface="Arial"/>
                      <a:ea typeface="Times New Roman"/>
                    </a:rPr>
                    <a:t>Es un acuerdo bilateral que persigue crear una zona de libre comercio que garantice la libre circulación de bienes, servicios y capitales, mediante una armonización de políticas y normas jurídicas pertinentes. Éstas deben asegurar bases competitivas homologables o comunes en ámbitos no directamente comerciales, pero que pueden tener una alta incidencia competitiva (medio ambiente, sanidad y fitosanidad, obstáculos técnicos al comercio, propiedad intelectual, solución de controversias, seguridad jurídica, etc.)</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45" name=""/>
                <p:cNvSpPr/>
                <p:nvPr/>
              </p:nvSpPr>
              <p:spPr>
                <a:xfrm>
                  <a:off x="5760" y="4721760"/>
                  <a:ext cx="9131040" cy="73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6" name=""/>
              <p:cNvGrpSpPr/>
              <p:nvPr/>
            </p:nvGrpSpPr>
            <p:grpSpPr>
              <a:xfrm>
                <a:off x="5760" y="5461920"/>
                <a:ext cx="9131040" cy="633960"/>
                <a:chOff x="5760" y="5461920"/>
                <a:chExt cx="9131040" cy="633960"/>
              </a:xfrm>
            </p:grpSpPr>
            <p:sp>
              <p:nvSpPr>
                <p:cNvPr id="247" name=""/>
                <p:cNvSpPr/>
                <p:nvPr/>
              </p:nvSpPr>
              <p:spPr>
                <a:xfrm>
                  <a:off x="5760" y="5461920"/>
                  <a:ext cx="91310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ea typeface="Times New Roman"/>
                    </a:rPr>
                    <a:t>(2) </a:t>
                  </a:r>
                  <a:r>
                    <a:rPr b="0" lang="es-CL" sz="1200" spc="-1" strike="noStrike">
                      <a:solidFill>
                        <a:srgbClr val="ffffff"/>
                      </a:solidFill>
                      <a:latin typeface="Arial"/>
                      <a:ea typeface="Times New Roman"/>
                    </a:rPr>
                    <a:t>Es la denominación que usan los países latinoamericanos en los acuerdos bilaterales que contraen entre sí para abrir recíprocamente sus mercados de mercancías, los que se inscriben en el marco jurídico de la ALADI. Los ACE apuntan a objetivos integradores de apertura de mercados mayores que los acuerdos de alcance parcial.</a:t>
                  </a:r>
                  <a:endParaRPr b="0" lang="en-US" sz="1200" spc="-1" strike="noStrike">
                    <a:solidFill>
                      <a:srgbClr val="ffffff"/>
                    </a:solidFill>
                    <a:latin typeface="Arial"/>
                  </a:endParaRPr>
                </a:p>
              </p:txBody>
            </p:sp>
            <p:sp>
              <p:nvSpPr>
                <p:cNvPr id="248" name=""/>
                <p:cNvSpPr/>
                <p:nvPr/>
              </p:nvSpPr>
              <p:spPr>
                <a:xfrm>
                  <a:off x="5760" y="5461920"/>
                  <a:ext cx="91310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9" name=""/>
              <p:cNvGrpSpPr/>
              <p:nvPr/>
            </p:nvGrpSpPr>
            <p:grpSpPr>
              <a:xfrm>
                <a:off x="5760" y="6096240"/>
                <a:ext cx="9131040" cy="528480"/>
                <a:chOff x="5760" y="6096240"/>
                <a:chExt cx="9131040" cy="528480"/>
              </a:xfrm>
            </p:grpSpPr>
            <p:sp>
              <p:nvSpPr>
                <p:cNvPr id="250" name=""/>
                <p:cNvSpPr/>
                <p:nvPr/>
              </p:nvSpPr>
              <p:spPr>
                <a:xfrm>
                  <a:off x="5760" y="6096240"/>
                  <a:ext cx="91310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ea typeface="Times New Roman"/>
                    </a:rPr>
                    <a:t>(</a:t>
                  </a:r>
                  <a:r>
                    <a:rPr b="1" lang="es-CL" sz="1200" spc="-1" strike="noStrike">
                      <a:solidFill>
                        <a:srgbClr val="ffffff"/>
                      </a:solidFill>
                      <a:latin typeface="Arial"/>
                      <a:ea typeface="Times New Roman"/>
                    </a:rPr>
                    <a:t>3) </a:t>
                  </a:r>
                  <a:r>
                    <a:rPr b="0" lang="es-CL" sz="1200" spc="-1" strike="noStrike">
                      <a:solidFill>
                        <a:srgbClr val="ffffff"/>
                      </a:solidFill>
                      <a:latin typeface="Arial"/>
                      <a:ea typeface="Times New Roman"/>
                    </a:rPr>
                    <a:t>Es el tipo de acuerdo bilateral más básico en materias arancelarias que persigue liberar parcialmente el comercio de listados acotados de productos. Normalmente se le concibe como una primera etapa en un proceso de apertura mayor a largo plaz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
                <p:cNvSpPr/>
                <p:nvPr/>
              </p:nvSpPr>
              <p:spPr>
                <a:xfrm>
                  <a:off x="5760" y="6096240"/>
                  <a:ext cx="91310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52" name=""/>
            <p:cNvSpPr/>
            <p:nvPr/>
          </p:nvSpPr>
          <p:spPr>
            <a:xfrm>
              <a:off x="0" y="0"/>
              <a:ext cx="9143640" cy="66294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 name="PlaceHolder 1"/>
          <p:cNvSpPr>
            <a:spLocks noGrp="1"/>
          </p:cNvSpPr>
          <p:nvPr>
            <p:ph type="sldNum" idx="2"/>
          </p:nvPr>
        </p:nvSpPr>
        <p:spPr/>
        <p:txBody>
          <a:bodyPr/>
          <a:p>
            <a:fld id="{E24FC0B1-6467-41B8-8E7F-D1267C09CE1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Objetivos:</a:t>
            </a:r>
            <a:endParaRPr b="1" lang="en-US" sz="4400" spc="-1" strike="noStrike">
              <a:solidFill>
                <a:srgbClr val="e5e5ff"/>
              </a:solidFill>
              <a:latin typeface="Garamond"/>
            </a:endParaRPr>
          </a:p>
        </p:txBody>
      </p:sp>
      <p:sp>
        <p:nvSpPr>
          <p:cNvPr id="104"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ortalecer los lazos de amistad entre los pueblos de América Latina.</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enerar y acelerar la integración económica regional – a objeto de mejorar el nivel de vida de los pueblo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mover el desarrollo económico-social, armónico y equilibrado de la región. (Art. 1)</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tablecer en forma gradual y progresiva, un mercado común latinoamericano.</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B8EFDC71-9BE2-4069-A514-BFC6A15D53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sarrollo de funciones básicas a sabe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Promoción y regulación del comerci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recíproc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La complementación económic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cciones de cooperación a fin de ampliar lo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mercados.</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5E2344D2-FDDD-4299-AE1E-7B652412AE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Principios rectores de la ALADI.</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Se encuentran consignados en el Art. 3 Tratado de Montevide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luralism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nvergenci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lexibilid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atamiento diferencia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ultiplicidad</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C92C3DFF-7C22-43E1-A782-B21BEF7E77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luralism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Sustentado en la voluntad de los países  </a:t>
            </a:r>
            <a:r>
              <a:rPr b="0" lang="es-ES" sz="3200" spc="-1" strike="noStrike">
                <a:solidFill>
                  <a:srgbClr val="ffffff"/>
                </a:solidFill>
                <a:latin typeface="Garamond"/>
              </a:rPr>
              <a:t>	</a:t>
            </a:r>
            <a:r>
              <a:rPr b="0" lang="es-ES" sz="3200" spc="-1" strike="noStrike">
                <a:solidFill>
                  <a:srgbClr val="ffffff"/>
                </a:solidFill>
                <a:latin typeface="Garamond"/>
              </a:rPr>
              <a:t>miembro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barca materias tanto políticas como </a:t>
            </a:r>
            <a:r>
              <a:rPr b="0" lang="es-ES" sz="3200" spc="-1" strike="noStrike">
                <a:solidFill>
                  <a:srgbClr val="ffffff"/>
                </a:solidFill>
                <a:latin typeface="Garamond"/>
              </a:rPr>
              <a:t>	</a:t>
            </a:r>
            <a:r>
              <a:rPr b="0" lang="es-ES" sz="3200" spc="-1" strike="noStrike">
                <a:solidFill>
                  <a:srgbClr val="ffffff"/>
                </a:solidFill>
                <a:latin typeface="Garamond"/>
              </a:rPr>
              <a:t>económic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DA3E79FA-874B-4512-B991-1F0418EEEA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nvergencia</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Es el de mayor importancia.</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Multilateralización progresiva de los acuerdos de          alcance parcial – hacia la formación de un mercado común latinoamericano.</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Negociaciones periódicas entre los países miembros.</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98AB1741-5AD5-4C3D-AC56-45FB985DF2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lexi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ermite celebración de acuerdos de alcance parcial.</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Regulado de manera compatible con el principio de convergencia y el fortalecimiento de los vínculos de integración.</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237D334E-5347-489D-89CE-3B60735AE5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atamiento diferenciad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determina en cada cas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anto mecanismos de alcance parcial como regional</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bre base de desarrollo de los países miembros- será más favorable a los países de menor desarrollo relativ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416050EC-E697-48CA-8D00-F012B10686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20:26:11Z</dcterms:created>
  <dc:creator>Sebastian Quiroz</dc:creator>
  <dc:description/>
  <dc:language>en-US</dc:language>
  <cp:lastModifiedBy>Judith María Baeza Henríquez</cp:lastModifiedBy>
  <dcterms:modified xsi:type="dcterms:W3CDTF">2009-04-23T16:49:18Z</dcterms:modified>
  <cp:revision>10</cp:revision>
  <dc:subject/>
  <dc:title>   ALADI</dc:title>
</cp:coreProperties>
</file>