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800E3-0ABF-485B-8E4D-FC766A7E1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4B8BE-C598-4EF9-A96A-35E76055C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F8072-DA1E-463C-A458-94428D91D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5DAD6-8191-46BC-BB5F-996E3B492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B604B-C7DA-4C9D-AA6D-529A5D1D6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DB639-B1A4-4008-ABC1-86EB373E6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C39F7-5A88-4A92-BFF2-BCE9B42A3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4ECB7-8F37-417F-94FF-B630880F9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EB6CD-19B7-4E7C-9C99-D98AE622D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201E8-E0BF-4E43-AF09-B42FE55AA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F2145-516A-4485-A239-5C8470EAD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688F-9B33-4D5F-AAFA-2DEEED2A3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AC221-A60E-4BDC-9336-A5E731CED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EEE09-5129-4A80-8FFF-275A864A7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D7769-6D60-4894-8287-76942D8B4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9038B-CA45-4326-943F-DF25B7B30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BE02D-29D2-4B47-A31C-F9DBD39A2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51007-16EE-4081-B22D-20D5966E7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F061C-C60D-4943-B237-ABF9F1E9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4EA80-7761-4298-8F19-73F7AF5D3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CC0DD-00A0-4DD4-B287-4997A6682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40D6-416F-42D0-8DE7-A1D55C5EF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DE0A-5FFA-4A7C-8CD8-AAF42E958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5A32-6232-42BD-94C3-A81338071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4591-0F15-4B23-BAB8-1E9214F6273A}"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AABA-2C83-41EF-83E8-0208F875D097}"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 </a:t>
            </a:r>
            <a:r>
              <a:rPr b="0" lang="es-ES_tradnl" sz="2000" spc="-1" strike="noStrike">
                <a:solidFill>
                  <a:srgbClr val="ffffff"/>
                </a:solidFill>
                <a:latin typeface="Book Antiqua"/>
              </a:rPr>
              <a:t>Kingston</a:t>
            </a:r>
            <a:r>
              <a:rPr b="1" lang="es-ES_tradnl" sz="2000" spc="-1" strike="noStrike">
                <a:solidFill>
                  <a:srgbClr val="ffffff"/>
                </a:solidFill>
                <a:latin typeface="Book Antiqua"/>
              </a:rPr>
              <a:t> </a:t>
            </a:r>
            <a:r>
              <a:rPr b="0" lang="es-ES_tradnl" sz="2000" spc="-1" strike="noStrike">
                <a:solidFill>
                  <a:srgbClr val="ffffff"/>
                </a:solidFill>
                <a:latin typeface="Book Antiqua"/>
              </a:rPr>
              <a:t>6 de septiembre de 1815 (Contestación de un Americano Meridional a un caballero de esta isla), Bolívar  se refiere al proyecto de unión de nuestros pueblos como la formación de una “Nación de Repúblicas”. </a:t>
            </a: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30852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cp:keywords/>
  <dc:language>en-US</dc:language>
  <cp:lastModifiedBy>WinuE</cp:lastModifiedBy>
  <dcterms:modified xsi:type="dcterms:W3CDTF">2010-03-29T19:05:27Z</dcterms:modified>
  <cp:revision>109</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