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139-EEFB-44B4-9F74-E3F45C5D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CD7D-67B7-4D34-AB76-1E58A444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577-58DE-4D39-BBBE-337A6039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8C0-3145-4D54-909E-793E3840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F9B-240A-4299-B264-28D7C88D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E52-09C7-4BF3-A7FE-E384CBC3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40F-DB62-448F-AAED-E050BE6C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D70-D401-494E-9687-CE076FB9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202-5F75-44F3-A1B6-F3DE801F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51B-D087-4315-A183-A493F50D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355-D7AE-4E47-B9C5-36BD2629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5DB-82A0-4536-9BAA-B7FC1C7A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C5EE-B458-425C-91CC-4C8D0C6A2E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Y DE ACCESO A LA INFORMACIÓN PÚBLIC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LEY Nº 20.285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INCIPIO DE 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rtículo 8º Constit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rtículo 5º Ley 20.2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E ES PUBL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os y resoluciones de los órganos de la Adminis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damentos de esos actos o resol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cumentos que los sustenten o complemen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dimientos para su dic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USALES DE SECRETO O RESER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rtículo 21º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el cumplimiento de las funciones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el derecho de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la seguridad de la Nación, el orden o la seguridad pública, el interés nacional, salud pública, relaciones internacionales o intereses económicos o comerciale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 de quórum calificado ha declarado la reserva o el secreto (el carácter reservado se mantiene por 5 años) Artículo 22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EJO PARA LA TRANSPARENC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art. 32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NDATO (Art. 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m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scaliz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arant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(ART. 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olver los recla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tar instrucciones genera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rmular recomend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pacitación a funcionar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fusión 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ísticas e inform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8:57:07Z</dcterms:created>
  <dc:creator>lpino</dc:creator>
  <dc:description/>
  <dc:language>en-US</dc:language>
  <cp:lastModifiedBy>mvaldebe</cp:lastModifiedBy>
  <dcterms:modified xsi:type="dcterms:W3CDTF">2010-11-22T17:59:56Z</dcterms:modified>
  <cp:revision>71</cp:revision>
  <dc:subject/>
  <dc:title>Derecho Internacional de los Derechos Humanos</dc:title>
</cp:coreProperties>
</file>