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8F83-9378-4CEB-8C85-8854E579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62E7-0710-4E43-B770-40A74D91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460-EA22-4BAB-ACBA-11658FDB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CBB7-86FC-4B43-B6CE-80279E4D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2263-8513-48DC-9E61-BD759561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E868-DACC-46B8-925D-3FDAECC6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EB9-20BE-4CD9-B52F-09A77E69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506-76F4-49FF-B169-89C9FFFF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9B2-2D92-4EF6-BC84-CC93199D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EE99-DA39-4101-ADBF-100E04F1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0621-7BCF-4B77-BD3E-B088882D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82B-A588-419A-BB1F-DB0999A6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10ED-F79A-4682-892E-6F6B1237C59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EY DE ACCESO A LA INFORMACIÓN PÚBLICA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LEY Nº 20.285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INCIPIO DE TRANSPA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rtículo 8º Constit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rtículo 5º Ley 20.2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QUE ES PUBLIC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tos y resoluciones de los órganos de la Administr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damentos de esos actos o resolu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ocumentos que los sustenten o complemen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dimientos para su dic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USALES DE SECRETO O RESERV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Artículo 21º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ublicidad afecta el cumplimiento de las funciones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ublicidad afecta el derecho de pers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publicidad afecta la seguridad de la Nación, el orden o la seguridad pública, el interés nacional, salud pública, relaciones internacionales o intereses económicos o comerciales del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y de quórum calificado ha declarado la reserva o el secreto (el carácter reservado se mantiene por 5 años) Artículo 22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EJO PARA LA TRANSPARENCI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art. 32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NDATO (Art. 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mo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scaliz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arant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ONES (ART. 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olver los reclam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ctar instrucciones genera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ormular recomenda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pacitación a funcionar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fusión 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ísticas e inform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8:57:07Z</dcterms:created>
  <dc:creator>lpino</dc:creator>
  <dc:description/>
  <dc:language>en-US</dc:language>
  <cp:lastModifiedBy>mvaldebe</cp:lastModifiedBy>
  <dcterms:modified xsi:type="dcterms:W3CDTF">2010-11-22T17:59:56Z</dcterms:modified>
  <cp:revision>71</cp:revision>
  <dc:subject/>
  <dc:title>Derecho Internacional de los Derechos Humanos</dc:title>
</cp:coreProperties>
</file>