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F28-A50A-4CF5-83EA-2DDC973F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F12-594E-48B6-8FC2-C1B4A0C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0EC-2C1D-42CA-8841-C32EE68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85D-B5EB-4C96-BDF1-95D9BE75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89F-AA1B-47DA-A741-7183DA5F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422-ED39-4B59-B5B4-1BA82F6E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2CC-61AA-4B1B-8AD4-24739B1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B3F-B2EB-47D5-BD65-2BC887BA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AE6-834E-4801-AF85-6BFECCFE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3E0-7EA3-47E9-A43E-970A46F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80D-2A10-40F6-AC3B-6A76EC93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F1B-86DC-469A-8E43-72F2814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6B32-92F8-43AC-AD0B-930880D55E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Y DE ACCESO A LA INFORMACIÓN PÚBLIC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LEY Nº 20.28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NCIPIO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8º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5º Ley 20.2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ES PUBL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os y resoluciones de los órganos de la Adminis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damentos de esos actos o re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umentos que los sustenten o complemen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s para su dic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USALES DE SECRETO O RESER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rtículo 21º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cumplimiento de las funciones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derecho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la seguridad de la Nación, el orden o la seguridad pública, el interés nacional, salud pública, relaciones internacionales o intereses económicos o comerciale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quórum calificado ha declarado la reserva o el secreto (el carácter reservado se mantiene por 5 años) Artículo 22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JO PARA LA TRANSPAR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rt. 32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NDATO (Art.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m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sca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rant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(ART.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olver los recla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ar instrucciones gener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ular recomend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tación a funcionar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usión 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ísticas e inform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57:07Z</dcterms:created>
  <dc:creator>lpino</dc:creator>
  <dc:description/>
  <dc:language>en-US</dc:language>
  <cp:lastModifiedBy>mvaldebe</cp:lastModifiedBy>
  <dcterms:modified xsi:type="dcterms:W3CDTF">2010-11-22T17:59:56Z</dcterms:modified>
  <cp:revision>71</cp:revision>
  <dc:subject/>
  <dc:title>Derecho Internacional de los Derechos Humanos</dc:title>
</cp:coreProperties>
</file>