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2E9-F19D-4E08-B8FB-C4CD11E4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874-DDFA-40EF-A799-7F417E95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235-7136-4C8D-9AAD-635D3C00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40D-F8BB-4083-9EFE-AF56657C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3106-5BD7-4A14-96FB-ED73FD04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F988-CB72-47D0-B05A-F211C8BE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D965-52E9-4631-81B3-06D20CB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A19B-A840-4A30-92E3-F5CE651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A7D7-6B6E-4842-9F53-B8163BF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EE5-8CFA-4BEE-90C1-F8D89B3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9051-8A46-4141-95B6-69BADB6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324-74EA-4E18-A6ED-991905EC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C66C-CCF5-4229-B686-162297C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6340-0FC6-4876-9EA6-9E2132B8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B65-BBC8-4C55-81E6-A58BFA08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A2F8-97B8-42D6-AC32-7F12ACFC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6CE-583B-4BCE-9787-446839B7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96D-B03B-42F3-9F93-BBABE6FE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163-59AA-4B8D-BF12-6C61AC3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FEF-A19A-4DE0-83A7-3BAFA23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1D7-0A94-4C62-B278-61FC7AC6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7C8-9B71-4401-A44F-EAB75B0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817-6133-480D-9FBA-C6980C5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785-CF40-46F7-80E9-3159BC2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58CE-FE74-48DC-B8B2-E97774335547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530-7C97-4B2E-96EE-C572B9CBCB41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ndam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sticiabilidad de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mecanismos de protec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ligaciones del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estrategi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ículo 26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onsagra derechos exigib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ómo se determinan estos derecho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emisión a Carta O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 de “normas” en “derechos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La DADH y el PSS como limitaciones a la justiciabilid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tipo de obligaciones tiene el Estado respecto de los DESC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alibri"/>
              </a:rPr>
              <a:t>Obg. De progresividad (O.G. Nº 3 Comité DES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Calibri"/>
              </a:rPr>
              <a:t>Lex specialis</a:t>
            </a: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 respecto de  “Adoptar disposiciones de derecho interno”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Obg. Positiva de adoptar medi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s obg. inmediata y de medi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o progresivo es alcanzar el pleno goce del derecho (obg. De resultado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Medidas apropia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egislativas, administrativ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Protección judicia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No regresividad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Obg. Negativa. Regresividad normativa y regresividad fáct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xcep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Respe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Garantí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Protección de priv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Regulación que busque mejor redistribu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Garantía de un contenido míni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no discrimin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que acceso a los DESC no debe excluir a un grup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adoptar medidas a favor de grupos vulnerab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Exigible de forma inmedia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Derecho de Acceso a la información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aso 1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unidad indígena no puede vivir en sus tierras ancestrales, por presencia de empresas privadas que explotan los recursos natur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eniendo otro lugar donde vivir, están instaladas al borde de una carreter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ienen condiciones sanitarias, ni medios de trabajo o alimenta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iembros de la comunidad mueren de enfermedades infeccios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rte IDH. Casos Yakye Axa y Sawhoyamaxa vs. Paragu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so 2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a ley establece el derecho a contar con un subsidio en caso de desempl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ara acceder a este beneficio, las mujeres casadas deben demostrar que son “sostén de familia”. No así los hombres, casados o soltero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Comité DDHH. Broeks y Zwann de Vries vs. Países Baj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 grupo de 200 funcionarios públicos pertenecientes a un sindicato realizan un paro por condiciones laborales. Existe amenaza de golpe de estado en ese moment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 expide una ley por la cuál se permite el despido de funcionarios involucrados en “atentados a la democracia”, con efecto retroactivo. Se concretan los despidos, sin considerar fuero sindical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 ley limita los recursos ante tribunales laborales, solamente recurso ante CS, sin apelació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urante los procedimientos, no hay prueba que demuestre participación de los trabajadores en amenazas de golpe de estad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Baena Ricardo vs. Panamá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Trabajadores Cesados del Congreso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4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 ley establece derecho a pensiones reajustables para funcionarios público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rupo de funcionarios jubilados se acogen a dicha ley y reciben durante 10 años el pago su pensión reajustad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 contexto de crisis política, se comienza a pagar una pensión sin reajustabilidad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teriormente se emite un DL que confirma la no reajustabilidad de las pensione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ibunales internos confirman la existencia de un derecho adquirido sobre pensiones reajustables, pero estas resoluciones no se cumple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Cinco pensionistas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Acevedo Buendía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” de un DESC en un DC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tilización de obligaciones derivadas de los DCP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iscriminació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ebido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rotección Jud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Justiciabilidad directa a través de prohibición de regresivi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Obg. de garantía respecto del contenido mínimo o esencial del 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79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620640"/>
          <a:ext cx="8229600" cy="6100920"/>
        </p:xfrm>
        <a:graphic>
          <a:graphicData uri="http://schemas.openxmlformats.org/drawingml/2006/table">
            <a:tbl>
              <a:tblPr/>
              <a:tblGrid>
                <a:gridCol w="2533680"/>
                <a:gridCol w="2824200"/>
                <a:gridCol w="287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ADH (194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IDESC (1966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SS (198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de investigación </a:t>
                      </a: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 libertad de expres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stitución y protecc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e infanc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rimonio – maternidad –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vel vida adecuad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 un medioambiente san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sta retribución del trabaj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dioambien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scans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ertad de enseñanz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vida cultur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–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-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de asociación (sindic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-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ber de trabajo – de asistencia social – con la 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ñez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ncian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inusváli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ros derechos: al agua, al desarrollo, derechos del consumid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hay un catálogo universalmente aceptad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iversas clasificac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uperposición entre algunos DESC y DC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ndamento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órico o filosóf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erradicación de la pobr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Igual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ante la l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juríd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en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oportunida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hecho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¿igualdad en qué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2360" y="5157720"/>
            <a:ext cx="1008000" cy="719280"/>
          </a:xfrm>
          <a:prstGeom prst="rect">
            <a:avLst/>
          </a:prstGeom>
          <a:solidFill>
            <a:srgbClr val="cc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276640"/>
            <a:ext cx="1440000" cy="29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76280"/>
            <a:ext cx="1511280" cy="3889440"/>
          </a:xfrm>
          <a:prstGeom prst="rect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440" y="595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780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44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944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1800" y="227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04000" y="188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3800" y="54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C como prestaciones positivas vs. DCP como obligaciones de absten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enido programático” vs. “garantía justiciable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Objeción contramayorita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ímites técnicos de los jueces en el diseño de una política públ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Falta de determinación contenido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igual acceso a la justi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DESC como obligaciones negativas, los DCP como obligaciones positiv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sibilidad e interdependencia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colaboración de los jueces en el equilibrio de poderes – el litigio como forma de comunicación entre SC y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terminación del contenido a través de legislación y jurisprudenci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posibilidad de nuevos diseños proces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idea de litigio estratég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canismos de protección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Univers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ité DESC: rol inicial de monitoreo de inform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adicional al PIDESC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casos individu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Interamerica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San Salvador (PSS)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Sistema de Monitore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eticiones individuales: solo art. 8 y 13 (derechos sindicales / educación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ADH: Estados parte y no parte de la CAD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ADH: art. 26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la ambigüedad en la protección de los DES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s DESC en la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CAPITULO III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DERECHOS ECONOMICOS, SOCIALES Y CULTURA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Artículo 26.  Desarrollo Progresiv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Los Estados Partes se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rometen a adoptar providencia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tanto a nivel interno como mediante la cooperación internacional, especialmente económica y técnica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para lograr progresivamente la plena efectividad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de los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derechos que se derivan de las normas 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económicas, sociales y sobre educación, ciencia y cultura, contenidas en la Carta de la Organización de los Estados Americanos, reformada por el Protocolo de Buenos Aires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en la medida de los recursos disponible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por vía legislativa u otros medios apropiados.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47:11Z</dcterms:created>
  <dc:creator>Colossus User</dc:creator>
  <dc:description/>
  <dc:language>en-US</dc:language>
  <cp:lastModifiedBy>marianne</cp:lastModifiedBy>
  <dcterms:modified xsi:type="dcterms:W3CDTF">2010-11-15T21:18:58Z</dcterms:modified>
  <cp:revision>6</cp:revision>
  <dc:subject/>
  <dc:title>Derechos Económicos, Sociales y Culturales</dc:title>
</cp:coreProperties>
</file>