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FDA-31B5-444F-972E-E78A8727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ADD-2E00-4866-B3F6-84E574C5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176-CD1C-429B-B70D-FD398162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ACF-73A4-45D4-9BEC-1B9D30BD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946D-E1CB-40F3-B5F4-DC1D1F76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0A2B-BF1C-4FF6-B095-44D87673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C10A-3848-4A04-93E9-3570DF71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138C-5A90-43B2-8EFC-81A3E827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70AE-788A-432A-8C32-6819D391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8265-56AD-4445-93EE-C8278382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DB74-62CF-40AC-BA38-52A4E0B7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D92-38EF-4B15-B34B-260D6D3C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B9A5-32CE-46FB-807E-98C2A65F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B226-0574-4686-B3C8-FA8378D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953F-FD85-4DB2-BE5C-EA9BBB23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46B3-BE51-4418-B747-197D2084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3C02-7893-421E-9AF6-70D219D9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BE9-6237-4CF8-9EF6-256CD6F0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F98-4DDB-4049-BFEC-2D55B981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1AD-370E-435B-B13A-4A852250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F67-32FE-45D2-9D65-2743989F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68C-CA57-4D5F-AA37-8BB0A06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0C6-B9B5-473F-8AF8-F8129017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7DF-7505-4F8B-B79B-129F6A87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9ABA-71A8-4A36-BD1F-35A50DFB5A7F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D0C3-8741-453E-AB0A-F893DB10422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rechos Económicos, Sociales y Cultur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¿Cuáles son los DESC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undam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ór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usticiabilidad de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obje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respuest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 mecanismos de protec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obligaciones del Estad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estrategi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ículo 26 CAD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Consagra derechos exigib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Cómo se determinan estos derecho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emisión a Carta O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raducción de “normas” en “derechos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La DADH y el PSS como limitaciones a la justiciabilida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tipo de obligaciones tiene el Estado respecto de los DESC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obligaciones del Estado respecto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alibri"/>
              </a:rPr>
              <a:t>Obg. De progresividad (O.G. Nº 3 Comité DESC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Calibri"/>
              </a:rPr>
              <a:t>Lex specialis</a:t>
            </a: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 respecto de  “Adoptar disposiciones de derecho interno”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Obg. Positiva de adoptar medid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Es obg. inmediata y de medi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Lo progresivo es alcanzar el pleno goce del derecho (obg. De resultado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Medidas apropiad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legislativas, administrativ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Protección judicial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No regresividad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Obg. Negativa. Regresividad normativa y regresividad fáctic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Excep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obligaciones del Estado respecto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Respe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Garantí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Protección de priv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Regulación que busque mejor redistribu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Garantía de un contenido mínim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no discrimin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Implica que acceso a los DESC no debe excluir a un grup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Implica adoptar medidas a favor de grupos vulnerab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Exigible de forma inmediat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Derecho de Acceso a la información en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aso 1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unidad indígena no puede vivir en sus tierras ancestrales, por presencia de empresas privadas que explotan los recursos natur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teniendo otro lugar donde vivir, están instaladas al borde de una carreter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tienen condiciones sanitarias, ni medios de trabajo o alimentació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iembros de la comunidad mueren de enfermedades infeccios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rte IDH. Casos Yakye Axa y Sawhoyamaxa vs. Paragu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aso 2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a ley establece el derecho a contar con un subsidio en caso de desempl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ara acceder a este beneficio, las mujeres casadas deben demostrar que son “sostén de familia”. No así los hombres, casados o soltero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Comité DDHH. Broeks y Zwann de Vries vs. Países Baj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o 3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 grupo de 200 funcionarios públicos pertenecientes a un sindicato realizan un paro por condiciones laborales. Existe amenaza de golpe de estado en ese moment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 expide una ley por la cuál se permite el despido de funcionarios involucrados en “atentados a la democracia”, con efecto retroactivo. Se concretan los despidos, sin considerar fuero sindical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 ley limita los recursos ante tribunales laborales, solamente recurso ante CS, sin apelació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urante los procedimientos, no hay prueba que demuestre participación de los trabajadores en amenazas de golpe de estad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Baena Ricardo vs. Panamá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Trabajadores Cesados del Congreso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o 4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 ley establece derecho a pensiones reajustables para funcionarios público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rupo de funcionarios jubilados se acogen a dicha ley y reciben durante 10 años el pago su pensión reajustad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 contexto de crisis política, se comienza a pagar una pensión sin reajustabilidad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teriormente se emite un DL que confirma la no reajustabilidad de las pensione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ibunales internos confirman la existencia de un derecho adquirido sobre pensiones reajustables, pero estas resoluciones no se cumple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Cinco pensionistas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Acevedo Buendía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raducción” de un DESC en un DC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tilización de obligaciones derivadas de los DCP en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iscriminación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ebido Proces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Protección Judi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Justiciabilidad directa a través de prohibición de regresivi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Obg. de garantía respecto del contenido mínimo o esencial del 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79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620640"/>
          <a:ext cx="8229600" cy="6100920"/>
        </p:xfrm>
        <a:graphic>
          <a:graphicData uri="http://schemas.openxmlformats.org/drawingml/2006/table">
            <a:tbl>
              <a:tblPr/>
              <a:tblGrid>
                <a:gridCol w="2533680"/>
                <a:gridCol w="2824200"/>
                <a:gridCol w="2871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ADH (1948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IDESC (1966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SS (1988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de investigación </a:t>
                      </a: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con libertad de expresión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l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l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constitución y protección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ones equitativas y satisfactorias de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ones equitativas y satisfactorias de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nidad e infanc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s Sindic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s Sindic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 – vivienda – vestid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rimonio – maternidad – infanc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de la cultu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vel vida adecuad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 – vivienda – vestid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 un medioambiente san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Justa retribución del trabaj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edioambient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scans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ertad de enseñanz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vida cultur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 Investigación – 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de la cultu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 Investigación - 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de asociación (sindica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nidad - infanc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ber de trabajo – de asistencia social – con la 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ñez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ncian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inusválid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rechos Económicos, Sociales y Cultur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¿Cuáles son los DES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tros derechos: al agua, al desarrollo, derechos del consumid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 hay un catálogo universalmente aceptad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iversas clasificac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uperposición entre algunos DESC y DCP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undamento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stór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órico o filosóf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erradicación de la pobr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Igual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ante la le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juríd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en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de oportunida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de hecho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¿igualdad en qué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2360" y="5157720"/>
            <a:ext cx="1008000" cy="719280"/>
          </a:xfrm>
          <a:prstGeom prst="rect">
            <a:avLst/>
          </a:prstGeom>
          <a:solidFill>
            <a:srgbClr val="cc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2276640"/>
            <a:ext cx="1440000" cy="2952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476280"/>
            <a:ext cx="1511280" cy="3889440"/>
          </a:xfrm>
          <a:prstGeom prst="rect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440" y="595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780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6144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685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944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1800" y="227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804000" y="18864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3800" y="54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sticiabilidad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objecio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SC como prestaciones positivas vs. DCP como obligaciones de abstenció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enido programático” vs. “garantía justiciable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Objeción contramayorita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ímites técnicos de los jueces en el diseño de una política públ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Falta de determinación contenido de los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sigual acceso a la justic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sticiabilidad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s respuest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 DESC como obligaciones negativas, los DCP como obligaciones positiv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divisibilidad e interdependencia de los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colaboración de los jueces en el equilibrio de poderes – el litigio como forma de comunicación entre SC y Estad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terminación del contenido a través de legislación y jurisprudenci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posibilidad de nuevos diseños procesa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idea de litigio estratég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canismos de protección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istema Univers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ité DESC: rol inicial de monitoreo de inform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tocolo adicional al PIDESC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casos individu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istema Interamerican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tocolo San Salvador (PSS)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Sistema de Monitore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Peticiones individuales: solo art. 8 y 13 (derechos sindicales / educación)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ADH: Estados parte y no parte de la CAD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ADH: art. 26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la ambigüedad en la protección de los DES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s DESC en la CAD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CAPITULO III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DERECHOS ECONOMICOS, SOCIALES Y CULTURAL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Artículo 26.  Desarrollo Progresiv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Los Estados Partes se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rometen a adoptar providencias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, tanto a nivel interno como mediante la cooperación internacional, especialmente económica y técnica,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para lograr progresivamente la plena efectividad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 de los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derechos que se derivan de las normas 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económicas, sociales y sobre educación, ciencia y cultura, contenidas en la Carta de la Organización de los Estados Americanos, reformada por el Protocolo de Buenos Aires,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en la medida de los recursos disponibles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, por vía legislativa u otros medios apropiados.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7:47:11Z</dcterms:created>
  <dc:creator>Colossus User</dc:creator>
  <dc:description/>
  <dc:language>en-US</dc:language>
  <cp:lastModifiedBy>marianne</cp:lastModifiedBy>
  <dcterms:modified xsi:type="dcterms:W3CDTF">2010-11-15T21:18:58Z</dcterms:modified>
  <cp:revision>6</cp:revision>
  <dc:subject/>
  <dc:title>Derechos Económicos, Sociales y Culturales</dc:title>
</cp:coreProperties>
</file>