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8D2-5AAF-4E0A-9DBD-2037784F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EA8-4C67-4A03-B897-B36C0754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539-16B0-44BE-9B95-39C8315D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2B3-BC46-4E71-B7D0-7F5EA057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4F7E-4296-4FBF-9A10-B192A03E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5A24-3629-4217-921E-38E979F8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3CA2-1C67-4074-A86F-299402C0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1D1D-0E9A-46DA-8BF2-8C942443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CE0E-8E4D-472D-8374-BCD11DEC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E281-FB6D-429D-B9D7-D96279A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5FD4-452C-4AD5-8157-AEDDF69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93A-2C82-40E0-8E7F-679F65B5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164A-364C-42B6-8A06-4CFD5F3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5934-D8B5-4D05-88D4-879D026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FD6F-04C0-42E9-A7CC-B6381E8D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E351-CFFE-4D28-A9A6-252A03BF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DF31-5BD8-4471-B577-CDBCDDA5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719-E03A-4C33-9D44-B2FC0E45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C76-E7DF-4FD4-B3C4-9CC692C3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AEC-77C0-4C26-9FDF-961A905C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89D-1B08-4435-A335-E0DB5E05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9C5-2BB5-43DA-9A41-4F35CB7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063-F5E5-4871-8796-6841C898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376-2358-4EB5-9DE5-BC10902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11D2-9C0D-43E7-A871-A5628B503ED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23D-5C97-49C1-8092-0C53F487F137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undam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usticiabilidad de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mecanismos de protec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ligaciones del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estrategi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ículo 26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onsagra derechos exigib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ómo se determinan estos derecho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emisión a Carta O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 de “normas” en “derechos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La DADH y el PSS como limitaciones a la justiciabilida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tipo de obligaciones tiene el Estado respecto de los DESC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alibri"/>
              </a:rPr>
              <a:t>Obg. De progresividad (O.G. Nº 3 Comité DESC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Calibri"/>
              </a:rPr>
              <a:t>Lex specialis</a:t>
            </a: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 respecto de  “Adoptar disposiciones de derecho interno”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Obg. Positiva de adoptar medi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s obg. inmediata y de medi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o progresivo es alcanzar el pleno goce del derecho (obg. De resultado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Medidas apropia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egislativas, administrativ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Protección judicia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No regresividad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Obg. Negativa. Regresividad normativa y regresividad fáctic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xcep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Respe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Garantí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Protección de priv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Regulación que busque mejor redistribu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Garantía de un contenido mínim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no discrimin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que acceso a los DESC no debe excluir a un grup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adoptar medidas a favor de grupos vulnerab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Exigible de forma inmediat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Derecho de Acceso a la información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aso 1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unidad indígena no puede vivir en sus tierras ancestrales, por presencia de empresas privadas que explotan los recursos natur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eniendo otro lugar donde vivir, están instaladas al borde de una carreter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ienen condiciones sanitarias, ni medios de trabajo o alimenta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iembros de la comunidad mueren de enfermedades infeccios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rte IDH. Casos Yakye Axa y Sawhoyamaxa vs. Paragu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aso 2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a ley establece el derecho a contar con un subsidio en caso de desempl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ara acceder a este beneficio, las mujeres casadas deben demostrar que son “sostén de familia”. No así los hombres, casados o soltero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Comité DDHH. Broeks y Zwann de Vries vs. Países Baj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3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 grupo de 200 funcionarios públicos pertenecientes a un sindicato realizan un paro por condiciones laborales. Existe amenaza de golpe de estado en ese moment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 expide una ley por la cuál se permite el despido de funcionarios involucrados en “atentados a la democracia”, con efecto retroactivo. Se concretan los despidos, sin considerar fuero sindical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 ley limita los recursos ante tribunales laborales, solamente recurso ante CS, sin apelació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urante los procedimientos, no hay prueba que demuestre participación de los trabajadores en amenazas de golpe de estad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Baena Ricardo vs. Panamá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Trabajadores Cesados del Congreso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4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 ley establece derecho a pensiones reajustables para funcionarios público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rupo de funcionarios jubilados se acogen a dicha ley y reciben durante 10 años el pago su pensión reajustad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 contexto de crisis política, se comienza a pagar una pensión sin reajustabilidad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teriormente se emite un DL que confirma la no reajustabilidad de las pensione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ibunales internos confirman la existencia de un derecho adquirido sobre pensiones reajustables, pero estas resoluciones no se cumple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Cinco pensionistas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Acevedo Buendía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” de un DESC en un DC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tilización de obligaciones derivadas de los DCP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iscriminació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ebido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rotección Jud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Justiciabilidad directa a través de prohibición de regresivi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Obg. de garantía respecto del contenido mínimo o esencial del 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79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620640"/>
          <a:ext cx="8229600" cy="6100920"/>
        </p:xfrm>
        <a:graphic>
          <a:graphicData uri="http://schemas.openxmlformats.org/drawingml/2006/table">
            <a:tbl>
              <a:tblPr/>
              <a:tblGrid>
                <a:gridCol w="2533680"/>
                <a:gridCol w="2824200"/>
                <a:gridCol w="2871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ADH (194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IDESC (1966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SS (198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de investigación </a:t>
                      </a: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 libertad de expres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stitución y protecc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e infanc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rimonio – maternidad –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vel vida adecuad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 un medioambiente san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Justa retribución del trabaj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edioambient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scans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ertad de enseñanz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vida cultur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–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-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de asociación (sindica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-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ber de trabajo – de asistencia social – con la 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ñez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ncian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inusválid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ros derechos: al agua, al desarrollo, derechos del consumid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 hay un catálogo universalmente aceptad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iversas clasificac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uperposición entre algunos DESC y DCP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undamento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órico o filosóf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erradicación de la pobr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Igual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ante la l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juríd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en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oportunida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hecho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¿igualdad en qué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2360" y="5157720"/>
            <a:ext cx="1008000" cy="719280"/>
          </a:xfrm>
          <a:prstGeom prst="rect">
            <a:avLst/>
          </a:prstGeom>
          <a:solidFill>
            <a:srgbClr val="cc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2276640"/>
            <a:ext cx="1440000" cy="2952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76280"/>
            <a:ext cx="1511280" cy="3889440"/>
          </a:xfrm>
          <a:prstGeom prst="rect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440" y="595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780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144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685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944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1800" y="227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804000" y="188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3800" y="54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C como prestaciones positivas vs. DCP como obligaciones de absten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enido programático” vs. “garantía justiciable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Objeción contramayorita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ímites técnicos de los jueces en el diseño de una política públ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Falta de determinación contenido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igual acceso a la justic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DESC como obligaciones negativas, los DCP como obligaciones positiv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ivisibilidad e interdependencia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colaboración de los jueces en el equilibrio de poderes – el litigio como forma de comunicación entre SC y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terminación del contenido a través de legislación y jurisprudenci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posibilidad de nuevos diseños procesa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idea de litigio estratég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canismos de protección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Univers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ité DESC: rol inicial de monitoreo de inform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adicional al PIDESC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casos individu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Interamerican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San Salvador (PSS)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Sistema de Monitore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eticiones individuales: solo art. 8 y 13 (derechos sindicales / educación)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ADH: Estados parte y no parte de la CAD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ADH: art. 26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la ambigüedad en la protección de los DES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s DESC en la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CAPITULO III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DERECHOS ECONOMICOS, SOCIALES Y CULTURAL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Artículo 26.  Desarrollo Progresiv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Los Estados Partes se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rometen a adoptar providencia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tanto a nivel interno como mediante la cooperación internacional, especialmente económica y técnica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para lograr progresivamente la plena efectividad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de los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derechos que se derivan de las normas 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económicas, sociales y sobre educación, ciencia y cultura, contenidas en la Carta de la Organización de los Estados Americanos, reformada por el Protocolo de Buenos Aires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en la medida de los recursos disponible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por vía legislativa u otros medios apropiados.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7:47:11Z</dcterms:created>
  <dc:creator>Colossus User</dc:creator>
  <dc:description/>
  <dc:language>en-US</dc:language>
  <cp:lastModifiedBy>marianne</cp:lastModifiedBy>
  <dcterms:modified xsi:type="dcterms:W3CDTF">2010-11-15T21:18:58Z</dcterms:modified>
  <cp:revision>6</cp:revision>
  <dc:subject/>
  <dc:title>Derechos Económicos, Sociales y Culturales</dc:title>
</cp:coreProperties>
</file>