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C3E0-3BE2-4977-9C1D-5F0D580BC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600" y="394200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B460-CA69-4AE5-AE2D-6A1305D67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7DC5-4E19-48F6-B0D1-6591D877D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88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360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88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AED4-051D-4A61-AE43-C24B99E69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6E6C-95EA-4BAA-AE80-598442F51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4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3600" y="394200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4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88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60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88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0190-D800-43B6-9426-1DCDD2C3F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50F8-D108-4593-844A-BFD7E8BAE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9577-9222-426B-B4F6-FD4CE570D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87A4-5599-49E2-8D0C-FDBB83552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D7FC-02C1-402C-A0E4-CE406DD10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989B-85A9-4C43-8972-A60D2F280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DDDC-9C0C-4302-9421-D2A09B9F3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6176-8B3A-4CF2-91E1-86D3D50CC793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Human Capital</a:t>
            </a:r>
            <a:r>
              <a:rPr b="0" i="1" lang="en-US" sz="17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883120" y="0"/>
            <a:ext cx="3259440" cy="54612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6058080" y="-360"/>
            <a:ext cx="261936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1761840"/>
            <a:ext cx="820728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Nueva Regulación del Suministro de Person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9440" y="3295800"/>
            <a:ext cx="8201160" cy="164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resas de Servicios Transito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uarta Barrera: 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elebración de Contratos</a:t>
            </a:r>
            <a:br>
              <a:rPr sz="4000"/>
            </a:br>
            <a:r>
              <a:rPr b="1" lang="es-CL" sz="2400" spc="-1" strike="noStrike">
                <a:solidFill>
                  <a:srgbClr val="00a28a"/>
                </a:solidFill>
                <a:latin typeface="Arial"/>
              </a:rPr>
              <a:t> Contrato de Puesta a Disposición de Trabajadores</a:t>
            </a:r>
            <a:endParaRPr b="1" lang="en-US" sz="24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3600" y="2060640"/>
            <a:ext cx="7358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or escrito, entre la EST y la usuaria.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5 días siguientes a la incorporación del trabaj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anción por falta de contrato escrito: trabajador se considera como dependiente de la usu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enciones espe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LAZO – depende de la cau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suspensión del contrato. Duración de la ausencia del trabajador reemplaz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ventos extraordinarios o aumentos ocasionales de actividad. 90 d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yectos nuevos y específicos o inicio de actividades. 180 d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os dos casos anteriores, si subsisten circunstancias puede prorrogarse hasta completar 90 o 180 d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lazos especiales para personas con discapac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 trabajador continúa prestando servicios después del plazo, usuaria pasa a ser empleador, con contrato indefi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ject 4" descr=""/>
          <p:cNvPicPr/>
          <p:nvPr/>
        </p:nvPicPr>
        <p:blipFill>
          <a:blip r:embed="rId1"/>
          <a:stretch/>
        </p:blipFill>
        <p:spPr>
          <a:xfrm>
            <a:off x="7524720" y="2565360"/>
            <a:ext cx="115092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uarta Barrera: 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elebración de Contratos</a:t>
            </a:r>
            <a:br>
              <a:rPr sz="4000"/>
            </a:br>
            <a:r>
              <a:rPr b="1" lang="es-CL" sz="2400" spc="-1" strike="noStrike">
                <a:solidFill>
                  <a:srgbClr val="00a28a"/>
                </a:solidFill>
                <a:latin typeface="Arial"/>
              </a:rPr>
              <a:t>Contrato de Trabajo de Servicios Transitorios</a:t>
            </a:r>
            <a:endParaRPr b="1" lang="en-US" sz="24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3600" y="2373480"/>
            <a:ext cx="7286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or escrito, entre la EST y cada trabajador.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ara ejecutar labores específicas para una usuaria de la 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nciones de todo contrato de trabaj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9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turación 5 días siguientes a la incorpor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9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pia enviada a la usu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hibición de que EST cobre al trabaj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7524720" y="4456080"/>
            <a:ext cx="1362240" cy="1494000"/>
            <a:chOff x="7524720" y="4456080"/>
            <a:chExt cx="1362240" cy="1494000"/>
          </a:xfrm>
        </p:grpSpPr>
        <p:pic>
          <p:nvPicPr>
            <p:cNvPr id="160" name="Object 5" descr=""/>
            <p:cNvPicPr/>
            <p:nvPr/>
          </p:nvPicPr>
          <p:blipFill>
            <a:blip r:embed="rId1"/>
            <a:stretch/>
          </p:blipFill>
          <p:spPr>
            <a:xfrm>
              <a:off x="7524720" y="4456080"/>
              <a:ext cx="75240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ject 6" descr=""/>
            <p:cNvPicPr/>
            <p:nvPr/>
          </p:nvPicPr>
          <p:blipFill>
            <a:blip r:embed="rId2"/>
            <a:stretch/>
          </p:blipFill>
          <p:spPr>
            <a:xfrm>
              <a:off x="7677000" y="4608360"/>
              <a:ext cx="752760" cy="8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ject 7" descr=""/>
            <p:cNvPicPr/>
            <p:nvPr/>
          </p:nvPicPr>
          <p:blipFill>
            <a:blip r:embed="rId3"/>
            <a:stretch/>
          </p:blipFill>
          <p:spPr>
            <a:xfrm>
              <a:off x="7829640" y="4761000"/>
              <a:ext cx="75240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Object 8" descr=""/>
            <p:cNvPicPr/>
            <p:nvPr/>
          </p:nvPicPr>
          <p:blipFill>
            <a:blip r:embed="rId4"/>
            <a:stretch/>
          </p:blipFill>
          <p:spPr>
            <a:xfrm>
              <a:off x="7981920" y="4913280"/>
              <a:ext cx="75240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Object 9" descr=""/>
            <p:cNvPicPr/>
            <p:nvPr/>
          </p:nvPicPr>
          <p:blipFill>
            <a:blip r:embed="rId5"/>
            <a:stretch/>
          </p:blipFill>
          <p:spPr>
            <a:xfrm>
              <a:off x="8134200" y="5065560"/>
              <a:ext cx="75276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uarta Barrera: 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elebración de Contratos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a28a"/>
                </a:solidFill>
                <a:latin typeface="Arial"/>
              </a:rPr>
              <a:t>Contrato de Trabajo de Servicios Transitorios</a:t>
            </a: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3600" y="2060280"/>
            <a:ext cx="82234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eriado.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demnización compensatoria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l empresa usua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trol de asist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rganizar y dirigir el trabajo (Reglamen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Jornad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Usuaria respeta condiciones convenidas entre EST y trabajador. Horas extra se pactan con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muneración incluye todo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Gratificación, desahucio (???), indemnizaciones por años de servicio y sustitutiva del aviso previo, etc. (salvo feri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uero maternal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xiste, pero cesa de pleno derecho al término de los servicios en la usuaria. Se extiende si trabajadora pasa a ser dependiente de la usu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rechos fundamentales del Trabaj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RESPONSABILIDAD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3600" y="1149480"/>
            <a:ext cx="822348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E LA 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ones laborales y previsionales de origen legal o contra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arantía responde de dichas obligaciones, pudiendo hacerse efectiva en ciertos casos. Deuda subsiste por saldo insoluto, si lo h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capacitar 10% de trabajadores por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E LA USU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ubsidiariam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por obligaciones laborales y previsionales de la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irectament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rmas de higiene y segu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vención de ries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tificación a EST en caso de accidente d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demnización por artículo 69 Ley N°16.744 (accidente por culpa o dolo de la empleadora o un tercer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AN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3600" y="14126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UL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54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racción a prohibición de relación con usu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ta de requisitos de constitución (80-500UT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54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usu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ar puesta a disposición con causales prohibidas, 10 UTM por trabaj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ar trabajador de servicios temporarios por intermedio de empresas no inscritas como EST, 10 UTM por trabaj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racción a prohibición de relación con usuaria, 20 UTM por trabaj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AN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3600" y="1341000"/>
            <a:ext cx="82234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ANCELACIÓN REGISTRO 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racción a prohibición de relación con la usu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umplimientos reiterados y graves de la legislación laboral o previ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a de la EST, salvo continuidad del g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BAJADOR SE CONSIDERA DEPENDIENTE DE LA USU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ta de contrato escrito de puesta a disposición de trabaj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ebrar contrato de puesta a disposición en causales prohib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dor continúa prestando servicios expirado el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to en supuestos distintos a los autori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to tiene por objeto encubrir relación laboral perma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tar trabajador de servicios temporarios por intermedio de empresas no inscritas como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8080"/>
                </a:solidFill>
                <a:latin typeface="Arial"/>
              </a:rPr>
              <a:t>SUMINISTRO DE PERSON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 rot="5373600">
            <a:off x="4381560" y="3619440"/>
            <a:ext cx="304560" cy="2362320"/>
          </a:xfrm>
          <a:prstGeom prst="upDownArrow">
            <a:avLst>
              <a:gd name="adj1" fmla="val 50000"/>
              <a:gd name="adj2" fmla="val 154412"/>
            </a:avLst>
          </a:prstGeom>
          <a:gradFill rotWithShape="0">
            <a:gsLst>
              <a:gs pos="0">
                <a:srgbClr val="ffff99"/>
              </a:gs>
              <a:gs pos="50000">
                <a:srgbClr val="767647"/>
              </a:gs>
              <a:gs pos="100000">
                <a:srgbClr val="ffff99"/>
              </a:gs>
            </a:gsLst>
            <a:lin ang="24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809880" y="1523880"/>
            <a:ext cx="1143000" cy="762120"/>
            <a:chOff x="3809880" y="1523880"/>
            <a:chExt cx="1143000" cy="762120"/>
          </a:xfrm>
        </p:grpSpPr>
        <p:sp>
          <p:nvSpPr>
            <p:cNvPr id="87" name="Text Box 7"/>
            <p:cNvSpPr/>
            <p:nvPr/>
          </p:nvSpPr>
          <p:spPr>
            <a:xfrm>
              <a:off x="3961800" y="1752480"/>
              <a:ext cx="791640" cy="355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798"/>
                </a:lnSpc>
                <a:spcBef>
                  <a:spcPts val="2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380988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dc204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Group 9"/>
          <p:cNvGrpSpPr/>
          <p:nvPr/>
        </p:nvGrpSpPr>
        <p:grpSpPr>
          <a:xfrm>
            <a:off x="1371600" y="2277000"/>
            <a:ext cx="2580840" cy="2828160"/>
            <a:chOff x="1371600" y="2277000"/>
            <a:chExt cx="2580840" cy="2828160"/>
          </a:xfrm>
        </p:grpSpPr>
        <p:sp>
          <p:nvSpPr>
            <p:cNvPr id="90" name="AutoShape 10"/>
            <p:cNvSpPr/>
            <p:nvPr/>
          </p:nvSpPr>
          <p:spPr>
            <a:xfrm rot="2203800">
              <a:off x="2971440" y="2133720"/>
              <a:ext cx="304920" cy="2361960"/>
            </a:xfrm>
            <a:prstGeom prst="upDownArrow">
              <a:avLst>
                <a:gd name="adj1" fmla="val 50000"/>
                <a:gd name="adj2" fmla="val 154206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" name="Group 11"/>
            <p:cNvGrpSpPr/>
            <p:nvPr/>
          </p:nvGrpSpPr>
          <p:grpSpPr>
            <a:xfrm>
              <a:off x="1371600" y="4495680"/>
              <a:ext cx="1828800" cy="609480"/>
              <a:chOff x="1371600" y="4495680"/>
              <a:chExt cx="1828800" cy="609480"/>
            </a:xfrm>
          </p:grpSpPr>
          <p:sp>
            <p:nvSpPr>
              <p:cNvPr id="92" name="Text Box 12"/>
              <p:cNvSpPr/>
              <p:nvPr/>
            </p:nvSpPr>
            <p:spPr>
              <a:xfrm>
                <a:off x="1522800" y="4647960"/>
                <a:ext cx="1401120" cy="355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3200" spc="-1" strike="noStrike">
                    <a:solidFill>
                      <a:srgbClr val="000000"/>
                    </a:solidFill>
                    <a:latin typeface="Arial"/>
                  </a:rPr>
                  <a:t>Usuaria</a:t>
                </a: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13"/>
              <p:cNvSpPr/>
              <p:nvPr/>
            </p:nvSpPr>
            <p:spPr>
              <a:xfrm>
                <a:off x="1371600" y="4495680"/>
                <a:ext cx="1828800" cy="6094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14"/>
          <p:cNvGrpSpPr/>
          <p:nvPr/>
        </p:nvGrpSpPr>
        <p:grpSpPr>
          <a:xfrm>
            <a:off x="4923000" y="2253600"/>
            <a:ext cx="3840120" cy="3004200"/>
            <a:chOff x="4923000" y="2253600"/>
            <a:chExt cx="3840120" cy="3004200"/>
          </a:xfrm>
        </p:grpSpPr>
        <p:sp>
          <p:nvSpPr>
            <p:cNvPr id="95" name="AutoShape 15"/>
            <p:cNvSpPr/>
            <p:nvPr/>
          </p:nvSpPr>
          <p:spPr>
            <a:xfrm rot="19539600">
              <a:off x="5562360" y="2133360"/>
              <a:ext cx="304560" cy="2361960"/>
            </a:xfrm>
            <a:prstGeom prst="upDownArrow">
              <a:avLst>
                <a:gd name="adj1" fmla="val 50000"/>
                <a:gd name="adj2" fmla="val 154388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6"/>
            <p:cNvGrpSpPr/>
            <p:nvPr/>
          </p:nvGrpSpPr>
          <p:grpSpPr>
            <a:xfrm>
              <a:off x="5791320" y="4419720"/>
              <a:ext cx="2971800" cy="838080"/>
              <a:chOff x="5791320" y="4419720"/>
              <a:chExt cx="2971800" cy="838080"/>
            </a:xfrm>
          </p:grpSpPr>
          <p:sp>
            <p:nvSpPr>
              <p:cNvPr id="97" name="Text Box 17"/>
              <p:cNvSpPr/>
              <p:nvPr/>
            </p:nvSpPr>
            <p:spPr>
              <a:xfrm>
                <a:off x="6017760" y="4724280"/>
                <a:ext cx="2393280" cy="355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3200" spc="-1" strike="noStrike">
                    <a:solidFill>
                      <a:srgbClr val="000000"/>
                    </a:solidFill>
                    <a:latin typeface="Arial"/>
                  </a:rPr>
                  <a:t>Trabajadores</a:t>
                </a: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18"/>
              <p:cNvSpPr/>
              <p:nvPr/>
            </p:nvSpPr>
            <p:spPr>
              <a:xfrm>
                <a:off x="5791320" y="4419720"/>
                <a:ext cx="2971800" cy="8380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19"/>
          <p:cNvSpPr/>
          <p:nvPr/>
        </p:nvSpPr>
        <p:spPr>
          <a:xfrm>
            <a:off x="5715000" y="2286000"/>
            <a:ext cx="304812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304920" y="2133720"/>
            <a:ext cx="3047760" cy="7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civil / comer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2987640" y="5300640"/>
            <a:ext cx="304812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lación de hech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UMINISTRO DE PERSON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grpSp>
        <p:nvGrpSpPr>
          <p:cNvPr id="103" name="Group 5"/>
          <p:cNvGrpSpPr/>
          <p:nvPr/>
        </p:nvGrpSpPr>
        <p:grpSpPr>
          <a:xfrm>
            <a:off x="3809880" y="1523880"/>
            <a:ext cx="1143000" cy="762120"/>
            <a:chOff x="3809880" y="1523880"/>
            <a:chExt cx="1143000" cy="762120"/>
          </a:xfrm>
        </p:grpSpPr>
        <p:sp>
          <p:nvSpPr>
            <p:cNvPr id="104" name="Text Box 6"/>
            <p:cNvSpPr/>
            <p:nvPr/>
          </p:nvSpPr>
          <p:spPr>
            <a:xfrm>
              <a:off x="3961800" y="1752480"/>
              <a:ext cx="791640" cy="355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798"/>
                </a:lnSpc>
                <a:spcBef>
                  <a:spcPts val="2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380988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dc204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1371600" y="2277000"/>
            <a:ext cx="2580840" cy="2828160"/>
            <a:chOff x="1371600" y="2277000"/>
            <a:chExt cx="2580840" cy="2828160"/>
          </a:xfrm>
        </p:grpSpPr>
        <p:sp>
          <p:nvSpPr>
            <p:cNvPr id="107" name="AutoShape 9"/>
            <p:cNvSpPr/>
            <p:nvPr/>
          </p:nvSpPr>
          <p:spPr>
            <a:xfrm rot="2203800">
              <a:off x="2971440" y="2133720"/>
              <a:ext cx="304920" cy="2361960"/>
            </a:xfrm>
            <a:prstGeom prst="upDownArrow">
              <a:avLst>
                <a:gd name="adj1" fmla="val 50000"/>
                <a:gd name="adj2" fmla="val 154206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10"/>
            <p:cNvGrpSpPr/>
            <p:nvPr/>
          </p:nvGrpSpPr>
          <p:grpSpPr>
            <a:xfrm>
              <a:off x="1371600" y="4495680"/>
              <a:ext cx="1828800" cy="609480"/>
              <a:chOff x="1371600" y="4495680"/>
              <a:chExt cx="1828800" cy="609480"/>
            </a:xfrm>
          </p:grpSpPr>
          <p:sp>
            <p:nvSpPr>
              <p:cNvPr id="109" name="Text Box 11"/>
              <p:cNvSpPr/>
              <p:nvPr/>
            </p:nvSpPr>
            <p:spPr>
              <a:xfrm>
                <a:off x="1522800" y="4647960"/>
                <a:ext cx="1401120" cy="355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3200" spc="-1" strike="noStrike">
                    <a:solidFill>
                      <a:srgbClr val="000000"/>
                    </a:solidFill>
                    <a:latin typeface="Arial"/>
                  </a:rPr>
                  <a:t>Usuaria</a:t>
                </a: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1371600" y="4495680"/>
                <a:ext cx="1828800" cy="6094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Group 13"/>
          <p:cNvGrpSpPr/>
          <p:nvPr/>
        </p:nvGrpSpPr>
        <p:grpSpPr>
          <a:xfrm>
            <a:off x="4923000" y="2253600"/>
            <a:ext cx="3840120" cy="3004200"/>
            <a:chOff x="4923000" y="2253600"/>
            <a:chExt cx="3840120" cy="3004200"/>
          </a:xfrm>
        </p:grpSpPr>
        <p:sp>
          <p:nvSpPr>
            <p:cNvPr id="112" name="AutoShape 14"/>
            <p:cNvSpPr/>
            <p:nvPr/>
          </p:nvSpPr>
          <p:spPr>
            <a:xfrm rot="19539600">
              <a:off x="5562360" y="2133360"/>
              <a:ext cx="304560" cy="2361960"/>
            </a:xfrm>
            <a:prstGeom prst="upDownArrow">
              <a:avLst>
                <a:gd name="adj1" fmla="val 50000"/>
                <a:gd name="adj2" fmla="val 154388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" name="Group 15"/>
            <p:cNvGrpSpPr/>
            <p:nvPr/>
          </p:nvGrpSpPr>
          <p:grpSpPr>
            <a:xfrm>
              <a:off x="5791320" y="4419720"/>
              <a:ext cx="2971800" cy="838080"/>
              <a:chOff x="5791320" y="4419720"/>
              <a:chExt cx="2971800" cy="838080"/>
            </a:xfrm>
          </p:grpSpPr>
          <p:sp>
            <p:nvSpPr>
              <p:cNvPr id="114" name="Text Box 16"/>
              <p:cNvSpPr/>
              <p:nvPr/>
            </p:nvSpPr>
            <p:spPr>
              <a:xfrm>
                <a:off x="6017760" y="4724280"/>
                <a:ext cx="2393280" cy="355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3200" spc="-1" strike="noStrike">
                    <a:solidFill>
                      <a:srgbClr val="000000"/>
                    </a:solidFill>
                    <a:latin typeface="Arial"/>
                  </a:rPr>
                  <a:t>Trabajadores</a:t>
                </a: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7"/>
              <p:cNvSpPr/>
              <p:nvPr/>
            </p:nvSpPr>
            <p:spPr>
              <a:xfrm>
                <a:off x="5791320" y="4419720"/>
                <a:ext cx="2971800" cy="8380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Text Box 18"/>
          <p:cNvSpPr/>
          <p:nvPr/>
        </p:nvSpPr>
        <p:spPr>
          <a:xfrm>
            <a:off x="5715000" y="2286000"/>
            <a:ext cx="304812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304920" y="2133720"/>
            <a:ext cx="3047760" cy="7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civil / comer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2987640" y="5300640"/>
            <a:ext cx="304812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lación de hech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79280" y="2997360"/>
            <a:ext cx="3048120" cy="106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puesta a disposición de trabajado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867280" y="2852640"/>
            <a:ext cx="3048120" cy="106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 de servicios transitori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 rot="5373600">
            <a:off x="4381560" y="3619440"/>
            <a:ext cx="304560" cy="2362320"/>
          </a:xfrm>
          <a:prstGeom prst="upDownArrow">
            <a:avLst>
              <a:gd name="adj1" fmla="val 50000"/>
              <a:gd name="adj2" fmla="val 154412"/>
            </a:avLst>
          </a:prstGeom>
          <a:gradFill rotWithShape="0">
            <a:gsLst>
              <a:gs pos="0">
                <a:srgbClr val="ffff99"/>
              </a:gs>
              <a:gs pos="50000">
                <a:srgbClr val="767647"/>
              </a:gs>
              <a:gs pos="100000">
                <a:srgbClr val="ffff99"/>
              </a:gs>
            </a:gsLst>
            <a:lin ang="24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REDUCCIÓN DEL SUMINISTR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tención es privilegiar la contratación direc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so responsabilidad solidaria en el caso de la subcontratació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 Y por eso el suministro de personal se reduce a a situaciones muy limitad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Varias barreras para poder recurrir a suminis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Primera Barrera: 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ervicios TRANSITORIO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CASOS PERMIT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pensión del contrato de trabajo en caso de licencia, maternidad, feri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os extraordin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s nuevos y específicos de la usu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 de actividades en empresas nue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s ocasionales (periódicos o no) o extraordinarios de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bajos urgentes, precisos e impostergables que requieran ejecución inmedi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CASOS PROHIB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reas con facultades para representar a la usuaria (gerentes, subgerentes, apoderad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emplazar trabajadores en huelga leg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der trabajadores a otras empresas de servicios transito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AN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trato en supuestos distintos a los autorizados. Trabajador se considera dependiente de la usua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trato de puesta a disposición por causales prohibi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9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bajador se considera dependiente de la usu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9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lta a la usuaria de 10 UTM por cada trabajador contra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a28a"/>
                </a:solidFill>
                <a:latin typeface="Arial"/>
              </a:rPr>
              <a:t>Segunda Barrera: </a:t>
            </a:r>
            <a:br>
              <a:rPr sz="3200"/>
            </a:br>
            <a:r>
              <a:rPr b="1" lang="es-CL" sz="3200" spc="-1" strike="noStrike">
                <a:solidFill>
                  <a:srgbClr val="00a28a"/>
                </a:solidFill>
                <a:latin typeface="Arial"/>
              </a:rPr>
              <a:t>Constitución de una Empresa de Servicios Transitorios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3600" y="22316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OBJETO SOCIAL EXCLUSIVO.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poner trabajadores a disposición de terceros para cumplir tareas de carácter temporal; selección, capacitación y formación de trabajadores, y otras actividades afines en el ámbito de los recursos humano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REGISTRO.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Registro especial y público llevado por la Dirección del Trabajo.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mediatamente después de practicada la inscripción y antes de empezar a operar, debe constituir la GARANT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GARANTÍA.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onto fijo (UF 250) más aumento por número de trabajadores. Revisión de monto cada doce me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MULTA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or faltar a requisitos de constitución: 80 a 500 UT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Tercera Barrera: </a:t>
            </a:r>
            <a:br>
              <a:rPr sz="4000"/>
            </a:br>
            <a:r>
              <a:rPr b="1" lang="es-CL" sz="3200" spc="-1" strike="noStrike">
                <a:solidFill>
                  <a:srgbClr val="00a28a"/>
                </a:solidFill>
                <a:latin typeface="Arial"/>
              </a:rPr>
              <a:t>Prohibición de Relación con la Usuaria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811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000000"/>
                </a:solidFill>
                <a:latin typeface="Arial"/>
              </a:rPr>
              <a:t>PROHIBICIÓN ESPECIAL </a:t>
            </a: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Art. 183-I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811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Las EST no podrán ser matrices, filiales, coligadas, relacionadas ni tener interés directo o indirecto, participación o relación societaria de ningún tipo, con empresas usuarias que contraten sus servici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811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Infracción: sanciones a EST y usuaria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ncelación registro de 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lta a usuaria de 20 UTM por cada trabajador contratado (reclamable judicial y administrativame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5120" y="259920"/>
            <a:ext cx="8199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uarta Barrera: </a:t>
            </a:r>
            <a:br>
              <a:rPr sz="4000"/>
            </a:br>
            <a:r>
              <a:rPr b="1" lang="es-CL" sz="3600" spc="-1" strike="noStrike">
                <a:solidFill>
                  <a:srgbClr val="00a28a"/>
                </a:solidFill>
                <a:latin typeface="Arial"/>
              </a:rPr>
              <a:t>Celebración de Contratos</a:t>
            </a:r>
            <a:endParaRPr b="1" lang="en-US" sz="3600" spc="-1" strike="noStrike">
              <a:solidFill>
                <a:srgbClr val="00a28a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197080" y="1906200"/>
            <a:ext cx="1958400" cy="1690200"/>
            <a:chOff x="2197080" y="1906200"/>
            <a:chExt cx="1958400" cy="1690200"/>
          </a:xfrm>
        </p:grpSpPr>
        <p:sp>
          <p:nvSpPr>
            <p:cNvPr id="134" name="AutoShape 5"/>
            <p:cNvSpPr/>
            <p:nvPr/>
          </p:nvSpPr>
          <p:spPr>
            <a:xfrm rot="18624600">
              <a:off x="2656440" y="2236680"/>
              <a:ext cx="1343520" cy="1028880"/>
            </a:xfrm>
            <a:prstGeom prst="leftArrow">
              <a:avLst>
                <a:gd name="adj1" fmla="val 40130"/>
                <a:gd name="adj2" fmla="val 44784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6"/>
            <p:cNvSpPr/>
            <p:nvPr/>
          </p:nvSpPr>
          <p:spPr>
            <a:xfrm>
              <a:off x="2197080" y="3235680"/>
              <a:ext cx="1430280" cy="355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798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N USUARIA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7"/>
          <p:cNvGrpSpPr/>
          <p:nvPr/>
        </p:nvGrpSpPr>
        <p:grpSpPr>
          <a:xfrm>
            <a:off x="4793760" y="1910520"/>
            <a:ext cx="2857680" cy="1736280"/>
            <a:chOff x="4793760" y="1910520"/>
            <a:chExt cx="2857680" cy="1736280"/>
          </a:xfrm>
        </p:grpSpPr>
        <p:sp>
          <p:nvSpPr>
            <p:cNvPr id="137" name="AutoShape 8"/>
            <p:cNvSpPr/>
            <p:nvPr/>
          </p:nvSpPr>
          <p:spPr>
            <a:xfrm rot="13615800">
              <a:off x="4956480" y="2237760"/>
              <a:ext cx="1342800" cy="1028880"/>
            </a:xfrm>
            <a:prstGeom prst="leftArrow">
              <a:avLst>
                <a:gd name="adj1" fmla="val 40130"/>
                <a:gd name="adj2" fmla="val 44760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5456160" y="3291120"/>
              <a:ext cx="2195280" cy="355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798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N TRABAJADORE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9" name="Object 10"/>
          <p:cNvGraphicFramePr/>
          <p:nvPr/>
        </p:nvGraphicFramePr>
        <p:xfrm>
          <a:off x="2197080" y="4745160"/>
          <a:ext cx="1406520" cy="111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4745160"/>
                    <a:ext cx="140652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11"/>
          <p:cNvGrpSpPr/>
          <p:nvPr/>
        </p:nvGrpSpPr>
        <p:grpSpPr>
          <a:xfrm>
            <a:off x="5999040" y="4689360"/>
            <a:ext cx="1226880" cy="1333440"/>
            <a:chOff x="5999040" y="4689360"/>
            <a:chExt cx="1226880" cy="1333440"/>
          </a:xfrm>
        </p:grpSpPr>
        <p:pic>
          <p:nvPicPr>
            <p:cNvPr id="142" name="Object 12" descr=""/>
            <p:cNvPicPr/>
            <p:nvPr/>
          </p:nvPicPr>
          <p:blipFill>
            <a:blip r:embed="rId3"/>
            <a:stretch/>
          </p:blipFill>
          <p:spPr>
            <a:xfrm>
              <a:off x="5999040" y="4689360"/>
              <a:ext cx="67752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13" descr=""/>
            <p:cNvPicPr/>
            <p:nvPr/>
          </p:nvPicPr>
          <p:blipFill>
            <a:blip r:embed="rId4"/>
            <a:stretch/>
          </p:blipFill>
          <p:spPr>
            <a:xfrm>
              <a:off x="6136200" y="4825080"/>
              <a:ext cx="677880" cy="7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Object 14" descr=""/>
            <p:cNvPicPr/>
            <p:nvPr/>
          </p:nvPicPr>
          <p:blipFill>
            <a:blip r:embed="rId5"/>
            <a:stretch/>
          </p:blipFill>
          <p:spPr>
            <a:xfrm>
              <a:off x="6273720" y="4961160"/>
              <a:ext cx="67752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Object 15" descr=""/>
            <p:cNvPicPr/>
            <p:nvPr/>
          </p:nvPicPr>
          <p:blipFill>
            <a:blip r:embed="rId6"/>
            <a:stretch/>
          </p:blipFill>
          <p:spPr>
            <a:xfrm>
              <a:off x="6410880" y="5097240"/>
              <a:ext cx="67752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Object 16" descr=""/>
            <p:cNvPicPr/>
            <p:nvPr/>
          </p:nvPicPr>
          <p:blipFill>
            <a:blip r:embed="rId7"/>
            <a:stretch/>
          </p:blipFill>
          <p:spPr>
            <a:xfrm>
              <a:off x="6548040" y="5233320"/>
              <a:ext cx="677880" cy="78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17"/>
          <p:cNvGrpSpPr/>
          <p:nvPr/>
        </p:nvGrpSpPr>
        <p:grpSpPr>
          <a:xfrm>
            <a:off x="3947040" y="2491560"/>
            <a:ext cx="1110600" cy="804600"/>
            <a:chOff x="3947040" y="2491560"/>
            <a:chExt cx="1110600" cy="804600"/>
          </a:xfrm>
        </p:grpSpPr>
        <p:sp>
          <p:nvSpPr>
            <p:cNvPr id="148" name="AutoShape 18"/>
            <p:cNvSpPr/>
            <p:nvPr/>
          </p:nvSpPr>
          <p:spPr>
            <a:xfrm rot="2234400">
              <a:off x="4147920" y="2485800"/>
              <a:ext cx="213840" cy="737280"/>
            </a:xfrm>
            <a:prstGeom prst="upDownArrow">
              <a:avLst>
                <a:gd name="adj1" fmla="val 50000"/>
                <a:gd name="adj2" fmla="val 68637"/>
              </a:avLst>
            </a:prstGeom>
            <a:gradFill rotWithShape="0">
              <a:gsLst>
                <a:gs pos="0">
                  <a:srgbClr val="0097ed"/>
                </a:gs>
                <a:gs pos="100000">
                  <a:srgbClr val="00466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19"/>
            <p:cNvSpPr/>
            <p:nvPr/>
          </p:nvSpPr>
          <p:spPr>
            <a:xfrm rot="19416000">
              <a:off x="4636800" y="2485800"/>
              <a:ext cx="223920" cy="737280"/>
            </a:xfrm>
            <a:prstGeom prst="upDownArrow">
              <a:avLst>
                <a:gd name="adj1" fmla="val 50000"/>
                <a:gd name="adj2" fmla="val 65547"/>
              </a:avLst>
            </a:prstGeom>
            <a:gradFill rotWithShape="0">
              <a:gsLst>
                <a:gs pos="0">
                  <a:srgbClr val="0097ed"/>
                </a:gs>
                <a:gs pos="100000">
                  <a:srgbClr val="00466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20"/>
            <p:cNvSpPr/>
            <p:nvPr/>
          </p:nvSpPr>
          <p:spPr>
            <a:xfrm rot="16128000">
              <a:off x="4385880" y="2837160"/>
              <a:ext cx="216720" cy="686880"/>
            </a:xfrm>
            <a:prstGeom prst="upDownArrow">
              <a:avLst>
                <a:gd name="adj1" fmla="val 50000"/>
                <a:gd name="adj2" fmla="val 63095"/>
              </a:avLst>
            </a:prstGeom>
            <a:gradFill rotWithShape="0">
              <a:gsLst>
                <a:gs pos="0">
                  <a:srgbClr val="0097ed"/>
                </a:gs>
                <a:gs pos="100000">
                  <a:srgbClr val="00466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Text Box 21"/>
          <p:cNvSpPr/>
          <p:nvPr/>
        </p:nvSpPr>
        <p:spPr>
          <a:xfrm>
            <a:off x="3946320" y="1557360"/>
            <a:ext cx="1186560" cy="73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Arial"/>
                <a:ea typeface="Arial"/>
              </a:rPr>
              <a:t>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1793880" y="3738600"/>
            <a:ext cx="2252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c0c0"/>
                </a:solidFill>
                <a:latin typeface="Arial"/>
              </a:rPr>
              <a:t>Contrato de puesta a disposición de trabajado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5415120" y="3718080"/>
            <a:ext cx="2252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c0c0"/>
                </a:solidFill>
                <a:latin typeface="Arial"/>
              </a:rPr>
              <a:t>Contrato de trabajo de servicios transitori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0:05:27Z</dcterms:created>
  <dc:creator>Ernst &amp; Young</dc:creator>
  <dc:description/>
  <dc:language>en-US</dc:language>
  <cp:lastModifiedBy>sony</cp:lastModifiedBy>
  <dcterms:modified xsi:type="dcterms:W3CDTF">2010-04-20T13:41:03Z</dcterms:modified>
  <cp:revision>30</cp:revision>
  <dc:subject/>
  <dc:title>Slide 1</dc:title>
</cp:coreProperties>
</file>