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4132-3511-4741-B318-8567DA70A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E0AD-0B8E-4EF4-BFE8-30FB9F47E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20FD-B852-415A-96B3-6B3CAB75E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D954-DED6-4AC0-B0EC-9B4FA4A2C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D0EF-930B-4EE4-A684-6DD86C9F2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070F-EAD9-4FEE-8AFE-FDEAFD5EC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6199-BD03-4918-BA98-C92E2B56A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BEC6-A5C7-42F2-BE99-75ECEC3AA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6F64-B8F6-49DB-8B91-3E68FE323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86AB-6FB7-4BD5-BE84-4A3CBDC2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0569-DC91-4A05-8464-690A95D0C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EDC5-8632-40DA-B092-FCF15846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B50-6547-4002-877F-7704460D7DA6}" type="slidenum">
              <a:rPr b="1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6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2982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a28a"/>
                </a:solidFill>
                <a:latin typeface="Arial"/>
              </a:rPr>
              <a:t>REGULACIÓN DELTRABAJO EN RÉGIMEN DE SUBCONTRATACIÓN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9440" y="4548240"/>
            <a:ext cx="820116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álisis de la Ley 20.1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A564-6B3C-4F2F-81AA-86C9173CB93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puestos excluidos/ subcontratación impropia</a:t>
            </a:r>
            <a:br>
              <a:rPr sz="4000"/>
            </a:b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1200" y="1800000"/>
            <a:ext cx="8223120" cy="38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Subcontratación discontinua o esporád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a natural no empresaria que encarga obras o servicio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rt. 183-B inc. final: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en los casos de construcción de edificaciones por un precio único prefij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cuando quien encargue la obra sea una persona natural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Amplitud de la excepción discutida por la doctrina (Lizama y Ugar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Ausencia del elemento locativo, geográfico o espa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upuesto negado por parte de la doctrina (Lizama y Ugarte) y por la 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14A-F824-416C-9661-C07F959A7B3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upuestos excluidos/ subcontratación impropia: </a:t>
            </a:r>
            <a:r>
              <a:rPr b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Negación del elemento locativo</a:t>
            </a:r>
            <a:br>
              <a:rPr sz="3200"/>
            </a:b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920" y="1709280"/>
            <a:ext cx="85280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ORD N° 141/05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de 10-01-2007): “existirá subcontratación, tanto si las obras o servicios […] se desarrollan en las instalaciones o espacios físicos propios de la persona natural o jurídica dueña de la obra, empresa o faena,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como fuera de ésto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No son trabajo en régimen de subcontratación “las asesorías jurídicas o contables en la medida que exista autonomía funcional respecto del cliente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y cuente con sus propias oficinas desde las cuales se desarrolla el servicio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Tampoco lo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“servicios de bodegaje y/o almacenamiento, cuando la empresa que ofrece este servicio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 cuenta con sus propias instalacione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y organización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A0B-2524-45AF-A2A4-647C101F0C5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8093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A CT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“Si los servicios prestados se realizan sin sujeción a los requisitos señalados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 se limitan sólo a la intermediación de los trabajadores a una faena, se entenderá que el empleador es el dueño de la obra, empresa o faena, sin perjuicio de las sanciones que correspondan por aplicación del artículo 478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78 CT,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anciona contratación simulada a través de terceros y otros subterfugios (pasa a ser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507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23B5-0614-4CD7-B496-807ECEC3F0D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1) El contratista verdad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or su cuenta y riesgo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ayendo sobre él los resultados económicos favorables, menos favorables o adversos de su gestión, toda vez que tiene la facultad para adoptar las decisiones que involucra el desarrollo y realización de las obras, faenas o servicios encomendados por la empresa principal”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T ORD. N°141/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atista falso: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presa aparente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structura ni entidad propias, sin patrimonio, ni organización empresarial, transfiere riesgos al verdadero emple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2) El contratista verdader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n trabajadores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bajo su dependencia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l contratista falso: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Él 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 organiza, ni dirige, ni controla a los trabajadores; lo hace la empresa princip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20E-8791-4E93-8B39-8014DB6BC94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141/05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): “es el contratista, en su carácter de empleador, el que está dotado de la facultad de supervigilar a los trabajadores que se desempeñen en las obras o servicios que realiza para la empresa principal, como asimismo para impartirles las instrucciones que estime pertinentes y ejercer los controles necesarios para tales efectos,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sin que corresponda a la empresa principal ingerencia alguna al respecto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, de 09.07.2007): “la circunstancia de que la empresa principal exija a los trabajadores del contratista el cumplimiento de medidas mínimas de control de ingreso u otras necesarias para la seguridad y buen funcionamiento de la misma, no implica el ejercicio de atribuciones propias del vínculo de subordinación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implicarían manifestaciones propias de dicho vínculo, las relaciones que emanan de normas de educación, de buenas costumbres y de comportamiento o trato cotidiano que necesariamente deben existir entre los trabajadores del contratista y aquellos que ejercen cargos de jefatura en la empresa principal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2EC9-1D50-4A9A-9334-36B2BC101EAD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: “…la sola circunstancia de que el contratista designe a un supervisor a cargo de sus trabajadores, no basta para entender que se está en presencia de trabajo en régimen de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necesario además “que dicho supervisor ejerza con autonomía de la empresa principal y en forma efectiva y directa, las atribuciones derivadas del vínculo de subordinación y dependencia…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70ED-D773-46B8-885D-9723DF553586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8199360" cy="15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8360" y="193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El empleador “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simule la contratación de trabajadores a través de tercero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utilice cualquier subterfugi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tenga como resultado eludir el cumplimiento de obligaciones laborales y previsionales…”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s sancionado por el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478 [507] CT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empresa principal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5 a 100 UTM a la mera simulación. Multa de 10 a 150 UTM por cada trabajador, si hay resultado elusivo = disminución o pérdida de derechos laborales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rescripción se amplía a 5 añ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183-AA CT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usuaria que contrate a un trabajador de servicios transitorios por intermedio de empresas no inscrita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usuari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de 10 UTM por cada trabajador contratad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98320" y="299880"/>
            <a:ext cx="7561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Concurso de sanciones entre subcontratación simulada y suministro ilícito</a:t>
            </a: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2E8B-47BB-42AD-8F6F-4A84B866F65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82376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T (ORD. N° 141/05) “…resulta también aplicable a las empresas o instituciones del Estado o de aquellas en que éste tenga aportes, participación o representación, siempre que sus funcionarios o trabajadores no se encuentren sometidos por ley a un estatuto especial, o que estando sujetos a un estatuto de tal naturaleza, éste no contemple disposiciones que regulen el trabajo en régimen de subcontratació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GR (ORD. N°2594 de 21.01.2008) Coincide, pero excluye aplicación del inc. 2° del art. 183 A CT al Estado. La s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bcontratación simulada no puede dar lugar a relación laboral ni funcionarial con el Es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4AA-8913-4E72-883A-8C543176F70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6440" y="17380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ley opera bajo el esquema básico:  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mpresa principal-contratista-subcontratist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s más complejas, con varios grados de subcontratistas plantean problem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empresa principal responde por todos los subcontratista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ad infinitu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El subcontratista de 1er grado, responde por los subcontratistas de grado posterio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FFA-F523-4F80-B686-C9E292B2EB8D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rt. 183-B CT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…obligaciones laborales y previsionales de da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incluidas las eventuales indemnizaciones legales que correspondan por término de la relación laboral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pretado por la DT (ORD.N° 141/0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bor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todas aquellas que emanan de los contratos individuales o colectivos de trabajo de los dependientes del contratista o subcontratista, según el caso […] como asimismo las que deriven del Código del Trabaj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evision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…las relacionadas con el integro de las cotizaciones de seguridad social y con la prevención de accidentes del trabajo y enfermedades profesionales respecto de los mismos trabajadore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 dar: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todas aquellas obligaciones que […] consistan en el pago de una suma de dinero determinad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6B6A-9C8C-413F-934F-039BD84BEF8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68360" y="40320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a28a"/>
                </a:solidFill>
                <a:latin typeface="Tahoma"/>
              </a:rPr>
              <a:t>Descentraliz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6" descr="trabajadores"/>
          <p:cNvPicPr/>
          <p:nvPr/>
        </p:nvPicPr>
        <p:blipFill>
          <a:blip r:embed="rId1"/>
          <a:stretch/>
        </p:blipFill>
        <p:spPr>
          <a:xfrm>
            <a:off x="1908000" y="2637000"/>
            <a:ext cx="273528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Oval 8"/>
          <p:cNvSpPr/>
          <p:nvPr/>
        </p:nvSpPr>
        <p:spPr>
          <a:xfrm>
            <a:off x="611280" y="1197000"/>
            <a:ext cx="5113080" cy="4896000"/>
          </a:xfrm>
          <a:prstGeom prst="ellipse">
            <a:avLst/>
          </a:prstGeom>
          <a:noFill/>
          <a:ln w="76320">
            <a:solidFill>
              <a:srgbClr val="00b511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Oval 9"/>
          <p:cNvSpPr/>
          <p:nvPr/>
        </p:nvSpPr>
        <p:spPr>
          <a:xfrm>
            <a:off x="3924360" y="3933720"/>
            <a:ext cx="122400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419640" y="3357720"/>
            <a:ext cx="1441440" cy="15825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755640" y="3213000"/>
            <a:ext cx="2232000" cy="21592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 rot="365400">
            <a:off x="5003280" y="4238640"/>
            <a:ext cx="1513080" cy="485640"/>
          </a:xfrm>
          <a:prstGeom prst="leftArrow">
            <a:avLst>
              <a:gd name="adj1" fmla="val 50000"/>
              <a:gd name="adj2" fmla="val 77891"/>
            </a:avLst>
          </a:prstGeom>
          <a:solidFill>
            <a:srgbClr val="0097ed"/>
          </a:solidFill>
          <a:ln w="9360">
            <a:solidFill>
              <a:srgbClr val="143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593360" y="170964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b511"/>
                </a:solidFill>
                <a:latin typeface="Arial"/>
              </a:rPr>
              <a:t>Empresa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99120" y="400536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ontrati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869520" y="3933720"/>
            <a:ext cx="187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Empres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Suministr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Trabaj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(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6684840" y="3438360"/>
            <a:ext cx="2287800" cy="23529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FCB-957A-47FC-8060-ABBEB6DBFEFD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procederá respecto de […] la indemnización por años de servicio establecida en el artículo 163 y la sustitutiva del aviso previo, si correspondiere, prevista […] en los incisos 2° del artículo 161 y 4° del artículo 162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hacerse extensiva a las indemnizaciones que, en conformidad al artículo 168 del Código del Trabajo, debe fijar el juez que conoce del reclamo por despido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93D-2C9E-4DB5-B66B-9EB27F87348D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temporal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responsabilidad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stará limitada al tiempo o periodo durante el cual el o los trabajadores prestaron servicios en régimen de subcontratación para la empresa principal.”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B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escripción. Simulación: 5 años.  ¿Y en los demás casos? DT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0544/32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(02.02.04) aplica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80 [510]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. 2 a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fecto de la Ley 20.123 en el tiemp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089-ACBD-499B-810B-72E525B1BC31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65120" y="41292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Tahoma"/>
              </a:rPr>
              <a:t>responsabilidad subsidiaria / solid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sesc-fabrica-da-pompeia"/>
          <p:cNvPicPr/>
          <p:nvPr/>
        </p:nvPicPr>
        <p:blipFill>
          <a:blip r:embed="rId1"/>
          <a:stretch/>
        </p:blipFill>
        <p:spPr>
          <a:xfrm>
            <a:off x="684360" y="1052640"/>
            <a:ext cx="1495440" cy="165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trabajadores"/>
          <p:cNvPicPr/>
          <p:nvPr/>
        </p:nvPicPr>
        <p:blipFill>
          <a:blip r:embed="rId2"/>
          <a:stretch/>
        </p:blipFill>
        <p:spPr>
          <a:xfrm>
            <a:off x="6805440" y="4483080"/>
            <a:ext cx="151164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rabajadores"/>
          <p:cNvPicPr/>
          <p:nvPr/>
        </p:nvPicPr>
        <p:blipFill>
          <a:blip r:embed="rId3"/>
          <a:stretch/>
        </p:blipFill>
        <p:spPr>
          <a:xfrm>
            <a:off x="3708360" y="44751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7326360" y="3571920"/>
            <a:ext cx="419040" cy="855720"/>
          </a:xfrm>
          <a:prstGeom prst="upArrow">
            <a:avLst>
              <a:gd name="adj1" fmla="val 50000"/>
              <a:gd name="adj2" fmla="val 5105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580000" y="227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484360" y="1771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211640" y="3571920"/>
            <a:ext cx="458640" cy="880920"/>
          </a:xfrm>
          <a:prstGeom prst="upArrow">
            <a:avLst>
              <a:gd name="adj1" fmla="val 50000"/>
              <a:gd name="adj2" fmla="val 4801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12"/>
          <p:cNvSpPr/>
          <p:nvPr/>
        </p:nvSpPr>
        <p:spPr>
          <a:xfrm rot="18900000">
            <a:off x="2771640" y="32842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3"/>
          <p:cNvSpPr/>
          <p:nvPr/>
        </p:nvSpPr>
        <p:spPr>
          <a:xfrm rot="18900000">
            <a:off x="5886360" y="33555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899280" y="2924280"/>
            <a:ext cx="9669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852720" y="1900080"/>
            <a:ext cx="1168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761160" y="24163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E6ED-0956-48E5-A85B-41291872921F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Los derechos de información y de retención (arts. 183-C y 183-D)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2120" y="16808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erecho de informaci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“la empresa principal, cuando así lo solicite, tendrá derecho a ser informada por los contratistas sobre el monto y estado de cumplimiento de las obligaciones laborales y previsionales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Forma de acreditar su cumplimiento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mediante certificados emitidos por la respectiva Inspección del Trabajo, o bien por medios ídóneos que garanticen la veracidad de dicho monto y estado de cumplimiento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Derecho de retención: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si el contratista no acredita oportunamente el cumplimiento íntegro de las obligaciones laborales y previsionales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principal podrá retener de las obligaciones que tenga a favor de aquél o aquéllos, el monto de que es responsable…” 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n tal caso, la empresa principal queda obligada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a pagar con ella al trabajador o institución previsional acreedora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Posibilidad de pago con subrog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Atenuación de la responsabilidad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que hiciere efectivo el derecho a ser informada y el derecho de retención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responderá subsidirariamente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7F0-6BDB-41CC-9C15-EB2D79AB6FBE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LIMITACIÓN…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5" name="AutoShape 5"/>
          <p:cNvCxnSpPr>
            <a:stCxn id="224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26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9640" y="4437000"/>
            <a:ext cx="2664000" cy="10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6012000" y="4581360"/>
            <a:ext cx="2447640" cy="93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3336840" y="102708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00000" y="1413000"/>
            <a:ext cx="7128000" cy="295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802-14BF-4596-81C7-1F7D589F9A9C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5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22200" y="1440000"/>
            <a:ext cx="85010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rogó los arts. 64 y 64 bis C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dos incisos al art. 92 bis CT relativos a los intermediarios de trabajadores agrícolas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ó el trabajo en régimen de subcontratación y el suministro transitorio de trabajadores como contratos especiales de trabajo, arts. 183-A - 183-AE 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incisos en los arts. 184 CT(facultades fiscalizadoras de la DT en materia de higiene y seguridad), 477 [506] CT (sustitución de multas) y 478 [507] CT (simulación y otros subterfugio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jo un art. 166 bis a la Ley 16.744 sobre Seguro de Accidentes del Trabajo y Enfermedade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Modificaciones legales introducidas por la Ley 20.123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46E4-FE56-4CF7-A0D5-4DF6671D28BB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 /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6320" y="1374840"/>
            <a:ext cx="83120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criterios de distin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Objeto del contrato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¿A qué se obliga la empresa contratist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ejecutar una obra o un servicio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ceder uno o más trabajadores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Vínculo de subordinación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én queda subordinado e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contratista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principal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B729-482A-4D91-B1B6-0C052E64FC9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rabajo en régimen de 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3286800" y="1523880"/>
            <a:ext cx="2146680" cy="762120"/>
            <a:chOff x="3286800" y="1523880"/>
            <a:chExt cx="2146680" cy="762120"/>
          </a:xfrm>
        </p:grpSpPr>
        <p:sp>
          <p:nvSpPr>
            <p:cNvPr id="104" name="Text Box 25"/>
            <p:cNvSpPr/>
            <p:nvPr/>
          </p:nvSpPr>
          <p:spPr>
            <a:xfrm>
              <a:off x="3286800" y="1752480"/>
              <a:ext cx="2146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Contratis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26"/>
            <p:cNvSpPr/>
            <p:nvPr/>
          </p:nvSpPr>
          <p:spPr>
            <a:xfrm>
              <a:off x="381024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1122840" y="2277000"/>
            <a:ext cx="2829600" cy="2828160"/>
            <a:chOff x="1122840" y="2277000"/>
            <a:chExt cx="2829600" cy="2828160"/>
          </a:xfrm>
        </p:grpSpPr>
        <p:sp>
          <p:nvSpPr>
            <p:cNvPr id="107" name="AutoShape 2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29"/>
            <p:cNvGrpSpPr/>
            <p:nvPr/>
          </p:nvGrpSpPr>
          <p:grpSpPr>
            <a:xfrm>
              <a:off x="1122840" y="4495680"/>
              <a:ext cx="2213640" cy="609480"/>
              <a:chOff x="1122840" y="4495680"/>
              <a:chExt cx="2213640" cy="609480"/>
            </a:xfrm>
          </p:grpSpPr>
          <p:sp>
            <p:nvSpPr>
              <p:cNvPr id="109" name="Text Box 30"/>
              <p:cNvSpPr/>
              <p:nvPr/>
            </p:nvSpPr>
            <p:spPr>
              <a:xfrm>
                <a:off x="1122840" y="4647960"/>
                <a:ext cx="22136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E. Princip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Group 3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3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3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Text Box 37"/>
          <p:cNvSpPr/>
          <p:nvPr/>
        </p:nvSpPr>
        <p:spPr>
          <a:xfrm>
            <a:off x="5715000" y="2286000"/>
            <a:ext cx="3048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y 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304920" y="218448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ejecución de obra o de serv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3A20-99A0-4D8E-90E4-D74DF599B24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22" name="Text Box 5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25" name="AutoShape 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Group 9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27" name="Text Box 10"/>
              <p:cNvSpPr/>
              <p:nvPr/>
            </p:nvSpPr>
            <p:spPr>
              <a:xfrm>
                <a:off x="1478520" y="4647960"/>
                <a:ext cx="149112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1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30" name="AutoShape 1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1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32" name="Text Box 1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Text Box 17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04920" y="213372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987640" y="5300640"/>
            <a:ext cx="304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C8F-E78F-4740-ACB3-AFCFE8E9557F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¿Subcontratación o suministro?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5"/>
          <p:cNvCxnSpPr>
            <a:stCxn id="140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2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A01-5218-4EF7-B935-792A73AD2F6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5120" y="340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pic>
        <p:nvPicPr>
          <p:cNvPr id="147" name="Picture 5" descr="sesc-fabrica-da-pompeia"/>
          <p:cNvPicPr/>
          <p:nvPr/>
        </p:nvPicPr>
        <p:blipFill>
          <a:blip r:embed="rId1"/>
          <a:stretch/>
        </p:blipFill>
        <p:spPr>
          <a:xfrm>
            <a:off x="0" y="152568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941880" y="2700360"/>
            <a:ext cx="212076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86920" y="588960"/>
            <a:ext cx="1296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672000" y="2262240"/>
            <a:ext cx="197172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123640" y="1150920"/>
            <a:ext cx="15505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ra / serv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832000" y="1616040"/>
            <a:ext cx="9151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trabajadores"/>
          <p:cNvPicPr/>
          <p:nvPr/>
        </p:nvPicPr>
        <p:blipFill>
          <a:blip r:embed="rId2"/>
          <a:stretch/>
        </p:blipFill>
        <p:spPr>
          <a:xfrm>
            <a:off x="-36360" y="411804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2232000" y="217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3" descr="trabajadores"/>
          <p:cNvPicPr/>
          <p:nvPr/>
        </p:nvPicPr>
        <p:blipFill>
          <a:blip r:embed="rId3"/>
          <a:stretch/>
        </p:blipFill>
        <p:spPr>
          <a:xfrm>
            <a:off x="3814920" y="417672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 rot="5400000">
            <a:off x="3408840" y="35330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5" descr="trabajadores"/>
          <p:cNvPicPr/>
          <p:nvPr/>
        </p:nvPicPr>
        <p:blipFill>
          <a:blip r:embed="rId4"/>
          <a:stretch/>
        </p:blipFill>
        <p:spPr>
          <a:xfrm>
            <a:off x="7091280" y="4170240"/>
            <a:ext cx="1873440" cy="1908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6"/>
          <p:cNvSpPr/>
          <p:nvPr/>
        </p:nvSpPr>
        <p:spPr>
          <a:xfrm>
            <a:off x="5697360" y="263052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7"/>
          <p:cNvSpPr/>
          <p:nvPr/>
        </p:nvSpPr>
        <p:spPr>
          <a:xfrm rot="5400000">
            <a:off x="6677280" y="352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140360" y="326088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7489800" y="322416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42EC-B8CE-4F24-BA5A-E9689C8398A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ontrato y subcontrato de obra o de servici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6360" y="1666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rt. 183-A CT el contratista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n razón de un acuerdo contractual, se encarga de ejecutar obras o servicios, para una tercera persona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cluye modalidades arrendaticias del CC y contratos innominados. Objeto común: obligació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e ha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lusión de contratos cuyo objeto es u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are: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aventas; suministro de mercaderías o insu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7:01:58Z</dcterms:created>
  <dc:creator>Multimedia</dc:creator>
  <dc:description/>
  <dc:language>en-US</dc:language>
  <cp:lastModifiedBy>sony</cp:lastModifiedBy>
  <cp:lastPrinted>1999-12-13T18:43:43Z</cp:lastPrinted>
  <dcterms:modified xsi:type="dcterms:W3CDTF">2010-04-01T12:35:33Z</dcterms:modified>
  <cp:revision>55</cp:revision>
  <dc:subject/>
  <dc:title>PowerPoint Presentation</dc:title>
</cp:coreProperties>
</file>