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318F-8EC6-4E26-B9E2-ECA321053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-646560" y="43628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A06B-EF12-4076-A465-17BD7BBA7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6724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9DA8-6521-4FF3-A5D1-CD9C373BB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3408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1472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-64656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13408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91472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3B2B-7BDF-4EE1-BFD3-3C4FE14C2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24AE-C309-47E6-8495-A38B40114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6724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-646560" y="43628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56724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3408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1472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-64656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13408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491472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4AFA-2CAE-4C9D-865F-B6F54396B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008A-423B-48E7-91DE-7C88F79C4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82C9-1262-4C90-8109-257E9F39D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8362-28C0-4CC0-8DB3-626460A3F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7B54-1CDA-4B98-AE13-D72152644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6724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3EBD-BF9B-47FC-A035-4EF2707D7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608D-2F90-4128-A168-3E1C881D6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Profesor Claudio Palaveci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9339-B7A0-4662-8F74-5D5AF9471AEE}" type="slidenum">
              <a:rPr b="1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6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Profesor Claudio Palavecino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298240"/>
            <a:ext cx="820728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a28a"/>
                </a:solidFill>
                <a:latin typeface="Arial"/>
              </a:rPr>
              <a:t>REGULACIÓN DELTRABAJO EN RÉGIMEN DE SUBCONTRATACIÓN</a:t>
            </a:r>
            <a:endParaRPr b="1" lang="en-US" sz="36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9440" y="4548240"/>
            <a:ext cx="820116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álisis de la Ley 20.12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1282-F5D0-40D4-B49B-3683612C9432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upuestos excluidos/ subcontratación impropia</a:t>
            </a:r>
            <a:br>
              <a:rPr sz="4000"/>
            </a:b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1200" y="1800000"/>
            <a:ext cx="8223120" cy="38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Subcontratación discontinua o esporádic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ersona natural no empresaria que encarga obras o servicio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rt. 183-B inc. final: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“en los casos de construcción de edificaciones por un precio único prefij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[…]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cuando quien encargue la obra sea una persona natural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Amplitud de la excepción discutida por la doctrina (Lizama y Ugart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Ausencia del elemento locativo, geográfico o espacial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upuesto negado por parte de la doctrina (Lizama y Ugarte) y por la D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B4A3-FF2E-4C08-8BA3-2FDE01C38D09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a28a"/>
                </a:solidFill>
                <a:latin typeface="Arial"/>
              </a:rPr>
              <a:t>Supuestos excluidos/ subcontratación impropia: </a:t>
            </a:r>
            <a:r>
              <a:rPr b="1" lang="es-CL" sz="3200" spc="-1" strike="noStrike" u="sng">
                <a:solidFill>
                  <a:srgbClr val="00a28a"/>
                </a:solidFill>
                <a:uFillTx/>
                <a:latin typeface="Arial"/>
              </a:rPr>
              <a:t>Negación del elemento locativo</a:t>
            </a:r>
            <a:br>
              <a:rPr sz="3200"/>
            </a:b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920" y="1709280"/>
            <a:ext cx="85280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DT (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ORD N° 141/05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 de 10-01-2007): “existirá subcontratación, tanto si las obras o servicios […] se desarrollan en las instalaciones o espacios físicos propios de la persona natural o jurídica dueña de la obra, empresa o faena, </a:t>
            </a:r>
            <a:r>
              <a:rPr b="0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como fuera de éstos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No son trabajo en régimen de subcontratación “las asesorías jurídicas o contables en la medida que exista autonomía funcional respecto del cliente </a:t>
            </a:r>
            <a:r>
              <a:rPr b="0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y cuente con sus propias oficinas desde las cuales se desarrolla el servicio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Tampoco los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“servicios de bodegaje y/o almacenamiento, cuando la empresa que ofrece este servicio</a:t>
            </a:r>
            <a:r>
              <a:rPr b="0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 cuenta con sus propias instalaciones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y organización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582F-E9B8-430A-A794-DD3C324316AE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Subcontratación simulada y suministro ilícito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8093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183-A CT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“Si los servicios prestados se realizan sin sujeción a los requisitos señalados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o se limitan sólo a la intermediación de los trabajadores a una faena, se entenderá que el empleador es el dueño de la obra, empresa o faena, sin perjuicio de las sanciones que correspondan por aplicación del artículo 478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478 CT,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anciona contratación simulada a través de terceros y otros subterfugios (pasa a ser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507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C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14CC-1D19-46C9-A4C3-3413D08ECEEC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20320"/>
            <a:ext cx="9144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Subcontratación simulada y suministro ilícito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contratista fals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5760" y="1412640"/>
            <a:ext cx="8693280" cy="2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marL="16668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1) El contratista verdad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…se encarga de ejecutar obras o servicios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or su cuenta y riesgo…”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ayendo sobre él los resultados económicos favorables, menos favorables o adversos de su gestión, toda vez que tiene la facultad para adoptar las decisiones que involucra el desarrollo y realización de las obras, faenas o servicios encomendados por la empresa principal”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DT ORD. N°141/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ontratista falso: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presa aparente,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n estructura ni entidad propias, sin patrimonio, ni organización empresarial, transfiere riesgos al verdadero emple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2) El contratista verdadero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…se encarga de ejecutar obras o servici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n trabajadores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bajo su dependencia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…”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l contratista falso: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Él 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 organiza, ni dirige, ni controla a los trabajadores; lo hace la empresa princip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7945-FEED-472E-9798-6FC8F32A807F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0320"/>
            <a:ext cx="9144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Subcontratación simulada y suministro ilícito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contratista fals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85760" y="1412640"/>
            <a:ext cx="86932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T (</a:t>
            </a: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ORD. N° 141/05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): “es el contratista, en su carácter de empleador, el que está dotado de la facultad de supervigilar a los trabajadores que se desempeñen en las obras o servicios que realiza para la empresa principal, como asimismo para impartirles las instrucciones que estime pertinentes y ejercer los controles necesarios para tales efectos, 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Arial"/>
              </a:rPr>
              <a:t>sin que corresponda a la empresa principal ingerencia alguna al respecto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T (</a:t>
            </a: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ORD. N° 2468/053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, de 09.07.2007): “la circunstancia de que la empresa principal exija a los trabajadores del contratista el cumplimiento de medidas mínimas de control de ingreso u otras necesarias para la seguridad y buen funcionamiento de la misma, no implica el ejercicio de atribuciones propias del vínculo de subordinación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 implicarían manifestaciones propias de dicho vínculo, las relaciones que emanan de normas de educación, de buenas costumbres y de comportamiento o trato cotidiano que necesariamente deben existir entre los trabajadores del contratista y aquellos que ejercen cargos de jefatura en la empresa principal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8E5D-CEAF-4A7F-8FE1-96612FC29573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20320"/>
            <a:ext cx="9144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Subcontratación simulada y suministro ilícito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contratista fals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5760" y="1412640"/>
            <a:ext cx="8693280" cy="2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180360" indent="-1803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T (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ORD. N° 2468/053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): “…la sola circunstancia de que el contratista designe a un supervisor a cargo de sus trabajadores, no basta para entender que se está en presencia de trabajo en régimen de subcontratació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necesario además “que dicho supervisor ejerza con autonomía de la empresa principal y en forma efectiva y directa, las atribuciones derivadas del vínculo de subordinación y dependencia…”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2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89AE-F540-4DDA-8379-3A0D44645AE8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5120" y="404280"/>
            <a:ext cx="8199360" cy="157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68360" y="193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El empleador “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que simule la contratación de trabajadores a través de terceros”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utilice cualquier subterfugi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[…]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que tenga como resultado eludir el cumplimiento de obligaciones laborales y previsionales…”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s sancionado por el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Art. 478 [507] CT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l “empleador” es, para todos los efectos, la empresa principal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Multa 5 a 100 UTM a la mera simulación. Multa de 10 a 150 UTM por cada trabajador, si hay resultado elusivo = disminución o pérdida de derechos laborales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rescripción se amplía a 5 año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Art. 183-AA CT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La usuaria que contrate a un trabajador de servicios transitorios por intermedio de empresas no inscritas”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l “empleador” es, para todos los efectos, la usuari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Multa de 10 UTM por cada trabajador contratado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4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AutoShape 5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598320" y="299880"/>
            <a:ext cx="75614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a28a"/>
                </a:solidFill>
                <a:latin typeface="Arial"/>
              </a:rPr>
              <a:t>Concurso de sanciones entre subcontratación simulada y suministro ilícito</a:t>
            </a: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C720-F6B0-4072-A350-21C5D30E7B72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subjetiv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3600" y="182376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T (ORD. N° 141/05) “…resulta también aplicable a las empresas o instituciones del Estado o de aquellas en que éste tenga aportes, participación o representación, siempre que sus funcionarios o trabajadores no se encuentren sometidos por ley a un estatuto especial, o que estando sujetos a un estatuto de tal naturaleza, éste no contemple disposiciones que regulen el trabajo en régimen de subcontratación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GR (ORD. N°2594 de 21.01.2008) Coincide, pero excluye aplicación del inc. 2° del art. 183 A CT al Estado. La s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ubcontratación simulada no puede dar lugar a relación laboral ni funcionarial con el Est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150E-3FCE-4A1F-96E1-A379A3043135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subjetivo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6440" y="17380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ley opera bajo el esquema básico:  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Empresa principal-contratista-subcontratist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enas más complejas, con varios grados de subcontratistas plantean problem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La empresa principal responde por todos los subcontratista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ad infinitum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El subcontratista de 1er grado, responde por los subcontratistas de grado posterior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0E0D-5113-4250-B165-2B6307B41361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objetivo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60" y="1587240"/>
            <a:ext cx="837396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rt. 183-B CT,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…obligaciones laborales y previsionales de da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incluidas las eventuales indemnizaciones legales que correspondan por término de la relación laboral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pretado por la DT (ORD.N° 141/05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boral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“todas aquellas que emanan de los contratos individuales o colectivos de trabajo de los dependientes del contratista o subcontratista, según el caso […] como asimismo las que deriven del Código del Trabaj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evisional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“…las relacionadas con el integro de las cotizaciones de seguridad social y con la prevención de accidentes del trabajo y enfermedades profesionales respecto de los mismos trabajadores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De dar: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todas aquellas obligaciones que […] consistan en el pago de una suma de dinero determinad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2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9857-2D8B-424E-A80E-7935469095C7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68360" y="403200"/>
            <a:ext cx="819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a28a"/>
                </a:solidFill>
                <a:latin typeface="Tahoma"/>
              </a:rPr>
              <a:t>Descentraliz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6" descr="trabajadores"/>
          <p:cNvPicPr/>
          <p:nvPr/>
        </p:nvPicPr>
        <p:blipFill>
          <a:blip r:embed="rId1"/>
          <a:stretch/>
        </p:blipFill>
        <p:spPr>
          <a:xfrm>
            <a:off x="1908000" y="2637000"/>
            <a:ext cx="2735280" cy="2879640"/>
          </a:xfrm>
          <a:prstGeom prst="rect">
            <a:avLst/>
          </a:prstGeom>
          <a:ln w="0">
            <a:noFill/>
          </a:ln>
        </p:spPr>
      </p:pic>
      <p:sp>
        <p:nvSpPr>
          <p:cNvPr id="84" name="Oval 8"/>
          <p:cNvSpPr/>
          <p:nvPr/>
        </p:nvSpPr>
        <p:spPr>
          <a:xfrm>
            <a:off x="611280" y="1197000"/>
            <a:ext cx="5113080" cy="4896000"/>
          </a:xfrm>
          <a:prstGeom prst="ellipse">
            <a:avLst/>
          </a:prstGeom>
          <a:noFill/>
          <a:ln w="76320">
            <a:solidFill>
              <a:srgbClr val="00b511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Oval 9"/>
          <p:cNvSpPr/>
          <p:nvPr/>
        </p:nvSpPr>
        <p:spPr>
          <a:xfrm>
            <a:off x="3924360" y="3933720"/>
            <a:ext cx="122400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3419640" y="3357720"/>
            <a:ext cx="1441440" cy="1582560"/>
          </a:xfrm>
          <a:prstGeom prst="ellipse">
            <a:avLst/>
          </a:prstGeom>
          <a:noFill/>
          <a:ln w="76320">
            <a:solidFill>
              <a:srgbClr val="0097e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755640" y="3213000"/>
            <a:ext cx="2232000" cy="215928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12"/>
          <p:cNvSpPr/>
          <p:nvPr/>
        </p:nvSpPr>
        <p:spPr>
          <a:xfrm rot="365400">
            <a:off x="5003280" y="4238640"/>
            <a:ext cx="1513080" cy="485640"/>
          </a:xfrm>
          <a:prstGeom prst="leftArrow">
            <a:avLst>
              <a:gd name="adj1" fmla="val 50000"/>
              <a:gd name="adj2" fmla="val 77891"/>
            </a:avLst>
          </a:prstGeom>
          <a:solidFill>
            <a:srgbClr val="0097ed"/>
          </a:solidFill>
          <a:ln w="9360">
            <a:solidFill>
              <a:srgbClr val="143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1593360" y="170964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b511"/>
                </a:solidFill>
                <a:latin typeface="Arial"/>
              </a:rPr>
              <a:t>Empresa Prin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99120" y="400536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Empre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Contrati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6869520" y="3933720"/>
            <a:ext cx="187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7ed"/>
                </a:solidFill>
                <a:latin typeface="Arial"/>
              </a:rPr>
              <a:t>Empresa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7ed"/>
                </a:solidFill>
                <a:latin typeface="Arial"/>
              </a:rPr>
              <a:t>Suministr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7ed"/>
                </a:solidFill>
                <a:latin typeface="Arial"/>
              </a:rPr>
              <a:t>Trabaj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7ed"/>
                </a:solidFill>
                <a:latin typeface="Arial"/>
              </a:rPr>
              <a:t>(E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Oval 16"/>
          <p:cNvSpPr/>
          <p:nvPr/>
        </p:nvSpPr>
        <p:spPr>
          <a:xfrm>
            <a:off x="6684840" y="3438360"/>
            <a:ext cx="2287800" cy="2352960"/>
          </a:xfrm>
          <a:prstGeom prst="ellipse">
            <a:avLst/>
          </a:prstGeom>
          <a:noFill/>
          <a:ln w="76320">
            <a:solidFill>
              <a:srgbClr val="0097e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BA79-8EEE-4FA1-B011-420985BE6F88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objetivo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760" y="1587240"/>
            <a:ext cx="837396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ólo procederá respecto de […] la indemnización por años de servicio establecida en el artículo 163 y la sustitutiva del aviso previo, si correspondiere, prevista […] en los incisos 2° del artículo 161 y 4° del artículo 162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be hacerse extensiva a las indemnizaciones que, en conformidad al artículo 168 del Código del Trabajo, debe fijar el juez que conoce del reclamo por despido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E3C4-18DC-447D-8989-BC4561AE4874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temporal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760" y="1587240"/>
            <a:ext cx="837396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responsabilidad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“estará limitada al tiempo o periodo durante el cual el o los trabajadores prestaron servicios en régimen de subcontratación para la empresa principal.”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183-B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escripción. Simulación: 5 años.  ¿Y en los demás casos? DT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ORD. N°0544/32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(02.02.04) aplica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480 [510]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CT. 2 añ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fecto de la Ley 20.123 en el tiemp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8DEB-6389-4EB6-97D4-C8D5EA526F8F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465120" y="412920"/>
            <a:ext cx="819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a28a"/>
                </a:solidFill>
                <a:latin typeface="Tahoma"/>
              </a:rPr>
              <a:t>responsabilidad subsidiaria / solid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3" descr="sesc-fabrica-da-pompeia"/>
          <p:cNvPicPr/>
          <p:nvPr/>
        </p:nvPicPr>
        <p:blipFill>
          <a:blip r:embed="rId1"/>
          <a:stretch/>
        </p:blipFill>
        <p:spPr>
          <a:xfrm>
            <a:off x="684360" y="1052640"/>
            <a:ext cx="1495440" cy="1657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trabajadores"/>
          <p:cNvPicPr/>
          <p:nvPr/>
        </p:nvPicPr>
        <p:blipFill>
          <a:blip r:embed="rId2"/>
          <a:stretch/>
        </p:blipFill>
        <p:spPr>
          <a:xfrm>
            <a:off x="6805440" y="4483080"/>
            <a:ext cx="1511640" cy="158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trabajadores"/>
          <p:cNvPicPr/>
          <p:nvPr/>
        </p:nvPicPr>
        <p:blipFill>
          <a:blip r:embed="rId3"/>
          <a:stretch/>
        </p:blipFill>
        <p:spPr>
          <a:xfrm>
            <a:off x="3708360" y="44751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8"/>
          <p:cNvSpPr/>
          <p:nvPr/>
        </p:nvSpPr>
        <p:spPr>
          <a:xfrm>
            <a:off x="7326360" y="3571920"/>
            <a:ext cx="419040" cy="855720"/>
          </a:xfrm>
          <a:prstGeom prst="upArrow">
            <a:avLst>
              <a:gd name="adj1" fmla="val 50000"/>
              <a:gd name="adj2" fmla="val 5105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580000" y="2276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e2e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2484360" y="17715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e2e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211640" y="3571920"/>
            <a:ext cx="458640" cy="880920"/>
          </a:xfrm>
          <a:prstGeom prst="upArrow">
            <a:avLst>
              <a:gd name="adj1" fmla="val 50000"/>
              <a:gd name="adj2" fmla="val 48018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12"/>
          <p:cNvSpPr/>
          <p:nvPr/>
        </p:nvSpPr>
        <p:spPr>
          <a:xfrm rot="18900000">
            <a:off x="2771640" y="32842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13"/>
          <p:cNvSpPr/>
          <p:nvPr/>
        </p:nvSpPr>
        <p:spPr>
          <a:xfrm rot="18900000">
            <a:off x="5886360" y="33555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899280" y="2924280"/>
            <a:ext cx="96696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Princi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852720" y="1900080"/>
            <a:ext cx="1168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contrat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6761160" y="24163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subcontrat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14F6-A6EE-4BE4-BDB2-8B687E582C05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8a"/>
                </a:solidFill>
                <a:latin typeface="Arial"/>
              </a:rPr>
              <a:t>Los derechos de información y de retención (arts. 183-C y 183-D)</a:t>
            </a:r>
            <a:endParaRPr b="1" lang="en-US" sz="36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82120" y="16808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erecho de informaci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“la empresa principal, cuando así lo solicite, tendrá derecho a ser informada por los contratistas sobre el monto y estado de cumplimiento de las obligaciones laborales y previsionales…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000000"/>
                </a:solidFill>
                <a:uFillTx/>
                <a:latin typeface="Arial"/>
              </a:rPr>
              <a:t>Forma de acreditar su cumplimiento: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mediante certificados emitidos por la respectiva Inspección del Trabajo, o bien por medios ídóneos que garanticen la veracidad de dicho monto y estado de cumplimiento.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000000"/>
                </a:solidFill>
                <a:uFillTx/>
                <a:latin typeface="Arial"/>
              </a:rPr>
              <a:t>Derecho de retención: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si el contratista no acredita oportunamente el cumplimiento íntegro de las obligaciones laborales y previsionales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la empresa principal podrá retener de las obligaciones que tenga a favor de aquél o aquéllos, el monto de que es responsable…” 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n tal caso, la empresa principal queda obligada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a pagar con ella al trabajador o institución previsional acreedora”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000000"/>
                </a:solidFill>
                <a:uFillTx/>
                <a:latin typeface="Arial"/>
              </a:rPr>
              <a:t>Posibilidad de pago con subrog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000000"/>
                </a:solidFill>
                <a:uFillTx/>
                <a:latin typeface="Arial"/>
              </a:rPr>
              <a:t>Atenuación de la responsabilidad: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la empresa que hiciere efectivo el derecho a ser informada y el derecho de retención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[…]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responderá subsidirariamente…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21FB-5273-48FC-9EDE-2B309547EBE4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LIMITACIÓN…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971640" y="1916280"/>
            <a:ext cx="6985080" cy="494172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4941720"/>
              <a:gd name="textAreaBottom" fmla="*/ 1764720 h 49417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f66708"/>
              </a:gs>
              <a:gs pos="100000">
                <a:srgbClr val="fdc204"/>
              </a:gs>
            </a:gsLst>
            <a:lin ang="0"/>
          </a:gradFill>
          <a:ln w="12600">
            <a:solidFill>
              <a:srgbClr val="ffffff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971640" y="4365720"/>
            <a:ext cx="691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5" name="AutoShape 5"/>
          <p:cNvCxnSpPr>
            <a:stCxn id="224" idx="0"/>
          </p:cNvCxnSpPr>
          <p:nvPr/>
        </p:nvCxnSpPr>
        <p:spPr>
          <a:xfrm>
            <a:off x="7884720" y="4365720"/>
            <a:ext cx="25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26" name="Line 6"/>
          <p:cNvSpPr/>
          <p:nvPr/>
        </p:nvSpPr>
        <p:spPr>
          <a:xfrm flipH="1" flipV="1">
            <a:off x="2843280" y="2276280"/>
            <a:ext cx="1657440" cy="2089080"/>
          </a:xfrm>
          <a:prstGeom prst="line">
            <a:avLst/>
          </a:prstGeom>
          <a:ln w="38160">
            <a:solidFill>
              <a:srgbClr val="00b51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13080" y="450864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bcont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156360" y="458136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ministr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539640" y="4437000"/>
            <a:ext cx="2664000" cy="1079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6012000" y="4581360"/>
            <a:ext cx="2447640" cy="93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3336840" y="1027080"/>
            <a:ext cx="27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RE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900000" y="1413000"/>
            <a:ext cx="7128000" cy="295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32A8-363E-4C4E-BC99-26436589C0D8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5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22200" y="1440000"/>
            <a:ext cx="85010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rogó los arts. 64 y 64 bis C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regó dos incisos al art. 92 bis CT relativos a los intermediarios de trabajadores agrícolas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ó el trabajo en régimen de subcontratación y el suministro transitorio de trabajadores como contratos especiales de trabajo, arts. 183-A - 183-AE C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regó incisos en los arts. 184 CT(facultades fiscalizadoras de la DT en materia de higiene y seguridad), 477 [506] CT (sustitución de multas) y 478 [507] CT (simulación y otros subterfugios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rodujo un art. 166 bis a la Ley 16.744 sobre Seguro de Accidentes del Trabajo y Enfermedades profesion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Modificaciones legales introducidas por la Ley 20.123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1567-F376-4E3D-A796-F3CF064A4F00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ubcontratación / Suministr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6320" y="1374840"/>
            <a:ext cx="83120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criterios de distin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Objeto del contrato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¿A qué se obliga la empresa contratista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 ejecutar una obra o un servicio = Subcontra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 ceder uno o más trabajadores = Suminis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Vínculo de subordinación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A quién queda subordinado el trabaj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 la empresa contratista = Subcontra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 la empresa principal = Suminis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3DEC-BF34-4076-9F38-FF20CC87F8E0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Trabajo en régimen de subcontratación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3286800" y="1523880"/>
            <a:ext cx="2146680" cy="762120"/>
            <a:chOff x="3286800" y="1523880"/>
            <a:chExt cx="2146680" cy="762120"/>
          </a:xfrm>
        </p:grpSpPr>
        <p:sp>
          <p:nvSpPr>
            <p:cNvPr id="104" name="Text Box 25"/>
            <p:cNvSpPr/>
            <p:nvPr/>
          </p:nvSpPr>
          <p:spPr>
            <a:xfrm>
              <a:off x="3286800" y="1752480"/>
              <a:ext cx="2146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798"/>
                </a:lnSpc>
                <a:spcBef>
                  <a:spcPts val="2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</a:rPr>
                <a:t>Contratis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26"/>
            <p:cNvSpPr/>
            <p:nvPr/>
          </p:nvSpPr>
          <p:spPr>
            <a:xfrm>
              <a:off x="381024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dc204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1122840" y="2277000"/>
            <a:ext cx="2829600" cy="2828160"/>
            <a:chOff x="1122840" y="2277000"/>
            <a:chExt cx="2829600" cy="2828160"/>
          </a:xfrm>
        </p:grpSpPr>
        <p:sp>
          <p:nvSpPr>
            <p:cNvPr id="107" name="AutoShape 28"/>
            <p:cNvSpPr/>
            <p:nvPr/>
          </p:nvSpPr>
          <p:spPr>
            <a:xfrm rot="2203800">
              <a:off x="2971440" y="2133720"/>
              <a:ext cx="304920" cy="2361960"/>
            </a:xfrm>
            <a:prstGeom prst="upDownArrow">
              <a:avLst>
                <a:gd name="adj1" fmla="val 50000"/>
                <a:gd name="adj2" fmla="val 154206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29"/>
            <p:cNvGrpSpPr/>
            <p:nvPr/>
          </p:nvGrpSpPr>
          <p:grpSpPr>
            <a:xfrm>
              <a:off x="1122840" y="4495680"/>
              <a:ext cx="2213640" cy="609480"/>
              <a:chOff x="1122840" y="4495680"/>
              <a:chExt cx="2213640" cy="609480"/>
            </a:xfrm>
          </p:grpSpPr>
          <p:sp>
            <p:nvSpPr>
              <p:cNvPr id="109" name="Text Box 30"/>
              <p:cNvSpPr/>
              <p:nvPr/>
            </p:nvSpPr>
            <p:spPr>
              <a:xfrm>
                <a:off x="1122840" y="4647960"/>
                <a:ext cx="22136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3200" spc="-1" strike="noStrike">
                    <a:solidFill>
                      <a:srgbClr val="000000"/>
                    </a:solidFill>
                    <a:latin typeface="Arial"/>
                  </a:rPr>
                  <a:t>E. Princip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1371600" y="4495680"/>
                <a:ext cx="1828800" cy="6094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Group 32"/>
          <p:cNvGrpSpPr/>
          <p:nvPr/>
        </p:nvGrpSpPr>
        <p:grpSpPr>
          <a:xfrm>
            <a:off x="4923000" y="2253600"/>
            <a:ext cx="3840120" cy="3004200"/>
            <a:chOff x="4923000" y="2253600"/>
            <a:chExt cx="3840120" cy="3004200"/>
          </a:xfrm>
        </p:grpSpPr>
        <p:sp>
          <p:nvSpPr>
            <p:cNvPr id="112" name="AutoShape 33"/>
            <p:cNvSpPr/>
            <p:nvPr/>
          </p:nvSpPr>
          <p:spPr>
            <a:xfrm rot="19539600">
              <a:off x="5562360" y="2133360"/>
              <a:ext cx="304560" cy="2361960"/>
            </a:xfrm>
            <a:prstGeom prst="upDownArrow">
              <a:avLst>
                <a:gd name="adj1" fmla="val 50000"/>
                <a:gd name="adj2" fmla="val 154388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" name="Group 34"/>
            <p:cNvGrpSpPr/>
            <p:nvPr/>
          </p:nvGrpSpPr>
          <p:grpSpPr>
            <a:xfrm>
              <a:off x="5791320" y="4419720"/>
              <a:ext cx="2971800" cy="838080"/>
              <a:chOff x="5791320" y="4419720"/>
              <a:chExt cx="2971800" cy="838080"/>
            </a:xfrm>
          </p:grpSpPr>
          <p:sp>
            <p:nvSpPr>
              <p:cNvPr id="114" name="Text Box 35"/>
              <p:cNvSpPr/>
              <p:nvPr/>
            </p:nvSpPr>
            <p:spPr>
              <a:xfrm>
                <a:off x="5938560" y="4724280"/>
                <a:ext cx="2552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3200" spc="-1" strike="noStrike">
                    <a:solidFill>
                      <a:srgbClr val="000000"/>
                    </a:solidFill>
                    <a:latin typeface="Arial"/>
                  </a:rPr>
                  <a:t>Trabajadores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5791320" y="4419720"/>
                <a:ext cx="2971800" cy="8380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Text Box 37"/>
          <p:cNvSpPr/>
          <p:nvPr/>
        </p:nvSpPr>
        <p:spPr>
          <a:xfrm>
            <a:off x="5715000" y="2286000"/>
            <a:ext cx="30481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 y relación de subord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304920" y="2184480"/>
            <a:ext cx="3047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ejecución de obra o de serv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6412-DB21-4B57-9E8D-074492DAEBE2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8080"/>
                </a:solidFill>
                <a:latin typeface="Arial"/>
              </a:rPr>
              <a:t>Suministro de person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373600">
            <a:off x="4381560" y="3619440"/>
            <a:ext cx="304560" cy="2362320"/>
          </a:xfrm>
          <a:prstGeom prst="upDownArrow">
            <a:avLst>
              <a:gd name="adj1" fmla="val 50000"/>
              <a:gd name="adj2" fmla="val 154412"/>
            </a:avLst>
          </a:prstGeom>
          <a:gradFill rotWithShape="0">
            <a:gsLst>
              <a:gs pos="0">
                <a:srgbClr val="ffff99"/>
              </a:gs>
              <a:gs pos="50000">
                <a:srgbClr val="767647"/>
              </a:gs>
              <a:gs pos="100000">
                <a:srgbClr val="ffff99"/>
              </a:gs>
            </a:gsLst>
            <a:lin ang="24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3809880" y="1523880"/>
            <a:ext cx="1143000" cy="762120"/>
            <a:chOff x="3809880" y="1523880"/>
            <a:chExt cx="1143000" cy="762120"/>
          </a:xfrm>
        </p:grpSpPr>
        <p:sp>
          <p:nvSpPr>
            <p:cNvPr id="122" name="Text Box 5"/>
            <p:cNvSpPr/>
            <p:nvPr/>
          </p:nvSpPr>
          <p:spPr>
            <a:xfrm>
              <a:off x="3961800" y="1752480"/>
              <a:ext cx="79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798"/>
                </a:lnSpc>
                <a:spcBef>
                  <a:spcPts val="2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380988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dc204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1371600" y="2277000"/>
            <a:ext cx="2580840" cy="2828160"/>
            <a:chOff x="1371600" y="2277000"/>
            <a:chExt cx="2580840" cy="2828160"/>
          </a:xfrm>
        </p:grpSpPr>
        <p:sp>
          <p:nvSpPr>
            <p:cNvPr id="125" name="AutoShape 8"/>
            <p:cNvSpPr/>
            <p:nvPr/>
          </p:nvSpPr>
          <p:spPr>
            <a:xfrm rot="2203800">
              <a:off x="2971440" y="2133720"/>
              <a:ext cx="304920" cy="2361960"/>
            </a:xfrm>
            <a:prstGeom prst="upDownArrow">
              <a:avLst>
                <a:gd name="adj1" fmla="val 50000"/>
                <a:gd name="adj2" fmla="val 154206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" name="Group 9"/>
            <p:cNvGrpSpPr/>
            <p:nvPr/>
          </p:nvGrpSpPr>
          <p:grpSpPr>
            <a:xfrm>
              <a:off x="1371600" y="4495680"/>
              <a:ext cx="1828800" cy="609480"/>
              <a:chOff x="1371600" y="4495680"/>
              <a:chExt cx="1828800" cy="609480"/>
            </a:xfrm>
          </p:grpSpPr>
          <p:sp>
            <p:nvSpPr>
              <p:cNvPr id="127" name="Text Box 10"/>
              <p:cNvSpPr/>
              <p:nvPr/>
            </p:nvSpPr>
            <p:spPr>
              <a:xfrm>
                <a:off x="1478520" y="4647960"/>
                <a:ext cx="149112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3200" spc="-1" strike="noStrike">
                    <a:solidFill>
                      <a:srgbClr val="000000"/>
                    </a:solidFill>
                    <a:latin typeface="Arial"/>
                  </a:rPr>
                  <a:t>Usuari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1371600" y="4495680"/>
                <a:ext cx="1828800" cy="6094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Group 12"/>
          <p:cNvGrpSpPr/>
          <p:nvPr/>
        </p:nvGrpSpPr>
        <p:grpSpPr>
          <a:xfrm>
            <a:off x="4923000" y="2253600"/>
            <a:ext cx="3840120" cy="3004200"/>
            <a:chOff x="4923000" y="2253600"/>
            <a:chExt cx="3840120" cy="3004200"/>
          </a:xfrm>
        </p:grpSpPr>
        <p:sp>
          <p:nvSpPr>
            <p:cNvPr id="130" name="AutoShape 13"/>
            <p:cNvSpPr/>
            <p:nvPr/>
          </p:nvSpPr>
          <p:spPr>
            <a:xfrm rot="19539600">
              <a:off x="5562360" y="2133360"/>
              <a:ext cx="304560" cy="2361960"/>
            </a:xfrm>
            <a:prstGeom prst="upDownArrow">
              <a:avLst>
                <a:gd name="adj1" fmla="val 50000"/>
                <a:gd name="adj2" fmla="val 154388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Group 14"/>
            <p:cNvGrpSpPr/>
            <p:nvPr/>
          </p:nvGrpSpPr>
          <p:grpSpPr>
            <a:xfrm>
              <a:off x="5791320" y="4419720"/>
              <a:ext cx="2971800" cy="838080"/>
              <a:chOff x="5791320" y="4419720"/>
              <a:chExt cx="2971800" cy="838080"/>
            </a:xfrm>
          </p:grpSpPr>
          <p:sp>
            <p:nvSpPr>
              <p:cNvPr id="132" name="Text Box 15"/>
              <p:cNvSpPr/>
              <p:nvPr/>
            </p:nvSpPr>
            <p:spPr>
              <a:xfrm>
                <a:off x="5938560" y="4724280"/>
                <a:ext cx="2552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3200" spc="-1" strike="noStrike">
                    <a:solidFill>
                      <a:srgbClr val="000000"/>
                    </a:solidFill>
                    <a:latin typeface="Arial"/>
                  </a:rPr>
                  <a:t>Trabajadores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5791320" y="4419720"/>
                <a:ext cx="2971800" cy="8380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Text Box 17"/>
          <p:cNvSpPr/>
          <p:nvPr/>
        </p:nvSpPr>
        <p:spPr>
          <a:xfrm>
            <a:off x="5715000" y="2286000"/>
            <a:ext cx="3048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304920" y="2133720"/>
            <a:ext cx="3047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puesta a disposición de trabaj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987640" y="5300640"/>
            <a:ext cx="3048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lación de subord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BC96-DCB8-47BA-B320-41EAE2F70769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¿Subcontratación o suministro?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971640" y="1916280"/>
            <a:ext cx="6985080" cy="494172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4941720"/>
              <a:gd name="textAreaBottom" fmla="*/ 1764720 h 49417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f66708"/>
              </a:gs>
              <a:gs pos="100000">
                <a:srgbClr val="fdc204"/>
              </a:gs>
            </a:gsLst>
            <a:lin ang="0"/>
          </a:gradFill>
          <a:ln w="12600">
            <a:solidFill>
              <a:srgbClr val="ffffff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971640" y="4365720"/>
            <a:ext cx="691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AutoShape 5"/>
          <p:cNvCxnSpPr>
            <a:stCxn id="140" idx="0"/>
          </p:cNvCxnSpPr>
          <p:nvPr/>
        </p:nvCxnSpPr>
        <p:spPr>
          <a:xfrm>
            <a:off x="7884720" y="4365720"/>
            <a:ext cx="25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42" name="Line 6"/>
          <p:cNvSpPr/>
          <p:nvPr/>
        </p:nvSpPr>
        <p:spPr>
          <a:xfrm flipH="1" flipV="1">
            <a:off x="2843280" y="2276280"/>
            <a:ext cx="1657440" cy="2089080"/>
          </a:xfrm>
          <a:prstGeom prst="line">
            <a:avLst/>
          </a:prstGeom>
          <a:ln w="38160">
            <a:solidFill>
              <a:srgbClr val="00b51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13080" y="450864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bcont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156360" y="458136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ministr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E78E-71E7-43FD-A6D3-9B3BC6598457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5120" y="340920"/>
            <a:ext cx="8199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ubcontratación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pic>
        <p:nvPicPr>
          <p:cNvPr id="147" name="Picture 5" descr="sesc-fabrica-da-pompeia"/>
          <p:cNvPicPr/>
          <p:nvPr/>
        </p:nvPicPr>
        <p:blipFill>
          <a:blip r:embed="rId1"/>
          <a:stretch/>
        </p:blipFill>
        <p:spPr>
          <a:xfrm>
            <a:off x="0" y="1525680"/>
            <a:ext cx="1835280" cy="2592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6941880" y="2700360"/>
            <a:ext cx="2120760" cy="35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BCONTRAT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86920" y="588960"/>
            <a:ext cx="12963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672000" y="2262240"/>
            <a:ext cx="1971720" cy="35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CONTRAT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123640" y="1150920"/>
            <a:ext cx="15505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a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bra / serv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5832000" y="1616040"/>
            <a:ext cx="9151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trabajadores"/>
          <p:cNvPicPr/>
          <p:nvPr/>
        </p:nvPicPr>
        <p:blipFill>
          <a:blip r:embed="rId2"/>
          <a:stretch/>
        </p:blipFill>
        <p:spPr>
          <a:xfrm>
            <a:off x="-36360" y="4118040"/>
            <a:ext cx="1873080" cy="190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/>
          <p:cNvSpPr/>
          <p:nvPr/>
        </p:nvSpPr>
        <p:spPr>
          <a:xfrm>
            <a:off x="2232000" y="21765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3" descr="trabajadores"/>
          <p:cNvPicPr/>
          <p:nvPr/>
        </p:nvPicPr>
        <p:blipFill>
          <a:blip r:embed="rId3"/>
          <a:stretch/>
        </p:blipFill>
        <p:spPr>
          <a:xfrm>
            <a:off x="3814920" y="4176720"/>
            <a:ext cx="1873080" cy="19080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4"/>
          <p:cNvSpPr/>
          <p:nvPr/>
        </p:nvSpPr>
        <p:spPr>
          <a:xfrm rot="5400000">
            <a:off x="3408840" y="353304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15" descr="trabajadores"/>
          <p:cNvPicPr/>
          <p:nvPr/>
        </p:nvPicPr>
        <p:blipFill>
          <a:blip r:embed="rId4"/>
          <a:stretch/>
        </p:blipFill>
        <p:spPr>
          <a:xfrm>
            <a:off x="7091280" y="4170240"/>
            <a:ext cx="1873440" cy="19083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16"/>
          <p:cNvSpPr/>
          <p:nvPr/>
        </p:nvSpPr>
        <p:spPr>
          <a:xfrm>
            <a:off x="5697360" y="263052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17"/>
          <p:cNvSpPr/>
          <p:nvPr/>
        </p:nvSpPr>
        <p:spPr>
          <a:xfrm rot="5400000">
            <a:off x="6677280" y="35265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140360" y="3260880"/>
            <a:ext cx="15112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a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7489800" y="3224160"/>
            <a:ext cx="15112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a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348E-7CD7-4491-B8CF-5264BA453D3E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ontrato y subcontrato de obra o de servici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6360" y="1666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rt. 183-A CT el contratista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“en razón de un acuerdo contractual, se encarga de ejecutar obras o servicios, para una tercera persona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cluye modalidades arrendaticias del CC y contratos innominados. Objeto común: obligación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de hac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lusión de contratos cuyo objeto es un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dare: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raventas; suministro de mercaderías o insum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7:01:58Z</dcterms:created>
  <dc:creator>Multimedia</dc:creator>
  <dc:description/>
  <dc:language>en-US</dc:language>
  <cp:lastModifiedBy>sony</cp:lastModifiedBy>
  <cp:lastPrinted>1999-12-13T18:43:43Z</cp:lastPrinted>
  <dcterms:modified xsi:type="dcterms:W3CDTF">2010-04-01T12:35:33Z</dcterms:modified>
  <cp:revision>55</cp:revision>
  <dc:subject/>
  <dc:title>PowerPoint Presentation</dc:title>
</cp:coreProperties>
</file>