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5EAFF-26B3-4A77-8D51-FAD7A3B76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4AD3A-7EFE-4D20-8143-BD3159703A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73C6A-AFB8-4700-8DC9-08B011D232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5D82A-AA1D-45A9-8FEE-1510E86304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89102-8F79-4D7D-BAAD-DCCC1538F3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13408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14720" y="219528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-64656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213408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4914720" y="4362840"/>
            <a:ext cx="264780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EFFA-BE09-4801-998A-63082DA9A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C255-E3F8-420B-97BF-17F90DEADB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4B48A-4D0A-4C31-8739-4996D3F791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5120" y="404640"/>
            <a:ext cx="819936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B674F-69D9-4452-BD15-C3C6FC6390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2296-05A2-4595-9D66-8380AC83A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67240" y="436284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AFC0-27F8-4CD7-8BFE-076075A71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-64656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195280"/>
            <a:ext cx="401292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-646560" y="4362840"/>
            <a:ext cx="8223480" cy="19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C74D7-F7FB-4317-A79B-C5C72B3271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2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7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DCD2A-8FEB-47F5-96B1-87878C7C8159}" type="slidenum">
              <a:rPr b="1" lang="en-US" sz="1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6"/>
          <p:cNvSpPr/>
          <p:nvPr/>
        </p:nvSpPr>
        <p:spPr>
          <a:xfrm>
            <a:off x="0" y="6083280"/>
            <a:ext cx="9142560" cy="401760"/>
          </a:xfrm>
          <a:prstGeom prst="rect">
            <a:avLst/>
          </a:prstGeom>
          <a:solidFill>
            <a:srgbClr val="00a2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entury Gothic"/>
              </a:rPr>
              <a:t>Profesor Claudio Palavecino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-646560" y="21952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20556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59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77320" indent="-2055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188720" indent="-20844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40000" indent="-1486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360" y="2298240"/>
            <a:ext cx="8207280" cy="1724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600" spc="-1" strike="noStrike">
                <a:solidFill>
                  <a:srgbClr val="00a28a"/>
                </a:solidFill>
                <a:latin typeface="Arial"/>
              </a:rPr>
              <a:t>REGULACIÓN DELTRABAJO EN RÉGIMEN DE SUBCONTRATACIÓN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9440" y="4548240"/>
            <a:ext cx="8201160" cy="109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nálisis de la Ley 20.12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D0F94-EE52-4214-BA7D-18C074C4287C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puestos excluidos/ subcontratación impropia</a:t>
            </a:r>
            <a:br>
              <a:rPr sz="4000"/>
            </a:b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1200" y="1800000"/>
            <a:ext cx="8223120" cy="38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Subcontratación discontinua o esporádica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Persona natural no empresaria que encarga obras o servicios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Art. 183-B inc. final: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“en los casos de construcción de edificaciones por un precio único prefijado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2600" spc="-1" strike="noStrike">
                <a:solidFill>
                  <a:srgbClr val="000000"/>
                </a:solidFill>
                <a:latin typeface="Arial"/>
              </a:rPr>
              <a:t>cuando quien encargue la obra sea una persona natural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 Amplitud de la excepción discutida por la doctrina (Lizama y Ugarte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Ausencia del elemento locativo, geográfico o espacial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. Supuesto negado por parte de la doctrina (Lizama y Ugarte) y por la D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2F70-F575-4F89-9C13-94EF11667917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a28a"/>
                </a:solidFill>
                <a:latin typeface="Arial"/>
              </a:rPr>
              <a:t>Supuestos excluidos/ subcontratación impropia: </a:t>
            </a:r>
            <a:r>
              <a:rPr b="1" lang="es-CL" sz="3200" spc="-1" strike="noStrike" u="sng">
                <a:solidFill>
                  <a:srgbClr val="00a28a"/>
                </a:solidFill>
                <a:uFillTx/>
                <a:latin typeface="Arial"/>
              </a:rPr>
              <a:t>Negación del elemento locativo</a:t>
            </a:r>
            <a:br>
              <a:rPr sz="3200"/>
            </a:br>
            <a:endParaRPr b="1" lang="en-US" sz="32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05920" y="1709280"/>
            <a:ext cx="852804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500" spc="-1" strike="noStrike">
                <a:solidFill>
                  <a:srgbClr val="000000"/>
                </a:solidFill>
                <a:latin typeface="Arial"/>
              </a:rPr>
              <a:t>ORD N° 141/05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 de 10-01-2007): “existirá subcontratación, tanto si las obras o servicios […] se desarrollan en las instalaciones o espacios físicos propios de la persona natural o jurídica dueña de la obra, empresa o faena,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como fuera de éstos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No son trabajo en régimen de subcontratación “las asesorías jurídicas o contables en la medida que exista autonomía funcional respecto del cliente 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y cuente con sus propias oficinas desde las cuales se desarrolla el servicio.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Tampoco lo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“servicios de bodegaje y/o almacenamiento, cuando la empresa que ofrece este servicio</a:t>
            </a:r>
            <a:r>
              <a:rPr b="0" lang="es-CL" sz="2500" spc="-1" strike="noStrike" u="sng">
                <a:solidFill>
                  <a:srgbClr val="000000"/>
                </a:solidFill>
                <a:uFillTx/>
                <a:latin typeface="Arial"/>
              </a:rPr>
              <a:t> cuenta con sus propias instalaciones </a:t>
            </a:r>
            <a:r>
              <a:rPr b="0" lang="es-CL" sz="2500" spc="-1" strike="noStrike">
                <a:solidFill>
                  <a:srgbClr val="000000"/>
                </a:solidFill>
                <a:latin typeface="Arial"/>
              </a:rPr>
              <a:t>y organización”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562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2702-675C-48D7-99FC-3EF39B175800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11280" y="1809360"/>
            <a:ext cx="822312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A CT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“Si los servicios prestados se realizan sin sujeción a los requisitos señalados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 se limitan sólo a la intermediación de los trabajadores a una faena, se entenderá que el empleador es el dueño de la obra, empresa o faena, sin perjuicio de las sanciones que correspondan por aplicación del artículo 478.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78 CT,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anciona contratación simulada a través de terceros y otros subterfugios (pasa a ser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507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2671-38DF-47E4-8F87-7B7AAEFB6B9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3000"/>
          </a:bodyPr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1) El contratista verdadero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or su cuenta y riesgo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cayendo sobre él los resultados económicos favorables, menos favorables o adversos de su gestión, toda vez que tiene la facultad para adoptar las decisiones que involucra el desarrollo y realización de las obras, faenas o servicios encomendados por la empresa principal”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T ORD. N°141/0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Contratista falso: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presa aparente,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 estructura ni entidad propias, sin patrimonio, ni organización empresarial, transfiere riesgos al verdadero emple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2) El contratista verdadero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…se encarga de ejecutar obras o servici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n trabajadores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bajo su dependencia</a:t>
            </a:r>
            <a:r>
              <a:rPr b="0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…”</a:t>
            </a:r>
            <a:r>
              <a:rPr b="1" i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-16668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El contratista falso:</a:t>
            </a:r>
            <a:r>
              <a:rPr b="1" i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Él n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o organiza, ni dirige, ni controla a los trabajadores; lo hace la empresa principal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6668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5A68-54A8-470F-9504-D381C06C83D3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47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141/05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): “es el contratista, en su carácter de empleador, el que está dotado de la facultad de supervigilar a los trabajadores que se desempeñen en las obras o servicios que realiza para la empresa principal, como asimismo para impartirles las instrucciones que estime pertinentes y ejercer los controles necesarios para tales efectos, </a:t>
            </a:r>
            <a:r>
              <a:rPr b="1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sin que corresponda a la empresa principal ingerencia alguna al respecto</a:t>
            </a:r>
            <a:r>
              <a:rPr b="0" lang="es-CL" sz="21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21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, de 09.07.2007): “la circunstancia de que la empresa principal exija a los trabajadores del contratista el cumplimiento de medidas mínimas de control de ingreso u otras necesarias para la seguridad y buen funcionamiento de la misma, no implica el ejercicio de atribuciones propias del vínculo de subordinación…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312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no implicarían manifestaciones propias de dicho vínculo, las relaciones que emanan de normas de educación, de buenas costumbres y de comportamiento o trato cotidiano que necesariamente deben existir entre los trabajadores del contratista y aquellos que ejercen cargos de jefatura en la empresa principal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1FAA-561B-406A-AE50-2E374656C8C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20320"/>
            <a:ext cx="9144000" cy="119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Subcontratación simulada y suministro ilícito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contratista fals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5760" y="1412640"/>
            <a:ext cx="8693280" cy="284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T 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 2468/053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: “…la sola circunstancia de que el contratista designe a un supervisor a cargo de sus trabajadores, no basta para entender que se está en presencia de trabajo en régimen de subcontratación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-18036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 necesario además “que dicho supervisor ejerza con autonomía de la empresa principal y en forma efectiva y directa, las atribuciones derivadas del vínculo de subordinación y dependencia…”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8036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2E1CB-C8A7-4AE4-93D2-B95DAE3FEE2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5120" y="404280"/>
            <a:ext cx="8199360" cy="1576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468360" y="1932120"/>
            <a:ext cx="83059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El empleador “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simule la contratación de trabajadores a través de tercero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utilice cualquier subterfugio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que tenga como resultado eludir el cumplimiento de obligaciones laborales y previsionales…”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s sancionado por el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478 [507] CT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empresa principal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5 a 100 UTM a la mera simulación. Multa de 10 a 150 UTM por cada trabajador, si hay resultado elusivo = disminución o pérdida de derechos laborales)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rescripción se amplía a 5 año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Art. 183-AA CT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usuaria que contrate a un trabajador de servicios transitorios por intermedio de empresas no inscritas”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l “empleador” es, para todos los efectos, la usuari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444600" indent="-444600">
              <a:lnSpc>
                <a:spcPct val="90000"/>
              </a:lnSpc>
              <a:spcBef>
                <a:spcPts val="476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Multa de 10 UTM por cada trabajador contratado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AutoShape 4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AutoShape 5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598320" y="299880"/>
            <a:ext cx="756144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Concurso de sanciones entre subcontratación simulada y suministro ilícito</a:t>
            </a: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0469A-F0FC-4DA0-8AF0-6EBAB77BD0D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3600" y="182376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T (ORD. N° 141/05) “…resulta también aplicable a las empresas o instituciones del Estado o de aquellas en que éste tenga aportes, participación o representación, siempre que sus funcionarios o trabajadores no se encuentren sometidos por ley a un estatuto especial, o que estando sujetos a un estatuto de tal naturaleza, éste no contemple disposiciones que regulen el trabajo en régimen de subcontratación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GR (ORD. N°2594 de 21.01.2008) Coincide, pero excluye aplicación del inc. 2° del art. 183 A CT al Estado. La s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ubcontratación simulada no puede dar lugar a relación laboral ni funcionarial con el Est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1E11-7C18-4C80-90C8-A3FA12FE8EB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su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6440" y="173808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ley opera bajo el esquema básico:  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Empresa principal-contratista-subcontratista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adenas más complejas, con varios grados de subcontratistas plantean problema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La empresa principal responde por todos los subcontratistas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 ad infinitum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¿El subcontratista de 1er grado, responde por los subcontratistas de grado posterior?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58A9-3B5C-4AAF-844C-CF62A17F3A67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rt. 183-B CT,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“…obligaciones laborales y previsionales de da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[…]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incluidas las eventuales indemnizaciones legales que correspondan por término de la relación laboral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erpretado por la DT (ORD.N° 141/05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Labor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todas aquellas que emanan de los contratos individuales o colectivos de trabajo de los dependientes del contratista o subcontratista, según el caso […] como asimismo las que deriven del Código del Trabaj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Previsionales: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“…las relacionadas con el integro de las cotizaciones de seguridad social y con la prevención de accidentes del trabajo y enfermedades profesionales respecto de los mismos trabajadores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000000"/>
                </a:solidFill>
                <a:uFillTx/>
                <a:latin typeface="Arial"/>
              </a:rPr>
              <a:t>De dar: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“todas aquellas obligaciones que […] consistan en el pago de una suma de dinero determinada”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4C268-79C9-4F87-9EEE-D95F6598C793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68360" y="40320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a28a"/>
                </a:solidFill>
                <a:latin typeface="Tahoma"/>
              </a:rPr>
              <a:t>Descentraliz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Picture 6" descr="trabajadores"/>
          <p:cNvPicPr/>
          <p:nvPr/>
        </p:nvPicPr>
        <p:blipFill>
          <a:blip r:embed="rId1"/>
          <a:stretch/>
        </p:blipFill>
        <p:spPr>
          <a:xfrm>
            <a:off x="1908000" y="2637000"/>
            <a:ext cx="2735280" cy="2879640"/>
          </a:xfrm>
          <a:prstGeom prst="rect">
            <a:avLst/>
          </a:prstGeom>
          <a:ln w="0">
            <a:noFill/>
          </a:ln>
        </p:spPr>
      </p:pic>
      <p:sp>
        <p:nvSpPr>
          <p:cNvPr id="84" name="Oval 8"/>
          <p:cNvSpPr/>
          <p:nvPr/>
        </p:nvSpPr>
        <p:spPr>
          <a:xfrm>
            <a:off x="611280" y="1197000"/>
            <a:ext cx="5113080" cy="4896000"/>
          </a:xfrm>
          <a:prstGeom prst="ellipse">
            <a:avLst/>
          </a:prstGeom>
          <a:noFill/>
          <a:ln w="76320">
            <a:solidFill>
              <a:srgbClr val="00b511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Oval 9"/>
          <p:cNvSpPr/>
          <p:nvPr/>
        </p:nvSpPr>
        <p:spPr>
          <a:xfrm>
            <a:off x="3924360" y="3933720"/>
            <a:ext cx="1224000" cy="1224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Oval 10"/>
          <p:cNvSpPr/>
          <p:nvPr/>
        </p:nvSpPr>
        <p:spPr>
          <a:xfrm>
            <a:off x="3419640" y="3357720"/>
            <a:ext cx="1441440" cy="15825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755640" y="3213000"/>
            <a:ext cx="2232000" cy="2159280"/>
          </a:xfrm>
          <a:prstGeom prst="ellipse">
            <a:avLst/>
          </a:prstGeom>
          <a:noFill/>
          <a:ln w="76320">
            <a:solidFill>
              <a:srgbClr val="ff33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AutoShape 12"/>
          <p:cNvSpPr/>
          <p:nvPr/>
        </p:nvSpPr>
        <p:spPr>
          <a:xfrm rot="365400">
            <a:off x="5003280" y="4238640"/>
            <a:ext cx="1513080" cy="485640"/>
          </a:xfrm>
          <a:prstGeom prst="leftArrow">
            <a:avLst>
              <a:gd name="adj1" fmla="val 50000"/>
              <a:gd name="adj2" fmla="val 77891"/>
            </a:avLst>
          </a:prstGeom>
          <a:solidFill>
            <a:srgbClr val="0097ed"/>
          </a:solidFill>
          <a:ln w="9360">
            <a:solidFill>
              <a:srgbClr val="143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1593360" y="1709640"/>
            <a:ext cx="328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b511"/>
                </a:solidFill>
                <a:latin typeface="Arial"/>
              </a:rPr>
              <a:t>Empresa Princip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699120" y="400536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Empres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00"/>
                </a:solidFill>
                <a:latin typeface="Arial"/>
              </a:rPr>
              <a:t>Contrati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6869520" y="3933720"/>
            <a:ext cx="1875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Empresa 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Suministro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Trabaj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97ed"/>
                </a:solidFill>
                <a:latin typeface="Arial"/>
              </a:rPr>
              <a:t>(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Oval 16"/>
          <p:cNvSpPr/>
          <p:nvPr/>
        </p:nvSpPr>
        <p:spPr>
          <a:xfrm>
            <a:off x="6684840" y="3438360"/>
            <a:ext cx="2287800" cy="2352960"/>
          </a:xfrm>
          <a:prstGeom prst="ellipse">
            <a:avLst/>
          </a:prstGeom>
          <a:noFill/>
          <a:ln w="76320">
            <a:solidFill>
              <a:srgbClr val="0097ed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6A4DC-36B8-4004-BD6F-7842E6D9BC9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objetivo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sólo procederá respecto de […] la indemnización por años de servicio establecida en el artículo 163 y la sustitutiva del aviso previo, si correspondiere, prevista […] en los incisos 2° del artículo 161 y 4° del artículo 162”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“…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be hacerse extensiva a las indemnizaciones que, en conformidad al artículo 168 del Código del Trabajo, debe fijar el juez que conoce del reclamo por despido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6F46-AF36-476A-ACEB-9D68DE78990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a28a"/>
                </a:solidFill>
                <a:latin typeface="Arial"/>
              </a:rPr>
              <a:t>Las responsabilidades empresariales: </a:t>
            </a:r>
            <a:r>
              <a:rPr b="1" lang="en-US" sz="4000" spc="-1" strike="noStrike" u="sng">
                <a:solidFill>
                  <a:srgbClr val="00a28a"/>
                </a:solidFill>
                <a:uFillTx/>
                <a:latin typeface="Arial"/>
              </a:rPr>
              <a:t>Ámbito temporal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760" y="1587240"/>
            <a:ext cx="837396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responsabilidad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stará limitada al tiempo o periodo durante el cual el o los trabajadores prestaron servicios en régimen de subcontratación para la empresa principal.”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183-B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T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escripción. Simulación: 5 años.  ¿Y en los demás casos? DT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ORD. N°0544/32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(02.02.04) aplica </a:t>
            </a:r>
            <a:r>
              <a:rPr b="1" lang="es-CL" sz="3000" spc="-1" strike="noStrike">
                <a:solidFill>
                  <a:srgbClr val="000000"/>
                </a:solidFill>
                <a:latin typeface="Arial"/>
              </a:rPr>
              <a:t>art. 480 [510]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 CT. 2 añ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fecto de la Ley 20.123 en el tiempo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3AD9-39FE-47BC-BAB4-8DD1D0A1098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2"/>
          <p:cNvSpPr/>
          <p:nvPr/>
        </p:nvSpPr>
        <p:spPr>
          <a:xfrm>
            <a:off x="465120" y="412920"/>
            <a:ext cx="819936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a28a"/>
                </a:solidFill>
                <a:latin typeface="Tahoma"/>
              </a:rPr>
              <a:t>responsabilidad subsidiaria / solida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6" name="Picture 3" descr="sesc-fabrica-da-pompeia"/>
          <p:cNvPicPr/>
          <p:nvPr/>
        </p:nvPicPr>
        <p:blipFill>
          <a:blip r:embed="rId1"/>
          <a:stretch/>
        </p:blipFill>
        <p:spPr>
          <a:xfrm>
            <a:off x="684360" y="1052640"/>
            <a:ext cx="1495440" cy="16570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trabajadores"/>
          <p:cNvPicPr/>
          <p:nvPr/>
        </p:nvPicPr>
        <p:blipFill>
          <a:blip r:embed="rId2"/>
          <a:stretch/>
        </p:blipFill>
        <p:spPr>
          <a:xfrm>
            <a:off x="6805440" y="4483080"/>
            <a:ext cx="1511640" cy="15843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trabajadores"/>
          <p:cNvPicPr/>
          <p:nvPr/>
        </p:nvPicPr>
        <p:blipFill>
          <a:blip r:embed="rId3"/>
          <a:stretch/>
        </p:blipFill>
        <p:spPr>
          <a:xfrm>
            <a:off x="3708360" y="4475160"/>
            <a:ext cx="1511280" cy="1584360"/>
          </a:xfrm>
          <a:prstGeom prst="rect">
            <a:avLst/>
          </a:prstGeom>
          <a:ln w="0">
            <a:noFill/>
          </a:ln>
        </p:spPr>
      </p:pic>
      <p:sp>
        <p:nvSpPr>
          <p:cNvPr id="209" name="AutoShape 8"/>
          <p:cNvSpPr/>
          <p:nvPr/>
        </p:nvSpPr>
        <p:spPr>
          <a:xfrm>
            <a:off x="7326360" y="3571920"/>
            <a:ext cx="419040" cy="855720"/>
          </a:xfrm>
          <a:prstGeom prst="upArrow">
            <a:avLst>
              <a:gd name="adj1" fmla="val 50000"/>
              <a:gd name="adj2" fmla="val 51052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5580000" y="227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AutoShape 10"/>
          <p:cNvSpPr/>
          <p:nvPr/>
        </p:nvSpPr>
        <p:spPr>
          <a:xfrm>
            <a:off x="2484360" y="17715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e2e2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AutoShape 11"/>
          <p:cNvSpPr/>
          <p:nvPr/>
        </p:nvSpPr>
        <p:spPr>
          <a:xfrm>
            <a:off x="4211640" y="3571920"/>
            <a:ext cx="458640" cy="880920"/>
          </a:xfrm>
          <a:prstGeom prst="upArrow">
            <a:avLst>
              <a:gd name="adj1" fmla="val 50000"/>
              <a:gd name="adj2" fmla="val 48018"/>
            </a:avLst>
          </a:prstGeom>
          <a:solidFill>
            <a:srgbClr val="00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AutoShape 12"/>
          <p:cNvSpPr/>
          <p:nvPr/>
        </p:nvSpPr>
        <p:spPr>
          <a:xfrm rot="18900000">
            <a:off x="2771640" y="32842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AutoShape 13"/>
          <p:cNvSpPr/>
          <p:nvPr/>
        </p:nvSpPr>
        <p:spPr>
          <a:xfrm rot="18900000">
            <a:off x="5886360" y="335556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899280" y="2924280"/>
            <a:ext cx="96696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852720" y="1900080"/>
            <a:ext cx="11682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6761160" y="2416320"/>
            <a:ext cx="1575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a28a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A56F-66F5-483A-8D0D-7F0F3D2EAF45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a28a"/>
                </a:solidFill>
                <a:latin typeface="Arial"/>
              </a:rPr>
              <a:t>Los derechos de información y de retención (arts. 183-C y 183-D)</a:t>
            </a:r>
            <a:endParaRPr b="1" lang="en-US" sz="36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82120" y="16808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000000"/>
                </a:solidFill>
                <a:uFillTx/>
                <a:latin typeface="Arial"/>
              </a:rPr>
              <a:t>Derecho de información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“la empresa principal, cuando así lo solicite, tendrá derecho a ser informada por los contratistas sobre el monto y estado de cumplimiento de las obligaciones laborales y previsionales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Forma de acreditar su cumplimiento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mediante certificados emitidos por la respectiva Inspección del Trabajo, o bien por medios ídóneos que garanticen la veracidad de dicho monto y estado de cumplimiento.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Derecho de retención:</a:t>
            </a:r>
            <a:r>
              <a:rPr b="1" lang="es-CL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si el contratista no acredita oportunamente el cumplimiento íntegro de las obligaciones laborales y previsionales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principal podrá retener de las obligaciones que tenga a favor de aquél o aquéllos, el monto de que es responsable…”  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n tal caso, la empresa principal queda obligada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a pagar con ella al trabajador o institución previsional acreedora”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Posibilidad de pago con subrogación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 u="sng">
                <a:solidFill>
                  <a:srgbClr val="000000"/>
                </a:solidFill>
                <a:uFillTx/>
                <a:latin typeface="Arial"/>
              </a:rPr>
              <a:t>Atenuación de la responsabilidad: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“la empresa que hiciere efectivo el derecho a ser informada y el derecho de retención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 […] </a:t>
            </a:r>
            <a:r>
              <a:rPr b="0" i="1" lang="es-CL" sz="1900" spc="-1" strike="noStrike">
                <a:solidFill>
                  <a:srgbClr val="000000"/>
                </a:solidFill>
                <a:latin typeface="Arial"/>
              </a:rPr>
              <a:t>responderá subsidirariamente…”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1188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3C3A-30E1-44CC-8EF4-0292813FA827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LIMITACIÓN…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223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5" name="AutoShape 5"/>
          <p:cNvCxnSpPr>
            <a:stCxn id="224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226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539640" y="4437000"/>
            <a:ext cx="2664000" cy="1079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10"/>
          <p:cNvSpPr/>
          <p:nvPr/>
        </p:nvSpPr>
        <p:spPr>
          <a:xfrm>
            <a:off x="6012000" y="4581360"/>
            <a:ext cx="2447640" cy="935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Text Box 11"/>
          <p:cNvSpPr/>
          <p:nvPr/>
        </p:nvSpPr>
        <p:spPr>
          <a:xfrm>
            <a:off x="3336840" y="1027080"/>
            <a:ext cx="27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REC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Rectangle 12"/>
          <p:cNvSpPr/>
          <p:nvPr/>
        </p:nvSpPr>
        <p:spPr>
          <a:xfrm>
            <a:off x="900000" y="1413000"/>
            <a:ext cx="7128000" cy="295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8F48-1F8C-499D-BC64-A065B7279833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AutoShape 4">
            <a:hlinkClick r:id="" action="ppaction://hlinkshowjump?jump=nextslide"/>
          </p:cNvPr>
          <p:cNvSpPr/>
          <p:nvPr/>
        </p:nvSpPr>
        <p:spPr>
          <a:xfrm>
            <a:off x="876312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3794"/>
                </a:moveTo>
                <a:lnTo>
                  <a:pt x="24990" y="10800"/>
                </a:lnTo>
                <a:lnTo>
                  <a:pt x="10977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AutoShape 5">
            <a:hlinkClick r:id="" action="ppaction://hlinkshowjump?jump=previousslide"/>
          </p:cNvPr>
          <p:cNvSpPr/>
          <p:nvPr/>
        </p:nvSpPr>
        <p:spPr>
          <a:xfrm>
            <a:off x="0" y="0"/>
            <a:ext cx="380880" cy="228600"/>
          </a:xfrm>
          <a:custGeom>
            <a:avLst/>
            <a:gdLst>
              <a:gd name="textAreaLeft" fmla="*/ 14760 w 380880"/>
              <a:gd name="textAreaRight" fmla="*/ 366120 w 3808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35966" h="21600">
                <a:moveTo>
                  <a:pt x="0" y="0"/>
                </a:moveTo>
                <a:lnTo>
                  <a:pt x="35966" y="0"/>
                </a:lnTo>
                <a:lnTo>
                  <a:pt x="35966" y="21600"/>
                </a:lnTo>
                <a:lnTo>
                  <a:pt x="0" y="21600"/>
                </a:lnTo>
                <a:close/>
              </a:path>
              <a:path fill="lightenLess" w="35966" h="21600">
                <a:moveTo>
                  <a:pt x="0" y="0"/>
                </a:moveTo>
                <a:lnTo>
                  <a:pt x="35966" y="0"/>
                </a:lnTo>
                <a:lnTo>
                  <a:pt x="34566" y="1400"/>
                </a:lnTo>
                <a:lnTo>
                  <a:pt x="1400" y="1400"/>
                </a:lnTo>
                <a:close/>
              </a:path>
              <a:path fill="darken" w="35966" h="21600">
                <a:moveTo>
                  <a:pt x="35966" y="0"/>
                </a:moveTo>
                <a:lnTo>
                  <a:pt x="35966" y="21600"/>
                </a:lnTo>
                <a:lnTo>
                  <a:pt x="34566" y="20200"/>
                </a:lnTo>
                <a:lnTo>
                  <a:pt x="34566" y="1400"/>
                </a:lnTo>
                <a:close/>
              </a:path>
              <a:path fill="darkenLess" w="35966" h="21600">
                <a:moveTo>
                  <a:pt x="359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66" y="20200"/>
                </a:lnTo>
                <a:close/>
              </a:path>
              <a:path fill="lighten" w="359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66" h="21600">
                <a:moveTo>
                  <a:pt x="10977" y="10800"/>
                </a:moveTo>
                <a:lnTo>
                  <a:pt x="24990" y="3794"/>
                </a:lnTo>
                <a:lnTo>
                  <a:pt x="24990" y="17806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322200" y="1440000"/>
            <a:ext cx="850104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rogó los arts. 64 y 64 bis CT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dos incisos al art. 92 bis CT relativos a los intermediarios de trabajadores agrícolas;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sertó el trabajo en régimen de subcontratación y el suministro transitorio de trabajadores como contratos especiales de trabajo, arts. 183-A - 183-AE CT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ó incisos en los arts. 184 CT(facultades fiscalizadoras de la DT en materia de higiene y seguridad), 477 [506] CT (sustitución de multas) y 478 [507] CT (simulación y otros subterfugio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jo un art. 166 bis a la Ley 16.744 sobre Seguro de Accidentes del Trabajo y Enfermedades profes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Modificaciones legales introducidas por la Ley 20.123.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0315-9340-483E-BF83-DC480C9B2C48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 / Suministr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6320" y="1374840"/>
            <a:ext cx="8312040" cy="454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Dos criterios de distinc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Objeto del contrato.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 ¿A qué se obliga la empresa contratista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ejecutar una obra o un servicio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ceder uno o más trabajadores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1" lang="es-CL" sz="2600" spc="-1" strike="noStrike" u="sng">
                <a:solidFill>
                  <a:srgbClr val="000000"/>
                </a:solidFill>
                <a:uFillTx/>
                <a:latin typeface="Arial"/>
              </a:rPr>
              <a:t>Vínculo de subordinación</a:t>
            </a: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¿A quién queda subordinado el trabajado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contratista = Subcontrata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A la empresa principal = Suminis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spcBef>
                <a:spcPts val="1624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8245-36A1-4A39-AFC5-A46ECBEC45AF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Trabajo en régimen de 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grpSp>
        <p:nvGrpSpPr>
          <p:cNvPr id="103" name="Group 24"/>
          <p:cNvGrpSpPr/>
          <p:nvPr/>
        </p:nvGrpSpPr>
        <p:grpSpPr>
          <a:xfrm>
            <a:off x="3286800" y="1523880"/>
            <a:ext cx="2146680" cy="762120"/>
            <a:chOff x="3286800" y="1523880"/>
            <a:chExt cx="2146680" cy="762120"/>
          </a:xfrm>
        </p:grpSpPr>
        <p:sp>
          <p:nvSpPr>
            <p:cNvPr id="104" name="Text Box 25"/>
            <p:cNvSpPr/>
            <p:nvPr/>
          </p:nvSpPr>
          <p:spPr>
            <a:xfrm>
              <a:off x="3286800" y="1752480"/>
              <a:ext cx="21466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Contratist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Rectangle 26"/>
            <p:cNvSpPr/>
            <p:nvPr/>
          </p:nvSpPr>
          <p:spPr>
            <a:xfrm>
              <a:off x="381024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6" name="Group 27"/>
          <p:cNvGrpSpPr/>
          <p:nvPr/>
        </p:nvGrpSpPr>
        <p:grpSpPr>
          <a:xfrm>
            <a:off x="1122840" y="2277000"/>
            <a:ext cx="2829600" cy="2828160"/>
            <a:chOff x="1122840" y="2277000"/>
            <a:chExt cx="2829600" cy="2828160"/>
          </a:xfrm>
        </p:grpSpPr>
        <p:sp>
          <p:nvSpPr>
            <p:cNvPr id="107" name="AutoShape 2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Group 29"/>
            <p:cNvGrpSpPr/>
            <p:nvPr/>
          </p:nvGrpSpPr>
          <p:grpSpPr>
            <a:xfrm>
              <a:off x="1122840" y="4495680"/>
              <a:ext cx="2213640" cy="609480"/>
              <a:chOff x="1122840" y="4495680"/>
              <a:chExt cx="2213640" cy="609480"/>
            </a:xfrm>
          </p:grpSpPr>
          <p:sp>
            <p:nvSpPr>
              <p:cNvPr id="109" name="Text Box 30"/>
              <p:cNvSpPr/>
              <p:nvPr/>
            </p:nvSpPr>
            <p:spPr>
              <a:xfrm>
                <a:off x="1122840" y="4647960"/>
                <a:ext cx="22136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E. Principal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Rectangle 3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1" name="Group 3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12" name="AutoShape 3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" name="Group 3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14" name="Text Box 3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Rectangle 3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" name="Text Box 37"/>
          <p:cNvSpPr/>
          <p:nvPr/>
        </p:nvSpPr>
        <p:spPr>
          <a:xfrm>
            <a:off x="5715000" y="2286000"/>
            <a:ext cx="304812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 y 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38"/>
          <p:cNvSpPr/>
          <p:nvPr/>
        </p:nvSpPr>
        <p:spPr>
          <a:xfrm>
            <a:off x="304920" y="218448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ejecución de obra o de serv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DFB7B-DFD0-4B20-B665-86153A576284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8080"/>
                </a:solidFill>
                <a:latin typeface="Arial"/>
              </a:rPr>
              <a:t>Suministro de personal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 rot="5373600">
            <a:off x="4381560" y="3619440"/>
            <a:ext cx="304560" cy="2362320"/>
          </a:xfrm>
          <a:prstGeom prst="upDownArrow">
            <a:avLst>
              <a:gd name="adj1" fmla="val 50000"/>
              <a:gd name="adj2" fmla="val 154412"/>
            </a:avLst>
          </a:prstGeom>
          <a:gradFill rotWithShape="0">
            <a:gsLst>
              <a:gs pos="0">
                <a:srgbClr val="ffff99"/>
              </a:gs>
              <a:gs pos="50000">
                <a:srgbClr val="767647"/>
              </a:gs>
              <a:gs pos="100000">
                <a:srgbClr val="ffff99"/>
              </a:gs>
            </a:gsLst>
            <a:lin ang="24000"/>
          </a:gra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1" name="Group 4"/>
          <p:cNvGrpSpPr/>
          <p:nvPr/>
        </p:nvGrpSpPr>
        <p:grpSpPr>
          <a:xfrm>
            <a:off x="3809880" y="1523880"/>
            <a:ext cx="1143000" cy="762120"/>
            <a:chOff x="3809880" y="1523880"/>
            <a:chExt cx="1143000" cy="762120"/>
          </a:xfrm>
        </p:grpSpPr>
        <p:sp>
          <p:nvSpPr>
            <p:cNvPr id="122" name="Text Box 5"/>
            <p:cNvSpPr/>
            <p:nvPr/>
          </p:nvSpPr>
          <p:spPr>
            <a:xfrm>
              <a:off x="3961800" y="1752480"/>
              <a:ext cx="79164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ts val="2798"/>
                </a:lnSpc>
                <a:spcBef>
                  <a:spcPts val="2001"/>
                </a:spcBef>
                <a:spcAft>
                  <a:spcPts val="4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3200" spc="-1" strike="noStrike">
                  <a:solidFill>
                    <a:srgbClr val="000000"/>
                  </a:solidFill>
                  <a:latin typeface="Arial"/>
                </a:rPr>
                <a:t>EST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Rectangle 6"/>
            <p:cNvSpPr/>
            <p:nvPr/>
          </p:nvSpPr>
          <p:spPr>
            <a:xfrm>
              <a:off x="380988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dc204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4" name="Group 7"/>
          <p:cNvGrpSpPr/>
          <p:nvPr/>
        </p:nvGrpSpPr>
        <p:grpSpPr>
          <a:xfrm>
            <a:off x="1371600" y="2277000"/>
            <a:ext cx="2580840" cy="2828160"/>
            <a:chOff x="1371600" y="2277000"/>
            <a:chExt cx="2580840" cy="2828160"/>
          </a:xfrm>
        </p:grpSpPr>
        <p:sp>
          <p:nvSpPr>
            <p:cNvPr id="125" name="AutoShape 8"/>
            <p:cNvSpPr/>
            <p:nvPr/>
          </p:nvSpPr>
          <p:spPr>
            <a:xfrm rot="2203800">
              <a:off x="2971440" y="2133720"/>
              <a:ext cx="304920" cy="2361960"/>
            </a:xfrm>
            <a:prstGeom prst="upDownArrow">
              <a:avLst>
                <a:gd name="adj1" fmla="val 50000"/>
                <a:gd name="adj2" fmla="val 154206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Group 9"/>
            <p:cNvGrpSpPr/>
            <p:nvPr/>
          </p:nvGrpSpPr>
          <p:grpSpPr>
            <a:xfrm>
              <a:off x="1371600" y="4495680"/>
              <a:ext cx="1828800" cy="609480"/>
              <a:chOff x="1371600" y="4495680"/>
              <a:chExt cx="1828800" cy="609480"/>
            </a:xfrm>
          </p:grpSpPr>
          <p:sp>
            <p:nvSpPr>
              <p:cNvPr id="127" name="Text Box 10"/>
              <p:cNvSpPr/>
              <p:nvPr/>
            </p:nvSpPr>
            <p:spPr>
              <a:xfrm>
                <a:off x="1478520" y="4647960"/>
                <a:ext cx="149112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Usuaria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Rectangle 11"/>
              <p:cNvSpPr/>
              <p:nvPr/>
            </p:nvSpPr>
            <p:spPr>
              <a:xfrm>
                <a:off x="1371600" y="4495680"/>
                <a:ext cx="1828800" cy="6094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9" name="Group 12"/>
          <p:cNvGrpSpPr/>
          <p:nvPr/>
        </p:nvGrpSpPr>
        <p:grpSpPr>
          <a:xfrm>
            <a:off x="4923000" y="2253600"/>
            <a:ext cx="3840120" cy="3004200"/>
            <a:chOff x="4923000" y="2253600"/>
            <a:chExt cx="3840120" cy="3004200"/>
          </a:xfrm>
        </p:grpSpPr>
        <p:sp>
          <p:nvSpPr>
            <p:cNvPr id="130" name="AutoShape 13"/>
            <p:cNvSpPr/>
            <p:nvPr/>
          </p:nvSpPr>
          <p:spPr>
            <a:xfrm rot="19539600">
              <a:off x="5562360" y="2133360"/>
              <a:ext cx="304560" cy="2361960"/>
            </a:xfrm>
            <a:prstGeom prst="upDownArrow">
              <a:avLst>
                <a:gd name="adj1" fmla="val 50000"/>
                <a:gd name="adj2" fmla="val 154388"/>
              </a:avLst>
            </a:prstGeom>
            <a:gradFill rotWithShape="0">
              <a:gsLst>
                <a:gs pos="0">
                  <a:srgbClr val="fdc204"/>
                </a:gs>
                <a:gs pos="100000">
                  <a:srgbClr val="755a02"/>
                </a:gs>
              </a:gsLst>
              <a:lin ang="189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Group 14"/>
            <p:cNvGrpSpPr/>
            <p:nvPr/>
          </p:nvGrpSpPr>
          <p:grpSpPr>
            <a:xfrm>
              <a:off x="5791320" y="4419720"/>
              <a:ext cx="2971800" cy="838080"/>
              <a:chOff x="5791320" y="4419720"/>
              <a:chExt cx="2971800" cy="838080"/>
            </a:xfrm>
          </p:grpSpPr>
          <p:sp>
            <p:nvSpPr>
              <p:cNvPr id="132" name="Text Box 15"/>
              <p:cNvSpPr/>
              <p:nvPr/>
            </p:nvSpPr>
            <p:spPr>
              <a:xfrm>
                <a:off x="5938560" y="4724280"/>
                <a:ext cx="2552040" cy="35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ts val="2798"/>
                  </a:lnSpc>
                  <a:spcBef>
                    <a:spcPts val="2001"/>
                  </a:spcBef>
                  <a:spcAft>
                    <a:spcPts val="4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3200" spc="-1" strike="noStrike">
                    <a:solidFill>
                      <a:srgbClr val="000000"/>
                    </a:solidFill>
                    <a:latin typeface="Arial"/>
                  </a:rPr>
                  <a:t>Trabajadores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Rectangle 16"/>
              <p:cNvSpPr/>
              <p:nvPr/>
            </p:nvSpPr>
            <p:spPr>
              <a:xfrm>
                <a:off x="5791320" y="4419720"/>
                <a:ext cx="2971800" cy="838080"/>
              </a:xfrm>
              <a:prstGeom prst="rect">
                <a:avLst/>
              </a:prstGeom>
              <a:noFill/>
              <a:ln w="9360">
                <a:solidFill>
                  <a:srgbClr val="fdc204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4" name="Text Box 17"/>
          <p:cNvSpPr/>
          <p:nvPr/>
        </p:nvSpPr>
        <p:spPr>
          <a:xfrm>
            <a:off x="5715000" y="2286000"/>
            <a:ext cx="30481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8"/>
          <p:cNvSpPr/>
          <p:nvPr/>
        </p:nvSpPr>
        <p:spPr>
          <a:xfrm>
            <a:off x="304920" y="2133720"/>
            <a:ext cx="3047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ontrato de puesta a disposición de trabaj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9"/>
          <p:cNvSpPr/>
          <p:nvPr/>
        </p:nvSpPr>
        <p:spPr>
          <a:xfrm>
            <a:off x="2987640" y="5300640"/>
            <a:ext cx="30481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5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elación de subordin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8B2E-C2C7-4A54-8C3A-60B0E93195FC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352080"/>
            <a:ext cx="822168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¿Subcontratación o suministro?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>
            <a:off x="971640" y="1916280"/>
            <a:ext cx="6985080" cy="494172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4941720"/>
              <a:gd name="textAreaBottom" fmla="*/ 1764720 h 49417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gradFill rotWithShape="0">
            <a:gsLst>
              <a:gs pos="0">
                <a:srgbClr val="f66708"/>
              </a:gs>
              <a:gs pos="100000">
                <a:srgbClr val="fdc204"/>
              </a:gs>
            </a:gsLst>
            <a:lin ang="0"/>
          </a:gradFill>
          <a:ln w="12600">
            <a:solidFill>
              <a:srgbClr val="ffffff"/>
            </a:solidFill>
            <a:miter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Line 4"/>
          <p:cNvSpPr/>
          <p:nvPr/>
        </p:nvSpPr>
        <p:spPr>
          <a:xfrm>
            <a:off x="971640" y="4365720"/>
            <a:ext cx="6913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1" name="AutoShape 5"/>
          <p:cNvCxnSpPr>
            <a:stCxn id="140" idx="0"/>
          </p:cNvCxnSpPr>
          <p:nvPr/>
        </p:nvCxnSpPr>
        <p:spPr>
          <a:xfrm>
            <a:off x="7884720" y="4365720"/>
            <a:ext cx="25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142" name="Line 6"/>
          <p:cNvSpPr/>
          <p:nvPr/>
        </p:nvSpPr>
        <p:spPr>
          <a:xfrm flipH="1" flipV="1">
            <a:off x="2843280" y="2276280"/>
            <a:ext cx="1657440" cy="2089080"/>
          </a:xfrm>
          <a:prstGeom prst="line">
            <a:avLst/>
          </a:prstGeom>
          <a:ln w="38160">
            <a:solidFill>
              <a:srgbClr val="00b511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613080" y="450864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6156360" y="458136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uministr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EC4C7-96F5-4B31-8CC4-5B859B0E9BB2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5120" y="340920"/>
            <a:ext cx="8199360" cy="507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Subcontratación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pic>
        <p:nvPicPr>
          <p:cNvPr id="147" name="Picture 5" descr="sesc-fabrica-da-pompeia"/>
          <p:cNvPicPr/>
          <p:nvPr/>
        </p:nvPicPr>
        <p:blipFill>
          <a:blip r:embed="rId1"/>
          <a:stretch/>
        </p:blipFill>
        <p:spPr>
          <a:xfrm>
            <a:off x="0" y="1525680"/>
            <a:ext cx="1835280" cy="25923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6"/>
          <p:cNvSpPr/>
          <p:nvPr/>
        </p:nvSpPr>
        <p:spPr>
          <a:xfrm>
            <a:off x="6941880" y="2700360"/>
            <a:ext cx="212076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SUB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286920" y="588960"/>
            <a:ext cx="129636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672000" y="2262240"/>
            <a:ext cx="1971720" cy="355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000000"/>
                </a:solidFill>
                <a:latin typeface="Arial"/>
              </a:rPr>
              <a:t>CONTRAT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2123640" y="1150920"/>
            <a:ext cx="15505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obra / servi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5832000" y="1616040"/>
            <a:ext cx="91512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11" descr="trabajadores"/>
          <p:cNvPicPr/>
          <p:nvPr/>
        </p:nvPicPr>
        <p:blipFill>
          <a:blip r:embed="rId2"/>
          <a:stretch/>
        </p:blipFill>
        <p:spPr>
          <a:xfrm>
            <a:off x="-36360" y="411804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4" name="AutoShape 12"/>
          <p:cNvSpPr/>
          <p:nvPr/>
        </p:nvSpPr>
        <p:spPr>
          <a:xfrm>
            <a:off x="2232000" y="217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13" descr="trabajadores"/>
          <p:cNvPicPr/>
          <p:nvPr/>
        </p:nvPicPr>
        <p:blipFill>
          <a:blip r:embed="rId3"/>
          <a:stretch/>
        </p:blipFill>
        <p:spPr>
          <a:xfrm>
            <a:off x="3814920" y="4176720"/>
            <a:ext cx="1873080" cy="1908000"/>
          </a:xfrm>
          <a:prstGeom prst="rect">
            <a:avLst/>
          </a:prstGeom>
          <a:ln w="0">
            <a:noFill/>
          </a:ln>
        </p:spPr>
      </p:pic>
      <p:sp>
        <p:nvSpPr>
          <p:cNvPr id="156" name="AutoShape 14"/>
          <p:cNvSpPr/>
          <p:nvPr/>
        </p:nvSpPr>
        <p:spPr>
          <a:xfrm rot="5400000">
            <a:off x="3408840" y="3533040"/>
            <a:ext cx="1214280" cy="485640"/>
          </a:xfrm>
          <a:prstGeom prst="leftRightArrow">
            <a:avLst>
              <a:gd name="adj1" fmla="val 50000"/>
              <a:gd name="adj2" fmla="val 49776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Picture 15" descr="trabajadores"/>
          <p:cNvPicPr/>
          <p:nvPr/>
        </p:nvPicPr>
        <p:blipFill>
          <a:blip r:embed="rId4"/>
          <a:stretch/>
        </p:blipFill>
        <p:spPr>
          <a:xfrm>
            <a:off x="7091280" y="4170240"/>
            <a:ext cx="1873440" cy="190836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16"/>
          <p:cNvSpPr/>
          <p:nvPr/>
        </p:nvSpPr>
        <p:spPr>
          <a:xfrm>
            <a:off x="5697360" y="263052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17"/>
          <p:cNvSpPr/>
          <p:nvPr/>
        </p:nvSpPr>
        <p:spPr>
          <a:xfrm rot="5400000">
            <a:off x="6677280" y="3526560"/>
            <a:ext cx="1214640" cy="485640"/>
          </a:xfrm>
          <a:prstGeom prst="leftRightArrow">
            <a:avLst>
              <a:gd name="adj1" fmla="val 50000"/>
              <a:gd name="adj2" fmla="val 49790"/>
            </a:avLst>
          </a:prstGeom>
          <a:solidFill>
            <a:srgbClr val="f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18"/>
          <p:cNvSpPr/>
          <p:nvPr/>
        </p:nvSpPr>
        <p:spPr>
          <a:xfrm>
            <a:off x="4140360" y="326088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7489800" y="3224160"/>
            <a:ext cx="15112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trat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ts val="2798"/>
              </a:lnSpc>
              <a:spcBef>
                <a:spcPts val="1125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e 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número de diapositiva"/>
          <p:cNvSpPr/>
          <p:nvPr/>
        </p:nvSpPr>
        <p:spPr>
          <a:xfrm>
            <a:off x="476280" y="6060960"/>
            <a:ext cx="46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0929-2AC7-41BC-B7D4-A7F955C507C9}" type="slidenum">
              <a:rPr b="1" lang="en-US" sz="17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5120" y="404640"/>
            <a:ext cx="8199360" cy="5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a28a"/>
                </a:solidFill>
                <a:latin typeface="Arial"/>
              </a:rPr>
              <a:t>Contrato y subcontrato de obra o de servicio</a:t>
            </a:r>
            <a:endParaRPr b="1" lang="en-US" sz="4000" spc="-1" strike="noStrike">
              <a:solidFill>
                <a:srgbClr val="00a28a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96360" y="1666440"/>
            <a:ext cx="8223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rt. 183-A CT el contratista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“en razón de un acuerdo contractual, se encarga de ejecutar obras o servicios, para una tercera persona…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cluye modalidades arrendaticias del CC y contratos innominados. Objeto común: obligació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e hac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lnSpc>
                <a:spcPct val="90000"/>
              </a:lnSpc>
              <a:spcBef>
                <a:spcPts val="1874"/>
              </a:spcBef>
              <a:spcAft>
                <a:spcPts val="400"/>
              </a:spcAft>
              <a:buClr>
                <a:srgbClr val="00a28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clusión de contratos cuyo objeto es un 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dare: 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mpraventas; suministro de mercaderías o insum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17:01:58Z</dcterms:created>
  <dc:creator>Multimedia</dc:creator>
  <dc:description/>
  <dc:language>en-US</dc:language>
  <cp:lastModifiedBy>sony</cp:lastModifiedBy>
  <cp:lastPrinted>1999-12-13T18:43:43Z</cp:lastPrinted>
  <dcterms:modified xsi:type="dcterms:W3CDTF">2010-04-01T12:35:33Z</dcterms:modified>
  <cp:revision>55</cp:revision>
  <dc:subject/>
  <dc:title>PowerPoint Presentation</dc:title>
</cp:coreProperties>
</file>