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04340-D5C8-42E1-83BB-039EDC6917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822348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3600" y="3942000"/>
            <a:ext cx="822348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3268E-B231-417B-8B6E-D7490D63F5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400" y="177444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3600" y="394200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400" y="394200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330E3-AEE6-4ACF-BB8F-25EA08BEF8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4240" y="177444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880" y="177444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3600" y="394200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4240" y="394200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880" y="394200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9F1B1-E620-41BD-88F6-B7D957D975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3600" y="177444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40129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7400" y="1774440"/>
            <a:ext cx="40129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5120" y="404640"/>
            <a:ext cx="819936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7400" y="1774440"/>
            <a:ext cx="40129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3600" y="394200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3600" y="177444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0C4D9-10C2-4DA5-93A0-54EA155586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40129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7400" y="177444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7400" y="394200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7400" y="177444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3600" y="3942000"/>
            <a:ext cx="822348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822348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3600" y="3942000"/>
            <a:ext cx="822348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7400" y="177444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3600" y="394200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7400" y="394200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4240" y="177444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4880" y="177444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600" y="394200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4240" y="394200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4880" y="394200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8DDCA-F8C4-4825-B6E3-99A7ED5019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40129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400" y="1774440"/>
            <a:ext cx="40129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055A6-6286-4C84-BB6B-89B6FCF5EA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8B009-B250-4691-872E-40530021EF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5120" y="404640"/>
            <a:ext cx="819936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B3636-D1AC-4F50-AD64-6E807863E5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400" y="1774440"/>
            <a:ext cx="40129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3600" y="394200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822F3-A606-40CD-B757-4D42F1F073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40129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400" y="177444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400" y="394200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049FD-C61F-481B-A5B9-B5951AC321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400" y="177444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3600" y="3942000"/>
            <a:ext cx="822348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4055B-6CF2-429A-B242-C5A4F1B4C3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083280"/>
            <a:ext cx="9142560" cy="401760"/>
          </a:xfrm>
          <a:prstGeom prst="rect">
            <a:avLst/>
          </a:prstGeom>
          <a:solidFill>
            <a:srgbClr val="00a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28a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3600" y="177444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205560" indent="-205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59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77320" indent="-205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88720" indent="-20844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5CFC-A3E8-4966-B6D7-6DDA5A8149E4}" type="slidenum"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 Narrow"/>
              </a:rPr>
              <a:t>Human Capital</a:t>
            </a:r>
            <a:r>
              <a:rPr b="0" i="1" lang="en-US" sz="17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0" y="6083280"/>
            <a:ext cx="9142560" cy="401760"/>
          </a:xfrm>
          <a:prstGeom prst="rect">
            <a:avLst/>
          </a:prstGeom>
          <a:solidFill>
            <a:srgbClr val="00a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Profesor Claudio Palavecin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083280"/>
            <a:ext cx="9142560" cy="401760"/>
          </a:xfrm>
          <a:prstGeom prst="rect">
            <a:avLst/>
          </a:prstGeom>
          <a:solidFill>
            <a:srgbClr val="00a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Profesor Claudio Palavecin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5883120" y="0"/>
            <a:ext cx="3259440" cy="546120"/>
          </a:xfrm>
          <a:prstGeom prst="rect">
            <a:avLst/>
          </a:prstGeom>
          <a:solidFill>
            <a:srgbClr val="00a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28a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3600" y="177444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205560" indent="-205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59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77320" indent="-205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88720" indent="-20844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6058080" y="-360"/>
            <a:ext cx="261936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2.wmf"/><Relationship Id="rId7" Type="http://schemas.openxmlformats.org/officeDocument/2006/relationships/image" Target="../media/image2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360" y="1761840"/>
            <a:ext cx="8207280" cy="17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Nueva Regulación del Suministro de Personal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69440" y="3295800"/>
            <a:ext cx="8201160" cy="164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mpresas de Servicios Transitori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Cuarta Barrera: </a:t>
            </a:r>
            <a:br>
              <a:rPr sz="4000"/>
            </a:b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Celebración de Contratos</a:t>
            </a:r>
            <a:br>
              <a:rPr sz="4000"/>
            </a:br>
            <a:r>
              <a:rPr b="1" lang="es-CL" sz="2400" spc="-1" strike="noStrike">
                <a:solidFill>
                  <a:srgbClr val="00a28a"/>
                </a:solidFill>
                <a:latin typeface="Arial"/>
              </a:rPr>
              <a:t> Contrato de Puesta a Disposición de Trabajadores</a:t>
            </a:r>
            <a:endParaRPr b="1" lang="en-US" sz="24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3600" y="2060640"/>
            <a:ext cx="735804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70000"/>
              </a:lnSpc>
              <a:spcBef>
                <a:spcPts val="1250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or escrito, entre la EST y la usuaria.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5 días siguientes a la incorporación del trabajado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70000"/>
              </a:lnSpc>
              <a:spcBef>
                <a:spcPts val="400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anción por falta de contrato escrito: trabajador se considera como dependiente de la usuar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250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Menciones especi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70000"/>
              </a:lnSpc>
              <a:spcBef>
                <a:spcPts val="1250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PLAZO – depende de la caus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70000"/>
              </a:lnSpc>
              <a:spcBef>
                <a:spcPts val="400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or suspensión del contrato. Duración de la ausencia del trabajador reemplaz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70000"/>
              </a:lnSpc>
              <a:spcBef>
                <a:spcPts val="400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ventos extraordinarios o aumentos ocasionales de actividad. 90 dí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70000"/>
              </a:lnSpc>
              <a:spcBef>
                <a:spcPts val="400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oyectos nuevos y específicos o inicio de actividades. 180 dí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70000"/>
              </a:lnSpc>
              <a:spcBef>
                <a:spcPts val="400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n los dos casos anteriores, si subsisten circunstancias puede prorrogarse hasta completar 90 o 180 dí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70000"/>
              </a:lnSpc>
              <a:spcBef>
                <a:spcPts val="400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lazos especiales para personas con discapaci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70000"/>
              </a:lnSpc>
              <a:spcBef>
                <a:spcPts val="1250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i trabajador continúa prestando servicios después del plazo, usuaria pasa a ser empleador, con contrato indefin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Object 4" descr=""/>
          <p:cNvPicPr/>
          <p:nvPr/>
        </p:nvPicPr>
        <p:blipFill>
          <a:blip r:embed="rId1"/>
          <a:stretch/>
        </p:blipFill>
        <p:spPr>
          <a:xfrm>
            <a:off x="7524720" y="2565360"/>
            <a:ext cx="1150920" cy="8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Cuarta Barrera: </a:t>
            </a:r>
            <a:br>
              <a:rPr sz="4000"/>
            </a:b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Celebración de Contratos</a:t>
            </a:r>
            <a:br>
              <a:rPr sz="4000"/>
            </a:br>
            <a:r>
              <a:rPr b="1" lang="es-CL" sz="2400" spc="-1" strike="noStrike">
                <a:solidFill>
                  <a:srgbClr val="00a28a"/>
                </a:solidFill>
                <a:latin typeface="Arial"/>
              </a:rPr>
              <a:t>Contrato de Trabajo de Servicios Transitorios</a:t>
            </a:r>
            <a:endParaRPr b="1" lang="en-US" sz="24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3600" y="2373480"/>
            <a:ext cx="7286760" cy="35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or escrito, entre la EST y cada trabajador. </a:t>
            </a: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Para ejecutar labores específicas para una usuaria de la ES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enciones de todo contrato de trabaj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90000"/>
              </a:lnSpc>
              <a:spcBef>
                <a:spcPts val="499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crituración 5 días siguientes a la incorpor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90000"/>
              </a:lnSpc>
              <a:spcBef>
                <a:spcPts val="499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pia enviada a la usua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Prohibición de que EST cobre al trabajad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4"/>
          <p:cNvGrpSpPr/>
          <p:nvPr/>
        </p:nvGrpSpPr>
        <p:grpSpPr>
          <a:xfrm>
            <a:off x="7524720" y="4456080"/>
            <a:ext cx="1362240" cy="1494000"/>
            <a:chOff x="7524720" y="4456080"/>
            <a:chExt cx="1362240" cy="1494000"/>
          </a:xfrm>
        </p:grpSpPr>
        <p:pic>
          <p:nvPicPr>
            <p:cNvPr id="160" name="Object 5" descr=""/>
            <p:cNvPicPr/>
            <p:nvPr/>
          </p:nvPicPr>
          <p:blipFill>
            <a:blip r:embed="rId1"/>
            <a:stretch/>
          </p:blipFill>
          <p:spPr>
            <a:xfrm>
              <a:off x="7524720" y="4456080"/>
              <a:ext cx="752400" cy="88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Object 6" descr=""/>
            <p:cNvPicPr/>
            <p:nvPr/>
          </p:nvPicPr>
          <p:blipFill>
            <a:blip r:embed="rId2"/>
            <a:stretch/>
          </p:blipFill>
          <p:spPr>
            <a:xfrm>
              <a:off x="7677000" y="4608360"/>
              <a:ext cx="752760" cy="88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Object 7" descr=""/>
            <p:cNvPicPr/>
            <p:nvPr/>
          </p:nvPicPr>
          <p:blipFill>
            <a:blip r:embed="rId3"/>
            <a:stretch/>
          </p:blipFill>
          <p:spPr>
            <a:xfrm>
              <a:off x="7829640" y="4761000"/>
              <a:ext cx="752400" cy="88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Object 8" descr=""/>
            <p:cNvPicPr/>
            <p:nvPr/>
          </p:nvPicPr>
          <p:blipFill>
            <a:blip r:embed="rId4"/>
            <a:stretch/>
          </p:blipFill>
          <p:spPr>
            <a:xfrm>
              <a:off x="7981920" y="4913280"/>
              <a:ext cx="752400" cy="88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Object 9" descr=""/>
            <p:cNvPicPr/>
            <p:nvPr/>
          </p:nvPicPr>
          <p:blipFill>
            <a:blip r:embed="rId5"/>
            <a:stretch/>
          </p:blipFill>
          <p:spPr>
            <a:xfrm>
              <a:off x="8134200" y="5065560"/>
              <a:ext cx="752760" cy="884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Cuarta Barrera: </a:t>
            </a:r>
            <a:br>
              <a:rPr sz="4000"/>
            </a:b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Celebración de Contratos</a:t>
            </a:r>
            <a:br>
              <a:rPr sz="4000"/>
            </a:b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00a28a"/>
                </a:solidFill>
                <a:latin typeface="Arial"/>
              </a:rPr>
              <a:t>Contrato de Trabajo de Servicios Transitorios</a:t>
            </a: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3600" y="2060280"/>
            <a:ext cx="8223480" cy="386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70000"/>
              </a:lnSpc>
              <a:spcBef>
                <a:spcPts val="1250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Feriado.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demnización compensatoria espe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250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ol empresa usuar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70000"/>
              </a:lnSpc>
              <a:spcBef>
                <a:spcPts val="400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trol de asistenci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70000"/>
              </a:lnSpc>
              <a:spcBef>
                <a:spcPts val="400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Organizar y dirigir el trabajo (Reglament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250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Jornada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. Usuaria respeta condiciones convenidas entre EST y trabajador. Horas extra se pactan con 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250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emuneración incluye todo.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Gratificación, desahucio (???), indemnizaciones por años de servicio y sustitutiva del aviso previo, etc. (salvo feriad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250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Fuero maternal.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Existe, pero cesa de pleno derecho al término de los servicios en la usuaria. Se extiende si trabajadora pasa a ser dependiente de la usua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250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Derechos fundamentales del Trabaj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125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RESPONSABILIDADES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3600" y="1149480"/>
            <a:ext cx="8223480" cy="49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8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DE LA E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80000"/>
              </a:lnSpc>
              <a:spcBef>
                <a:spcPts val="499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bligaciones laborales y previsionales de origen legal o contract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80000"/>
              </a:lnSpc>
              <a:spcBef>
                <a:spcPts val="499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arantía responde de dichas obligaciones, pudiendo hacerse efectiva en ciertos casos. Deuda subsiste por saldo insoluto, si lo h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80000"/>
              </a:lnSpc>
              <a:spcBef>
                <a:spcPts val="499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bligación de capacitar 10% de trabajadores por añ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DE LA USUA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80000"/>
              </a:lnSpc>
              <a:spcBef>
                <a:spcPts val="499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Subsidiariamente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, por obligaciones laborales y previsionales de la 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80000"/>
              </a:lnSpc>
              <a:spcBef>
                <a:spcPts val="499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Directamente p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lnSpc>
                <a:spcPct val="80000"/>
              </a:lnSpc>
              <a:spcBef>
                <a:spcPts val="499"/>
              </a:spcBef>
              <a:buClr>
                <a:srgbClr val="00a28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ormas de higiene y segur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lnSpc>
                <a:spcPct val="80000"/>
              </a:lnSpc>
              <a:spcBef>
                <a:spcPts val="499"/>
              </a:spcBef>
              <a:buClr>
                <a:srgbClr val="00a28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evención de riesg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lnSpc>
                <a:spcPct val="80000"/>
              </a:lnSpc>
              <a:spcBef>
                <a:spcPts val="499"/>
              </a:spcBef>
              <a:buClr>
                <a:srgbClr val="00a28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otificación a EST en caso de accidente del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>
              <a:lnSpc>
                <a:spcPct val="80000"/>
              </a:lnSpc>
              <a:spcBef>
                <a:spcPts val="451"/>
              </a:spcBef>
              <a:buClr>
                <a:srgbClr val="00a28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demnización por artículo 69 Ley N°16.744 (accidente por culpa o dolo de la empleadora o un tercer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SANCIONES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3600" y="141264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6080" indent="-226080">
              <a:lnSpc>
                <a:spcPct val="8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MULT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5480">
              <a:lnSpc>
                <a:spcPct val="80000"/>
              </a:lnSpc>
              <a:spcBef>
                <a:spcPts val="601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 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4800" indent="-226080">
              <a:lnSpc>
                <a:spcPct val="80000"/>
              </a:lnSpc>
              <a:spcBef>
                <a:spcPts val="601"/>
              </a:spcBef>
              <a:buClr>
                <a:srgbClr val="00a28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fracción a prohibición de relación con usua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4800" indent="-226080">
              <a:lnSpc>
                <a:spcPct val="80000"/>
              </a:lnSpc>
              <a:spcBef>
                <a:spcPts val="601"/>
              </a:spcBef>
              <a:buClr>
                <a:srgbClr val="00a28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lta de requisitos de constitución (80-500UTM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285480">
              <a:lnSpc>
                <a:spcPct val="80000"/>
              </a:lnSpc>
              <a:spcBef>
                <a:spcPts val="601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 usuar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4800" indent="-226080">
              <a:lnSpc>
                <a:spcPct val="80000"/>
              </a:lnSpc>
              <a:spcBef>
                <a:spcPts val="601"/>
              </a:spcBef>
              <a:buClr>
                <a:srgbClr val="00a28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tratar puesta a disposición con causales prohibidas, 10 UTM por trabaj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4800" indent="-226080">
              <a:lnSpc>
                <a:spcPct val="80000"/>
              </a:lnSpc>
              <a:spcBef>
                <a:spcPts val="601"/>
              </a:spcBef>
              <a:buClr>
                <a:srgbClr val="00a28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tratar trabajador de servicios temporarios por intermedio de empresas no inscritas como EST, 10 UTM por trabaj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64800" indent="-226080">
              <a:lnSpc>
                <a:spcPct val="80000"/>
              </a:lnSpc>
              <a:spcBef>
                <a:spcPts val="601"/>
              </a:spcBef>
              <a:buClr>
                <a:srgbClr val="00a28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nfracción a prohibición de relación con usuaria, 20 UTM por trabaj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SANCIONES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3600" y="1341000"/>
            <a:ext cx="822348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8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ANCELACIÓN REGISTRO E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80000"/>
              </a:lnSpc>
              <a:spcBef>
                <a:spcPts val="499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fracción a prohibición de relación con la usua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80000"/>
              </a:lnSpc>
              <a:spcBef>
                <a:spcPts val="499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cumplimientos reiterados y graves de la legislación laboral o previsio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80000"/>
              </a:lnSpc>
              <a:spcBef>
                <a:spcPts val="499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uiebra de la EST, salvo continuidad del gi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TRABAJADOR SE CONSIDERA DEPENDIENTE DE LA USUA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80000"/>
              </a:lnSpc>
              <a:spcBef>
                <a:spcPts val="499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lta de contrato escrito de puesta a disposición de trabaja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80000"/>
              </a:lnSpc>
              <a:spcBef>
                <a:spcPts val="499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elebrar contrato de puesta a disposición en causales prohib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80000"/>
              </a:lnSpc>
              <a:spcBef>
                <a:spcPts val="499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abajador continúa prestando servicios expirado el plaz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80000"/>
              </a:lnSpc>
              <a:spcBef>
                <a:spcPts val="499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ato en supuestos distintos a los autoriz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80000"/>
              </a:lnSpc>
              <a:spcBef>
                <a:spcPts val="499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ato tiene por objeto encubrir relación laboral perman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80000"/>
              </a:lnSpc>
              <a:spcBef>
                <a:spcPts val="499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atar trabajador de servicios temporarios por intermedio de empresas no inscritas como 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760" y="352080"/>
            <a:ext cx="822168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8080"/>
                </a:solidFill>
                <a:latin typeface="Arial"/>
              </a:rPr>
              <a:t>SUMINISTRO DE PERSONAL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 rot="5373600">
            <a:off x="4381560" y="3619440"/>
            <a:ext cx="304560" cy="2362320"/>
          </a:xfrm>
          <a:prstGeom prst="upDownArrow">
            <a:avLst>
              <a:gd name="adj1" fmla="val 50000"/>
              <a:gd name="adj2" fmla="val 154412"/>
            </a:avLst>
          </a:prstGeom>
          <a:gradFill rotWithShape="0">
            <a:gsLst>
              <a:gs pos="0">
                <a:srgbClr val="ffff99"/>
              </a:gs>
              <a:gs pos="50000">
                <a:srgbClr val="767647"/>
              </a:gs>
              <a:gs pos="100000">
                <a:srgbClr val="ffff99"/>
              </a:gs>
            </a:gsLst>
            <a:lin ang="24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Group 6"/>
          <p:cNvGrpSpPr/>
          <p:nvPr/>
        </p:nvGrpSpPr>
        <p:grpSpPr>
          <a:xfrm>
            <a:off x="3809880" y="1523880"/>
            <a:ext cx="1143000" cy="762120"/>
            <a:chOff x="3809880" y="1523880"/>
            <a:chExt cx="1143000" cy="762120"/>
          </a:xfrm>
        </p:grpSpPr>
        <p:sp>
          <p:nvSpPr>
            <p:cNvPr id="87" name="Text Box 7"/>
            <p:cNvSpPr/>
            <p:nvPr/>
          </p:nvSpPr>
          <p:spPr>
            <a:xfrm>
              <a:off x="3961800" y="1752480"/>
              <a:ext cx="791640" cy="355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2798"/>
                </a:lnSpc>
                <a:spcBef>
                  <a:spcPts val="20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3200" spc="-1" strike="noStrike">
                  <a:solidFill>
                    <a:srgbClr val="000000"/>
                  </a:solidFill>
                  <a:latin typeface="Arial"/>
                </a:rPr>
                <a:t>EST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Rectangle 8"/>
            <p:cNvSpPr/>
            <p:nvPr/>
          </p:nvSpPr>
          <p:spPr>
            <a:xfrm>
              <a:off x="3809880" y="1523880"/>
              <a:ext cx="1143000" cy="762120"/>
            </a:xfrm>
            <a:prstGeom prst="rect">
              <a:avLst/>
            </a:prstGeom>
            <a:noFill/>
            <a:ln w="9360">
              <a:solidFill>
                <a:srgbClr val="fdc204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" name="Group 9"/>
          <p:cNvGrpSpPr/>
          <p:nvPr/>
        </p:nvGrpSpPr>
        <p:grpSpPr>
          <a:xfrm>
            <a:off x="1371600" y="2277000"/>
            <a:ext cx="2580840" cy="2828160"/>
            <a:chOff x="1371600" y="2277000"/>
            <a:chExt cx="2580840" cy="2828160"/>
          </a:xfrm>
        </p:grpSpPr>
        <p:sp>
          <p:nvSpPr>
            <p:cNvPr id="90" name="AutoShape 10"/>
            <p:cNvSpPr/>
            <p:nvPr/>
          </p:nvSpPr>
          <p:spPr>
            <a:xfrm rot="2203800">
              <a:off x="2971440" y="2133720"/>
              <a:ext cx="304920" cy="2361960"/>
            </a:xfrm>
            <a:prstGeom prst="upDownArrow">
              <a:avLst>
                <a:gd name="adj1" fmla="val 50000"/>
                <a:gd name="adj2" fmla="val 154206"/>
              </a:avLst>
            </a:prstGeom>
            <a:gradFill rotWithShape="0">
              <a:gsLst>
                <a:gs pos="0">
                  <a:srgbClr val="fdc204"/>
                </a:gs>
                <a:gs pos="100000">
                  <a:srgbClr val="755a02"/>
                </a:gs>
              </a:gsLst>
              <a:lin ang="189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1" name="Group 11"/>
            <p:cNvGrpSpPr/>
            <p:nvPr/>
          </p:nvGrpSpPr>
          <p:grpSpPr>
            <a:xfrm>
              <a:off x="1371600" y="4495680"/>
              <a:ext cx="1828800" cy="609480"/>
              <a:chOff x="1371600" y="4495680"/>
              <a:chExt cx="1828800" cy="609480"/>
            </a:xfrm>
          </p:grpSpPr>
          <p:sp>
            <p:nvSpPr>
              <p:cNvPr id="92" name="Text Box 12"/>
              <p:cNvSpPr/>
              <p:nvPr/>
            </p:nvSpPr>
            <p:spPr>
              <a:xfrm>
                <a:off x="1522800" y="4647960"/>
                <a:ext cx="1401120" cy="3556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ts val="2798"/>
                  </a:lnSpc>
                  <a:spcBef>
                    <a:spcPts val="2001"/>
                  </a:spcBef>
                  <a:spcAft>
                    <a:spcPts val="4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3200" spc="-1" strike="noStrike">
                    <a:solidFill>
                      <a:srgbClr val="000000"/>
                    </a:solidFill>
                    <a:latin typeface="Arial"/>
                  </a:rPr>
                  <a:t>Usuaria</a:t>
                </a: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Rectangle 13"/>
              <p:cNvSpPr/>
              <p:nvPr/>
            </p:nvSpPr>
            <p:spPr>
              <a:xfrm>
                <a:off x="1371600" y="4495680"/>
                <a:ext cx="1828800" cy="609480"/>
              </a:xfrm>
              <a:prstGeom prst="rect">
                <a:avLst/>
              </a:prstGeom>
              <a:noFill/>
              <a:ln w="9360">
                <a:solidFill>
                  <a:srgbClr val="fdc204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4" name="Group 14"/>
          <p:cNvGrpSpPr/>
          <p:nvPr/>
        </p:nvGrpSpPr>
        <p:grpSpPr>
          <a:xfrm>
            <a:off x="4923000" y="2253600"/>
            <a:ext cx="3840120" cy="3004200"/>
            <a:chOff x="4923000" y="2253600"/>
            <a:chExt cx="3840120" cy="3004200"/>
          </a:xfrm>
        </p:grpSpPr>
        <p:sp>
          <p:nvSpPr>
            <p:cNvPr id="95" name="AutoShape 15"/>
            <p:cNvSpPr/>
            <p:nvPr/>
          </p:nvSpPr>
          <p:spPr>
            <a:xfrm rot="19539600">
              <a:off x="5562360" y="2133360"/>
              <a:ext cx="304560" cy="2361960"/>
            </a:xfrm>
            <a:prstGeom prst="upDownArrow">
              <a:avLst>
                <a:gd name="adj1" fmla="val 50000"/>
                <a:gd name="adj2" fmla="val 154388"/>
              </a:avLst>
            </a:prstGeom>
            <a:gradFill rotWithShape="0">
              <a:gsLst>
                <a:gs pos="0">
                  <a:srgbClr val="fdc204"/>
                </a:gs>
                <a:gs pos="100000">
                  <a:srgbClr val="755a02"/>
                </a:gs>
              </a:gsLst>
              <a:lin ang="189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" name="Group 16"/>
            <p:cNvGrpSpPr/>
            <p:nvPr/>
          </p:nvGrpSpPr>
          <p:grpSpPr>
            <a:xfrm>
              <a:off x="5791320" y="4419720"/>
              <a:ext cx="2971800" cy="838080"/>
              <a:chOff x="5791320" y="4419720"/>
              <a:chExt cx="2971800" cy="838080"/>
            </a:xfrm>
          </p:grpSpPr>
          <p:sp>
            <p:nvSpPr>
              <p:cNvPr id="97" name="Text Box 17"/>
              <p:cNvSpPr/>
              <p:nvPr/>
            </p:nvSpPr>
            <p:spPr>
              <a:xfrm>
                <a:off x="6017760" y="4724280"/>
                <a:ext cx="2393280" cy="3556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ts val="2798"/>
                  </a:lnSpc>
                  <a:spcBef>
                    <a:spcPts val="2001"/>
                  </a:spcBef>
                  <a:spcAft>
                    <a:spcPts val="4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3200" spc="-1" strike="noStrike">
                    <a:solidFill>
                      <a:srgbClr val="000000"/>
                    </a:solidFill>
                    <a:latin typeface="Arial"/>
                  </a:rPr>
                  <a:t>Trabajadores</a:t>
                </a: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Rectangle 18"/>
              <p:cNvSpPr/>
              <p:nvPr/>
            </p:nvSpPr>
            <p:spPr>
              <a:xfrm>
                <a:off x="5791320" y="4419720"/>
                <a:ext cx="2971800" cy="838080"/>
              </a:xfrm>
              <a:prstGeom prst="rect">
                <a:avLst/>
              </a:prstGeom>
              <a:noFill/>
              <a:ln w="9360">
                <a:solidFill>
                  <a:srgbClr val="fdc204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9" name="Text Box 19"/>
          <p:cNvSpPr/>
          <p:nvPr/>
        </p:nvSpPr>
        <p:spPr>
          <a:xfrm>
            <a:off x="5715000" y="2286000"/>
            <a:ext cx="3048120" cy="35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spcBef>
                <a:spcPts val="15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ontrato de trabaj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20"/>
          <p:cNvSpPr/>
          <p:nvPr/>
        </p:nvSpPr>
        <p:spPr>
          <a:xfrm>
            <a:off x="304920" y="2133720"/>
            <a:ext cx="3047760" cy="71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spcBef>
                <a:spcPts val="15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ontrato civil / comerci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21"/>
          <p:cNvSpPr/>
          <p:nvPr/>
        </p:nvSpPr>
        <p:spPr>
          <a:xfrm>
            <a:off x="2987640" y="5300640"/>
            <a:ext cx="3048120" cy="35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spcBef>
                <a:spcPts val="15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elación de hech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5760" y="352080"/>
            <a:ext cx="822168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SUMINISTRO DE PERSONAL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grpSp>
        <p:nvGrpSpPr>
          <p:cNvPr id="103" name="Group 5"/>
          <p:cNvGrpSpPr/>
          <p:nvPr/>
        </p:nvGrpSpPr>
        <p:grpSpPr>
          <a:xfrm>
            <a:off x="3809880" y="1523880"/>
            <a:ext cx="1143000" cy="762120"/>
            <a:chOff x="3809880" y="1523880"/>
            <a:chExt cx="1143000" cy="762120"/>
          </a:xfrm>
        </p:grpSpPr>
        <p:sp>
          <p:nvSpPr>
            <p:cNvPr id="104" name="Text Box 6"/>
            <p:cNvSpPr/>
            <p:nvPr/>
          </p:nvSpPr>
          <p:spPr>
            <a:xfrm>
              <a:off x="3961800" y="1752480"/>
              <a:ext cx="791640" cy="355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2798"/>
                </a:lnSpc>
                <a:spcBef>
                  <a:spcPts val="20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3200" spc="-1" strike="noStrike">
                  <a:solidFill>
                    <a:srgbClr val="000000"/>
                  </a:solidFill>
                  <a:latin typeface="Arial"/>
                </a:rPr>
                <a:t>EST</a:t>
              </a:r>
              <a:endParaRPr b="1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Rectangle 7"/>
            <p:cNvSpPr/>
            <p:nvPr/>
          </p:nvSpPr>
          <p:spPr>
            <a:xfrm>
              <a:off x="3809880" y="1523880"/>
              <a:ext cx="1143000" cy="762120"/>
            </a:xfrm>
            <a:prstGeom prst="rect">
              <a:avLst/>
            </a:prstGeom>
            <a:noFill/>
            <a:ln w="9360">
              <a:solidFill>
                <a:srgbClr val="fdc204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" name="Group 8"/>
          <p:cNvGrpSpPr/>
          <p:nvPr/>
        </p:nvGrpSpPr>
        <p:grpSpPr>
          <a:xfrm>
            <a:off x="1371600" y="2277000"/>
            <a:ext cx="2580840" cy="2828160"/>
            <a:chOff x="1371600" y="2277000"/>
            <a:chExt cx="2580840" cy="2828160"/>
          </a:xfrm>
        </p:grpSpPr>
        <p:sp>
          <p:nvSpPr>
            <p:cNvPr id="107" name="AutoShape 9"/>
            <p:cNvSpPr/>
            <p:nvPr/>
          </p:nvSpPr>
          <p:spPr>
            <a:xfrm rot="2203800">
              <a:off x="2971440" y="2133720"/>
              <a:ext cx="304920" cy="2361960"/>
            </a:xfrm>
            <a:prstGeom prst="upDownArrow">
              <a:avLst>
                <a:gd name="adj1" fmla="val 50000"/>
                <a:gd name="adj2" fmla="val 154206"/>
              </a:avLst>
            </a:prstGeom>
            <a:gradFill rotWithShape="0">
              <a:gsLst>
                <a:gs pos="0">
                  <a:srgbClr val="fdc204"/>
                </a:gs>
                <a:gs pos="100000">
                  <a:srgbClr val="755a02"/>
                </a:gs>
              </a:gsLst>
              <a:lin ang="189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10"/>
            <p:cNvGrpSpPr/>
            <p:nvPr/>
          </p:nvGrpSpPr>
          <p:grpSpPr>
            <a:xfrm>
              <a:off x="1371600" y="4495680"/>
              <a:ext cx="1828800" cy="609480"/>
              <a:chOff x="1371600" y="4495680"/>
              <a:chExt cx="1828800" cy="609480"/>
            </a:xfrm>
          </p:grpSpPr>
          <p:sp>
            <p:nvSpPr>
              <p:cNvPr id="109" name="Text Box 11"/>
              <p:cNvSpPr/>
              <p:nvPr/>
            </p:nvSpPr>
            <p:spPr>
              <a:xfrm>
                <a:off x="1522800" y="4647960"/>
                <a:ext cx="1401120" cy="3556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ts val="2798"/>
                  </a:lnSpc>
                  <a:spcBef>
                    <a:spcPts val="2001"/>
                  </a:spcBef>
                  <a:spcAft>
                    <a:spcPts val="4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3200" spc="-1" strike="noStrike">
                    <a:solidFill>
                      <a:srgbClr val="000000"/>
                    </a:solidFill>
                    <a:latin typeface="Arial"/>
                  </a:rPr>
                  <a:t>Usuaria</a:t>
                </a: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Rectangle 12"/>
              <p:cNvSpPr/>
              <p:nvPr/>
            </p:nvSpPr>
            <p:spPr>
              <a:xfrm>
                <a:off x="1371600" y="4495680"/>
                <a:ext cx="1828800" cy="609480"/>
              </a:xfrm>
              <a:prstGeom prst="rect">
                <a:avLst/>
              </a:prstGeom>
              <a:noFill/>
              <a:ln w="9360">
                <a:solidFill>
                  <a:srgbClr val="fdc204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11" name="Group 13"/>
          <p:cNvGrpSpPr/>
          <p:nvPr/>
        </p:nvGrpSpPr>
        <p:grpSpPr>
          <a:xfrm>
            <a:off x="4923000" y="2253600"/>
            <a:ext cx="3840120" cy="3004200"/>
            <a:chOff x="4923000" y="2253600"/>
            <a:chExt cx="3840120" cy="3004200"/>
          </a:xfrm>
        </p:grpSpPr>
        <p:sp>
          <p:nvSpPr>
            <p:cNvPr id="112" name="AutoShape 14"/>
            <p:cNvSpPr/>
            <p:nvPr/>
          </p:nvSpPr>
          <p:spPr>
            <a:xfrm rot="19539600">
              <a:off x="5562360" y="2133360"/>
              <a:ext cx="304560" cy="2361960"/>
            </a:xfrm>
            <a:prstGeom prst="upDownArrow">
              <a:avLst>
                <a:gd name="adj1" fmla="val 50000"/>
                <a:gd name="adj2" fmla="val 154388"/>
              </a:avLst>
            </a:prstGeom>
            <a:gradFill rotWithShape="0">
              <a:gsLst>
                <a:gs pos="0">
                  <a:srgbClr val="fdc204"/>
                </a:gs>
                <a:gs pos="100000">
                  <a:srgbClr val="755a02"/>
                </a:gs>
              </a:gsLst>
              <a:lin ang="189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3" name="Group 15"/>
            <p:cNvGrpSpPr/>
            <p:nvPr/>
          </p:nvGrpSpPr>
          <p:grpSpPr>
            <a:xfrm>
              <a:off x="5791320" y="4419720"/>
              <a:ext cx="2971800" cy="838080"/>
              <a:chOff x="5791320" y="4419720"/>
              <a:chExt cx="2971800" cy="838080"/>
            </a:xfrm>
          </p:grpSpPr>
          <p:sp>
            <p:nvSpPr>
              <p:cNvPr id="114" name="Text Box 16"/>
              <p:cNvSpPr/>
              <p:nvPr/>
            </p:nvSpPr>
            <p:spPr>
              <a:xfrm>
                <a:off x="6017760" y="4724280"/>
                <a:ext cx="2393280" cy="3556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ts val="2798"/>
                  </a:lnSpc>
                  <a:spcBef>
                    <a:spcPts val="2001"/>
                  </a:spcBef>
                  <a:spcAft>
                    <a:spcPts val="4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3200" spc="-1" strike="noStrike">
                    <a:solidFill>
                      <a:srgbClr val="000000"/>
                    </a:solidFill>
                    <a:latin typeface="Arial"/>
                  </a:rPr>
                  <a:t>Trabajadores</a:t>
                </a:r>
                <a:endParaRPr b="1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Rectangle 17"/>
              <p:cNvSpPr/>
              <p:nvPr/>
            </p:nvSpPr>
            <p:spPr>
              <a:xfrm>
                <a:off x="5791320" y="4419720"/>
                <a:ext cx="2971800" cy="838080"/>
              </a:xfrm>
              <a:prstGeom prst="rect">
                <a:avLst/>
              </a:prstGeom>
              <a:noFill/>
              <a:ln w="9360">
                <a:solidFill>
                  <a:srgbClr val="fdc204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6" name="Text Box 18"/>
          <p:cNvSpPr/>
          <p:nvPr/>
        </p:nvSpPr>
        <p:spPr>
          <a:xfrm>
            <a:off x="5715000" y="2286000"/>
            <a:ext cx="3048120" cy="35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spcBef>
                <a:spcPts val="15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ontrato de trabaj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304920" y="2133720"/>
            <a:ext cx="3047760" cy="71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spcBef>
                <a:spcPts val="15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ontrato civil / comerci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20"/>
          <p:cNvSpPr/>
          <p:nvPr/>
        </p:nvSpPr>
        <p:spPr>
          <a:xfrm>
            <a:off x="2987640" y="5300640"/>
            <a:ext cx="3048120" cy="355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spcBef>
                <a:spcPts val="15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elación de hech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21"/>
          <p:cNvSpPr/>
          <p:nvPr/>
        </p:nvSpPr>
        <p:spPr>
          <a:xfrm>
            <a:off x="179280" y="2997360"/>
            <a:ext cx="3048120" cy="106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spcBef>
                <a:spcPts val="15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ontrato de puesta a disposición de trabajador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5867280" y="2852640"/>
            <a:ext cx="3048120" cy="106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spcBef>
                <a:spcPts val="15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ontrato de trabajo de servicios transitori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3"/>
          <p:cNvSpPr/>
          <p:nvPr/>
        </p:nvSpPr>
        <p:spPr>
          <a:xfrm rot="5373600">
            <a:off x="4381560" y="3619440"/>
            <a:ext cx="304560" cy="2362320"/>
          </a:xfrm>
          <a:prstGeom prst="upDownArrow">
            <a:avLst>
              <a:gd name="adj1" fmla="val 50000"/>
              <a:gd name="adj2" fmla="val 154412"/>
            </a:avLst>
          </a:prstGeom>
          <a:gradFill rotWithShape="0">
            <a:gsLst>
              <a:gs pos="0">
                <a:srgbClr val="ffff99"/>
              </a:gs>
              <a:gs pos="50000">
                <a:srgbClr val="767647"/>
              </a:gs>
              <a:gs pos="100000">
                <a:srgbClr val="ffff99"/>
              </a:gs>
            </a:gsLst>
            <a:lin ang="24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REDUCCIÓN DEL SUMINISTRO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ntención es privilegiar la contratación direc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or eso responsabilidad solidaria en el caso de la subcontratación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. Y por eso el suministro de personal se reduce a a situaciones muy limitada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Varias barreras para poder recurrir a suministr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Primera Barrera: </a:t>
            </a:r>
            <a:br>
              <a:rPr sz="4000"/>
            </a:b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Servicios TRANSITORIOS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Arial"/>
              </a:rPr>
              <a:t>CASOS PERMITID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80000"/>
              </a:lnSpc>
              <a:spcBef>
                <a:spcPts val="451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spensión del contrato de trabajo en caso de licencia, maternidad, feri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70000"/>
              </a:lnSpc>
              <a:spcBef>
                <a:spcPts val="451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ventos extraordinar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70000"/>
              </a:lnSpc>
              <a:spcBef>
                <a:spcPts val="451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yectos nuevos y específicos de la usua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70000"/>
              </a:lnSpc>
              <a:spcBef>
                <a:spcPts val="451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icio de actividades en empresas nuev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70000"/>
              </a:lnSpc>
              <a:spcBef>
                <a:spcPts val="451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mentos ocasionales (periódicos o no) o extraordinarios de activ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70000"/>
              </a:lnSpc>
              <a:spcBef>
                <a:spcPts val="451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abajos urgentes, precisos e impostergables que requieran ejecución inmedi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Arial"/>
              </a:rPr>
              <a:t>CASOS PROHIBID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70000"/>
              </a:lnSpc>
              <a:spcBef>
                <a:spcPts val="451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reas con facultades para representar a la usuaria (gerentes, subgerentes, apoderad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70000"/>
              </a:lnSpc>
              <a:spcBef>
                <a:spcPts val="451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emplazar trabajadores en huelga leg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>
              <a:lnSpc>
                <a:spcPct val="70000"/>
              </a:lnSpc>
              <a:spcBef>
                <a:spcPts val="451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der trabajadores a otras empresas de servicios transitor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SANCIONES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 algn="just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ntrato en supuestos distintos a los autorizados. Trabajador se considera dependiente de la usuari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ntrato de puesta a disposición por causales prohibida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90000"/>
              </a:lnSpc>
              <a:spcBef>
                <a:spcPts val="601"/>
              </a:spcBef>
              <a:buClr>
                <a:srgbClr val="00a28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rabajador se considera dependiente de la usua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4880" indent="-228600" algn="just">
              <a:lnSpc>
                <a:spcPct val="90000"/>
              </a:lnSpc>
              <a:spcBef>
                <a:spcPts val="601"/>
              </a:spcBef>
              <a:buClr>
                <a:srgbClr val="00a28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ulta a la usuaria de 10 UTM por cada trabajador contra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a28a"/>
                </a:solidFill>
                <a:latin typeface="Arial"/>
              </a:rPr>
              <a:t>Segunda Barrera: </a:t>
            </a:r>
            <a:br>
              <a:rPr sz="3200"/>
            </a:br>
            <a:r>
              <a:rPr b="1" lang="es-CL" sz="3200" spc="-1" strike="noStrike">
                <a:solidFill>
                  <a:srgbClr val="00a28a"/>
                </a:solidFill>
                <a:latin typeface="Arial"/>
              </a:rPr>
              <a:t>Constitución de una Empresa de Servicios Transitorios</a:t>
            </a:r>
            <a:endParaRPr b="1" lang="en-US" sz="32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3600" y="223164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 algn="just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Arial"/>
              </a:rPr>
              <a:t>OBJETO SOCIAL EXCLUSIVO. 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(poner trabajadores a disposición de terceros para cumplir tareas de carácter temporal; selección, capacitación y formación de trabajadores, y otras actividades afines en el ámbito de los recursos humano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Arial"/>
              </a:rPr>
              <a:t>REGISTRO. 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Registro especial y público llevado por la Dirección del Trabajo. Procedimient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80000"/>
              </a:lnSpc>
              <a:spcBef>
                <a:spcPts val="451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mediatamente después de practicada la inscripción y antes de empezar a operar, debe constituir la GARANT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Arial"/>
              </a:rPr>
              <a:t>GARANTÍA. 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Monto fijo (UF 250) más aumento por número de trabajadores. Revisión de monto cada doce mes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8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Arial"/>
              </a:rPr>
              <a:t>MULTA 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por faltar a requisitos de constitución: 80 a 500 UTM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Tercera Barrera: </a:t>
            </a:r>
            <a:br>
              <a:rPr sz="4000"/>
            </a:br>
            <a:r>
              <a:rPr b="1" lang="es-CL" sz="3200" spc="-1" strike="noStrike">
                <a:solidFill>
                  <a:srgbClr val="00a28a"/>
                </a:solidFill>
                <a:latin typeface="Arial"/>
              </a:rPr>
              <a:t>Prohibición de Relación con la Usuaria</a:t>
            </a:r>
            <a:endParaRPr b="1" lang="en-US" sz="32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3600" y="177444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 algn="just">
              <a:lnSpc>
                <a:spcPct val="80000"/>
              </a:lnSpc>
              <a:spcBef>
                <a:spcPts val="1811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900" spc="-1" strike="noStrike">
                <a:solidFill>
                  <a:srgbClr val="000000"/>
                </a:solidFill>
                <a:latin typeface="Arial"/>
              </a:rPr>
              <a:t>PROHIBICIÓN ESPECIAL </a:t>
            </a:r>
            <a:r>
              <a:rPr b="0" lang="es-CL" sz="2900" spc="-1" strike="noStrike">
                <a:solidFill>
                  <a:srgbClr val="000000"/>
                </a:solidFill>
                <a:latin typeface="Arial"/>
              </a:rPr>
              <a:t>Art. 183-I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80000"/>
              </a:lnSpc>
              <a:spcBef>
                <a:spcPts val="1811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Arial"/>
              </a:rPr>
              <a:t>Las EST no podrán ser matrices, filiales, coligadas, relacionadas ni tener interés directo o indirecto, participación o relación societaria de ningún tipo, con empresas usuarias que contraten sus servicios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80000"/>
              </a:lnSpc>
              <a:spcBef>
                <a:spcPts val="1811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900" spc="-1" strike="noStrike">
                <a:solidFill>
                  <a:srgbClr val="000000"/>
                </a:solidFill>
                <a:latin typeface="Arial"/>
              </a:rPr>
              <a:t>Infracción: sanciones a EST y usuaria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80000"/>
              </a:lnSpc>
              <a:spcBef>
                <a:spcPts val="601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ncelación registro de 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1800" indent="-288720" algn="just">
              <a:lnSpc>
                <a:spcPct val="80000"/>
              </a:lnSpc>
              <a:spcBef>
                <a:spcPts val="601"/>
              </a:spcBef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ulta a usuaria de 20 UTM por cada trabajador contratado (reclamable judicial y administrativament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5120" y="259920"/>
            <a:ext cx="8199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Cuarta Barrera: </a:t>
            </a:r>
            <a:br>
              <a:rPr sz="4000"/>
            </a:br>
            <a:r>
              <a:rPr b="1" lang="es-CL" sz="3600" spc="-1" strike="noStrike">
                <a:solidFill>
                  <a:srgbClr val="00a28a"/>
                </a:solidFill>
                <a:latin typeface="Arial"/>
              </a:rPr>
              <a:t>Celebración de Contratos</a:t>
            </a:r>
            <a:endParaRPr b="1" lang="en-US" sz="3600" spc="-1" strike="noStrike">
              <a:solidFill>
                <a:srgbClr val="00a28a"/>
              </a:solidFill>
              <a:latin typeface="Arial"/>
            </a:endParaRPr>
          </a:p>
        </p:txBody>
      </p:sp>
      <p:grpSp>
        <p:nvGrpSpPr>
          <p:cNvPr id="133" name="Group 4"/>
          <p:cNvGrpSpPr/>
          <p:nvPr/>
        </p:nvGrpSpPr>
        <p:grpSpPr>
          <a:xfrm>
            <a:off x="2197080" y="1906200"/>
            <a:ext cx="1958400" cy="1690200"/>
            <a:chOff x="2197080" y="1906200"/>
            <a:chExt cx="1958400" cy="1690200"/>
          </a:xfrm>
        </p:grpSpPr>
        <p:sp>
          <p:nvSpPr>
            <p:cNvPr id="134" name="AutoShape 5"/>
            <p:cNvSpPr/>
            <p:nvPr/>
          </p:nvSpPr>
          <p:spPr>
            <a:xfrm rot="18624600">
              <a:off x="2656440" y="2236680"/>
              <a:ext cx="1343520" cy="1028880"/>
            </a:xfrm>
            <a:prstGeom prst="leftArrow">
              <a:avLst>
                <a:gd name="adj1" fmla="val 40130"/>
                <a:gd name="adj2" fmla="val 44784"/>
              </a:avLst>
            </a:prstGeom>
            <a:gradFill rotWithShape="0">
              <a:gsLst>
                <a:gs pos="0">
                  <a:srgbClr val="fdc204"/>
                </a:gs>
                <a:gs pos="100000">
                  <a:srgbClr val="755a02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Text Box 6"/>
            <p:cNvSpPr/>
            <p:nvPr/>
          </p:nvSpPr>
          <p:spPr>
            <a:xfrm>
              <a:off x="2197080" y="3235680"/>
              <a:ext cx="1430280" cy="355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798"/>
                </a:lnSpc>
                <a:spcBef>
                  <a:spcPts val="10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ON USUARIA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Group 7"/>
          <p:cNvGrpSpPr/>
          <p:nvPr/>
        </p:nvGrpSpPr>
        <p:grpSpPr>
          <a:xfrm>
            <a:off x="4793760" y="1910520"/>
            <a:ext cx="2857680" cy="1736280"/>
            <a:chOff x="4793760" y="1910520"/>
            <a:chExt cx="2857680" cy="1736280"/>
          </a:xfrm>
        </p:grpSpPr>
        <p:sp>
          <p:nvSpPr>
            <p:cNvPr id="137" name="AutoShape 8"/>
            <p:cNvSpPr/>
            <p:nvPr/>
          </p:nvSpPr>
          <p:spPr>
            <a:xfrm rot="13615800">
              <a:off x="4956480" y="2237760"/>
              <a:ext cx="1342800" cy="1028880"/>
            </a:xfrm>
            <a:prstGeom prst="leftArrow">
              <a:avLst>
                <a:gd name="adj1" fmla="val 40130"/>
                <a:gd name="adj2" fmla="val 44760"/>
              </a:avLst>
            </a:prstGeom>
            <a:gradFill rotWithShape="0">
              <a:gsLst>
                <a:gs pos="0">
                  <a:srgbClr val="fdc204"/>
                </a:gs>
                <a:gs pos="100000">
                  <a:srgbClr val="755a02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Text Box 9"/>
            <p:cNvSpPr/>
            <p:nvPr/>
          </p:nvSpPr>
          <p:spPr>
            <a:xfrm>
              <a:off x="5456160" y="3291120"/>
              <a:ext cx="2195280" cy="3556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ts val="2798"/>
                </a:lnSpc>
                <a:spcBef>
                  <a:spcPts val="10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600" spc="-1" strike="noStrike">
                  <a:solidFill>
                    <a:srgbClr val="000000"/>
                  </a:solidFill>
                  <a:latin typeface="Arial"/>
                </a:rPr>
                <a:t>CON TRABAJADORES</a:t>
              </a:r>
              <a:endParaRPr b="1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39" name="Object 10"/>
          <p:cNvGraphicFramePr/>
          <p:nvPr/>
        </p:nvGraphicFramePr>
        <p:xfrm>
          <a:off x="2197080" y="4745160"/>
          <a:ext cx="1406520" cy="111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7080" y="4745160"/>
                    <a:ext cx="1406520" cy="111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1" name="Group 11"/>
          <p:cNvGrpSpPr/>
          <p:nvPr/>
        </p:nvGrpSpPr>
        <p:grpSpPr>
          <a:xfrm>
            <a:off x="5999040" y="4689360"/>
            <a:ext cx="1226880" cy="1333440"/>
            <a:chOff x="5999040" y="4689360"/>
            <a:chExt cx="1226880" cy="1333440"/>
          </a:xfrm>
        </p:grpSpPr>
        <p:pic>
          <p:nvPicPr>
            <p:cNvPr id="142" name="Object 12" descr=""/>
            <p:cNvPicPr/>
            <p:nvPr/>
          </p:nvPicPr>
          <p:blipFill>
            <a:blip r:embed="rId3"/>
            <a:stretch/>
          </p:blipFill>
          <p:spPr>
            <a:xfrm>
              <a:off x="5999040" y="4689360"/>
              <a:ext cx="677520" cy="78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Object 13" descr=""/>
            <p:cNvPicPr/>
            <p:nvPr/>
          </p:nvPicPr>
          <p:blipFill>
            <a:blip r:embed="rId4"/>
            <a:stretch/>
          </p:blipFill>
          <p:spPr>
            <a:xfrm>
              <a:off x="6136200" y="4825080"/>
              <a:ext cx="677880" cy="78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Object 14" descr=""/>
            <p:cNvPicPr/>
            <p:nvPr/>
          </p:nvPicPr>
          <p:blipFill>
            <a:blip r:embed="rId5"/>
            <a:stretch/>
          </p:blipFill>
          <p:spPr>
            <a:xfrm>
              <a:off x="6273720" y="4961160"/>
              <a:ext cx="677520" cy="78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Object 15" descr=""/>
            <p:cNvPicPr/>
            <p:nvPr/>
          </p:nvPicPr>
          <p:blipFill>
            <a:blip r:embed="rId6"/>
            <a:stretch/>
          </p:blipFill>
          <p:spPr>
            <a:xfrm>
              <a:off x="6410880" y="5097240"/>
              <a:ext cx="677520" cy="78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Object 16" descr=""/>
            <p:cNvPicPr/>
            <p:nvPr/>
          </p:nvPicPr>
          <p:blipFill>
            <a:blip r:embed="rId7"/>
            <a:stretch/>
          </p:blipFill>
          <p:spPr>
            <a:xfrm>
              <a:off x="6548040" y="5233320"/>
              <a:ext cx="677880" cy="78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7" name="Group 17"/>
          <p:cNvGrpSpPr/>
          <p:nvPr/>
        </p:nvGrpSpPr>
        <p:grpSpPr>
          <a:xfrm>
            <a:off x="3947040" y="2491560"/>
            <a:ext cx="1110600" cy="804600"/>
            <a:chOff x="3947040" y="2491560"/>
            <a:chExt cx="1110600" cy="804600"/>
          </a:xfrm>
        </p:grpSpPr>
        <p:sp>
          <p:nvSpPr>
            <p:cNvPr id="148" name="AutoShape 18"/>
            <p:cNvSpPr/>
            <p:nvPr/>
          </p:nvSpPr>
          <p:spPr>
            <a:xfrm rot="2234400">
              <a:off x="4147920" y="2485800"/>
              <a:ext cx="213840" cy="737280"/>
            </a:xfrm>
            <a:prstGeom prst="upDownArrow">
              <a:avLst>
                <a:gd name="adj1" fmla="val 50000"/>
                <a:gd name="adj2" fmla="val 68637"/>
              </a:avLst>
            </a:prstGeom>
            <a:gradFill rotWithShape="0">
              <a:gsLst>
                <a:gs pos="0">
                  <a:srgbClr val="0097ed"/>
                </a:gs>
                <a:gs pos="100000">
                  <a:srgbClr val="00466e"/>
                </a:gs>
              </a:gsLst>
              <a:lin ang="27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AutoShape 19"/>
            <p:cNvSpPr/>
            <p:nvPr/>
          </p:nvSpPr>
          <p:spPr>
            <a:xfrm rot="19416000">
              <a:off x="4636800" y="2485800"/>
              <a:ext cx="223920" cy="737280"/>
            </a:xfrm>
            <a:prstGeom prst="upDownArrow">
              <a:avLst>
                <a:gd name="adj1" fmla="val 50000"/>
                <a:gd name="adj2" fmla="val 65547"/>
              </a:avLst>
            </a:prstGeom>
            <a:gradFill rotWithShape="0">
              <a:gsLst>
                <a:gs pos="0">
                  <a:srgbClr val="0097ed"/>
                </a:gs>
                <a:gs pos="100000">
                  <a:srgbClr val="00466e"/>
                </a:gs>
              </a:gsLst>
              <a:lin ang="27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AutoShape 20"/>
            <p:cNvSpPr/>
            <p:nvPr/>
          </p:nvSpPr>
          <p:spPr>
            <a:xfrm rot="16128000">
              <a:off x="4385880" y="2837160"/>
              <a:ext cx="216720" cy="686880"/>
            </a:xfrm>
            <a:prstGeom prst="upDownArrow">
              <a:avLst>
                <a:gd name="adj1" fmla="val 50000"/>
                <a:gd name="adj2" fmla="val 63095"/>
              </a:avLst>
            </a:prstGeom>
            <a:gradFill rotWithShape="0">
              <a:gsLst>
                <a:gs pos="0">
                  <a:srgbClr val="0097ed"/>
                </a:gs>
                <a:gs pos="100000">
                  <a:srgbClr val="00466e"/>
                </a:gs>
              </a:gsLst>
              <a:lin ang="27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1" name="Text Box 21"/>
          <p:cNvSpPr/>
          <p:nvPr/>
        </p:nvSpPr>
        <p:spPr>
          <a:xfrm>
            <a:off x="3946320" y="1557360"/>
            <a:ext cx="1186560" cy="73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Arial"/>
                <a:ea typeface="Arial"/>
              </a:rPr>
              <a:t>ES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7"/>
          <p:cNvSpPr/>
          <p:nvPr/>
        </p:nvSpPr>
        <p:spPr>
          <a:xfrm>
            <a:off x="1793880" y="3738600"/>
            <a:ext cx="22525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0c0c0"/>
                </a:solidFill>
                <a:latin typeface="Arial"/>
              </a:rPr>
              <a:t>Contrato de puesta a disposición de trabajado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28"/>
          <p:cNvSpPr/>
          <p:nvPr/>
        </p:nvSpPr>
        <p:spPr>
          <a:xfrm>
            <a:off x="5415120" y="3718080"/>
            <a:ext cx="225252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c0c0c0"/>
                </a:solidFill>
                <a:latin typeface="Arial"/>
              </a:rPr>
              <a:t>Contrato de trabajo de servicios transitorio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20:05:27Z</dcterms:created>
  <dc:creator>Ernst &amp; Young</dc:creator>
  <dc:description/>
  <dc:language>en-US</dc:language>
  <cp:lastModifiedBy>sony</cp:lastModifiedBy>
  <dcterms:modified xsi:type="dcterms:W3CDTF">2010-04-20T13:41:03Z</dcterms:modified>
  <cp:revision>30</cp:revision>
  <dc:subject/>
  <dc:title>Slide 1</dc:title>
</cp:coreProperties>
</file>