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92D-03C2-4A44-B046-66EA273A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592-5548-49AF-ACAF-97D0790A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8723-B5D2-4F12-B592-47D28CC1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DAC2-AE21-4579-BA91-A2184D62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397-1E35-4F45-9434-F7D2D02F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7008-63E3-450F-8C3F-DB6C67A6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1B5-733C-4DBF-B92E-1EAB395C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9E42-8326-4AE0-8C15-8E5A799B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EC44-35E6-4FEC-B169-EA6D38FB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756D-79DF-4750-93C1-B372D2B7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291-58A4-4274-BD31-0D1BC5C1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ECBC-19D3-4311-9B62-3583FEC0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A99F-1A5A-47E7-842D-8BA61AA7F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2838600"/>
            <a:ext cx="58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Sociedades Anónim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spectos orgán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4360" y="620640"/>
            <a:ext cx="76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Reguladores de SA y del Mercado de Valor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tipos de regulación y fiscalización extern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68360" y="1484280"/>
            <a:ext cx="83516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guladores y Fiscalizadores del Mercado de Val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perintendencia de Valores y Seguros (SVS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supervisa, norma, sanciona y promueve los mercados de valores y de segur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itución autónoma, personalidad jurídica y patrimonio prop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relaciona con el Gobierno a través del Ministerio de Hacie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bjeto: fiscalización de las actividades y entidades que participan de los mercados de valores y de seguros en Ch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elar porque las supervisadas cumplan con  leyes, reglamentos, estatutos y otras disposiciones que rijan el funcionamiento de los merca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perintendencia de Administradoras de Fondos de Pensiones (SAFP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regula y fiscaliza el sistema de pensiones y el Seguro de Cesantí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perintendencia de Bancos e Instituciones Financieras (SBIF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regula y fiscaliza el sistema banc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Banco Central de Chile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cumple  función regulador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rmativa de mercado monetario y cambi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gula las transacciones de American Depositary Receipts (ADRs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ímites en las inversiones de instrumentos en el extranjero de AF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greso y salida de divisas para esos fon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4360" y="620640"/>
            <a:ext cx="76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Registr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95280" y="1557360"/>
            <a:ext cx="80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1341360"/>
            <a:ext cx="2514600" cy="3812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.A. ABIER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ey N° 18.046, Art. 2, inciso segun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1371600"/>
            <a:ext cx="5333760" cy="39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Aquellas que inscriban voluntariamente o por obligación leg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us acciones en el Registro de Valor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1905120"/>
            <a:ext cx="2514600" cy="3808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REGISTRO DE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ey N° 18.045, Art.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05320" y="1981080"/>
            <a:ext cx="5486400" cy="244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Registro Público llevado por la Superintendencia de Valores y Segu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2438280"/>
            <a:ext cx="2514600" cy="3812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¿QUIÉNES DEBE INSCRIBIRS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Ley N° 18.045, Art.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64000" y="2421000"/>
            <a:ext cx="495288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os emisores de valores de oferta púb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1280" y="2895480"/>
            <a:ext cx="4953240" cy="3812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os valores que sean objeto de oferta públic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3352680"/>
            <a:ext cx="4953240" cy="3812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as acciones de las sociedades anónimas que: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9880" y="3809880"/>
            <a:ext cx="4724640" cy="3049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tengan más de 500 accionistas; 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4191120"/>
            <a:ext cx="4724640" cy="3045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i) a lo menos el 10% de su capital pertenezca a un mínimo de 100 accionistas , excluidos l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que individualmente o a través de otras personas naturales o jurídicas excedan dicho %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4572000"/>
            <a:ext cx="495324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d) Las acciones de s.a. que voluntariamente o por obligación legal lo solicite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5410080"/>
            <a:ext cx="2514600" cy="3812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SCRIPCION DE EMIS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Ley N° 18.045, Art.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05320" y="5334120"/>
            <a:ext cx="548640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a inscripción de un emisor debe estar acompañada de la inscripción de los valores que dicho emisor ofrecerá públicamente. Sin embargo, no estará obligado a ofrecerlos sino hasta después de que transcurra un año de su regi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6920" y="6021360"/>
            <a:ext cx="2514600" cy="3808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FERTA PUBLICA DE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Ley N° 18.045, Art. 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05320" y="6019920"/>
            <a:ext cx="5486400" cy="39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ólo podrá hacerse oferta pública cuando éstos y su emisor , hayan sido inscritos en el Registro de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620640"/>
            <a:ext cx="76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Registr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95280" y="1557360"/>
            <a:ext cx="80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1341360"/>
            <a:ext cx="4724640" cy="228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CESO INSCRIPCION EN REGISTRO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7040" y="202716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REGUL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3560" y="1951200"/>
            <a:ext cx="4647960" cy="39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ey N° 18.045. Artículo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orma de Carácter General N° 30, Sección I, SV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7040" y="324648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CED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7040" y="4465800"/>
            <a:ext cx="1676520" cy="990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 u="sng">
                <a:solidFill>
                  <a:srgbClr val="000000"/>
                </a:solidFill>
                <a:uFillTx/>
                <a:latin typeface="Arial"/>
              </a:rPr>
              <a:t>Información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Antecedentes Generales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Económicos y Financiero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Hechos Esenci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Antecedentes Societar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Declaraciones d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Responsabilida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7040" y="263700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79520" y="2560680"/>
            <a:ext cx="563904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a inscripción de acciones en caso de letra c, artículo 5°, debe efectuarse dentro de 60 días siguientes a fecha de cumplimiento de requisitos allí indicad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7040" y="378000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olicitud de Inscrip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08120" y="3855960"/>
            <a:ext cx="14479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84440" y="378000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Análisis Solicitu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1840" y="378000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scripción Registro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99240" y="378000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bligaciones de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84440" y="4465800"/>
            <a:ext cx="1676520" cy="990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Plazo 30 días contados desd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fecha de solicitu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Durante este período es posib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que el emisor deba efectua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correcciones o actualizacion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de informa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41840" y="4465800"/>
            <a:ext cx="1676520" cy="990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Emisión de Certificado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nscrip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99240" y="4465800"/>
            <a:ext cx="1676520" cy="990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Ver slide siguien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620640"/>
            <a:ext cx="76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Registr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057400" y="1371600"/>
            <a:ext cx="4724280" cy="228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BLIGACIONES DE INFORMACION DE SOCIEDADES INSCRI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190512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REGUL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1828800"/>
            <a:ext cx="4648320" cy="39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ey N° 18.045 y otr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orma de Carácter General N° 30, Sección II, SV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38280" y="274320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ANTECEDENTES ECONOMIC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Y FINANCI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74320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HECHOS RELEVAN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 ESEN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05720" y="274320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TR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PERMANEN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328464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¿Qué debe informars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38280" y="32767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Informes y estados financieros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trimestrales y anu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Variaciones de cap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Hechos esenc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Otros anteced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32767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Aquella información sobre e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emisor, valores ofrecidos y su oferta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que un hombre juicioso considerarí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mportante para sus decisiones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nversión (Art. 9, LMV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05720" y="32767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Antecedentes societarios,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acuerdo a 2.3, Sección II,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NCG N° 30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419112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lazo para infor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41911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Informes trimestrales 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marzo y septiembre, en plazo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30 días a contar de cierre trimestra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Informe trimestral junio, 45 dí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Informe anual, 60 dí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41911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Al momento que el ocurra o lleg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a su conocimien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05720" y="41911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De acuerdo a 2.3. Sección II 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NCG N° 30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510552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ómo Infor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51055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ía SEI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51055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ía SE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05720" y="51055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ficina de Par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66880" y="3429000"/>
            <a:ext cx="182880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14600" y="4191120"/>
            <a:ext cx="1828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5105520"/>
            <a:ext cx="1828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5105520"/>
            <a:ext cx="1828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81680" y="5105520"/>
            <a:ext cx="1828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55640" y="72864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Mercado de Valores, organización y compr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02080" y="2133720"/>
            <a:ext cx="1214280" cy="11523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98680" y="2276640"/>
            <a:ext cx="1201680" cy="609480"/>
          </a:xfrm>
          <a:prstGeom prst="wedgeRoundRectCallout">
            <a:avLst>
              <a:gd name="adj1" fmla="val 100199"/>
              <a:gd name="adj2" fmla="val -2994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88000" y="1628640"/>
            <a:ext cx="1295280" cy="609840"/>
          </a:xfrm>
          <a:prstGeom prst="wedgeEllipseCallout">
            <a:avLst>
              <a:gd name="adj1" fmla="val -45587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5280" y="3713040"/>
            <a:ext cx="867564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Mercado Valores y de Capi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Contacto de oferentes y demandantes de Valores y Capitales representados en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Ofertas del mercado primario y secund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Que se originen en ofertas públicas de valores o en que participen corredoras o agentes de valores (dentro o fuera de bolsa), art 1 L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Punto de vista de la oferta pública, no impide transacciones priv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Incluso hay cabida para la oferta de acciones no inscritas (ej. de sociedades anónimas cerradas) en remate cada 15 d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Inversionista Institucional, calificado y propiamente tal </a:t>
            </a:r>
            <a:r>
              <a:rPr b="0" i="1" lang="es-CL" sz="1600" spc="-1" strike="noStrike">
                <a:solidFill>
                  <a:srgbClr val="000000"/>
                </a:solidFill>
                <a:latin typeface="Arial Unicode MS"/>
              </a:rPr>
              <a:t>(retail) </a:t>
            </a: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que participa en la 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Valores: todo título transferible, de crédito o inversión (</a:t>
            </a:r>
            <a:r>
              <a:rPr b="0" i="1" lang="es-CL" sz="1600" spc="-1" strike="noStrike">
                <a:solidFill>
                  <a:srgbClr val="000000"/>
                </a:solidFill>
                <a:latin typeface="Arial Unicode MS"/>
              </a:rPr>
              <a:t>equity</a:t>
            </a: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) [acciones, opciones sobre acciones, bonos, debentures, planes de ahorro, efectos de comercio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/>
          <p:nvPr/>
        </p:nvCxnSpPr>
        <p:spPr>
          <a:xfrm flipV="1">
            <a:off x="5148360" y="2420640"/>
            <a:ext cx="1224720" cy="50400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6300720" y="1628640"/>
            <a:ext cx="284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horr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pecul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lifi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/>
          <p:nvPr/>
        </p:nvCxnSpPr>
        <p:spPr>
          <a:xfrm flipV="1" rot="10800000">
            <a:off x="1258200" y="2923920"/>
            <a:ext cx="2205720" cy="505440"/>
          </a:xfrm>
          <a:prstGeom prst="curvedConnector5">
            <a:avLst>
              <a:gd name="adj1" fmla="val 49951"/>
              <a:gd name="adj2" fmla="val 49964"/>
              <a:gd name="adj3" fmla="val 499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324000" y="2276640"/>
            <a:ext cx="863280" cy="122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5640" y="72864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Mercado de Valores, organización y compr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24000" y="1268280"/>
            <a:ext cx="81374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 normativa de mercado de valores regul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alore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misore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termediario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ué se transa en una Bolsa de Comercio: Valores, todo título transferible, de crédito o inversión (</a:t>
            </a: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equity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(Nacionales y Extranjer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Instrumentos de Renta F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Instrumentos de Intermediación Financi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Instrumentos Mone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Op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Futu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Cuotas de Fondos de 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Cuotas de Fondos Mutuos Extranj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ulación y autorregulación de Bolsas de Comer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lam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nual de ac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72864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Mercado de Valores, organización y compr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24000" y="1268280"/>
            <a:ext cx="81374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termediación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termediario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, su objeto es el corretaje de valores y actividades autorizadas por la SV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stodia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 de cartera de terc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sesoría y comisión específica para la compra y venta de valores en mercados de valores extranj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rredores de Bolsa,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n miembros de y actúan en bolsas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gentes de Valore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peran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fuer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de bolsa,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anco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pueden realizar actividades de intermediación, según Ley General de Bancos,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in embargo, la compra o venta de acciones se realizada a través de un corredor de bols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olsas de Valore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Proveen a  miembros (corredores) la implementación para realizar transacciones de valores mediante mecanismos continuos de subasta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ámaras de Compensac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Las cámaras de compensación son la contraparte de todas las compras y ventas de contratos a futuro, de opciones sobre valores y otros de similar naturaleza que autorice la SVS. Estas entidades sólo pueden estar constituidas por bolsas de valores y sus respectivos corredor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pósitos Centralizados de Valore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Instituciones especializadas en la inmovilización, custodia y transferencia de valor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movilización reúne los instrumentos que se transa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vita el traspaso físico de valores desde el vendedor al compr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stema de registro en cuenta permite la emisión de valores desmaterializad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5640" y="692280"/>
            <a:ext cx="762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Sociedades anónimas y sus entidades relacionadas, matrices, filiales, coligadas, “subsidiaria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8360" y="1700280"/>
            <a:ext cx="5905440" cy="431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TRIZ / COLIGANTE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[86 y ss LS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564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8360" y="3716280"/>
            <a:ext cx="352728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IL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7164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9640" y="227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71640" y="2421000"/>
            <a:ext cx="345600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ntrol directo o indir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+ del 50% del capital con derecho a voto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+ del 50% del capital si no es SA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uede elegir /designar / hacer id. sobre mayoría de D’s o adm’s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mandita si SA controla al ge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4292640"/>
            <a:ext cx="3384360" cy="431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IG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1636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4836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92720" y="2781360"/>
            <a:ext cx="3456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No hay control pero posee directa o indirecta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0% o + del capital con derecho a voto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0% o + % del capital si no es SA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uede elegir /designar / hacer id. un miembro de D’s o adm’s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mandita si SA participa en dirigir u orientar al ge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0920" y="4869000"/>
            <a:ext cx="84978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puede haber participación recíproca en el capital, directa ni indirecta;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asta que haya una SA para vigencia de la prohib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 ocurre por fusión, incorporación, división, control,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be cesar en un a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A Cerradas: Sus operaciones cruzadas y con sus respectivas personas relacionadas deben observar condiciones de equidad de mercado; si Abiertas Título XVI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4000" y="4067280"/>
            <a:ext cx="396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Provoca consolidación EEFF, dividendo mínimo se calcula sobre utilidades consolid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24000" y="3716280"/>
            <a:ext cx="71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324000" y="4653000"/>
            <a:ext cx="3816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140360" y="3716280"/>
            <a:ext cx="71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20000" y="1773360"/>
            <a:ext cx="1944720" cy="64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UBSIDIARIA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427280" y="2133720"/>
            <a:ext cx="2592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8172000" y="2421000"/>
            <a:ext cx="7164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55640" y="692280"/>
            <a:ext cx="762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Grupos empresariales, personas relacion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324000" y="126828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68360" y="306864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640" y="1484280"/>
            <a:ext cx="662472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RUPOS EMPRESARIALES [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96 y ss LMV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1989000"/>
            <a:ext cx="8136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ntidades vinculadas en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piedad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dministrac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esponsabilidad crediti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esumen intereses comunes, subordinación, riesgos financieros comu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 y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trolador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; sociedades con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trolador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ún o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5640" y="2781360"/>
            <a:ext cx="489600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TROL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11280" y="3284640"/>
            <a:ext cx="7993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sona o personas con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cuerdo de actuación conjunt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ue directa o indirecta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iene propieda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oder para asegurar mayorías en juntas y directorios o administradores o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fluir decisivamente en l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26920" y="4365720"/>
            <a:ext cx="489600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SONAS RELACIONADAS [con una socieda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5640" y="5013360"/>
            <a:ext cx="75614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ntidades del grupo empresarial, matriz, coligante, coligada, fil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dores, sus cónyuges y parientes hasta segundo grado y controlados por ell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uien designe a un administrador o controle 10% o más de la soci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5640" y="692280"/>
            <a:ext cx="762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Agencias de SA extranj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95280" y="1700280"/>
            <a:ext cx="813744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encia importa la misma persona, no hay separación de personalidad juríd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rgo, la entidad extranjera participa directamente en Chile, involucra su 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gulada para SA extranjeras, qué pasa con otras figuras so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ormalidades: 121 – 122 L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ente protocoliza en notaría chilena documentos que acrediten existencia y vigencia de la sociedad y poder general del a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ente efectúa declaración en Chile con requisitos míni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levante es la declaración de bienes en Chile; asegura fácil ejecución, pero sigue siendo patrimonio de la entidad extranj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scripción y publicación de extracto en 60 d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azones tributar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azones comerciales: credenciales técnicas o financieras de la matriz extranjera son neces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02760" y="77148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1832040"/>
            <a:ext cx="741708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Tipos de Sociedades Anóni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Sociedades Anónimas Abiertas y el Mercad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Diferencias Sociedades Anónimas Cerradas y Espe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guladores de SA y del Mercado de Valores, tipos de regulación y fiscalización exte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gistr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ercado de Valores, organización y compr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ferencia a instrumentos transables en el Mercad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ociedades anónimas y sus entidades relacionadas, matrices, filiales, coligadas, “subsidiaria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rupos empresariales, personas relacion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gencias de SA extranj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2349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Cuerpos legales y reglamen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3284640"/>
            <a:ext cx="648036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Ley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Reglamento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Sociedades, Tomo II  A. Puelma, (3a. Edición/2001/ Edit. Jurídica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Ley Mercado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Normativa SVS, NCG 30, NCG 2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8400" y="77148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69228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360" y="2421000"/>
            <a:ext cx="2735280" cy="2448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ubTriangle"/>
          <p:cNvSpPr/>
          <p:nvPr/>
        </p:nvSpPr>
        <p:spPr>
          <a:xfrm>
            <a:off x="4067280" y="2421000"/>
            <a:ext cx="1296720" cy="151272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2421000"/>
            <a:ext cx="3097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 menos 10 % capital suscr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tenece al menos a 100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n contar quienes tengan más del 10%, directa o indirect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4936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0 o más </a:t>
            </a: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alquiera sea el porcentaj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en manos de may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341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ABIERTAS: [LSA] Sus acciones se inscriben en Registro de Valores, por obligación legal o acuerdo voluntario [LMV] Se deben inscribir en Registro de Valores, las acciones de SA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443700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scripción voluntaria u obligatoria (</a:t>
            </a: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por ley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 de acciones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 flipV="1" rot="10800000">
            <a:off x="1762920" y="4364640"/>
            <a:ext cx="86436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24000" y="3429000"/>
            <a:ext cx="1223640" cy="20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3174840"/>
            <a:ext cx="456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ón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651640"/>
            <a:ext cx="792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jan de serlo sólo cuando concurre Junta de Accionistas con 2/3 votos para deslistar [genera derecho a  retiro]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[una vez dejen de cumplir requisitos para estar inscritas en R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060640"/>
            <a:ext cx="41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ías aseguradoras y reasegura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. Fondos Mutu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03720" y="2060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220500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4869000"/>
            <a:ext cx="878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No se inscriben en Registro de Valor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(salvo que califiquen de SA Abiertas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per se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 someten a las normas de las SA Abierta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salvo p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ormación, modificación, disolución (reglas propi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rmas especiales que las ri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se rigen por normas de SA Cerradas relativas a información pq les aplican normas de SA Abier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320364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30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3141720"/>
            <a:ext cx="144360" cy="554040"/>
          </a:xfrm>
          <a:custGeom>
            <a:avLst/>
            <a:gdLst>
              <a:gd name="textAreaLeft" fmla="*/ 0 w 144360"/>
              <a:gd name="textAreaRight" fmla="*/ 52200 w 14436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319572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specto S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93372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tras que por disposición legal expresa están obligadas a someterse a mismos trámi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427680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11640" y="4098960"/>
            <a:ext cx="144360" cy="554040"/>
          </a:xfrm>
          <a:custGeom>
            <a:avLst/>
            <a:gdLst>
              <a:gd name="textAreaLeft" fmla="*/ 0 w 144360"/>
              <a:gd name="textAreaRight" fmla="*/ 52200 w 14436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69228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5280" y="1262160"/>
            <a:ext cx="835200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AS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nguna de las ant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se inscriben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se rigen por normas de SA Abiertas, salvo por las obligadas a entregar información pública, que se rigen por ellas para tal efe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Hay propiamente 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Y las hay obligadas a entregar información públic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es las obligan a someterse a normas de SA Abierta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us normas les son aplicable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 fiscalizadas, controladas o vigiladas por la SV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xpresiones análo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e someten a información y publicidad para con SVS, accionistas y públ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u obligación se concreta e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istro Especial de Entidades Informantes [REEI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regi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proporcionar información continua a l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informar hechos esen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pias de juntas, modificaciones estatutarias, cambios en la administración y accionistas, cesación de pagos, EEFF anuales en sitio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l cesar los requisitos deben pedir dejar el REEI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de quién es la atribució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4508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5640" y="69228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1557360"/>
            <a:ext cx="835164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scalización esta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s que las regulan e información que suminist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l dirimente de la SVS en SA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speciales y su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de Valores, RE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n Registros “privados” de las SA: Accionistas, Juntas, Directorios, Registr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iedad accionaria y su ces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ctos de control y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hibición de limitar disposición en SA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oponibilidad de pactos de accionistas relativos  a cesiones de acciones que no se inscriban en Reg de Accionistas y depositen en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ligación de anotar traspasos sin más trám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69228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68360" y="1484280"/>
            <a:ext cx="835164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acción pública y privada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irectores, 5 o 7 si  (i) UF1,5M patrimonio bursátil y (ii) 12,5% de acciones en manos de accionistas que tengan menos del 10% (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free floa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 menos un Director Independiente en SA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recuencia de las ses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ités de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e Incompatibilidades de Directores y de Independ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as: acuerdos se pueden ejecutar directamente por la unanimidad de los directores, por escritura pública (no en sa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Abiertas se presume método de entrega de información a público (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raciones con personas relacionadas art 44 para cerradas y Tit XVI para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bación, salvo acuerdo unánime, en abiertas (4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69228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68360" y="1413000"/>
            <a:ext cx="835164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ditoría externa (52) e inspectores de cuentas, exención u otros métodos (5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de Inspectores de Cuentas y Auditores que no están sometidos  a S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abilidad financiera IFRS, GAAP chil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untas citadas por SVS y correo,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ícipes, 5 días antes (abiertas) o el mismo día (cerra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de retiro y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squeeze ou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i 95% de acciones en manos del control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ición mínima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y transparenci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tio internet para SA Abiertas, publicación de memorias, informe de auditores y EE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olución por tenencia en una sola mano de todas las acciones: no se inscribe sin visto bueno de SVS, en abiertas y especiales (1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bofill</cp:lastModifiedBy>
  <dcterms:modified xsi:type="dcterms:W3CDTF">2010-09-08T03:04:42Z</dcterms:modified>
  <cp:revision>163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