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138-A7F2-4D7E-A1A0-6C9B71DD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9C6-0512-4C12-B509-CB6BACEF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96E-DD48-4582-8956-36B5D06C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4E9-BD6E-4BF5-AEDB-09065ED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961-3A47-438C-9602-AA18F18C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E55-FD3C-4F9F-A8D9-AA8BD00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0C6-711B-46BB-8ECF-ED2B606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3F2-14B5-473F-BA2D-C90132D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A50-6770-41C8-87CA-143AFE9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47B-DEFF-402E-9331-F9003F2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4D2-4226-4DBB-8B14-DB66DC7F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AC1-99E6-46D4-A128-4A71B02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FC7-8868-4CF1-912F-01C92C09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9280" y="12682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700280"/>
            <a:ext cx="83520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 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 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 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128680"/>
            <a:ext cx="835164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de acciones no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</a:t>
            </a:r>
            <a:r>
              <a:rPr b="1" lang="es-CL" sz="2000" spc="-1" strike="noStrike">
                <a:solidFill>
                  <a:srgbClr val="800000"/>
                </a:solidFill>
                <a:latin typeface="Tahoma"/>
              </a:rPr>
              <a:t>no exigible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708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2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522936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mutabilidad salvo ex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sión, colocación, suscrip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15880"/>
            <a:ext cx="7623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CAPITAL Y 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41360"/>
            <a:ext cx="835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suma de aportes esperados, expec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mite de responsabilidad del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hay obligación de devolver beneficios percibidos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cciones, quién determina su número y caract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y carácter de accionis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, cesión (modo), sucesión por causa de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ica aceptación de estatutos y solidaridad precio suscripción im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to de suscripción de acciones, estatutos y disposiciones transit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eda, precio, plazo y forma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fijado libremente por la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de acuerdo a la antigüedad de emisió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: totalmente suscrito y pagado en 3 años o reducido al monto suscri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: máximo tres años desde junta para la emisión, suscripción y pago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728640"/>
            <a:ext cx="762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1484280"/>
            <a:ext cx="835164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siones para planes de compensación de trabajadores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49360"/>
            <a:ext cx="76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1484280"/>
            <a:ext cx="835164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 y opciones sobre acciones (25), derecho minoritarios, no dilución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nunciable y transfer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 y 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 Menor o mayor valor precio colocación en relación con valor aumento / número acciones aumento: aumento o disminución del capital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tiene efecto en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ervación espacio para convertibilidad de deuda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 y siti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211" name="_s75804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75803"/>
            <p:cNvCxnSpPr>
              <a:stCxn id="215" idx="0"/>
              <a:endCxn id="213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75802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1413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77336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juste del precio de su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dos de precio y pago por antigüedad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de que gozan acciones impa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pago, venta forzada en Bolsa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ra en caso de aumentos de capi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o / castigo y reducción por mayorías simple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abstención de cobro y reducción por 2/3 Ju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22T03:57:51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