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120-BE82-46CE-9405-B54A242B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2B8-530C-40FF-8C94-1D9362B4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E24-99E9-4975-8732-C714067B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8BA-A5C1-402D-802E-058FCD53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7EC-FFFA-4417-957F-BC9DE25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714-A9A0-4DE3-8E85-E5F9DB03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90B-D8F7-46DC-80AD-A3EB738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D11-2A57-4F24-9851-44C7140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301-73A3-4308-AA53-AB3A544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50C-2078-42C8-8C31-B599C66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879-FEDE-41FB-B6F7-8BCFDF9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067-6540-4DF9-B91F-D809BBF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80D4-B069-47A1-90F6-FF01B153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9280" y="12682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700280"/>
            <a:ext cx="83520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 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 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 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128680"/>
            <a:ext cx="835164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de acciones no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</a:t>
            </a:r>
            <a:r>
              <a:rPr b="1" lang="es-CL" sz="2000" spc="-1" strike="noStrike">
                <a:solidFill>
                  <a:srgbClr val="800000"/>
                </a:solidFill>
                <a:latin typeface="Tahoma"/>
              </a:rPr>
              <a:t>no exigible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708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2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522936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mutabilidad salvo ex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sión, colocación, suscrip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15880"/>
            <a:ext cx="7623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CAPITAL Y 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4136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suma de aportes esperados, expec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mite de responsabilidad del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hay obligación de devolver beneficios percibidos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cciones, quién determina su número y caract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y carácter de accionis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, cesión (modo), sucesión por causa de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ica aceptación de estatutos y solidaridad precio suscripción im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to de suscripción de acciones, estatutos y disposiciones transit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eda, precio, plazo y forma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fijado libremente por la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de acuerdo a la antigüedad de emisió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: totalmente suscrito y pagado en 3 años o reducido al monto suscri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: máximo tres años desde junta para la emisión, suscripción y pago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728640"/>
            <a:ext cx="762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1484280"/>
            <a:ext cx="835164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siones para planes de compensación de trabajadores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49360"/>
            <a:ext cx="76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1484280"/>
            <a:ext cx="83516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 y opciones sobre acciones (25), derecho minoritarios, no dilución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nunciable y transfer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 y 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 Menor o mayor valor precio colocación en relación con valor aumento / número acciones aumento: aumento o disminución del capital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tiene efecto en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ervación espacio para convertibilidad de deuda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 y siti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211" name="_s75804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75803"/>
            <p:cNvCxnSpPr>
              <a:stCxn id="215" idx="0"/>
              <a:endCxn id="213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75802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1413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77336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juste del precio de su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dos de precio y pago por antigüedad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de que gozan acciones impa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pago, venta forzada en Bolsa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ra en caso de aumentos de capi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o / castigo y reducción por mayorías simple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bstención de cobro y reducción por 2/3 Ju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22T03:57:51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