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353-8D49-41FC-BDF0-AEC6217D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1DF-E00A-41B4-8029-173AAC7A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380-1DA7-4EDF-8DE2-28F81ED9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CF2-3D76-4315-8556-D6019404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C04-7C57-42E1-94EF-E90FD57F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9DB-B409-48AA-A824-F7C38629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C74-88DE-4535-B1D1-37BD59B0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ABC-634C-4DFE-855D-5C34457C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FEA-E390-433E-9661-1433491C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EFD-A668-43EF-9360-92326D9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0F1-4508-450A-B251-BE186AB7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FEE-4804-4EC6-84DA-DCB7BD1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7952-F079-4B85-BA5E-92EDD63C7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200" y="2924280"/>
            <a:ext cx="51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trimonio y 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9280" y="126828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700280"/>
            <a:ext cx="83520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 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 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 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128680"/>
            <a:ext cx="835164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de acciones no pag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</a:t>
            </a:r>
            <a:r>
              <a:rPr b="1" lang="es-CL" sz="2000" spc="-1" strike="noStrike">
                <a:solidFill>
                  <a:srgbClr val="800000"/>
                </a:solidFill>
                <a:latin typeface="Tahoma"/>
              </a:rPr>
              <a:t>no exigible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708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879920" y="1722600"/>
            <a:ext cx="4597200" cy="3503520"/>
            <a:chOff x="1879920" y="1722600"/>
            <a:chExt cx="4597200" cy="3503520"/>
          </a:xfrm>
        </p:grpSpPr>
        <p:sp>
          <p:nvSpPr>
            <p:cNvPr id="112" name="_s68636"/>
            <p:cNvSpPr/>
            <p:nvPr/>
          </p:nvSpPr>
          <p:spPr>
            <a:xfrm flipV="1">
              <a:off x="4537080" y="279864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8635"/>
            <p:cNvSpPr/>
            <p:nvPr/>
          </p:nvSpPr>
          <p:spPr>
            <a:xfrm>
              <a:off x="3998880" y="172260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8634"/>
            <p:cNvSpPr/>
            <p:nvPr/>
          </p:nvSpPr>
          <p:spPr>
            <a:xfrm>
              <a:off x="500220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8633"/>
            <p:cNvSpPr/>
            <p:nvPr/>
          </p:nvSpPr>
          <p:spPr>
            <a:xfrm>
              <a:off x="5398920" y="4148280"/>
              <a:ext cx="107820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8632"/>
            <p:cNvSpPr/>
            <p:nvPr/>
          </p:nvSpPr>
          <p:spPr>
            <a:xfrm flipH="1">
              <a:off x="360324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8631"/>
            <p:cNvSpPr/>
            <p:nvPr/>
          </p:nvSpPr>
          <p:spPr>
            <a:xfrm>
              <a:off x="2598840" y="41482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8630"/>
            <p:cNvSpPr/>
            <p:nvPr/>
          </p:nvSpPr>
          <p:spPr>
            <a:xfrm>
              <a:off x="3998880" y="33400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5229360"/>
            <a:ext cx="45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mutabilidad salvo ex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sión, colocación, suscrip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515880"/>
            <a:ext cx="7623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CAPITAL Y AUMENTO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41360"/>
            <a:ext cx="835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suma de aportes esperados, expect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ímite de responsabilidad del accion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hay obligación de devolver beneficios percibidos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cciones, quién determina su número y caract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y carácter de accionis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, cesión (modo), sucesión por causa de 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ica aceptación de estatutos y solidaridad precio suscripción im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to de suscripción de acciones, estatutos y disposiciones transito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eda, precio, plazo y forma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fijado libremente por la j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de acuerdo a la antigüedad de emisión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: totalmente suscrito y pagado en 3 años o reducido al monto suscri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s: máximo tres años desde junta para la emisión, suscripción y pago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728640"/>
            <a:ext cx="762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360" y="1484280"/>
            <a:ext cx="835164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isiones para planes de compensación de trabajadores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49360"/>
            <a:ext cx="762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1484280"/>
            <a:ext cx="835164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 y opciones sobre acciones (25), derecho minoritarios, no dilución,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nunciable y transfer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 y 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 Menor o mayor valor precio colocación en relación con valor aumento / número acciones aumento: aumento o disminución del capital,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tiene efecto en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ervación espacio para convertibilidad de deuda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 y siti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211" name="_s75804"/>
            <p:cNvCxnSpPr>
              <a:stCxn id="212" idx="0"/>
              <a:endCxn id="213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75803"/>
            <p:cNvCxnSpPr>
              <a:stCxn id="215" idx="0"/>
              <a:endCxn id="213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75802"/>
            <p:cNvCxnSpPr>
              <a:stCxn id="217" idx="0"/>
              <a:endCxn id="213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3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0920" y="1413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177336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juste del precio de su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dos de precio y pago por antigüedad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de que gozan acciones impa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pago, venta forzada en Bolsa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ra en caso de aumentos de capit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o / castigo y reducción por mayorías simple J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abstención de cobro y reducción por 2/3 Ju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22T03:57:51Z</dcterms:modified>
  <cp:revision>14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