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750AF-01AD-4BFD-A9EA-2F2F3191B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B0963-C52A-4CAF-89EE-3E81FA0B8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5482B-BF6D-4039-A69A-B9B25BBB8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5A2C6-E4B4-4EFB-BD1B-7E538843C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013FB-E921-4DC7-BB27-76AA5E1BF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DEA95-9AB7-40C9-B29A-2871807FE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4F7D6-BE70-4422-9E85-A548ACA8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1BBC8-08E3-469F-9957-05105BFA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4F75E-47C2-44A0-834A-5182D835E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4A0A-035C-442A-9F53-A7165C1C4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6C507-220B-4500-BC7F-FA9436606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FC6F-1D76-4312-BB73-EAAB767BD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31C5-0608-4618-9121-940FE776BC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 name="Text Box 16"/>
          <p:cNvSpPr/>
          <p:nvPr/>
        </p:nvSpPr>
        <p:spPr>
          <a:xfrm>
            <a:off x="1692360" y="321300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17" descr="Facultad"/>
          <p:cNvPicPr/>
          <p:nvPr/>
        </p:nvPicPr>
        <p:blipFill>
          <a:blip r:embed="rId1"/>
          <a:stretch/>
        </p:blipFill>
        <p:spPr>
          <a:xfrm>
            <a:off x="7130880" y="6053040"/>
            <a:ext cx="1689120" cy="400320"/>
          </a:xfrm>
          <a:prstGeom prst="rect">
            <a:avLst/>
          </a:prstGeom>
          <a:ln w="0">
            <a:noFill/>
          </a:ln>
        </p:spPr>
      </p:pic>
      <p:sp>
        <p:nvSpPr>
          <p:cNvPr id="56" name="Text Box 18"/>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 semestre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j.cl</a:t>
            </a:r>
            <a:endParaRPr b="0" lang="en-US" sz="1400" spc="-1" strike="noStrike">
              <a:solidFill>
                <a:srgbClr val="000000"/>
              </a:solidFill>
              <a:latin typeface="Arial"/>
            </a:endParaRPr>
          </a:p>
        </p:txBody>
      </p:sp>
      <p:sp>
        <p:nvSpPr>
          <p:cNvPr id="57" name="Text Box 19"/>
          <p:cNvSpPr/>
          <p:nvPr/>
        </p:nvSpPr>
        <p:spPr>
          <a:xfrm>
            <a:off x="2146680" y="766800"/>
            <a:ext cx="469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Text Box 20"/>
          <p:cNvSpPr/>
          <p:nvPr/>
        </p:nvSpPr>
        <p:spPr>
          <a:xfrm>
            <a:off x="1835280" y="2781360"/>
            <a:ext cx="6306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ISCALIZACIÓN DE LAS SOCIEDADES ANÓNIM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1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17" descr="Facultad"/>
          <p:cNvPicPr/>
          <p:nvPr/>
        </p:nvPicPr>
        <p:blipFill>
          <a:blip r:embed="rId1"/>
          <a:stretch/>
        </p:blipFill>
        <p:spPr>
          <a:xfrm>
            <a:off x="7130880" y="6053040"/>
            <a:ext cx="1689120" cy="400320"/>
          </a:xfrm>
          <a:prstGeom prst="rect">
            <a:avLst/>
          </a:prstGeom>
          <a:ln w="0">
            <a:noFill/>
          </a:ln>
        </p:spPr>
      </p:pic>
      <p:sp>
        <p:nvSpPr>
          <p:cNvPr id="22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539640" y="1916280"/>
            <a:ext cx="828036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ditores extern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adores auditores, ingenieros comerciales o personas autorizadas por ley para emitir informes de auditoría de estados contables financieros que acrediten ejercido profesional de a lo menos 3 año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adores con ejercicio profesional de a lo menos 5 a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ibres administradores de sus bie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condenados por delitos que merezcan pena afli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i son sociedades, sus administradores, socios principales y personas a cargo de la dirección de la auditoría deben cumplir con los requisitos anteriores. La sociedad además deberá cumplir con exigencias establecidas en los artículos 47 y ss. del Reglamento.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3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7" descr="Facultad"/>
          <p:cNvPicPr/>
          <p:nvPr/>
        </p:nvPicPr>
        <p:blipFill>
          <a:blip r:embed="rId1"/>
          <a:stretch/>
        </p:blipFill>
        <p:spPr>
          <a:xfrm>
            <a:off x="7130880" y="6053040"/>
            <a:ext cx="1689120" cy="400320"/>
          </a:xfrm>
          <a:prstGeom prst="rect">
            <a:avLst/>
          </a:prstGeom>
          <a:ln w="0">
            <a:noFill/>
          </a:ln>
        </p:spPr>
      </p:pic>
      <p:sp>
        <p:nvSpPr>
          <p:cNvPr id="24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539640" y="1916280"/>
            <a:ext cx="8280360" cy="34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stro de Inspectores de Cuentas y Auditores Externos (art. 53 L.S.A., art. 5 transitorio Ley 20.38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partir del </a:t>
            </a:r>
            <a:r>
              <a:rPr b="1" lang="es-CL" sz="1800" spc="-1" strike="noStrike" u="sng">
                <a:solidFill>
                  <a:srgbClr val="000000"/>
                </a:solidFill>
                <a:uFillTx/>
                <a:latin typeface="Arial"/>
              </a:rPr>
              <a:t>1 de enero de 2011</a:t>
            </a:r>
            <a:r>
              <a:rPr b="0" lang="es-CL" sz="1800" spc="-1" strike="noStrike">
                <a:solidFill>
                  <a:srgbClr val="000000"/>
                </a:solidFill>
                <a:latin typeface="Arial"/>
              </a:rPr>
              <a:t> los inspectores de cuentas y auditores externos deberán inscribirse en el </a:t>
            </a:r>
            <a:r>
              <a:rPr b="1" lang="es-CL" sz="1800" spc="-1" strike="noStrike">
                <a:solidFill>
                  <a:srgbClr val="000000"/>
                </a:solidFill>
                <a:latin typeface="Arial"/>
              </a:rPr>
              <a:t>Registro de Inspectores de Cuentas y Auditores Externos</a:t>
            </a:r>
            <a:r>
              <a:rPr b="0" lang="es-CL" sz="1800" spc="-1" strike="noStrike">
                <a:solidFill>
                  <a:srgbClr val="000000"/>
                </a:solidFill>
                <a:latin typeface="Arial"/>
              </a:rPr>
              <a:t> que deberá llevar la Superintendencia de Valores y Segur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glamento determinará los requisitos de idoneidad profesional 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écnica, así como las inhabilidades o causales en virtud de las cuales dich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tores de cuentas y auditores externos podrán ser incorporados y excluidos del mencionado registro, o bien rechazada su inscripción en el m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1" name="Line 3"/>
          <p:cNvSpPr/>
          <p:nvPr/>
        </p:nvSpPr>
        <p:spPr>
          <a:xfrm>
            <a:off x="611280" y="1773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3"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5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3" name="AutoShape 16"/>
          <p:cNvSpPr/>
          <p:nvPr/>
        </p:nvSpPr>
        <p:spPr>
          <a:xfrm>
            <a:off x="539640" y="-1160640"/>
            <a:ext cx="9355320" cy="127472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Sistema mínimo de fiscalización propio de las </a:t>
            </a:r>
            <a:r>
              <a:rPr b="1" lang="es-CL" sz="2000" spc="-1" strike="noStrike" u="sng">
                <a:solidFill>
                  <a:srgbClr val="000000"/>
                </a:solidFill>
                <a:uFillTx/>
                <a:latin typeface="Arial"/>
              </a:rPr>
              <a:t>S.A. abiertas</a:t>
            </a:r>
            <a:r>
              <a:rPr b="1" lang="es-CL" sz="2000" spc="-1" strike="noStrike">
                <a:solidFill>
                  <a:srgbClr val="000000"/>
                </a:solidFill>
                <a:latin typeface="Arial"/>
              </a:rPr>
              <a:t>: empresa de auditoría externa </a:t>
            </a:r>
            <a:r>
              <a:rPr b="1" lang="es-CL" sz="2000" spc="-1" strike="noStrike" u="sng">
                <a:solidFill>
                  <a:srgbClr val="000000"/>
                </a:solidFill>
                <a:uFillTx/>
                <a:latin typeface="Arial"/>
              </a:rPr>
              <a:t>regida por el Título XXVIII de la ley N° 18.045</a:t>
            </a:r>
            <a:r>
              <a:rPr b="1" lang="es-CL" sz="2000" spc="-1" strike="noStrike">
                <a:solidFill>
                  <a:srgbClr val="000000"/>
                </a:solidFill>
                <a:latin typeface="Arial"/>
              </a:rPr>
              <a:t>. (arts. 51 y ss. L.S.A., título IV Regl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junta ordinaria debe designar anualmente a la empresa audit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unción: examinar la contabilidad, inventario, balance y otros estados financieros de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 informar por escrito a la próxima junta ordinaria de accionistas sobre el cumplimiento de su man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tutos podrán establecer, </a:t>
            </a:r>
            <a:r>
              <a:rPr b="1" lang="es-CL" sz="1800" spc="-1" strike="noStrike" u="sng">
                <a:solidFill>
                  <a:srgbClr val="000000"/>
                </a:solidFill>
                <a:uFillTx/>
                <a:latin typeface="Arial"/>
              </a:rPr>
              <a:t>además,</a:t>
            </a:r>
            <a:r>
              <a:rPr b="0" lang="es-CL" sz="1800" spc="-1" strike="noStrike">
                <a:solidFill>
                  <a:srgbClr val="000000"/>
                </a:solidFill>
                <a:latin typeface="Arial"/>
              </a:rPr>
              <a:t> en forma permanente o transitoria, la existencia de inspectores de cuen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4" name="Picture 17" descr="Facultad"/>
          <p:cNvPicPr/>
          <p:nvPr/>
        </p:nvPicPr>
        <p:blipFill>
          <a:blip r:embed="rId1"/>
          <a:stretch/>
        </p:blipFill>
        <p:spPr>
          <a:xfrm>
            <a:off x="7130880" y="6053040"/>
            <a:ext cx="1689120" cy="400320"/>
          </a:xfrm>
          <a:prstGeom prst="rect">
            <a:avLst/>
          </a:prstGeom>
          <a:ln w="0">
            <a:noFill/>
          </a:ln>
        </p:spPr>
      </p:pic>
      <p:sp>
        <p:nvSpPr>
          <p:cNvPr id="26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6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7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7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7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2" name="AutoShape 16"/>
          <p:cNvSpPr/>
          <p:nvPr/>
        </p:nvSpPr>
        <p:spPr>
          <a:xfrm>
            <a:off x="539640" y="-85680"/>
            <a:ext cx="9355320" cy="8569800"/>
          </a:xfrm>
          <a:prstGeom prst="rightArrow">
            <a:avLst>
              <a:gd name="adj1" fmla="val 50000"/>
              <a:gd name="adj2" fmla="val 27292"/>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mpresas de auditoría externa se encuentran reguladas además en el Título XXVIII de la Ley 18.045 sobre Mercado de Valores</a:t>
            </a:r>
            <a:r>
              <a:rPr b="0" lang="es-C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ige a las empresas de auditoría externa tener independencia de juicio respecto de la sociedad auditad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blece requisitos de inscripción en el Registro de Empresas de Auditoría Externa que lleva la SV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Otorga facultades a la SVS para establecer estándares mínimos de idoneidad técnica y sus formas de acreditación. (Norma de Carácter General N° 275 sobre Inscripción y Funcionamiento del Registro de Empresas de Auditoría Externa (19/01/2010).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actividades adicionales que pueden desarrollar las empresas de auditoría ex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3" name="Picture 17" descr="Facultad"/>
          <p:cNvPicPr/>
          <p:nvPr/>
        </p:nvPicPr>
        <p:blipFill>
          <a:blip r:embed="rId1"/>
          <a:stretch/>
        </p:blipFill>
        <p:spPr>
          <a:xfrm>
            <a:off x="7130880" y="6053040"/>
            <a:ext cx="1689120" cy="400320"/>
          </a:xfrm>
          <a:prstGeom prst="rect">
            <a:avLst/>
          </a:prstGeom>
          <a:ln w="0">
            <a:noFill/>
          </a:ln>
        </p:spPr>
      </p:pic>
      <p:sp>
        <p:nvSpPr>
          <p:cNvPr id="28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8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8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0"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9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9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1" name="AutoShape 16"/>
          <p:cNvSpPr/>
          <p:nvPr/>
        </p:nvSpPr>
        <p:spPr>
          <a:xfrm>
            <a:off x="539640" y="-312840"/>
            <a:ext cx="9355320" cy="9575280"/>
          </a:xfrm>
          <a:prstGeom prst="rightArrow">
            <a:avLst>
              <a:gd name="adj1" fmla="val 50000"/>
              <a:gd name="adj2" fmla="val 25338"/>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rtículos 48 a 53 del Reglamento establecen otros requisitos para la inscripción en el registro y para la realización de auditorí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Artículos 55 a 57 Reglamento precisan las funciones de los auditores, sin perjuicio de las que deriven de instrucciones que les ha dado o puede dar la SVS en ejercicio de sus atrib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metidas a la fiscalización de la SV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ríticas a este sistema de fiscalización</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scalización </a:t>
            </a:r>
            <a:r>
              <a:rPr b="1" lang="es-CL" sz="1800" spc="-1" strike="noStrike">
                <a:solidFill>
                  <a:srgbClr val="000000"/>
                </a:solidFill>
                <a:latin typeface="Arial"/>
              </a:rPr>
              <a:t>a posteriori</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0" lang="es-CL" sz="1800" spc="-1" strike="noStrike">
                <a:solidFill>
                  <a:srgbClr val="000000"/>
                </a:solidFill>
                <a:latin typeface="Arial"/>
              </a:rPr>
              <a:t>Fiscalización</a:t>
            </a:r>
            <a:r>
              <a:rPr b="1" lang="es-CL" sz="1800" spc="-1" strike="noStrike">
                <a:solidFill>
                  <a:srgbClr val="000000"/>
                </a:solidFill>
                <a:latin typeface="Arial"/>
              </a:rPr>
              <a:t> no permanente</a:t>
            </a:r>
            <a:r>
              <a:rPr b="0" lang="es-CL"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esignación de los auditores es realizada por </a:t>
            </a:r>
            <a:r>
              <a:rPr b="1" lang="es-CL" sz="1800" spc="-1" strike="noStrike">
                <a:solidFill>
                  <a:srgbClr val="000000"/>
                </a:solidFill>
                <a:latin typeface="Arial"/>
              </a:rPr>
              <a:t>la misma mayoría que nombra a los administrad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17" descr="Facultad"/>
          <p:cNvPicPr/>
          <p:nvPr/>
        </p:nvPicPr>
        <p:blipFill>
          <a:blip r:embed="rId1"/>
          <a:stretch/>
        </p:blipFill>
        <p:spPr>
          <a:xfrm>
            <a:off x="7130880" y="6053040"/>
            <a:ext cx="1689120" cy="400320"/>
          </a:xfrm>
          <a:prstGeom prst="rect">
            <a:avLst/>
          </a:prstGeom>
          <a:ln w="0">
            <a:noFill/>
          </a:ln>
        </p:spPr>
      </p:pic>
      <p:sp>
        <p:nvSpPr>
          <p:cNvPr id="30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Text Box 20"/>
          <p:cNvSpPr/>
          <p:nvPr/>
        </p:nvSpPr>
        <p:spPr>
          <a:xfrm>
            <a:off x="250920" y="816120"/>
            <a:ext cx="871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0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0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9"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1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1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9" name="AutoShape 16"/>
          <p:cNvSpPr/>
          <p:nvPr/>
        </p:nvSpPr>
        <p:spPr>
          <a:xfrm>
            <a:off x="468360" y="-747720"/>
            <a:ext cx="9354960" cy="9940680"/>
          </a:xfrm>
          <a:prstGeom prst="rightArrow">
            <a:avLst>
              <a:gd name="adj1" fmla="val 50000"/>
              <a:gd name="adj2" fmla="val 25338"/>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6.- Normas comunes aplicables a auditores externos e inspectores de cuen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n entregar su informe escrito a la sociedad a lo menos quince días antes de la fecha de la junta de accionista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n guardar reserva respecto de la información de la sociedad.</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en obligación de denunciar a las autoridades judiciales y administrativas competentes, los delitos y las irregularidades o anomalías que a su juicio existieren en la administración o contabilidad de la sociedad.</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sociedades anónimas abiertas, están sujetos a la fiscalización de la Superintendencia, la que podrá impartirles normas respecto al contenido de sus dictámenes y requerirles cualquiera información o antecedente relacionado con el cumplimiento de sus funciones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cargos indelegables y esencialmente revocables por la junta de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17" descr="Facultad"/>
          <p:cNvPicPr/>
          <p:nvPr/>
        </p:nvPicPr>
        <p:blipFill>
          <a:blip r:embed="rId1"/>
          <a:stretch/>
        </p:blipFill>
        <p:spPr>
          <a:xfrm>
            <a:off x="7130880" y="6053040"/>
            <a:ext cx="1689120" cy="400320"/>
          </a:xfrm>
          <a:prstGeom prst="rect">
            <a:avLst/>
          </a:prstGeom>
          <a:ln w="0">
            <a:noFill/>
          </a:ln>
        </p:spPr>
      </p:pic>
      <p:sp>
        <p:nvSpPr>
          <p:cNvPr id="32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Text Box 20"/>
          <p:cNvSpPr/>
          <p:nvPr/>
        </p:nvSpPr>
        <p:spPr>
          <a:xfrm>
            <a:off x="250920" y="816120"/>
            <a:ext cx="871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27" name="Text Box 5"/>
          <p:cNvSpPr/>
          <p:nvPr/>
        </p:nvSpPr>
        <p:spPr>
          <a:xfrm flipV="1" rot="10800000">
            <a:off x="39492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3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8" name="AutoShape 16"/>
          <p:cNvSpPr/>
          <p:nvPr/>
        </p:nvSpPr>
        <p:spPr>
          <a:xfrm>
            <a:off x="539640" y="-1547640"/>
            <a:ext cx="9353520" cy="1122192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Fiscalización por Comité de Directores y Directores Independientes. (art. 50 bis L.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sociedades anónimas (i) abiertas; (ii) con patrimonio bursátil igual o superior al equivalente a 1.500.000 UF; y (iii) un 12,5% de sus acciones emitidas con derecho a voto, se encuentren en poder de accionistas que individualmente controlen o posean menos del 10% de tales ac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rectorio: </a:t>
            </a:r>
            <a:r>
              <a:rPr b="1" lang="es-CL" sz="1800" spc="-1" strike="noStrike">
                <a:solidFill>
                  <a:srgbClr val="000000"/>
                </a:solidFill>
                <a:latin typeface="Arial"/>
              </a:rPr>
              <a:t>mínimo 7 direct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l menos un </a:t>
            </a:r>
            <a:r>
              <a:rPr b="1" lang="es-CL" sz="1800" spc="-1" strike="noStrike">
                <a:solidFill>
                  <a:srgbClr val="000000"/>
                </a:solidFill>
                <a:latin typeface="Arial"/>
              </a:rPr>
              <a:t>director independ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ben designar un </a:t>
            </a:r>
            <a:r>
              <a:rPr b="1" lang="es-CL" sz="1800" spc="-1" strike="noStrike">
                <a:solidFill>
                  <a:srgbClr val="000000"/>
                </a:solidFill>
                <a:latin typeface="Arial"/>
              </a:rPr>
              <a:t>comité de direct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mbios en el patrimonio bursátil o composición accion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9" name="Picture 17" descr="Facultad"/>
          <p:cNvPicPr/>
          <p:nvPr/>
        </p:nvPicPr>
        <p:blipFill>
          <a:blip r:embed="rId1"/>
          <a:stretch/>
        </p:blipFill>
        <p:spPr>
          <a:xfrm>
            <a:off x="7130880" y="6053040"/>
            <a:ext cx="1689120" cy="400320"/>
          </a:xfrm>
          <a:prstGeom prst="rect">
            <a:avLst/>
          </a:prstGeom>
          <a:ln w="0">
            <a:noFill/>
          </a:ln>
        </p:spPr>
      </p:pic>
      <p:sp>
        <p:nvSpPr>
          <p:cNvPr id="34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46"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7"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48"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49"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0"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1"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2"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3"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4"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5"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6" name="AutoShape 16"/>
          <p:cNvSpPr/>
          <p:nvPr/>
        </p:nvSpPr>
        <p:spPr>
          <a:xfrm>
            <a:off x="755640" y="-773280"/>
            <a:ext cx="9353520" cy="9027000"/>
          </a:xfrm>
          <a:prstGeom prst="rightArrow">
            <a:avLst>
              <a:gd name="adj1" fmla="val 50000"/>
              <a:gd name="adj2" fmla="val 51957"/>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istoria de la Ley 20.382 en cuanto a la creación de los “Directores Independientes”. </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 Gobierno Corporativo</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Centro de Gobierno para la Empresa define </a:t>
            </a:r>
            <a:r>
              <a:rPr b="1" lang="es-ES" sz="1800" spc="-1" strike="noStrike">
                <a:solidFill>
                  <a:srgbClr val="000000"/>
                </a:solidFill>
                <a:latin typeface="Arial"/>
              </a:rPr>
              <a:t>gobierno corporativo</a:t>
            </a:r>
            <a:r>
              <a:rPr b="0" lang="es-ES" sz="1800" spc="-1" strike="noStrike">
                <a:solidFill>
                  <a:srgbClr val="000000"/>
                </a:solidFill>
                <a:latin typeface="Arial"/>
              </a:rPr>
              <a:t> como “el conjunto de instancias y prácticas institucionales, en el proceso de toma de decisiones de la empresa, que contribuyen a la creación sostenible de valor en un </a:t>
            </a:r>
            <a:r>
              <a:rPr b="0" lang="es-ES" sz="1800" spc="-1" strike="noStrike" u="sng">
                <a:solidFill>
                  <a:srgbClr val="000000"/>
                </a:solidFill>
                <a:uFillTx/>
                <a:latin typeface="Arial"/>
              </a:rPr>
              <a:t>marco de transparencia</a:t>
            </a:r>
            <a:r>
              <a:rPr b="0" lang="es-ES" sz="1800" spc="-1" strike="noStrike">
                <a:solidFill>
                  <a:srgbClr val="000000"/>
                </a:solidFill>
                <a:latin typeface="Arial"/>
              </a:rPr>
              <a:t> y </a:t>
            </a:r>
            <a:r>
              <a:rPr b="0" lang="es-ES" sz="1800" spc="-1" strike="noStrike" u="sng">
                <a:solidFill>
                  <a:srgbClr val="000000"/>
                </a:solidFill>
                <a:uFillTx/>
                <a:latin typeface="Arial"/>
              </a:rPr>
              <a:t>responsabilidad empresarial</a:t>
            </a:r>
            <a:r>
              <a:rPr b="0" lang="es-ES" sz="1800" spc="-1" strike="noStrike">
                <a:solidFill>
                  <a:srgbClr val="000000"/>
                </a:solidFill>
                <a:latin typeface="Arial"/>
              </a:rPr>
              <a:t>, alineando incentivos y </a:t>
            </a:r>
            <a:r>
              <a:rPr b="1" lang="es-ES" sz="1800" spc="-1" strike="noStrike">
                <a:solidFill>
                  <a:srgbClr val="000000"/>
                </a:solidFill>
                <a:latin typeface="Arial"/>
              </a:rPr>
              <a:t>promoviendo el respeto a los derechos de los accionistas y grupos de interés</a:t>
            </a:r>
            <a:r>
              <a:rPr b="0" lang="es-ES" sz="1800" spc="-1" strike="noStrike">
                <a:solidFill>
                  <a:srgbClr val="000000"/>
                </a:solidFill>
                <a:latin typeface="Arial"/>
              </a:rPr>
              <a:t> que participan directa o indirectamente en la empresa”.</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17" descr="Facultad"/>
          <p:cNvPicPr/>
          <p:nvPr/>
        </p:nvPicPr>
        <p:blipFill>
          <a:blip r:embed="rId1"/>
          <a:stretch/>
        </p:blipFill>
        <p:spPr>
          <a:xfrm>
            <a:off x="7130880" y="6053040"/>
            <a:ext cx="1689120" cy="400320"/>
          </a:xfrm>
          <a:prstGeom prst="rect">
            <a:avLst/>
          </a:prstGeom>
          <a:ln w="0">
            <a:noFill/>
          </a:ln>
        </p:spPr>
      </p:pic>
      <p:sp>
        <p:nvSpPr>
          <p:cNvPr id="358"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4"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6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5" name="AutoShape 16"/>
          <p:cNvSpPr/>
          <p:nvPr/>
        </p:nvSpPr>
        <p:spPr>
          <a:xfrm>
            <a:off x="971640" y="482760"/>
            <a:ext cx="9353520" cy="6222600"/>
          </a:xfrm>
          <a:prstGeom prst="rightArrow">
            <a:avLst>
              <a:gd name="adj1" fmla="val 50000"/>
              <a:gd name="adj2" fmla="val 75373"/>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importancia de los gobiernos corporativos radica en 2 pu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a:t>
            </a:r>
            <a:r>
              <a:rPr b="0" lang="es-ES" sz="1800" spc="-1" strike="noStrike" u="sng">
                <a:solidFill>
                  <a:srgbClr val="000000"/>
                </a:solidFill>
                <a:uFillTx/>
                <a:latin typeface="Arial"/>
              </a:rPr>
              <a:t>Regula las relaciones entre el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directivo de una empresa, su administración, sus accionistas</a:t>
            </a:r>
            <a:r>
              <a:rPr b="0" lang="es-ES" sz="1800" spc="-1" strike="noStrike">
                <a:solidFill>
                  <a:srgbClr val="000000"/>
                </a:solidFill>
                <a:latin typeface="Arial"/>
              </a:rPr>
              <a:t> y otras partes interesadas, asegurando un tratamiento equitativo entre los mismos y la transparencia en el merc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a:t>
            </a:r>
            <a:r>
              <a:rPr b="0" lang="es-ES" sz="1800" spc="-1" strike="noStrike" u="sng">
                <a:solidFill>
                  <a:srgbClr val="000000"/>
                </a:solidFill>
                <a:uFillTx/>
                <a:latin typeface="Arial"/>
              </a:rPr>
              <a:t>Utiliza mecanismos que estructuran de manera óptima los objetivos de las empresas</a:t>
            </a:r>
            <a:r>
              <a:rPr b="0" lang="es-ES" sz="1800" spc="-1" strike="noStrike">
                <a:solidFill>
                  <a:srgbClr val="000000"/>
                </a:solidFill>
                <a:latin typeface="Arial"/>
              </a:rPr>
              <a:t>, determinando los medios que pueden utilizarse para alcanzar dichos objetivos y supervisar su cumplimiento.</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376" name="Picture 17" descr="Facultad"/>
          <p:cNvPicPr/>
          <p:nvPr/>
        </p:nvPicPr>
        <p:blipFill>
          <a:blip r:embed="rId1"/>
          <a:stretch/>
        </p:blipFill>
        <p:spPr>
          <a:xfrm>
            <a:off x="7130880" y="6053040"/>
            <a:ext cx="1689120" cy="400320"/>
          </a:xfrm>
          <a:prstGeom prst="rect">
            <a:avLst/>
          </a:prstGeom>
          <a:ln w="0">
            <a:noFill/>
          </a:ln>
        </p:spPr>
      </p:pic>
      <p:sp>
        <p:nvSpPr>
          <p:cNvPr id="377"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4" name="AutoShape 16"/>
          <p:cNvSpPr/>
          <p:nvPr/>
        </p:nvSpPr>
        <p:spPr>
          <a:xfrm>
            <a:off x="826920" y="-14400"/>
            <a:ext cx="9353880" cy="8417160"/>
          </a:xfrm>
          <a:prstGeom prst="rightArrow">
            <a:avLst>
              <a:gd name="adj1" fmla="val 50000"/>
              <a:gd name="adj2" fmla="val 55723"/>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dios en materia de gobiernos corporativos de empresas chilen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 los directorios no cumplían el rol estratégico que les correspondía. Cerca de un cuarenta por ciento de las decisiones de la empresa se adoptaban fuera del directorio y, más grave aún, directamente por el accionista controlador.</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 sólo un número muy reducido de empresas poseían métodos que evalúen el desempeño de los directores, lo que resulta del todo contradictorio con su importancia dentro de la empresa.</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i) empresas se comprometan formalmente a aplicar buenas prácticas de gobierno societario y que monitoreen continuamente su funcionamiento.</a:t>
            </a:r>
            <a:endParaRPr b="0" lang="en-US" sz="1800" spc="-1" strike="noStrike">
              <a:solidFill>
                <a:srgbClr val="000000"/>
              </a:solidFill>
              <a:latin typeface="Arial"/>
            </a:endParaRPr>
          </a:p>
        </p:txBody>
      </p:sp>
      <p:pic>
        <p:nvPicPr>
          <p:cNvPr id="395" name="Picture 17" descr="Facultad"/>
          <p:cNvPicPr/>
          <p:nvPr/>
        </p:nvPicPr>
        <p:blipFill>
          <a:blip r:embed="rId1"/>
          <a:stretch/>
        </p:blipFill>
        <p:spPr>
          <a:xfrm>
            <a:off x="7130880" y="6053040"/>
            <a:ext cx="1689120" cy="400320"/>
          </a:xfrm>
          <a:prstGeom prst="rect">
            <a:avLst/>
          </a:prstGeom>
          <a:ln w="0">
            <a:noFill/>
          </a:ln>
        </p:spPr>
      </p:pic>
      <p:sp>
        <p:nvSpPr>
          <p:cNvPr id="39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0"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3" name="AutoShape 16"/>
          <p:cNvSpPr/>
          <p:nvPr/>
        </p:nvSpPr>
        <p:spPr>
          <a:xfrm>
            <a:off x="500040" y="-1336680"/>
            <a:ext cx="9355320" cy="1236240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1.- Aspectos Gener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2.- El estatuto y las facultades de fiscal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3.- Derechos de fiscalización de los accionis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4.- Sistema mínimo de fiscalización propio de las S.A. cerrad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5.- Sistema mínimo de fiscalización propio de las S.A. abier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6.- Normas comunes aplicables a auditores externos e inspectores de cu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7.- Fiscalización por Comité de Directores y Directores Independientes</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8.- Fiscalización por Entidades Gubernam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9.- Fiscalización Indirec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17" descr="Facultad"/>
          <p:cNvPicPr/>
          <p:nvPr/>
        </p:nvPicPr>
        <p:blipFill>
          <a:blip r:embed="rId1"/>
          <a:stretch/>
        </p:blipFill>
        <p:spPr>
          <a:xfrm>
            <a:off x="7130880" y="6053040"/>
            <a:ext cx="1689120" cy="400320"/>
          </a:xfrm>
          <a:prstGeom prst="rect">
            <a:avLst/>
          </a:prstGeom>
          <a:ln w="0">
            <a:noFill/>
          </a:ln>
        </p:spPr>
      </p:pic>
      <p:sp>
        <p:nvSpPr>
          <p:cNvPr id="7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0"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1"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2"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0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3" name="AutoShape 16"/>
          <p:cNvSpPr/>
          <p:nvPr/>
        </p:nvSpPr>
        <p:spPr>
          <a:xfrm>
            <a:off x="539640" y="-289080"/>
            <a:ext cx="9641160" cy="9514080"/>
          </a:xfrm>
          <a:prstGeom prst="rightArrow">
            <a:avLst>
              <a:gd name="adj1" fmla="val 50000"/>
              <a:gd name="adj2" fmla="val 50813"/>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blema</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accionistas minoritarios (i) no tienen incentivos para recabar la información y fiscalizar, (ii) ni pueden coordinarse fácilmente para hacer valer sus derechos, situación que genera graves problemas de agencia y riesgos de abuso por parte de quienes tienen ventajas de información y coordinación. (iii) En ese contexto, se genera reticencia a invertir.</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olución</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ley plantea como</a:t>
            </a:r>
            <a:r>
              <a:rPr b="1" lang="es-ES" sz="1800" spc="-1" strike="noStrike">
                <a:solidFill>
                  <a:srgbClr val="000000"/>
                </a:solidFill>
                <a:latin typeface="Arial"/>
              </a:rPr>
              <a:t> forma de resolver los problemas planteados que afectan negativamente a los accionistas minoritarios</a:t>
            </a:r>
            <a:r>
              <a:rPr b="0" lang="es-ES" sz="1800" spc="-1" strike="noStrike">
                <a:solidFill>
                  <a:srgbClr val="000000"/>
                </a:solidFill>
                <a:latin typeface="Arial"/>
              </a:rPr>
              <a:t> y al </a:t>
            </a:r>
            <a:r>
              <a:rPr b="1" lang="es-ES" sz="1800" spc="-1" strike="noStrike">
                <a:solidFill>
                  <a:srgbClr val="000000"/>
                </a:solidFill>
                <a:latin typeface="Arial"/>
              </a:rPr>
              <a:t>mercado</a:t>
            </a:r>
            <a:r>
              <a:rPr b="0" lang="es-ES" sz="1800" spc="-1" strike="noStrike">
                <a:solidFill>
                  <a:srgbClr val="000000"/>
                </a:solidFill>
                <a:latin typeface="Arial"/>
              </a:rPr>
              <a:t>, la figura del “</a:t>
            </a:r>
            <a:r>
              <a:rPr b="1" lang="es-ES" sz="1800" spc="-1" strike="noStrike" u="sng">
                <a:solidFill>
                  <a:srgbClr val="000000"/>
                </a:solidFill>
                <a:uFillTx/>
                <a:latin typeface="Arial"/>
              </a:rPr>
              <a:t>director independiente</a:t>
            </a:r>
            <a:r>
              <a:rPr b="0" lang="es-ES" sz="1800" spc="-1" strike="noStrike">
                <a:solidFill>
                  <a:srgbClr val="000000"/>
                </a:solidFill>
                <a:latin typeface="Arial"/>
              </a:rPr>
              <a:t>” como el mecanismo idóneo para la defensa de dichos actore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14" name="Picture 17" descr="Facultad"/>
          <p:cNvPicPr/>
          <p:nvPr/>
        </p:nvPicPr>
        <p:blipFill>
          <a:blip r:embed="rId1"/>
          <a:stretch/>
        </p:blipFill>
        <p:spPr>
          <a:xfrm>
            <a:off x="7130880" y="6053040"/>
            <a:ext cx="1689120" cy="400320"/>
          </a:xfrm>
          <a:prstGeom prst="rect">
            <a:avLst/>
          </a:prstGeom>
          <a:ln w="0">
            <a:noFill/>
          </a:ln>
        </p:spPr>
      </p:pic>
      <p:sp>
        <p:nvSpPr>
          <p:cNvPr id="41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1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2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2" name="AutoShape 16"/>
          <p:cNvSpPr/>
          <p:nvPr/>
        </p:nvSpPr>
        <p:spPr>
          <a:xfrm>
            <a:off x="468360" y="-1114560"/>
            <a:ext cx="11158560" cy="1170900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tores independientes deben ser propuestos por accionistas que representen el 1% o más de las acciones de la sociedad.</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son Independientes: los que en </a:t>
            </a:r>
            <a:r>
              <a:rPr b="1" lang="es-CL" sz="1800" spc="-1" strike="noStrike">
                <a:solidFill>
                  <a:srgbClr val="000000"/>
                </a:solidFill>
                <a:latin typeface="Arial"/>
              </a:rPr>
              <a:t>cualquier momento dentro de los </a:t>
            </a:r>
            <a:r>
              <a:rPr b="1" lang="es-CL" sz="1800" spc="-1" strike="noStrike" u="sng">
                <a:solidFill>
                  <a:srgbClr val="000000"/>
                </a:solidFill>
                <a:uFillTx/>
                <a:latin typeface="Arial"/>
              </a:rPr>
              <a:t>últimos dieciocho meses</a:t>
            </a:r>
            <a:r>
              <a:rPr b="1" lang="es-CL" sz="1800" spc="-1" strike="noStrike">
                <a:solidFill>
                  <a:srgbClr val="000000"/>
                </a:solidFill>
                <a:latin typeface="Arial"/>
              </a:rPr>
              <a:t>, en alguna de las siguientes circunstancias</a:t>
            </a:r>
            <a:r>
              <a:rPr b="1" lang="es-CL" sz="1400" spc="-1" strike="noStrike">
                <a:solidFill>
                  <a:srgbClr val="000000"/>
                </a:solidFill>
                <a:latin typeface="Arial"/>
              </a:rPr>
              <a:t>: </a:t>
            </a: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ntuvieren cualquier vinculación, interés o dependencia económica, profesional, crediticia o comercial, de una naturaleza y volumen relevante, con la sociedad, las demás sociedades del grupo del que ella forma parte, su controlador, ni con los ejecutivos principales de cualquiera de ellos, o hayan sido directores, gerentes, administradores, ejecutivos principales o asesores de ésta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Mantuvieren una relación de parentesco hasta el segundo grado de consanguinidad o afinidad, con las personas indicadas en el número anterior.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33" name="Picture 17" descr="Facultad"/>
          <p:cNvPicPr/>
          <p:nvPr/>
        </p:nvPicPr>
        <p:blipFill>
          <a:blip r:embed="rId1"/>
          <a:stretch/>
        </p:blipFill>
        <p:spPr>
          <a:xfrm>
            <a:off x="7130880" y="6053040"/>
            <a:ext cx="1689120" cy="400320"/>
          </a:xfrm>
          <a:prstGeom prst="rect">
            <a:avLst/>
          </a:prstGeom>
          <a:ln w="0">
            <a:noFill/>
          </a:ln>
        </p:spPr>
      </p:pic>
      <p:sp>
        <p:nvSpPr>
          <p:cNvPr id="43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0"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4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4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1" name="AutoShape 16"/>
          <p:cNvSpPr/>
          <p:nvPr/>
        </p:nvSpPr>
        <p:spPr>
          <a:xfrm>
            <a:off x="468360" y="-1316160"/>
            <a:ext cx="11158560" cy="1280628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Hubiesen sido directores, gerentes, administradores o ejecutivos principales de organizaciones sin fines de lucro que hayan recibido aportes, contribuciones o donaciones relevantes de las personas indicadas en el número 1).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 Hubiesen sido socios o accionistas que hayan poseído o controlado, directa o indirectamente, 10% o más del capital; directores; gerentes; administradores o ejecutivos principales de entidades que han prestado servicios jurídicos o de consultoría, por montos relevantes, o de auditoría externa, a las personas indicadas en el número 1).</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Hubiesen sido socios o accionistas que hayan poseído o controlado, directa o indirectamente, 10% o más del capital; directores; gerentes; administradores o ejecutivos principales de los principales competidores, proveedores o clientes de la sociedad.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52" name="Picture 17" descr="Facultad"/>
          <p:cNvPicPr/>
          <p:nvPr/>
        </p:nvPicPr>
        <p:blipFill>
          <a:blip r:embed="rId1"/>
          <a:stretch/>
        </p:blipFill>
        <p:spPr>
          <a:xfrm>
            <a:off x="7130880" y="6053040"/>
            <a:ext cx="1689120" cy="400320"/>
          </a:xfrm>
          <a:prstGeom prst="rect">
            <a:avLst/>
          </a:prstGeom>
          <a:ln w="0">
            <a:noFill/>
          </a:ln>
        </p:spPr>
      </p:pic>
      <p:sp>
        <p:nvSpPr>
          <p:cNvPr id="45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6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6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0" name="AutoShape 16"/>
          <p:cNvSpPr/>
          <p:nvPr/>
        </p:nvSpPr>
        <p:spPr>
          <a:xfrm>
            <a:off x="468360" y="-1181160"/>
            <a:ext cx="11158560" cy="1198296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osición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miembro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yoría independiente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hay más de uno con derecho a integrarlo, en primera reunión de directorio los directores elegirán a quienes integrarán el comité. Si hay desacuerdo, serán preferidos directores elegidos por mayor % de votación de accionistas que individualmente controlen menos del 10% de las accione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hay 1 solo director independiente, ese director elegirá a los otros 2.</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idente del directorio no puede integrar 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go remunerado, remuneración fijada anualmente por la junta ordinaria de accionistas, pero no puede ser inferior a la remuneración de los directores titulares, más un tercio de su monto.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71" name="Picture 17" descr="Facultad"/>
          <p:cNvPicPr/>
          <p:nvPr/>
        </p:nvPicPr>
        <p:blipFill>
          <a:blip r:embed="rId1"/>
          <a:stretch/>
        </p:blipFill>
        <p:spPr>
          <a:xfrm>
            <a:off x="7130880" y="6053040"/>
            <a:ext cx="1689120" cy="400320"/>
          </a:xfrm>
          <a:prstGeom prst="rect">
            <a:avLst/>
          </a:prstGeom>
          <a:ln w="0">
            <a:noFill/>
          </a:ln>
        </p:spPr>
      </p:pic>
      <p:sp>
        <p:nvSpPr>
          <p:cNvPr id="472"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7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7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8"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8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8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9" name="AutoShape 16"/>
          <p:cNvSpPr/>
          <p:nvPr/>
        </p:nvSpPr>
        <p:spPr>
          <a:xfrm>
            <a:off x="539640" y="-838080"/>
            <a:ext cx="9641160" cy="1170900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ncionamiento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iberaciones, acuerdos y organización del comité se rigen por las normas aplicables a las sesiones de directorio.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té puede contratar asesorías profesionales para el desarrollo de sus labore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unta ordinaria fija presupuesto de gastos de funcionamiento del comité y sus asesores, el que no puede ser inferior a las remuneraciones anuales de los miembros del comité.</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e de gestión anual y gastos incurridos por el vomité se incluyen en la memoria anual y se presentan a la junta ordinaria de accionista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uestas efectuadas por el comité que no hubiesen sido recogidas por el directorio se deben informar a la junta previo a la votación de la materia correspondiente.</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90" name="Picture 17" descr="Facultad"/>
          <p:cNvPicPr/>
          <p:nvPr/>
        </p:nvPicPr>
        <p:blipFill>
          <a:blip r:embed="rId1"/>
          <a:stretch/>
        </p:blipFill>
        <p:spPr>
          <a:xfrm>
            <a:off x="7130880" y="6053040"/>
            <a:ext cx="1689120" cy="400320"/>
          </a:xfrm>
          <a:prstGeom prst="rect">
            <a:avLst/>
          </a:prstGeom>
          <a:ln w="0">
            <a:noFill/>
          </a:ln>
        </p:spPr>
      </p:pic>
      <p:sp>
        <p:nvSpPr>
          <p:cNvPr id="49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97"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0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8" name="AutoShape 16"/>
          <p:cNvSpPr/>
          <p:nvPr/>
        </p:nvSpPr>
        <p:spPr>
          <a:xfrm>
            <a:off x="539640" y="-120600"/>
            <a:ext cx="9641160" cy="9392040"/>
          </a:xfrm>
          <a:prstGeom prst="rightArrow">
            <a:avLst>
              <a:gd name="adj1" fmla="val 50000"/>
              <a:gd name="adj2" fmla="val 51473"/>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cultades y deberes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aminar los informes de los auditores externos, el balance y demás estados financieros presentados por los administradores o liquidadores de la sociedad a los accionistas, y pronunciarse respecto de éstos en forma previa a su presentación a los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Proponer al directorio nombres para los auditores externos y clasificadores privados de riesgo, en su caso, que serán sugeridos a la junta de accionistas respectiva. En caso de desacuerdo, el directorio formulará una sugerencia propia, sometiéndose ambas a consideración de la junta de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Examinar los antecedentes relativos a las operaciones con partes relacionadas y evacuar un informe respecto a esas operacione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9" name="Picture 17" descr="Facultad"/>
          <p:cNvPicPr/>
          <p:nvPr/>
        </p:nvPicPr>
        <p:blipFill>
          <a:blip r:embed="rId1"/>
          <a:stretch/>
        </p:blipFill>
        <p:spPr>
          <a:xfrm>
            <a:off x="7130880" y="6053040"/>
            <a:ext cx="1689120" cy="400320"/>
          </a:xfrm>
          <a:prstGeom prst="rect">
            <a:avLst/>
          </a:prstGeom>
          <a:ln w="0">
            <a:noFill/>
          </a:ln>
        </p:spPr>
      </p:pic>
      <p:sp>
        <p:nvSpPr>
          <p:cNvPr id="51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16"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8"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19"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0"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1"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2"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3"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4"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5"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6"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7" name="AutoShape 16"/>
          <p:cNvSpPr/>
          <p:nvPr/>
        </p:nvSpPr>
        <p:spPr>
          <a:xfrm>
            <a:off x="468360" y="-1236600"/>
            <a:ext cx="10729800" cy="1222452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ultades y deberes del Comité:</a:t>
            </a:r>
            <a:endParaRPr b="0" lang="en-US" sz="2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4) Examinar los sistemas de remuneraciones y planes de compensación de los gerentes, ejecutivos principales y trabajadores de la sociedad.</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5) Preparar un informe anual de su gestión, en que se incluyan sus principales recomendaciones a los accionistas.</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6) Informar al directorio respecto de la conveniencia de contratar o no a la empresa de auditoría externa para la prestación de servicios que no formen parte de la auditoría externa, en atención a si la naturaleza de tales servicios pueda generar un riesgo de pérdida de independencia.</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7) Las demás materias que señale el estatuto social, o que le encomiende una junta de accionistas o el directorio, en su caso.</a:t>
            </a:r>
            <a:endParaRPr b="0" lang="en-US" sz="1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528" name="Picture 17" descr="Facultad"/>
          <p:cNvPicPr/>
          <p:nvPr/>
        </p:nvPicPr>
        <p:blipFill>
          <a:blip r:embed="rId1"/>
          <a:stretch/>
        </p:blipFill>
        <p:spPr>
          <a:xfrm>
            <a:off x="7164360" y="6021360"/>
            <a:ext cx="1689120" cy="399960"/>
          </a:xfrm>
          <a:prstGeom prst="rect">
            <a:avLst/>
          </a:prstGeom>
          <a:ln w="0">
            <a:noFill/>
          </a:ln>
        </p:spPr>
      </p:pic>
      <p:sp>
        <p:nvSpPr>
          <p:cNvPr id="529"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3"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4"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5"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3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45" name="Picture 17" descr="Facultad"/>
          <p:cNvPicPr/>
          <p:nvPr/>
        </p:nvPicPr>
        <p:blipFill>
          <a:blip r:embed="rId1"/>
          <a:stretch/>
        </p:blipFill>
        <p:spPr>
          <a:xfrm>
            <a:off x="7130880" y="6053040"/>
            <a:ext cx="1689120" cy="400320"/>
          </a:xfrm>
          <a:prstGeom prst="rect">
            <a:avLst/>
          </a:prstGeom>
          <a:ln w="0">
            <a:noFill/>
          </a:ln>
        </p:spPr>
      </p:pic>
      <p:sp>
        <p:nvSpPr>
          <p:cNvPr id="54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611280" y="1773360"/>
            <a:ext cx="79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8.-</a:t>
            </a:r>
            <a:r>
              <a:rPr b="0" lang="es-CL" sz="1800" spc="-1" strike="noStrike">
                <a:solidFill>
                  <a:srgbClr val="000000"/>
                </a:solidFill>
                <a:latin typeface="Arial"/>
              </a:rPr>
              <a:t> </a:t>
            </a:r>
            <a:r>
              <a:rPr b="1" lang="es-CL" sz="1800" spc="-1" strike="noStrike">
                <a:solidFill>
                  <a:srgbClr val="000000"/>
                </a:solidFill>
                <a:latin typeface="Arial"/>
              </a:rPr>
              <a:t>Fiscalización por entidades Gubernam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Valores y Seguros (SVS)</a:t>
            </a:r>
            <a:r>
              <a:rPr b="0"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fiscalización de las actividades y entidades que participan de los mercados de valores y de seguros en Chile. Velar porque las supervisadas cumplan con  leyes, reglamentos, estatutos y otras disposiciones que rijan el funcionamiento de los mercad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upervisa, norma, sanciona y promueve los mercados de valores y de seguro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stitución autónoma, personalidad jurídica y patrimonio propio se relaciona con el Gobierno a través del Ministerio de Hac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Administradoras de Fondos de Pensiones (SAF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y fiscaliza el sistema de pensiones y el Seguro de Cesantí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50" name=""/>
          <p:cNvSpPr/>
          <p:nvPr/>
        </p:nvSpPr>
        <p:spPr>
          <a:xfrm>
            <a:off x="-1081080" y="3205440"/>
            <a:ext cx="1130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4"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5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64" name="Picture 17" descr="Facultad"/>
          <p:cNvPicPr/>
          <p:nvPr/>
        </p:nvPicPr>
        <p:blipFill>
          <a:blip r:embed="rId1"/>
          <a:stretch/>
        </p:blipFill>
        <p:spPr>
          <a:xfrm>
            <a:off x="7130880" y="6053040"/>
            <a:ext cx="1689120" cy="400320"/>
          </a:xfrm>
          <a:prstGeom prst="rect">
            <a:avLst/>
          </a:prstGeom>
          <a:ln w="0">
            <a:noFill/>
          </a:ln>
        </p:spPr>
      </p:pic>
      <p:sp>
        <p:nvSpPr>
          <p:cNvPr id="56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611280" y="1773360"/>
            <a:ext cx="7993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Bancos e Instituciones Financieras (SBIF)</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y fiscaliza el sistema banc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Banco Central de Chile</a:t>
            </a:r>
            <a:r>
              <a:rPr b="0" lang="es-C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mple  función regulador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tiva de mercado monetario y cambiari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ímites en las inversiones de instrumentos en el extranjero de AF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greso y salida de divisas para esos fondo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9" name=""/>
          <p:cNvSpPr/>
          <p:nvPr/>
        </p:nvSpPr>
        <p:spPr>
          <a:xfrm>
            <a:off x="-1081080" y="3205440"/>
            <a:ext cx="1130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3"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7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83" name="Picture 17" descr="Facultad"/>
          <p:cNvPicPr/>
          <p:nvPr/>
        </p:nvPicPr>
        <p:blipFill>
          <a:blip r:embed="rId1"/>
          <a:stretch/>
        </p:blipFill>
        <p:spPr>
          <a:xfrm>
            <a:off x="7130880" y="6053040"/>
            <a:ext cx="1689120" cy="400320"/>
          </a:xfrm>
          <a:prstGeom prst="rect">
            <a:avLst/>
          </a:prstGeom>
          <a:ln w="0">
            <a:noFill/>
          </a:ln>
        </p:spPr>
      </p:pic>
      <p:sp>
        <p:nvSpPr>
          <p:cNvPr id="58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095480" y="2058840"/>
            <a:ext cx="6645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88"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89" name=""/>
          <p:cNvSpPr/>
          <p:nvPr/>
        </p:nvSpPr>
        <p:spPr>
          <a:xfrm>
            <a:off x="324000" y="1916280"/>
            <a:ext cx="828036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scalización por la Superintendencia de Valores y Segu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Ley orgánica contenida en el D.L. N ° 3538 de 1980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iscalización de la SVS abarc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edades anónimas gene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edades anónimas especiales, como Bolsas de Comercio, Cámaras de Compensación, Fondos Mutuos, Compañías de Seguros, Mercado de valores, 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995640" y="378936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400" spc="-1" strike="noStrike">
              <a:solidFill>
                <a:srgbClr val="000000"/>
              </a:solidFill>
              <a:latin typeface="Arial"/>
            </a:endParaRPr>
          </a:p>
        </p:txBody>
      </p:sp>
      <p:sp>
        <p:nvSpPr>
          <p:cNvPr id="591" name=""/>
          <p:cNvSpPr/>
          <p:nvPr/>
        </p:nvSpPr>
        <p:spPr>
          <a:xfrm flipV="1">
            <a:off x="3995640" y="3499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92" name=""/>
          <p:cNvSpPr/>
          <p:nvPr/>
        </p:nvSpPr>
        <p:spPr>
          <a:xfrm flipV="1">
            <a:off x="3995640" y="314136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93" name=""/>
          <p:cNvSpPr/>
          <p:nvPr/>
        </p:nvSpPr>
        <p:spPr>
          <a:xfrm>
            <a:off x="4642920" y="299736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abiertas</a:t>
            </a:r>
            <a:endParaRPr b="0" lang="en-US" sz="1200" spc="-1" strike="noStrike">
              <a:solidFill>
                <a:srgbClr val="000000"/>
              </a:solidFill>
              <a:latin typeface="Arial"/>
            </a:endParaRPr>
          </a:p>
        </p:txBody>
      </p:sp>
      <p:sp>
        <p:nvSpPr>
          <p:cNvPr id="594" name=""/>
          <p:cNvSpPr/>
          <p:nvPr/>
        </p:nvSpPr>
        <p:spPr>
          <a:xfrm>
            <a:off x="4641840" y="335772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especiales</a:t>
            </a:r>
            <a:endParaRPr b="0" lang="en-US" sz="1200" spc="-1" strike="noStrike">
              <a:solidFill>
                <a:srgbClr val="000000"/>
              </a:solidFill>
              <a:latin typeface="Arial"/>
            </a:endParaRPr>
          </a:p>
        </p:txBody>
      </p:sp>
      <p:sp>
        <p:nvSpPr>
          <p:cNvPr id="595" name=""/>
          <p:cNvSpPr/>
          <p:nvPr/>
        </p:nvSpPr>
        <p:spPr>
          <a:xfrm>
            <a:off x="4643280" y="3716280"/>
            <a:ext cx="410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abiertas o especiales, que estando por ley sometidas al control de otra Superintendencia, emitan valores. (art. 2 inc. 5°, Ley 18.04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8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2" name="AutoShape 16"/>
          <p:cNvSpPr/>
          <p:nvPr/>
        </p:nvSpPr>
        <p:spPr>
          <a:xfrm>
            <a:off x="539640" y="-809640"/>
            <a:ext cx="9355320" cy="1134432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Aspectos General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0" lang="es-CL" sz="1800" spc="-1" strike="noStrike">
                <a:solidFill>
                  <a:srgbClr val="000000"/>
                </a:solidFill>
                <a:latin typeface="Arial"/>
              </a:rPr>
              <a:t>Regul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Ley 18.046 de 1981, Ley sobre Sociedades Anónim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S. N°587 de 1982, que aprueba el Reglamento sobre Sociedades Anónim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Orgánica de la Superintendencia de Valores y Seguros (DL 3538 del año 198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18.045 sobre Mercado de Valor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nes de Fiscalización: Tributarios, de legislación laboral, societario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recho Comparado: Existen múltiples sistemas de fiscal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Justicia Ordinaria (EE.UU, Gran Bretaña, Ital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Órganos sociales de fiscalización permanentes: Juntas de Vigilancia (Alemania y Francia), Colegio Sindical (Itali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opios accion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17" descr="Facultad"/>
          <p:cNvPicPr/>
          <p:nvPr/>
        </p:nvPicPr>
        <p:blipFill>
          <a:blip r:embed="rId1"/>
          <a:stretch/>
        </p:blipFill>
        <p:spPr>
          <a:xfrm>
            <a:off x="7130880" y="6053040"/>
            <a:ext cx="1689120" cy="400320"/>
          </a:xfrm>
          <a:prstGeom prst="rect">
            <a:avLst/>
          </a:prstGeom>
          <a:ln w="0">
            <a:noFill/>
          </a:ln>
        </p:spPr>
      </p:pic>
      <p:sp>
        <p:nvSpPr>
          <p:cNvPr id="9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9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0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0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10" name="Picture 17" descr="Facultad"/>
          <p:cNvPicPr/>
          <p:nvPr/>
        </p:nvPicPr>
        <p:blipFill>
          <a:blip r:embed="rId1"/>
          <a:stretch/>
        </p:blipFill>
        <p:spPr>
          <a:xfrm>
            <a:off x="7130880" y="6053040"/>
            <a:ext cx="1689120" cy="400320"/>
          </a:xfrm>
          <a:prstGeom prst="rect">
            <a:avLst/>
          </a:prstGeom>
          <a:ln w="0">
            <a:noFill/>
          </a:ln>
        </p:spPr>
      </p:pic>
      <p:sp>
        <p:nvSpPr>
          <p:cNvPr id="61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539640" y="1916280"/>
            <a:ext cx="7704360" cy="445140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incipales atribuciones de la SVS en cuanto a esta materia:</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pretrar administrativamente, en materia de su competencia las leyes, reglamentos y demás normas que rigen a las personas o entidades fiscalizadas, impartirles instrucciones y dictar órdenes para su aplicación y cumplimiento( art. 4 letras a) y k) del D.L. N° 3538 del año 1980).</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onar administrativamente a las entidades fiscalizadas, a sus directores, gerentes, dependientes, inspectores de cuentas, liquidadores y auditores externos, de conformidad a a los arts. 27, 28 y sgtes. Del D.L. N° 3538 y art. 53 del R.S.A.</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18"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2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2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29" name="Picture 17" descr="Facultad"/>
          <p:cNvPicPr/>
          <p:nvPr/>
        </p:nvPicPr>
        <p:blipFill>
          <a:blip r:embed="rId1"/>
          <a:stretch/>
        </p:blipFill>
        <p:spPr>
          <a:xfrm>
            <a:off x="7130880" y="6053040"/>
            <a:ext cx="1689120" cy="400320"/>
          </a:xfrm>
          <a:prstGeom prst="rect">
            <a:avLst/>
          </a:prstGeom>
          <a:ln w="0">
            <a:noFill/>
          </a:ln>
        </p:spPr>
      </p:pic>
      <p:sp>
        <p:nvSpPr>
          <p:cNvPr id="63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900000" y="1700280"/>
            <a:ext cx="7221600" cy="420876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ol jurisdiccional. Tanto respecto a las sanciones que aplique la Superintendencia, como en relación con las normas generales, instrucciones, comunicaciones, resoluciones u omisiones la legislación contempla recursos contenciosos administrativos especiales para impugnarlos, en los arts. 30, 44, 45 y 46 del D.L. N° 3538 del año 1980</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Facultades inspectivas para conocer de los antecedentes sociales. La ley otorga atribuciones muy amplias a la Superintendencia con tal fin, y además para garantizar su ejercicio contempla apremios para casos de entorpecimientos e incumplimiento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Atribuciones en relación a normas contables. Están tratadas en la letra e) del art. 4° del D.L. N° 3538 del año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37"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4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48" name="Picture 17" descr="Facultad"/>
          <p:cNvPicPr/>
          <p:nvPr/>
        </p:nvPicPr>
        <p:blipFill>
          <a:blip r:embed="rId1"/>
          <a:stretch/>
        </p:blipFill>
        <p:spPr>
          <a:xfrm>
            <a:off x="7130880" y="6053040"/>
            <a:ext cx="1689120" cy="400320"/>
          </a:xfrm>
          <a:prstGeom prst="rect">
            <a:avLst/>
          </a:prstGeom>
          <a:ln w="0">
            <a:noFill/>
          </a:ln>
        </p:spPr>
      </p:pic>
      <p:sp>
        <p:nvSpPr>
          <p:cNvPr id="649"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900000" y="1700280"/>
            <a:ext cx="7221600" cy="228852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rol Indirecto.</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asificadoras de Riesgo (ej. Clasificación de riesgo de sus instrumentos de deuda).</a:t>
            </a: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0" name="Text Box 5"/>
          <p:cNvSpPr/>
          <p:nvPr/>
        </p:nvSpPr>
        <p:spPr>
          <a:xfrm flipV="1" rot="10800000">
            <a:off x="394920" y="1484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0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1" name="AutoShape 16"/>
          <p:cNvSpPr/>
          <p:nvPr/>
        </p:nvSpPr>
        <p:spPr>
          <a:xfrm>
            <a:off x="539640" y="-536400"/>
            <a:ext cx="9355320" cy="102470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recho Chile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otorgan </a:t>
            </a:r>
            <a:r>
              <a:rPr b="1" lang="es-CL" sz="1800" spc="-1" strike="noStrike">
                <a:solidFill>
                  <a:srgbClr val="000000"/>
                </a:solidFill>
                <a:latin typeface="Arial"/>
              </a:rPr>
              <a:t>limitadas</a:t>
            </a:r>
            <a:r>
              <a:rPr b="0" lang="es-CL" sz="1800" spc="-1" strike="noStrike">
                <a:solidFill>
                  <a:srgbClr val="000000"/>
                </a:solidFill>
                <a:latin typeface="Arial"/>
              </a:rPr>
              <a:t> facultades de fiscalización a los accion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sten órganos sociales permanentes de fiscal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t>
            </a:r>
            <a:r>
              <a:rPr b="1" lang="es-CL" sz="1800" spc="-1" strike="noStrike">
                <a:solidFill>
                  <a:srgbClr val="000000"/>
                </a:solidFill>
                <a:latin typeface="Arial"/>
              </a:rPr>
              <a:t>obligatoria</a:t>
            </a:r>
            <a:r>
              <a:rPr b="0" lang="es-CL" sz="1800" spc="-1" strike="noStrike">
                <a:solidFill>
                  <a:srgbClr val="000000"/>
                </a:solidFill>
                <a:latin typeface="Arial"/>
              </a:rPr>
              <a:t> la fiscalización de todas las S.A. mediante inspectores de cuentas y en ciertos casos auditores exter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Tribunales de Justicia </a:t>
            </a:r>
            <a:r>
              <a:rPr b="1" lang="es-CL" sz="1800" spc="-1" strike="noStrike">
                <a:solidFill>
                  <a:srgbClr val="000000"/>
                </a:solidFill>
                <a:latin typeface="Arial"/>
              </a:rPr>
              <a:t>no</a:t>
            </a:r>
            <a:r>
              <a:rPr b="0" lang="es-CL" sz="1800" spc="-1" strike="noStrike">
                <a:solidFill>
                  <a:srgbClr val="000000"/>
                </a:solidFill>
                <a:latin typeface="Arial"/>
              </a:rPr>
              <a:t> tienen facultades para fiscalizar las S.A., excepto respecto de conflictos societarios y medidas cautel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iertas S.A. especiales están sujetas a la </a:t>
            </a:r>
            <a:r>
              <a:rPr b="1" lang="es-CL" sz="1800" spc="-1" strike="noStrike">
                <a:solidFill>
                  <a:srgbClr val="000000"/>
                </a:solidFill>
                <a:latin typeface="Arial"/>
              </a:rPr>
              <a:t>fiscalización de organismos estatales</a:t>
            </a:r>
            <a:r>
              <a:rPr b="0" lang="es-CL" sz="1800" spc="-1" strike="noStrike">
                <a:solidFill>
                  <a:srgbClr val="000000"/>
                </a:solidFill>
                <a:latin typeface="Arial"/>
              </a:rPr>
              <a:t> denominados “Superintend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17" descr="Facultad"/>
          <p:cNvPicPr/>
          <p:nvPr/>
        </p:nvPicPr>
        <p:blipFill>
          <a:blip r:embed="rId1"/>
          <a:stretch/>
        </p:blipFill>
        <p:spPr>
          <a:xfrm>
            <a:off x="7130880" y="6053040"/>
            <a:ext cx="1689120" cy="400320"/>
          </a:xfrm>
          <a:prstGeom prst="rect">
            <a:avLst/>
          </a:prstGeom>
          <a:ln w="0">
            <a:noFill/>
          </a:ln>
        </p:spPr>
      </p:pic>
      <p:sp>
        <p:nvSpPr>
          <p:cNvPr id="11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2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2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30" name="AutoShape 16"/>
          <p:cNvSpPr/>
          <p:nvPr/>
        </p:nvSpPr>
        <p:spPr>
          <a:xfrm>
            <a:off x="250920" y="-630360"/>
            <a:ext cx="9354960" cy="1110096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El estatuto y las facultades de fiscaliz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Art. 4. L.S.A. </a:t>
            </a:r>
            <a:r>
              <a:rPr b="0" lang="es-CL" sz="1800" spc="-1" strike="noStrike">
                <a:solidFill>
                  <a:srgbClr val="000000"/>
                </a:solidFill>
                <a:latin typeface="Arial"/>
              </a:rPr>
              <a:t>La escritura de sociedad debe expres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 La organización y modalidades de la administración social </a:t>
            </a:r>
            <a:r>
              <a:rPr b="1" lang="es-CL" sz="1800" spc="-1" strike="noStrike">
                <a:solidFill>
                  <a:srgbClr val="000000"/>
                </a:solidFill>
                <a:latin typeface="Arial"/>
              </a:rPr>
              <a:t>y de su fiscalización por los accionista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12) Los demás pactos que acordaren los accioni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estatutos pueden establecer normas de fiscalización adicionales a las mínimas legales, sin embargo deben respetar las </a:t>
            </a:r>
            <a:r>
              <a:rPr b="1" lang="es-CL" sz="1800" spc="-1" strike="noStrike">
                <a:solidFill>
                  <a:srgbClr val="000000"/>
                </a:solidFill>
                <a:latin typeface="Arial"/>
              </a:rPr>
              <a:t>reglas de orden público </a:t>
            </a:r>
            <a:r>
              <a:rPr b="0" lang="es-CL" sz="1800" spc="-1" strike="noStrike">
                <a:solidFill>
                  <a:srgbClr val="000000"/>
                </a:solidFill>
                <a:latin typeface="Arial"/>
              </a:rPr>
              <a:t>del Título V de la L.S.A. Ej. Podrían establecer organismos permanentes de fiscalización tales como juntas de vigil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17" descr="Facultad"/>
          <p:cNvPicPr/>
          <p:nvPr/>
        </p:nvPicPr>
        <p:blipFill>
          <a:blip r:embed="rId1"/>
          <a:stretch/>
        </p:blipFill>
        <p:spPr>
          <a:xfrm>
            <a:off x="7130880" y="6053040"/>
            <a:ext cx="1689120" cy="400320"/>
          </a:xfrm>
          <a:prstGeom prst="rect">
            <a:avLst/>
          </a:prstGeom>
          <a:ln w="0">
            <a:noFill/>
          </a:ln>
        </p:spPr>
      </p:pic>
      <p:sp>
        <p:nvSpPr>
          <p:cNvPr id="132"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Text Box 20"/>
          <p:cNvSpPr/>
          <p:nvPr/>
        </p:nvSpPr>
        <p:spPr>
          <a:xfrm>
            <a:off x="250920" y="816120"/>
            <a:ext cx="871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38"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4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8" name="AutoShape 16"/>
          <p:cNvSpPr/>
          <p:nvPr/>
        </p:nvSpPr>
        <p:spPr>
          <a:xfrm>
            <a:off x="539640" y="-185760"/>
            <a:ext cx="9355320" cy="8965800"/>
          </a:xfrm>
          <a:prstGeom prst="rightArrow">
            <a:avLst>
              <a:gd name="adj1" fmla="val 50000"/>
              <a:gd name="adj2" fmla="val 26086"/>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 Derechos de fiscalización de los accionistas (art. 54. L.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memoria, balance, inventario, actas, libros y los informes de los auditores externos o inspectores de cuentas, quedarán a disposición de los accionistas para su examen en la oficina de la administración de la sociedad, durante los 15 días anteriores a la junta de accionista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liales – ídem.</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3/4 de los directores en ejercicio pueden dar el carácter de reservado a ciertos documentos referidos a negociaciones pendientes cuyo conocimiento pueda perjudicar el interés social. Directores que dolosa o culpablemente aprueben la declaración de reserva, responderán solidariamente de los perjuicios que ocasione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ciedades anónimas abiertas: la memoria, el informe de los auditores externos y los estados financieros auditados de la sociedad, deberán publicarse en el </a:t>
            </a:r>
            <a:r>
              <a:rPr b="1" lang="es-CL" sz="1800" spc="-1" strike="noStrike">
                <a:solidFill>
                  <a:srgbClr val="000000"/>
                </a:solidFill>
                <a:latin typeface="Arial"/>
              </a:rPr>
              <a:t>sitio en Internet</a:t>
            </a:r>
            <a:r>
              <a:rPr b="0" lang="es-CL"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7" descr="Facultad"/>
          <p:cNvPicPr/>
          <p:nvPr/>
        </p:nvPicPr>
        <p:blipFill>
          <a:blip r:embed="rId1"/>
          <a:stretch/>
        </p:blipFill>
        <p:spPr>
          <a:xfrm>
            <a:off x="7130880" y="6053040"/>
            <a:ext cx="1689120" cy="400320"/>
          </a:xfrm>
          <a:prstGeom prst="rect">
            <a:avLst/>
          </a:prstGeom>
          <a:ln w="0">
            <a:noFill/>
          </a:ln>
        </p:spPr>
      </p:pic>
      <p:sp>
        <p:nvSpPr>
          <p:cNvPr id="15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6"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7"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58"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9"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0"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1"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2"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3"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4"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5"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6" name="AutoShape 16"/>
          <p:cNvSpPr/>
          <p:nvPr/>
        </p:nvSpPr>
        <p:spPr>
          <a:xfrm>
            <a:off x="539640" y="-657360"/>
            <a:ext cx="9355320" cy="957456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Sistema mínimo de fiscalización propio de las S.A. cerradas: Inspectores de cuentas o auditores externos independientes (arts. 51 y ss. L.S.A., título IV Regl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ntas ordinaria debe designar anualmente 2 Inspectores de cuentas titulares y 2 suplentes, o bien auditores externos independ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unción: examinar la contabilidad, inventario, balance y otros estados financieros. Inspectores de cuentas</a:t>
            </a:r>
            <a:r>
              <a:rPr b="1" lang="es-CL" sz="1800" spc="-1" strike="noStrike">
                <a:solidFill>
                  <a:srgbClr val="000000"/>
                </a:solidFill>
                <a:latin typeface="Arial"/>
              </a:rPr>
              <a:t> </a:t>
            </a:r>
            <a:r>
              <a:rPr b="1" lang="es-CL" sz="1800" spc="-1" strike="noStrike" u="sng">
                <a:solidFill>
                  <a:srgbClr val="000000"/>
                </a:solidFill>
                <a:uFillTx/>
                <a:latin typeface="Arial"/>
              </a:rPr>
              <a:t>pueden</a:t>
            </a:r>
            <a:r>
              <a:rPr b="0" lang="es-CL" sz="1800" spc="-1" strike="noStrike">
                <a:solidFill>
                  <a:srgbClr val="000000"/>
                </a:solidFill>
                <a:latin typeface="Arial"/>
              </a:rPr>
              <a:t>, además, vigilar las operaciones sociales y fiscalizar las actuaciones de los administradores y el fiel cumplimiento de sus deberes legales, reglamentarios y estatuta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n informar </a:t>
            </a:r>
            <a:r>
              <a:rPr b="1" lang="es-CL" sz="1800" spc="-1" strike="noStrike" u="sng">
                <a:solidFill>
                  <a:srgbClr val="000000"/>
                </a:solidFill>
                <a:uFillTx/>
                <a:latin typeface="Arial"/>
              </a:rPr>
              <a:t>por escrito</a:t>
            </a:r>
            <a:r>
              <a:rPr b="0" lang="es-CL" sz="1800" spc="-1" strike="noStrike">
                <a:solidFill>
                  <a:srgbClr val="000000"/>
                </a:solidFill>
                <a:latin typeface="Arial"/>
              </a:rPr>
              <a:t> a la próxima junta ordinaria sobre el cumplimiento de su man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tutos pueden </a:t>
            </a:r>
            <a:r>
              <a:rPr b="1" lang="es-CL" sz="1800" spc="-1" strike="noStrike" u="sng">
                <a:solidFill>
                  <a:srgbClr val="000000"/>
                </a:solidFill>
                <a:uFillTx/>
                <a:latin typeface="Arial"/>
              </a:rPr>
              <a:t>eximir</a:t>
            </a:r>
            <a:r>
              <a:rPr b="0" lang="es-CL" sz="1800" spc="-1" strike="noStrike">
                <a:solidFill>
                  <a:srgbClr val="000000"/>
                </a:solidFill>
                <a:latin typeface="Arial"/>
              </a:rPr>
              <a:t> a la sociedad de la obligación de designar inspectores de cuenta o auditores externos, o establecer un mecanismo diverso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17" descr="Facultad"/>
          <p:cNvPicPr/>
          <p:nvPr/>
        </p:nvPicPr>
        <p:blipFill>
          <a:blip r:embed="rId1"/>
          <a:stretch/>
        </p:blipFill>
        <p:spPr>
          <a:xfrm>
            <a:off x="7130880" y="6053040"/>
            <a:ext cx="1689120" cy="400320"/>
          </a:xfrm>
          <a:prstGeom prst="rect">
            <a:avLst/>
          </a:prstGeom>
          <a:ln w="0">
            <a:noFill/>
          </a:ln>
        </p:spPr>
      </p:pic>
      <p:sp>
        <p:nvSpPr>
          <p:cNvPr id="168"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4"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7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5" name="AutoShape 16"/>
          <p:cNvSpPr/>
          <p:nvPr/>
        </p:nvSpPr>
        <p:spPr>
          <a:xfrm>
            <a:off x="539640" y="-135000"/>
            <a:ext cx="9355320" cy="8447040"/>
          </a:xfrm>
          <a:prstGeom prst="rightArrow">
            <a:avLst>
              <a:gd name="adj1" fmla="val 50000"/>
              <a:gd name="adj2" fmla="val 27688"/>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quisitos para ser inspector de cuen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mayor de eda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ibres administradores de sus bien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condenados por delitos que merezcan pena aflictiva; 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ser directores, liquidadores, gerentes o trabajadores de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ponsabilidad: </a:t>
            </a:r>
            <a:r>
              <a:rPr b="0" lang="es-CL" sz="1800" spc="-1" strike="noStrike">
                <a:solidFill>
                  <a:srgbClr val="000000"/>
                </a:solidFill>
                <a:latin typeface="Arial"/>
              </a:rPr>
              <a:t>responden hasta de culpa leve por los perjuicios que causen a la los accionistas con ocasión de sus actuaciones o inform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recho a asistir a juntas de accionistas, con derecho a vo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7" descr="Facultad"/>
          <p:cNvPicPr/>
          <p:nvPr/>
        </p:nvPicPr>
        <p:blipFill>
          <a:blip r:embed="rId1"/>
          <a:stretch/>
        </p:blipFill>
        <p:spPr>
          <a:xfrm>
            <a:off x="7130880" y="6053040"/>
            <a:ext cx="1689120" cy="400320"/>
          </a:xfrm>
          <a:prstGeom prst="rect">
            <a:avLst/>
          </a:prstGeom>
          <a:ln w="0">
            <a:noFill/>
          </a:ln>
        </p:spPr>
      </p:pic>
      <p:sp>
        <p:nvSpPr>
          <p:cNvPr id="187"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9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17" descr="Facultad"/>
          <p:cNvPicPr/>
          <p:nvPr/>
        </p:nvPicPr>
        <p:blipFill>
          <a:blip r:embed="rId1"/>
          <a:stretch/>
        </p:blipFill>
        <p:spPr>
          <a:xfrm>
            <a:off x="7130880" y="6053040"/>
            <a:ext cx="1689120" cy="400320"/>
          </a:xfrm>
          <a:prstGeom prst="rect">
            <a:avLst/>
          </a:prstGeom>
          <a:ln w="0">
            <a:noFill/>
          </a:ln>
        </p:spPr>
      </p:pic>
      <p:sp>
        <p:nvSpPr>
          <p:cNvPr id="20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39640" y="1916280"/>
            <a:ext cx="828036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rítica al sistema de inspectores de cuen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no les exige conocimientos básicos que den garantías de idoneidad para el ejercicio del car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n designados por la misma mayoría que elige a los administradores, a quienes corresponde fiscalizar;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u remuneración normalmente es fijada por acuerdo entre el inspector y la administración a la que debe fiscaliza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AMARTIN</cp:lastModifiedBy>
  <dcterms:modified xsi:type="dcterms:W3CDTF">2010-09-23T16:42:34Z</dcterms:modified>
  <cp:revision>285</cp:revision>
  <dc:subject/>
  <dc:title>Sin título de diapositiva</dc:title>
</cp:coreProperties>
</file>