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C87-077E-4138-95E9-9E94BE98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F02-FB97-4497-BBB1-21BB462D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AAD-227D-44BF-B507-95C55D4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888-58CC-4A6D-821C-9B03E508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031-04C4-4325-9A2D-CFBE04E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F38-6054-445D-AF78-2D584136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C68-C448-4652-952A-FD65EC87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122-A066-42FD-BD99-AE2D6799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193-29CA-48D3-A459-3FA4CA9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F96-8299-4346-8DF0-E046D9B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558-52D2-45F3-961D-1121C23D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F47-6789-427F-8AD0-CC926D6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470-6684-4D99-9647-0D8D55243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717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alibri"/>
              </a:rPr>
              <a:t>DIREC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5320" y="8431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Administra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294160"/>
            <a:ext cx="30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°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yudante: Ana María Y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 mail ayuri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istema de representación mediante un órgano social. El Directorio de una sociedad anónima es un órgano representativo y administrativo de la sociedad y no un mero mandatario de ésta ni de sus accionista (arts 31 y 39 Ley 18.04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21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 actuación debe observar una conducta que se conforme con 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 no el interés de aquél que los nombró (art. 39 inc. 3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2200" y="4653000"/>
            <a:ext cx="864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os Directores deben cumplir sus funciones procurando satisfacer la finalidad que tuvieron en mira los accionistas al organizarse a través de la sociedad: maximizar las utilidades y el valor de la respectiva compañ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360" y="21337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terés social y objeto social, medida del ámbito de acción de los dire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ncipio que informa la actuación de aquéllos que no sólo administran intereses ajenos sino que también ejercen derechos propios en el marco socie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702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 este contexto se ubican algunas prohibiciones impuestas por la Ley 18.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42 N°1 Proponer modificaciones ….. no tengan por fin el interés soc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. 42 N°7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n general, practicar actos ilegales o contrarios a los estatutos o al interés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13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nomía e independencia del directorio en el ámbito d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708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557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directorio es por ley el órgano que administra la S.A., con independencia de la estructura interna de administración que organice para su ejercicio. (art. 40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997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imitaciones a la representa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Giro social/no requiere acreditación a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ctos privativos de Juntas/ interven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onvenios Lim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22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delegación de facultades. (art. 40 Ley 18.046) acto un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66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ey lo determina. Estatutos no pueden privar al directorio de sus facultades (arts. 4 n°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 “La organización y modalidades de la administración social y de su fiscalización por los accionista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141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mposición, mínimos de directores y duración en el cargo (art. 31 y 34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971640" y="4436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4" name="AutoShape 21"/>
          <p:cNvCxnSpPr/>
          <p:nvPr/>
        </p:nvCxnSpPr>
        <p:spPr>
          <a:xfrm>
            <a:off x="971280" y="3933720"/>
            <a:ext cx="1080" cy="14392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474920" y="4191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4653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gración mínima según sea s.a. cerrado o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1840" y="5084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uración máxima tres años, salvo prórroga del art. 3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21"/>
          <p:cNvCxnSpPr/>
          <p:nvPr/>
        </p:nvCxnSpPr>
        <p:spPr>
          <a:xfrm>
            <a:off x="899640" y="5372280"/>
            <a:ext cx="577080" cy="216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>
            <a:off x="971640" y="4868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56307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es titulares y sup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21"/>
          <p:cNvCxnSpPr/>
          <p:nvPr/>
        </p:nvCxnSpPr>
        <p:spPr>
          <a:xfrm>
            <a:off x="539280" y="42192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58" name="AutoShape 21"/>
          <p:cNvCxnSpPr/>
          <p:nvPr/>
        </p:nvCxnSpPr>
        <p:spPr>
          <a:xfrm>
            <a:off x="539280" y="3715920"/>
            <a:ext cx="1080" cy="14389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1042920" y="3500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 a reuniones extraordinarias de directorio y preside las ju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979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me empates (quien preside s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21"/>
          <p:cNvCxnSpPr/>
          <p:nvPr/>
        </p:nvCxnSpPr>
        <p:spPr>
          <a:xfrm>
            <a:off x="468000" y="5154120"/>
            <a:ext cx="577080" cy="25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21"/>
          <p:cNvCxnSpPr/>
          <p:nvPr/>
        </p:nvCxnSpPr>
        <p:spPr>
          <a:xfrm>
            <a:off x="539280" y="465084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io provisorio y directores nombrados por el directorio en caso de va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21"/>
          <p:cNvCxnSpPr/>
          <p:nvPr/>
        </p:nvCxnSpPr>
        <p:spPr>
          <a:xfrm>
            <a:off x="539280" y="371592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042920" y="4437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ge las s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916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as demás que establezcan los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563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icepresidente y secre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86" name="AutoShape 21"/>
          <p:cNvCxnSpPr/>
          <p:nvPr/>
        </p:nvCxnSpPr>
        <p:spPr>
          <a:xfrm>
            <a:off x="971280" y="2060640"/>
            <a:ext cx="1080" cy="252144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n sala legalmente constituida (art. 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21"/>
          <p:cNvCxnSpPr>
            <a:endCxn id="189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90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uniones ordinarias y extraordinarias (art. 38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ciones (art. 40 del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21"/>
          <p:cNvCxnSpPr/>
          <p:nvPr/>
        </p:nvCxnSpPr>
        <p:spPr>
          <a:xfrm flipV="1">
            <a:off x="971640" y="399348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476360" y="3763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Quórum y acuer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21"/>
          <p:cNvCxnSpPr/>
          <p:nvPr/>
        </p:nvCxnSpPr>
        <p:spPr>
          <a:xfrm flipV="1">
            <a:off x="971640" y="44967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1476360" y="4221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ctas (art. 48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muneración (inc. 1°. 33 Ley 18.046, 35 y 36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21"/>
          <p:cNvCxnSpPr>
            <a:endCxn id="216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17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capacidades e inhabilidades (arts. 35 y 36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rech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" y="3908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21"/>
          <p:cNvCxnSpPr/>
          <p:nvPr/>
        </p:nvCxnSpPr>
        <p:spPr>
          <a:xfrm>
            <a:off x="971640" y="4581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403280" y="43401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designado por el directorio, quien le fija sus atrib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434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 actuar bajo las instrucciones del dire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21"/>
          <p:cNvCxnSpPr/>
          <p:nvPr/>
        </p:nvCxnSpPr>
        <p:spPr>
          <a:xfrm>
            <a:off x="971640" y="508428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25" name="AutoShape 21"/>
          <p:cNvCxnSpPr/>
          <p:nvPr/>
        </p:nvCxnSpPr>
        <p:spPr>
          <a:xfrm>
            <a:off x="971640" y="55893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1403280" y="534348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incompatible con cargo de director en S.A.A y de presidente y auditor en S.A.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200" y="16714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21"/>
          <p:cNvCxnSpPr/>
          <p:nvPr/>
        </p:nvCxnSpPr>
        <p:spPr>
          <a:xfrm>
            <a:off x="250920" y="245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4" name="AutoShape 21"/>
          <p:cNvCxnSpPr/>
          <p:nvPr/>
        </p:nvCxnSpPr>
        <p:spPr>
          <a:xfrm>
            <a:off x="250920" y="299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5" name="AutoShape 21"/>
          <p:cNvCxnSpPr/>
          <p:nvPr/>
        </p:nvCxnSpPr>
        <p:spPr>
          <a:xfrm>
            <a:off x="178920" y="37890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81120" y="2751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articipa con derecho a voz en el directorio, respondiendo con los directores de los acuerdos perjudiciales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2251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ínculo Jur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21"/>
          <p:cNvCxnSpPr/>
          <p:nvPr/>
        </p:nvCxnSpPr>
        <p:spPr>
          <a:xfrm>
            <a:off x="250920" y="476532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84360" y="1557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361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n ejercer sus funciones empleando el cuidado y diligenci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os hombres emplean ordinariamente en sus propios negoc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51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e son aplicables las disposiciones legales referente a directores que sean compatibles con la responsabilidad propia del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14:53:43Z</dcterms:modified>
  <cp:revision>55</cp:revision>
  <dc:subject/>
  <dc:title>Sin título de diapositiva</dc:title>
</cp:coreProperties>
</file>