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227-B71E-4208-B8C0-D9F911A8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C4E-9AA4-4913-AA97-16A23C80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CFBD-D4BD-4104-8175-6E821936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06E3-6A31-43DE-8CFF-45D3D8E2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40F1-4405-4729-885E-1ECA837A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8008-8720-417E-94D8-5FCC4E81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EA1-F7AB-43B4-B245-7FC00C00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52B-2EAE-4D9C-95DF-CA9EDB34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7BE-23E1-4708-8349-D75BFC01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56A-60C6-4657-9C63-21E7B42F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0112-0C25-4691-A015-F9E14DB9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2628-5A41-4907-BDAB-D8E9CA18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4175-0C2B-44F6-8C94-B8935E647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71764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Calibri"/>
              </a:rPr>
              <a:t>DIRECTO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55320" y="843120"/>
            <a:ext cx="63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Administración y Re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5294160"/>
            <a:ext cx="304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2° semest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Ayudante: Ana María Yu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E mail ayuri@bm-ahj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4292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41440" y="69228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Característica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48428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Sistema de representación mediante un órgano social. El Directorio de una sociedad anónima es un órgano representativo y administrativo de la sociedad y no un mero mandatario de ésta ni de sus accionista (arts 31 y 39 Ley 18.04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3321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u actuación debe observar una conducta que se conforme con el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interés social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y no el interés de aquél que los nombró (art. 39 inc. 3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2200" y="4653000"/>
            <a:ext cx="864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Los Directores deben cumplir sus funciones procurando satisfacer la finalidad que tuvieron en mira los accionistas al organizarse a través de la sociedad: maximizar las utilidades y el valor de la respectiva compañ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4292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360" y="213372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Interés social y objeto social, medida del ámbito de acción de los dire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rincipio que informa la actuación de aquéllos que no sólo administran intereses ajenos sino que también ejercen derechos propios en el marco socie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41440" y="69228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Característica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417024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En este contexto se ubican algunas prohibiciones impuestas por la Ley 18.0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rt. 42 N°1 Proponer modificaciones ….. no tengan por fin el interés soci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t. 42 N°7 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n general, practicar actos ilegales o contrarios a los estatutos o al interés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413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utonomía e independencia del directorio en el ámbito del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interés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4292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97080" y="69228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Característica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55736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directorio es por ley el órgano que administra la S.A., con independencia de la estructura interna de administración que organice para su ejercicio. (art. 40 Ley 18.0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299736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Limitaciones a la representación del direc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Giro social/no requiere acreditación a terc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ctos privativos de Juntas/ intervención del direc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Convenios Limit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229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delegación de facultades. (art. 40 Ley 18.046) acto uni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6257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4292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28040" y="836640"/>
            <a:ext cx="60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Organización y Fun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66536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Ley lo determina. Estatutos no pueden privar al directorio de sus facultades (arts. 4 n°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6 “La organización y modalidades de la administración social y de su fiscalización por los accionista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31417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Composición, mínimos de directores y duración en el cargo (art. 31 y 34 ley 18.0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AutoShape 21"/>
          <p:cNvCxnSpPr/>
          <p:nvPr/>
        </p:nvCxnSpPr>
        <p:spPr>
          <a:xfrm>
            <a:off x="971640" y="443664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134" name="AutoShape 21"/>
          <p:cNvCxnSpPr/>
          <p:nvPr/>
        </p:nvCxnSpPr>
        <p:spPr>
          <a:xfrm>
            <a:off x="971280" y="3933720"/>
            <a:ext cx="1080" cy="14392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474920" y="41911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De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03280" y="465300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Integración mínima según sea s.a. cerrado o ab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01840" y="5084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duración máxima tres años, salvo prórroga del art. 3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AutoShape 21"/>
          <p:cNvCxnSpPr/>
          <p:nvPr/>
        </p:nvCxnSpPr>
        <p:spPr>
          <a:xfrm>
            <a:off x="899640" y="5372280"/>
            <a:ext cx="577080" cy="216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139" name="AutoShape 21"/>
          <p:cNvCxnSpPr/>
          <p:nvPr/>
        </p:nvCxnSpPr>
        <p:spPr>
          <a:xfrm>
            <a:off x="971640" y="486864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0920" y="56307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Directores titulares y supl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6257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4292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9242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Presi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AutoShape 21"/>
          <p:cNvCxnSpPr/>
          <p:nvPr/>
        </p:nvCxnSpPr>
        <p:spPr>
          <a:xfrm>
            <a:off x="539280" y="4219200"/>
            <a:ext cx="50580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158" name="AutoShape 21"/>
          <p:cNvCxnSpPr/>
          <p:nvPr/>
        </p:nvCxnSpPr>
        <p:spPr>
          <a:xfrm>
            <a:off x="539280" y="3715920"/>
            <a:ext cx="1080" cy="143892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1042920" y="350028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ita a reuniones extraordinarias de directorio y preside las ju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397980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Dirime empates (quien preside ses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21"/>
          <p:cNvCxnSpPr/>
          <p:nvPr/>
        </p:nvCxnSpPr>
        <p:spPr>
          <a:xfrm>
            <a:off x="468000" y="5154120"/>
            <a:ext cx="577080" cy="252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162" name="AutoShape 21"/>
          <p:cNvCxnSpPr/>
          <p:nvPr/>
        </p:nvCxnSpPr>
        <p:spPr>
          <a:xfrm>
            <a:off x="539280" y="4650840"/>
            <a:ext cx="50580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50920" y="1844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Directorio provisorio y directores nombrados por el directorio en caso de vac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AutoShape 21"/>
          <p:cNvCxnSpPr/>
          <p:nvPr/>
        </p:nvCxnSpPr>
        <p:spPr>
          <a:xfrm>
            <a:off x="539280" y="3715920"/>
            <a:ext cx="50580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1042920" y="443700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Dirige las se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49165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Las demás que establezcan los esta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56358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Vicepresidente y secre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28040" y="836640"/>
            <a:ext cx="60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Organización y Fun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6257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04292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628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21"/>
          <p:cNvCxnSpPr/>
          <p:nvPr/>
        </p:nvCxnSpPr>
        <p:spPr>
          <a:xfrm>
            <a:off x="971640" y="256356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186" name="AutoShape 21"/>
          <p:cNvCxnSpPr/>
          <p:nvPr/>
        </p:nvCxnSpPr>
        <p:spPr>
          <a:xfrm>
            <a:off x="971280" y="2060640"/>
            <a:ext cx="1080" cy="252144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1474920" y="23241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n sala legalmente constituida (art. 3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21"/>
          <p:cNvCxnSpPr>
            <a:endCxn id="189" idx="1"/>
          </p:cNvCxnSpPr>
          <p:nvPr/>
        </p:nvCxnSpPr>
        <p:spPr>
          <a:xfrm flipV="1">
            <a:off x="971640" y="3486960"/>
            <a:ext cx="505440" cy="118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190" name="AutoShape 21"/>
          <p:cNvCxnSpPr/>
          <p:nvPr/>
        </p:nvCxnSpPr>
        <p:spPr>
          <a:xfrm>
            <a:off x="971640" y="299520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1474920" y="27558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Reuniones ordinarias y extraordinarias (art. 38 Regl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76360" y="325908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itaciones (art. 40 del Regl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AutoShape 21"/>
          <p:cNvCxnSpPr/>
          <p:nvPr/>
        </p:nvCxnSpPr>
        <p:spPr>
          <a:xfrm flipV="1">
            <a:off x="971640" y="3993480"/>
            <a:ext cx="505440" cy="118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1476360" y="376380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Quórum y acuer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28040" y="836640"/>
            <a:ext cx="60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Organización y Fun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21"/>
          <p:cNvCxnSpPr/>
          <p:nvPr/>
        </p:nvCxnSpPr>
        <p:spPr>
          <a:xfrm flipV="1">
            <a:off x="971640" y="4496760"/>
            <a:ext cx="505440" cy="118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1476360" y="422100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Actas (art. 48 ley 18.0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6257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04292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1628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Dire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21"/>
          <p:cNvCxnSpPr/>
          <p:nvPr/>
        </p:nvCxnSpPr>
        <p:spPr>
          <a:xfrm>
            <a:off x="971640" y="256356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1474920" y="23241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Remuneración (inc. 1°. 33 Ley 18.046, 35 y 36 Regl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21"/>
          <p:cNvCxnSpPr>
            <a:endCxn id="216" idx="1"/>
          </p:cNvCxnSpPr>
          <p:nvPr/>
        </p:nvCxnSpPr>
        <p:spPr>
          <a:xfrm flipV="1">
            <a:off x="971640" y="3486960"/>
            <a:ext cx="505440" cy="118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217" name="AutoShape 21"/>
          <p:cNvCxnSpPr/>
          <p:nvPr/>
        </p:nvCxnSpPr>
        <p:spPr>
          <a:xfrm>
            <a:off x="971640" y="299520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1474920" y="27558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Incapacidades e inhabilidades (arts. 35 y 36 Ley 18.0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76360" y="325908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Derech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28040" y="836640"/>
            <a:ext cx="60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Organización y Fun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2200" y="39085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Ge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AutoShape 21"/>
          <p:cNvCxnSpPr/>
          <p:nvPr/>
        </p:nvCxnSpPr>
        <p:spPr>
          <a:xfrm>
            <a:off x="971640" y="458100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1403280" y="434016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 designado por el directorio, quien le fija sus atrib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03280" y="484344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Debe actuar bajo las instrucciones del directo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AutoShape 21"/>
          <p:cNvCxnSpPr/>
          <p:nvPr/>
        </p:nvCxnSpPr>
        <p:spPr>
          <a:xfrm>
            <a:off x="971640" y="508428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225" name="AutoShape 21"/>
          <p:cNvCxnSpPr/>
          <p:nvPr/>
        </p:nvCxnSpPr>
        <p:spPr>
          <a:xfrm>
            <a:off x="971640" y="558936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1403280" y="5343480"/>
            <a:ext cx="77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 incompatible con cargo de director en S.A.A y de presidente y auditor en S.A. cer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4292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28040" y="836640"/>
            <a:ext cx="60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Calibri"/>
              </a:rPr>
              <a:t>Organización y Fun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2200" y="167148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Ge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AutoShape 21"/>
          <p:cNvCxnSpPr/>
          <p:nvPr/>
        </p:nvCxnSpPr>
        <p:spPr>
          <a:xfrm>
            <a:off x="250920" y="245700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244" name="AutoShape 21"/>
          <p:cNvCxnSpPr/>
          <p:nvPr/>
        </p:nvCxnSpPr>
        <p:spPr>
          <a:xfrm>
            <a:off x="250920" y="299700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245" name="AutoShape 21"/>
          <p:cNvCxnSpPr/>
          <p:nvPr/>
        </p:nvCxnSpPr>
        <p:spPr>
          <a:xfrm>
            <a:off x="178920" y="3789000"/>
            <a:ext cx="50580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681120" y="27511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participa con derecho a voz en el directorio, respondiendo con los directores de los acuerdos perjudiciales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2560" y="225108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Vínculo Jurí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AutoShape 21"/>
          <p:cNvCxnSpPr/>
          <p:nvPr/>
        </p:nvCxnSpPr>
        <p:spPr>
          <a:xfrm>
            <a:off x="250920" y="4765320"/>
            <a:ext cx="505440" cy="1080"/>
          </a:xfrm>
          <a:prstGeom prst="straightConnector1">
            <a:avLst/>
          </a:prstGeom>
          <a:ln w="1908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684360" y="155736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36147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Deben ejercer sus funciones empleando el cuidado y diligencia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Los hombres emplean ordinariamente en sus propios negoc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455148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Le son aplicables las disposiciones legales referente a directores que sean compatibles con la responsabilidad propia del car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bofill</cp:lastModifiedBy>
  <dcterms:modified xsi:type="dcterms:W3CDTF">2010-09-09T14:53:43Z</dcterms:modified>
  <cp:revision>55</cp:revision>
  <dc:subject/>
  <dc:title>Sin título de diapositiva</dc:title>
</cp:coreProperties>
</file>