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AF6A-DAED-4FFC-A1D7-DBFDFDA4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0050-C789-4936-BC09-A30106E7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B1F-A917-4218-B032-A14B7D91B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5DE-4244-451A-ADB7-AF5162C1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68C2-81FB-491F-B0BB-DFF44C66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DF0-A0F5-4CDC-B8A7-E8375221B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D31-26D0-4E71-91B9-893A43F7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363-BEE4-41F6-912C-B7257813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4C5B-3F13-459A-8E23-777E4D4E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C25-FB11-4B24-9462-23C8CFD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14EA-7838-4CE5-A69F-BF5576DE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5DD5-055E-4271-BB3D-14F8E7106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A599-5025-4436-8C25-59DAF01A0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0200" y="2924280"/>
            <a:ext cx="5115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Patrimonio y Ac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2do semestre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bm-ahj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1879920" y="1722600"/>
            <a:ext cx="4597200" cy="3503520"/>
            <a:chOff x="1879920" y="1722600"/>
            <a:chExt cx="4597200" cy="3503520"/>
          </a:xfrm>
        </p:grpSpPr>
        <p:sp>
          <p:nvSpPr>
            <p:cNvPr id="113" name="_s68636"/>
            <p:cNvSpPr/>
            <p:nvPr/>
          </p:nvSpPr>
          <p:spPr>
            <a:xfrm flipV="1">
              <a:off x="4537080" y="279864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68635"/>
            <p:cNvSpPr/>
            <p:nvPr/>
          </p:nvSpPr>
          <p:spPr>
            <a:xfrm>
              <a:off x="3998880" y="172260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_s68634"/>
            <p:cNvSpPr/>
            <p:nvPr/>
          </p:nvSpPr>
          <p:spPr>
            <a:xfrm>
              <a:off x="500220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68633"/>
            <p:cNvSpPr/>
            <p:nvPr/>
          </p:nvSpPr>
          <p:spPr>
            <a:xfrm>
              <a:off x="5398920" y="4148280"/>
              <a:ext cx="107820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68632"/>
            <p:cNvSpPr/>
            <p:nvPr/>
          </p:nvSpPr>
          <p:spPr>
            <a:xfrm flipH="1">
              <a:off x="3603240" y="4146480"/>
              <a:ext cx="46836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_s68631"/>
            <p:cNvSpPr/>
            <p:nvPr/>
          </p:nvSpPr>
          <p:spPr>
            <a:xfrm>
              <a:off x="2598840" y="41482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_s68630"/>
            <p:cNvSpPr/>
            <p:nvPr/>
          </p:nvSpPr>
          <p:spPr>
            <a:xfrm>
              <a:off x="3998880" y="334008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197" name="_s75804"/>
            <p:cNvCxnSpPr>
              <a:stCxn id="198" idx="0"/>
              <a:endCxn id="199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0" name="_s75803"/>
            <p:cNvCxnSpPr>
              <a:stCxn id="201" idx="0"/>
              <a:endCxn id="199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75802"/>
            <p:cNvCxnSpPr>
              <a:stCxn id="203" idx="0"/>
              <a:endCxn id="199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9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bofill</cp:lastModifiedBy>
  <dcterms:modified xsi:type="dcterms:W3CDTF">2010-09-09T03:34:29Z</dcterms:modified>
  <cp:revision>135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