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CDA-781D-46F9-83C9-58C0BB26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C8B-C19A-49B4-AD7E-4CFA07EB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14D-3263-4625-AE7C-7BCD9816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EDF-89A7-4C0F-BE14-67194D80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0EC-C153-4C4C-BA4D-B54BFED7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14A-6176-4F50-AA38-6E4ADF9D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EE8-39E7-469D-BAF3-2E53D6B4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A79-EF7C-4A91-B6E3-708BCDF1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F30-186A-4CE5-B4EB-02EB6690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8DD-FE21-40BD-AF41-1667B54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EA8-03B1-4A7A-81B9-303954F3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CA1-59E6-4780-AB99-2776CD5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E09-B169-4F6F-8FCA-CD2CCDBAB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3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197" name="_s75804"/>
            <p:cNvCxnSpPr>
              <a:stCxn id="198" idx="0"/>
              <a:endCxn id="199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5803"/>
            <p:cNvCxnSpPr>
              <a:stCxn id="201" idx="0"/>
              <a:endCxn id="199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5802"/>
            <p:cNvCxnSpPr>
              <a:stCxn id="203" idx="0"/>
              <a:endCxn id="199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9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03:34:29Z</dcterms:modified>
  <cp:revision>135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