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4C6-BF40-4A1C-994E-BFEA9BFF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9B2-C242-49BC-9784-8D80F02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897-F1C7-41E5-81CA-5C63A181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F5-AE20-4E23-8DCC-55931B4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80F-C6BD-4FFD-B860-2B0FD30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D85-57F8-4963-AFCF-99DE736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A9F-C5C0-4C8E-8626-231077C6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314-6478-4C47-9B22-8A0DCCE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788-8891-49A6-A40D-AEE3CE0C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BB6-B69C-482A-946E-97BB885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CE5-B71B-43EF-90F4-8D01835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3C6-DE82-42BD-B76C-D0C514E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FFDF-8B45-4E4B-B4D2-3C1C14F39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3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197" name="_s7580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5803"/>
            <p:cNvCxnSpPr>
              <a:stCxn id="201" idx="0"/>
              <a:endCxn id="199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5802"/>
            <p:cNvCxnSpPr>
              <a:stCxn id="203" idx="0"/>
              <a:endCxn id="199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03:34:29Z</dcterms:modified>
  <cp:revision>13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