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98A-8954-4A8D-B904-2AF2B8B8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C324-ABDF-4A5C-BD9E-970E17CA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3EF-79F3-4B67-8585-EF3C7101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559-F416-4342-8774-92D0890D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41C4-AB34-4669-BE98-E1255394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0F3-3906-48E2-9CC6-73C6ADF7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9FFE-FBAA-49C3-BA1A-AAEF4EF3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8A8-9C8E-4BC8-BF27-61D1428E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E38A-9DB3-4B60-B1FD-C916883F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34CF-C797-475E-9A41-12B298BC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8A8A-1F95-45C8-BDBC-41694176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65F-ED31-48AE-857A-D1298965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8361-EFB7-48E6-B378-F6B87716A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0200" y="2924280"/>
            <a:ext cx="51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Patrimonio y Ac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2128680"/>
            <a:ext cx="835164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s que conf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esión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o solem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bertad plena en SA Abiertas, pactos limitativ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en SA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gociación en bolsa, venta privada directa (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1989000"/>
            <a:ext cx="835164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revalorización o aj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giro o expl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dendos y política de divide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lance anual al 31.12, aprobación JA pre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 Utilidades, absorción de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tivos / provisorio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ínimos obligatorios, estatutarios o legales, SA abiertas y cerrada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icionales: acuerdo JA para el año del acuerdo,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entuales: reservas futuros dividendos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ales 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y en especies 84, 85 LSA - 85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ejecutivo 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2128680"/>
            <a:ext cx="835164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minución de capital y liquidación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iquid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oridad en el pago de pasivos sociales 1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o en opciones, concepto amplio 1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imestrales o 5% valor libros (relación quiebra, repartos acre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cionistas beneficiados: Quinto día hábil pago       Acciones continúa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án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liquidadores por repartos erró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os preferentes acciones privilegi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12000" y="4579920"/>
            <a:ext cx="287280" cy="2890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1280" y="1989000"/>
            <a:ext cx="8351640" cy="59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, manifest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ctuar con voz y voto en Juntas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cánica j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elegir y ser elegido administrador / fisc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lterar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ocación directorio: total, en cualquier junta 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tación juntas: 10% acciones con derecho a voto 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l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1989000"/>
            <a:ext cx="8351640" cy="61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por desacuerdo en acciones de administración (disidenc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alternativo a la disolución forzada de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tiro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clusión del socio moro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disidente: opción de venta a la SA (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SA: obligación de compra acciones propias, esfuerzo de enajenar o disminución automática capi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usales del retir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tut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LSA – gené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bis /106 DL 3500 / 56 DFL 251– 81: Inversionsitas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ter: Consecuencia de 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y excede el mero ámbito de la disidencia (Ley O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 objetiva del precio de compra de acciones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68360" y="2924280"/>
            <a:ext cx="719280" cy="144360"/>
          </a:xfrm>
          <a:prstGeom prst="leftRightArrow">
            <a:avLst>
              <a:gd name="adj1" fmla="val 50000"/>
              <a:gd name="adj2" fmla="val 991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68360" y="1268280"/>
            <a:ext cx="806436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tes fuentes legales del derecho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95280" y="1628640"/>
          <a:ext cx="8207280" cy="4732560"/>
        </p:xfrm>
        <a:graphic>
          <a:graphicData uri="http://schemas.openxmlformats.org/drawingml/2006/table">
            <a:tbl>
              <a:tblPr/>
              <a:tblGrid>
                <a:gridCol w="3024360"/>
                <a:gridCol w="3097080"/>
                <a:gridCol w="208584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bis /106 DL 3500 / 56 DFL 251– 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o JA det. mater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Quiebra o Convenio en interín: asegura pago pasiv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s (i) Transformación, (ii) fusión, (iii) enajenación activos, (iv) cauciones por terceros no filiales, (v) preferencias (creación, aumento, reducción) sólo series perjudicadas y (vi) saneamiento nu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s minoritarios del Estado controlador, Cias Seguros y AFP’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principio sólo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lasificación o rebaja clasificación de ries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es: deterioro actual o toma de riesgo (análisis de ries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especial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disidentes pueden negociar condiciones de pa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 adquiere y llega a más de 2/3 ac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ción para OPA por acciones rest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ecio no inferior a derecho ret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no hay OPA nace derecho retiro para restantes accionis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1989000"/>
            <a:ext cx="83516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independiente de otros medios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ares de Estatutos y listas de accionistas 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Público Indic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rectores: obligación de informar a accionistas según det. Ley o Superintendencia de Valores y Seguros (4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que deben recibir en JA y examen de ellos en 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ga de memoria, balance, inventario, actas, libros, informes de auditores para revisión 15 días antes junta ordi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acho de memoria y balance 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icitud de citación a JA por 10%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lusión en la memoria de comentarios de 10% o más de accionistas (7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% o más demanda disolución social por existir causa para ello (1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280" y="1989000"/>
            <a:ext cx="874872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s de su existenc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ontrol, poder que otorga, 97 LMV y el acuerdo de actuación conjunta (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tección accionistas desprovistos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aviso de toma de control alternativo a las OPAS (54 B L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lta de control se puede deber a restricciones legales (ej. 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liquidez de la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ultad de vender, previo al retiro, diferencial de pre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rrateo del precio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regulación alcanza a ofertas voluntarias y forz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9640" y="5587920"/>
            <a:ext cx="576360" cy="505080"/>
          </a:xfrm>
          <a:prstGeom prst="rightArrow">
            <a:avLst>
              <a:gd name="adj1" fmla="val 50000"/>
              <a:gd name="adj2" fmla="val 285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1280" y="1989000"/>
            <a:ext cx="835164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,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XXV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fiere a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sociedades anónimas que hacen oferta pública de sus acciones o de valores convertibles en accion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“Valor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a oferta de compra de Valores, a sus propietarios (accionistas o ten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 de Valores y Seguros fiscaliza el proceso y por ell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odos los actor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n regulados por la SVS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ara este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50280" y="132552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37560" y="23716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16404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4440" y="36687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9320" y="424512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8800" y="2300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3480" y="273204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5640" y="316404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85720" y="366876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82840" y="41590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15480" y="285264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Pasivo Ex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19098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39080" y="54687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03800" y="5445000"/>
            <a:ext cx="2448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2421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24640" y="42400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“</a:t>
            </a: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Deuda” con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51640" y="4076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32440" y="27306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1989000"/>
            <a:ext cx="8351640" cy="70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be haber O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(1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a oferta permite tomar el control de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9 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accionistas minoritarios de la SA, cuando el control lo tiene la Holding cuyas acciones se pretende adquir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tomar el control de la serie preferente (2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a en bolsa a controlador sin premio y en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trans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enajenación for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1879920" y="1722600"/>
            <a:ext cx="4597200" cy="3503520"/>
            <a:chOff x="1879920" y="1722600"/>
            <a:chExt cx="4597200" cy="3503520"/>
          </a:xfrm>
        </p:grpSpPr>
        <p:sp>
          <p:nvSpPr>
            <p:cNvPr id="113" name="_s68636"/>
            <p:cNvSpPr/>
            <p:nvPr/>
          </p:nvSpPr>
          <p:spPr>
            <a:xfrm flipV="1">
              <a:off x="4537080" y="279864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68635"/>
            <p:cNvSpPr/>
            <p:nvPr/>
          </p:nvSpPr>
          <p:spPr>
            <a:xfrm>
              <a:off x="3998880" y="172260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icial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Pag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68634"/>
            <p:cNvSpPr/>
            <p:nvPr/>
          </p:nvSpPr>
          <p:spPr>
            <a:xfrm>
              <a:off x="5002200" y="4146480"/>
              <a:ext cx="46836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68633"/>
            <p:cNvSpPr/>
            <p:nvPr/>
          </p:nvSpPr>
          <p:spPr>
            <a:xfrm>
              <a:off x="5398920" y="4148280"/>
              <a:ext cx="107820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ria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68632"/>
            <p:cNvSpPr/>
            <p:nvPr/>
          </p:nvSpPr>
          <p:spPr>
            <a:xfrm flipH="1">
              <a:off x="3603240" y="4146480"/>
              <a:ext cx="46836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68631"/>
            <p:cNvSpPr/>
            <p:nvPr/>
          </p:nvSpPr>
          <p:spPr>
            <a:xfrm>
              <a:off x="2598840" y="414828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evalo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z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68630"/>
            <p:cNvSpPr/>
            <p:nvPr/>
          </p:nvSpPr>
          <p:spPr>
            <a:xfrm>
              <a:off x="3998880" y="334008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79920" y="278136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292720" y="1557360"/>
            <a:ext cx="352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juste de plen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aprobación del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corrección mone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erdos Estatu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mento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minución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1628640"/>
            <a:ext cx="33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tros medios de financiamiento por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ést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tas. Ctes. Merca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ligación de a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rte, entero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128680"/>
            <a:ext cx="835164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aloriz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mente no es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 por aprobación del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: Impropiedades art. 10 # 2 LSA; corrección art. 8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revalorización entre cuentas del patrimonio n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orma estatutaria / Junt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sorción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ización o distribución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ción en aumento de número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u otras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2128680"/>
            <a:ext cx="8351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2) Pagado // (continu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ción pericial o acuerdo unánime bienes distintos del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ón preferente suscripción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pción y emis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 colo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nor o mayor valor precio colocación y relación valor lib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 Lib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istribución patrimon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entas de utilidades y revalorizaciones leg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 o nuev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SMINUCION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2128680"/>
            <a:ext cx="835164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 con reparto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tencial perjuicio acreedores: hay pérdida de lo aportado, no menor ingreso esperado (dif. con utilida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rmas de protección a terceros acreed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ación de av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édito de acreedores es prefe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ocial y disminución de capital: Acreedor mantiene intactos sus derechos en contra de las sociedades resultantes de la div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laración de disminución y acreencia social (id. Dividen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con biene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: capital inicial no suscrito ni pagado en 3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de acciones propias: Venta de acciones propias en car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835280" y="2392560"/>
            <a:ext cx="4581000" cy="3843720"/>
            <a:chOff x="1835280" y="2392560"/>
            <a:chExt cx="4581000" cy="3843720"/>
          </a:xfrm>
        </p:grpSpPr>
        <p:cxnSp>
          <p:nvCxnSpPr>
            <p:cNvPr id="197" name="_s75804"/>
            <p:cNvCxnSpPr>
              <a:stCxn id="198" idx="0"/>
              <a:endCxn id="199" idx="2"/>
            </p:cNvCxnSpPr>
            <p:nvPr/>
          </p:nvCxnSpPr>
          <p:spPr>
            <a:xfrm flipV="1" rot="16200000">
              <a:off x="4542480" y="3512160"/>
              <a:ext cx="769320" cy="160344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_s75803"/>
            <p:cNvCxnSpPr>
              <a:stCxn id="201" idx="0"/>
              <a:endCxn id="199" idx="2"/>
            </p:cNvCxnSpPr>
            <p:nvPr/>
          </p:nvCxnSpPr>
          <p:spPr>
            <a:xfrm flipV="1">
              <a:off x="4125600" y="3929400"/>
              <a:ext cx="1800" cy="76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75802"/>
            <p:cNvCxnSpPr>
              <a:stCxn id="203" idx="0"/>
              <a:endCxn id="199" idx="2"/>
            </p:cNvCxnSpPr>
            <p:nvPr/>
          </p:nvCxnSpPr>
          <p:spPr>
            <a:xfrm flipH="1" flipV="1" rot="5400000">
              <a:off x="2939400" y="3512160"/>
              <a:ext cx="769320" cy="160380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9" name="_s75798"/>
            <p:cNvSpPr/>
            <p:nvPr/>
          </p:nvSpPr>
          <p:spPr>
            <a:xfrm>
              <a:off x="3412800" y="2392560"/>
              <a:ext cx="1425600" cy="1537560"/>
            </a:xfrm>
            <a:custGeom>
              <a:avLst/>
              <a:gdLst>
                <a:gd name="textAreaLeft" fmla="*/ 69480 w 1425600"/>
                <a:gd name="textAreaRight" fmla="*/ 1356120 w 1425600"/>
                <a:gd name="textAreaTop" fmla="*/ 69480 h 1537560"/>
                <a:gd name="textAreaBottom" fmla="*/ 1468080 h 1537560"/>
              </a:gdLst>
              <a:ahLst/>
              <a:rect l="textAreaLeft" t="textAreaTop" r="textAreaRight" b="textAreaBottom"/>
              <a:pathLst>
                <a:path w="21600" h="23296">
                  <a:moveTo>
                    <a:pt x="3600" y="0"/>
                  </a:moveTo>
                  <a:arcTo wR="3600" hR="3600" stAng="16200000" swAng="-5400000"/>
                  <a:lnTo>
                    <a:pt x="0" y="19696"/>
                  </a:lnTo>
                  <a:arcTo wR="3600" hR="3600" stAng="10800000" swAng="-5400000"/>
                  <a:lnTo>
                    <a:pt x="18000" y="232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_s75799"/>
            <p:cNvSpPr/>
            <p:nvPr/>
          </p:nvSpPr>
          <p:spPr>
            <a:xfrm>
              <a:off x="183528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lícuota del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apital soci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_s75800"/>
            <p:cNvSpPr/>
            <p:nvPr/>
          </p:nvSpPr>
          <p:spPr>
            <a:xfrm>
              <a:off x="3438360" y="4698720"/>
              <a:ext cx="1374480" cy="1537560"/>
            </a:xfrm>
            <a:custGeom>
              <a:avLst/>
              <a:gdLst>
                <a:gd name="textAreaLeft" fmla="*/ 66960 w 1374480"/>
                <a:gd name="textAreaRight" fmla="*/ 1307520 w 137448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62">
                  <a:moveTo>
                    <a:pt x="3600" y="0"/>
                  </a:moveTo>
                  <a:arcTo wR="3600" hR="3600" stAng="16200000" swAng="-5400000"/>
                  <a:lnTo>
                    <a:pt x="0" y="20562"/>
                  </a:lnTo>
                  <a:arcTo wR="3600" hR="3600" stAng="10800000" swAng="-5400000"/>
                  <a:lnTo>
                    <a:pt x="18000" y="241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Título val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_s75801"/>
            <p:cNvSpPr/>
            <p:nvPr/>
          </p:nvSpPr>
          <p:spPr>
            <a:xfrm>
              <a:off x="504144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Fuente d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Derech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2128680"/>
            <a:ext cx="8351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tas / pagadas 16 –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ces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ago / libe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unes / privilegiadas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les o de valor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 / a la orden / Portador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 o traspasos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y contractuales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causantes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 / Sin derecho a voto / limitado 16 –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la 1 acción 1 voto, 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7 /21, perjud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canía con el acreedor / bo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o múltiple prohib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industria / organización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nos Convert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bofill</cp:lastModifiedBy>
  <dcterms:modified xsi:type="dcterms:W3CDTF">2010-09-09T03:34:29Z</dcterms:modified>
  <cp:revision>135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