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5B3-C179-407F-9457-ABCF4E21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93D-8E49-437F-96E9-91AF1F57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B428-2F8C-451B-9F40-62C4BA6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097-0F03-4298-A1EA-656A984A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108-A7A8-4CA2-9849-9C8920A3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52A-F493-4100-A6E0-9150293A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C3B9-9514-423D-8B11-C5411C3D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FE8-A71C-4008-9321-967BB9F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B81B-FB61-4F84-B223-A57065A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279-6B4F-4918-9392-C11DD5D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455-5292-4491-8D9B-C3955F3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CEC-09D0-4A8A-96FC-FB3B30E8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76B4-912A-4F41-ABA9-00F8C4FBC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3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197" name="_s7580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5803"/>
            <p:cNvCxnSpPr>
              <a:stCxn id="201" idx="0"/>
              <a:endCxn id="199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5802"/>
            <p:cNvCxnSpPr>
              <a:stCxn id="203" idx="0"/>
              <a:endCxn id="199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03:34:29Z</dcterms:modified>
  <cp:revision>13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