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AD0-5452-46DE-84A7-13F1EAC3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CBA-791E-4DFC-AE1B-DB7D4672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5C7-A6D1-448E-B11D-EEB9213A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98B-80AD-4F01-BA6B-1B943EAC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D05-20AD-4C1D-8CCF-497BCC65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EF0-8B34-49BC-9B41-881AF5D9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215-C2BB-48B1-ABE8-823CC76F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A1A-BBC0-4205-B1DA-8E4E2BBF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4A4-85C4-42C6-9A15-81B0F4B6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9F7-5D0A-47B0-859B-2A1FD251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CDB-F5C9-4130-AC56-6B31F57A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B62-8ABA-4B0E-AFA7-DBD701A4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1ED6-68DB-43B0-AC73-6FDB2D538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28386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spect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4360" y="620640"/>
            <a:ext cx="76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Reguladores de SA y del Mercado de Valor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ipos de regulación y fiscalización extern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8360" y="1484280"/>
            <a:ext cx="83516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guladores y Fiscalizadores del Mercado de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Valores y Seguros (SVS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upervisa, norma, sanciona y promueve los mercados de valores y de segur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itución autónoma, personalidad jurídica y patrimonio prop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laciona con el Gobierno a través del Ministerio de Hacie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jeto: fiscalización de las actividades y entidades que participan de los mercados de valores y de seguros en Ch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elar porque las supervisadas cumplan con  leyes, reglamentos, estatutos y otras disposiciones que rijan el funcionamiento de los merc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Administradoras de Fondos de Pensiones (SAFP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regula y fiscaliza el sistema de pensiones y el Seguro de Cesant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Bancos e Instituciones Financieras (SBIF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regula y fiscaliza el sistema banc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anco Central de Chil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umple  función regulador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tiva de mercado monetario y camb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gula las transacciones de American Depositary Receipts (ADRs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ímites en las inversiones de instrumentos en el extranjero de A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y salida de divisas para esos fo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155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134136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.A. ABIER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6, Art. 2, inciso segu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1371600"/>
            <a:ext cx="5333760" cy="39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quellas que inscriban voluntariamente o por obligación le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us acciones en el Registro de Val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90512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ISTRO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1981080"/>
            <a:ext cx="5486400" cy="24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istro Público llevado por la Superintendencia de Valores y Segu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43828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¿QUIÉNES DEBE INSCRIBIRS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64000" y="2421000"/>
            <a:ext cx="495288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os emisores de valores de oferta púb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2895480"/>
            <a:ext cx="4953240" cy="3812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os valores que sean objeto de oferta públic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3352680"/>
            <a:ext cx="4953240" cy="3812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s acciones de las sociedades anónimas que: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809880"/>
            <a:ext cx="4724640" cy="3049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tengan más de 500 accionistas; 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4191120"/>
            <a:ext cx="4724640" cy="3045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i) a lo menos el 10% de su capital pertenezca a un mínimo de 100 accionistas , excluidos l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individualmente o a través de otras personas naturales o jurídicas excedan dicho 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572000"/>
            <a:ext cx="495324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) Las acciones de s.a. que voluntariamente o por obligación legal lo solicite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541008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SCRIPCION DE EMIS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05320" y="5334120"/>
            <a:ext cx="548640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 inscripción de un emisor debe estar acompañada de la inscripción de los valores que dicho emisor ofrecerá públicamente. Sin embargo, no estará obligado a ofrecerlos sino hasta después de que transcurra un año de su regi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602136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FERTA PUBLICA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6019920"/>
            <a:ext cx="548640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ólo podrá hacerse oferta pública cuando éstos y su emisor , hayan sido inscritos en el Registro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5280" y="155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1341360"/>
            <a:ext cx="4724640" cy="228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CESO INSCRIPCION EN REGISTRO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7040" y="202716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3560" y="1951200"/>
            <a:ext cx="464796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. Artículo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rma de Carácter General N° 30, Sección I, SV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7040" y="324648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70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 u="sng">
                <a:solidFill>
                  <a:srgbClr val="000000"/>
                </a:solidFill>
                <a:uFillTx/>
                <a:latin typeface="Arial"/>
              </a:rPr>
              <a:t>Información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ntecedentes Generale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conómicos y Financier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Hechos Esen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ntecedentes Societar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eclaraciones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Responsabilida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7040" y="26370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9520" y="2560680"/>
            <a:ext cx="563904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 inscripción de acciones en caso de letra c, artículo 5°, debe efectuarse dentro de 60 días siguientes a fecha de cumplimiento de requisitos allí indic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70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olicitud de Inscrip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08120" y="3855960"/>
            <a:ext cx="14479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844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nálisis Solicit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18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scripción Registro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992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ligaciones de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844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Plazo 30 días contados des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echa de solicit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urante este período es posib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el emisor deba efectu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correcciones o actualizac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e inform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18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misión de Certificado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992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Ver slide siguien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057400" y="1371600"/>
            <a:ext cx="4724280" cy="228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LIGACIONES DE INFORMACION DE SOCIEDADES INSCRI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190512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828800"/>
            <a:ext cx="464832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 y otr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rma de Carácter General N° 30, Sección II, SV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NTECEDENTES ECONOMIC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Y FINANCI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HECHOS RELEVAN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 ESEN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572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TR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PERMANEN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328464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¿Qué debe informars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s y estados financieros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trimestrales y anu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Variaciones de cap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Hechos esenc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Otros anteced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quella información sobre 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misor, valores ofrecidos y su oferta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un hombre juicioso considerarí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mportante para sus decisiones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nversión (Art. 9, LMV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ntecedentes societarios,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cuerdo a 2.3, Sección II,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NCG N° 3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419112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lazo para infor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s trimestrales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marzo y septiembre, en plazo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30 días a contar de cierre trimestr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 trimestral junio, 45 dí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 anual, 60 dí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l momento que el ocurra o lleg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 su conoc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0572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De acuerdo a 2.3. Sección II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NCG N° 30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10552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ómo Infor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ía SEI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ía SE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ficina de Par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3429000"/>
            <a:ext cx="182880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14600" y="41911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3713040"/>
            <a:ext cx="867564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Mercado Valores y de Cap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Contacto de oferentes y demandantes de Valores y Capitales representados en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Ofertas del mercado primario y secund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Que se originen en ofertas públicas de valores o en que participen corredoras o agentes de valores (dentro o fuera de bolsa), art 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unto de vista de la oferta pública, no impide transacciones pri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cluso hay cabida para la oferta de acciones no inscritas (ej. de sociedades anónimas cerradas) en remate cada 15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versionista Institucional, calificado y propiamente tal 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(retail) 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que participa en la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Valores: todo título transferible, de crédito o inversión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equity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[acciones, opciones sobre acciones, bonos, debentures, planes de ahorro, efectos de comerci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6300720" y="1628640"/>
            <a:ext cx="28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l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 flipV="1" rot="10800000">
            <a:off x="1258200" y="2923920"/>
            <a:ext cx="2205720" cy="505440"/>
          </a:xfrm>
          <a:prstGeom prst="curvedConnector5">
            <a:avLst>
              <a:gd name="adj1" fmla="val 49951"/>
              <a:gd name="adj2" fmla="val 49964"/>
              <a:gd name="adj3" fmla="val 499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324000" y="2276640"/>
            <a:ext cx="863280" cy="122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24000" y="1268280"/>
            <a:ext cx="8137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normativa de mercado de valores regul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or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ermediari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é se transa en una Bolsa de Comercio: Valores, todo título transferible, de crédito o inversión (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equit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(Nacionales y Extranjer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de Renta F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de Intermediación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Mone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Op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Cuotas de Fondo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Cuotas de Fondos Mutuos Extranj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ulación y autorregulación de Bolsas de Comer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nual de a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24000" y="1268280"/>
            <a:ext cx="8137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mediación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mediari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su objeto es el corretaje de valores y actividades autorizadas por la SV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stodi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de cartera de terc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ía y comisión específica para la compra y venta de valores en mercados de valores extranj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rredores de Bolsa,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n miembros de y actúan en 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gente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era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uer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de bolsa,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nc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pueden realizar actividades de intermediación, según Ley General de Bancos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n embargo, la compra o venta de acciones se realizada a través de un corredor de bols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Proveen a  miembros (corredores) la implementación para realizar transacciones de valores mediante mecanismos continuos de subas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ámaras de Compens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Las cámaras de compensación son la contraparte de todas las compras y ventas de contratos a futuro, de opciones sobre valores y otros de similar naturaleza que autorice la SVS. Estas entidades sólo pueden estar constituidas por bolsas de valores y sus respectivos corred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pósitos Centralizado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Instituciones especializadas en la inmovilización, custodia y transferencia de val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movilización reúne los instrumentos que se transa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vita el traspaso físico de valores desde el vendedor al comp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stema de registro en cuenta permite la emisión de valores desmaterializad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692280"/>
            <a:ext cx="76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Sociedades anónimas y sus entidades relacionadas, matrices, filiales, coligadas, “subsidiari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1700280"/>
            <a:ext cx="590544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TRIZ / COLIGANTE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[86 y ss LS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8360" y="3716280"/>
            <a:ext cx="352728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L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7164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71640" y="2421000"/>
            <a:ext cx="34560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ntrol directo o indir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+ del 50% del capital con derecho a vo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+ del 50% del capital si no es SA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uede elegir /designar / hacer id. sobre mayoría de D’s o adm’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andita si SA controla al g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4292640"/>
            <a:ext cx="338436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IG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1636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4836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2781360"/>
            <a:ext cx="3456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hay control pero posee directa o indirecta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0% o + del capital con derecho a vo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0% o + % del capital si no es SA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uede elegir /designar / hacer id. un miembro de D’s o adm’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andita si SA participa en dirigir u orientar al g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4869000"/>
            <a:ext cx="8497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puede haber participación recíproca en el capital, directa ni indirecta;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sta que haya una SA para vigencia de la prohib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 ocurre por fusión, incorporación, división, control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be cesar en un a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A Cerradas: Sus operaciones cruzadas y con sus respectivas personas relacionadas deben observar condiciones de equidad de mercado; si Abiertas Título XVI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406728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Provoca consolidación EEFF, dividendo mínimo se calcula sobre utilidades consolid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24000" y="371628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24000" y="4653000"/>
            <a:ext cx="381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140360" y="371628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20000" y="1773360"/>
            <a:ext cx="194472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BSIDIARI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427280" y="2133720"/>
            <a:ext cx="2592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172000" y="2421000"/>
            <a:ext cx="7164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5640" y="692280"/>
            <a:ext cx="762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Grupos empresariales, personas relacion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24000" y="1268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68360" y="30686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1484280"/>
            <a:ext cx="662472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UPOS EMPRESARIALES [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6 y ss LMV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1989000"/>
            <a:ext cx="8136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idades vinculadas e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piedad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sponsabilidad crediti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esumen intereses comunes, subordinación, riesgos financieros comu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y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olado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; sociedades co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olador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ún o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5640" y="2781360"/>
            <a:ext cx="489600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1280" y="3284640"/>
            <a:ext cx="7993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 o personas co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cuerdo de actuación conjunt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directa o indirecta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iene propieda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der para asegurar mayorías en juntas y directorios o administradores o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fluir decisivamente en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26920" y="4365720"/>
            <a:ext cx="489600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S RELACIONADAS [con una socieda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5640" y="5013360"/>
            <a:ext cx="7561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idades del grupo empresarial, matriz, coligante, coligada, fil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dores, sus cónyuges y parientes hasta segundo grado y controlados por el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ien designe a un administrador o controle 10% o más de la soc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692280"/>
            <a:ext cx="762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gencias de SA extranj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95280" y="1700280"/>
            <a:ext cx="81374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cia importa la misma persona, no hay separación de personalidad jur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rgo, la entidad extranjera participa directamente en Chile, involucra su 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gulada para SA extranjeras, qué pasa con otras figuras so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rmalidades: 121 – 122 L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te protocoliza en notaría chilena documentos que acrediten existencia y vigencia de la sociedad y poder general del 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te efectúa declaración en Chile con requisitos míni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levante es la declaración de bienes en Chile; asegura fácil ejecución, pero sigue siendo patrimonio de la entidad extranj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cripción y publicación de extracto en 60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azones tributar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azones comerciales: credenciales técnicas o financieras de la matriz extranjera son neces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0276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32040"/>
            <a:ext cx="741708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Tipos de Sociedades Anóni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Sociedades Anónimas Abiertas y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Diferencias Sociedades Anónimas Cerradas y Espe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uladores de SA y del Mercado de Valores, tipos de regulación y fiscalización ex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istr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ercado de Valores, organización y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ferencia a instrumentos transables en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ociedades anónimas y sus entidades relacionadas, matrices, filiales, coligadas, “subsidiari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rupos empresariales, person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gencias de SA extranj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349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Cuerpos legales y reglamen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284640"/>
            <a:ext cx="64803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Sociedades, Tomo II  A. Puelma, (3a. Edición/2001/ Edit. Jurídic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Mercado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Normativa SVS, NCG 30, NCG 2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840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42100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tenece al menos a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os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341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ABIERTAS: [LSA] Sus acciones se inscriben en Registro de Valores, por obligación legal o acuerdo voluntario [LMV] Se deben inscribir en Registro de Valores, las acciones de SA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443700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u obligatoria (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por le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 rot="10800000">
            <a:off x="1762920" y="4364640"/>
            <a:ext cx="86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24000" y="3429000"/>
            <a:ext cx="1223640" cy="20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3174840"/>
            <a:ext cx="45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65164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jan de serlo sólo cuando concurre Junta de Accionistas con 2/3 votos para deslistar [genera derecho a  retiro]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[una vez dejen de cumplir requisitos para estar inscritas en R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03720" y="2060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2050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869000"/>
            <a:ext cx="878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o se inscriben en Registro de Valo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salvo que califiquen de SA Abiertas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er s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someten a las normas de las SA Abiert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alvo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, modificación, disolución (reglas propi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s especiales que las r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rigen por normas de SA Cerradas relativas a información pq les aplican normas de SA Abier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14172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9337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as que por disposición legal expresa están obligadas a someterse a mismos trámi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42768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11640" y="409896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1262160"/>
            <a:ext cx="83520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inscriben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rigen por normas de SA Abiertas, salvo por las obligadas a entregar información pública, que se rigen por ellas para tal ef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ay propiamente 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las hay obligadas a entregar información públic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es las obligan a someterse a normas de SA Abierta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s normas les son aplicable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fiscalizadas, controladas o vigiladas por la SV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presiones análo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ometen a información y publicidad para con SVS, accionistas y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 obligación se concreta e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istro Especial de Entidades Informantes [REE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proporcionar información continua a l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informar hechos esen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pias de juntas, modificaciones estatutarias, cambios en la administración y accionistas, cesación de pagos, EEFF anuales en siti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l cesar los requisitos deben pedir dejar el REEI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quién es la atribució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45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155736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 que las regulan e información que suminis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l dirimente de la SVS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RE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Registros “privados” de las SA: Accionistas, Juntas, Directorios, Registr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hibición de limitar disposición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oponibilidad de pactos de accionistas relativos  a cesiones de acciones que no se inscriban en Reg de Accionistas y depositen e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ligación de anotar traspasos sin más trá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8360" y="1484280"/>
            <a:ext cx="83516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irectores, 5 o 7 si  (i) UF1,5M patrimonio bursátil y (ii) 12,5% de acciones en manos de accionistas que tengan menos del 10%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free floa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menos un Director Independiente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ecuencia de las ses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ité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 y de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acuerdos se pueden ejecutar directamente por la unanimidad de los directores, por escritura pública (no en sa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Abiertas se presume método de entrega de información a público (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 con personas relacionadas art 44 para cerradas y Tit XVI par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ción, salvo acuerdo unánime, en abiertas (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68360" y="141300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 externa (52) e inspectores de cuentas, exención u otros métodos (5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Inspectores de Cuentas y Auditores que no están sometidos  a S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bilidad financiera IFRS, GAAP chi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ntas citadas por SVS y correo,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ícipes, 5 días antes (abiertas) o el mismo día (cerra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retiro y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queeze ou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95% de acciones en manos del control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tio internet para SA Abiertas, publicación de memorias, informe de auditores y E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por tenencia en una sola mano de todas las acciones: no se inscribe sin visto bueno de SVS, en abiertas y especiales (1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8T03:04:42Z</dcterms:modified>
  <cp:revision>16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