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105-A5D1-4844-B85F-C3D937C6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EE0-3922-453E-9E7F-30D3EE64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C32D-FA65-4809-AA99-02A9941D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DDD-01EF-4113-A2D2-47C2E9E0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A98-E2E1-44E8-8AC0-D803E03E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C32-8DE7-4644-8728-9E7C9B64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5F4-AA1C-49E1-A131-D5DE68C7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D6B-E8EE-4398-9DF6-427AB096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06A-2244-48E1-A36C-8E7DA748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0FD2-1C24-490F-9BEA-529F42F0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254-0F1E-46DB-A3F5-15ACFE69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2C5-075A-4C07-9802-4C348A62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EB2C-5847-430C-B8EC-EA98F2954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28386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aspectos orgán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4360" y="620640"/>
            <a:ext cx="762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Reguladores de SA y del Mercado de Valor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regulación y fiscalización extern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8360" y="1484280"/>
            <a:ext cx="83516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ores y Fiscalizadores del Mercado de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Valores y Seguros (SVS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upervisa, norma, sanciona y promueve los mercados de valores y de segur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stitución autónoma, personalidad jurídica y patrimonio prop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relaciona con el Gobierno a través del Ministerio de Haci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jeto: fiscalización de las actividades y entidades que participan de los mercados de valores y de seguros en Ch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elar porque las supervisadas cumplan con  leyes, reglamentos, estatutos y otras disposiciones que rijan el funcionamiento de los merca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Administradoras de Fondos de Pensiones (SAFP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de pensiones y el Seguro de Cesant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perintendencia de Bancos e Instituciones Financieras (SBIF)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regula y fiscaliza el sistema banc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nco Central de Chil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cumple  función regulador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tiva de mercado monetario y camb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gula las transacciones de American Depositary Receipts (ADRs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ímites en las inversiones de instrumentos en el extranjero de A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y salida de divisas para esos fo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34136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.A. ABIER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6, Art. 2, inciso segu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1371600"/>
            <a:ext cx="5333760" cy="39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quellas que inscriban voluntariamente o por obligación leg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us acciones en el Registro de Valor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90512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05320" y="1981080"/>
            <a:ext cx="5486400" cy="24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istro Público llevado por la Superintendencia de Valores y Segu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24382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IÉNES DEBE INSCRIBI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64000" y="2421000"/>
            <a:ext cx="495288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emisores de valores de oferta púb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28954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os valores que sean objeto de oferta públic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3352680"/>
            <a:ext cx="4953240" cy="3812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s acciones de las sociedades anónimas que: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3809880"/>
            <a:ext cx="4724640" cy="3049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tengan más de 500 accionistas; 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191120"/>
            <a:ext cx="4724640" cy="3045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i) a lo menos el 10% de su capital pertenezca a un mínimo de 100 accionistas , excluidos 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individualmente o a través de otras personas naturales o jurídicas excedan dicho %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572000"/>
            <a:ext cx="495324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d) Las acciones de s.a. que voluntariamente o por obligación legal lo solicite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410080"/>
            <a:ext cx="2514600" cy="3812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ON DE EMIS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5334120"/>
            <a:ext cx="548640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un emisor debe estar acompañada de la inscripción de los valores que dicho emisor ofrecerá públicamente. Sin embargo, no estará obligado a ofrecerlos sino hasta después de que transcurra un año de su regi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6920" y="6021360"/>
            <a:ext cx="2514600" cy="380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ERTA PUBLICA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Ley N° 18.045, Art.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5320" y="6019920"/>
            <a:ext cx="548640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ólo podrá hacerse oferta pública cuando éstos y su emisor , hayan sido inscritos en el Registro de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5280" y="155736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1341360"/>
            <a:ext cx="472464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SO INSCRIPCION E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7040" y="202716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3560" y="1951200"/>
            <a:ext cx="464796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. Artículo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7040" y="324648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70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 u="sng">
                <a:solidFill>
                  <a:srgbClr val="000000"/>
                </a:solidFill>
                <a:uFillTx/>
                <a:latin typeface="Arial"/>
              </a:rPr>
              <a:t>Información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Generale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conómicos y Financier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ntecedentes Societar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claraciones 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7040" y="263700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9520" y="2560680"/>
            <a:ext cx="563904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a inscripción de acciones en caso de letra c, artículo 5°, debe efectuarse dentro de 60 días siguientes a fecha de cumplimiento de requisitos allí indic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70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olicitud de Inscri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08120" y="3855960"/>
            <a:ext cx="14479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844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álisis Solicitu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18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scripción Registro Val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99240" y="3780000"/>
            <a:ext cx="1981080" cy="60948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9" y="0"/>
                </a:lnTo>
                <a:lnTo>
                  <a:pt x="21600" y="10800"/>
                </a:lnTo>
                <a:lnTo>
                  <a:pt x="1832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844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Plazo 30 días contados des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fecha de solicitu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urante este período es posi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el emisor deba efectu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correcciones o actualizacion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de informació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18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ión de Certificado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699240" y="4465800"/>
            <a:ext cx="1676520" cy="990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Ver slide sigu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6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Registr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057400" y="1371600"/>
            <a:ext cx="4724280" cy="228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LIGACIONES DE INFORMACION DE SOCIEDADES INSCRI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905120"/>
            <a:ext cx="1600200" cy="2286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REGUL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828800"/>
            <a:ext cx="46483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ey N° 18.045 y ot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Norma de Carácter General N° 30, Sección II, SV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ANTECEDENTES ECONOMIC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Y FINANCIE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HECHOS RELEVANT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 ESEN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274320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TRA INFORM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PERMANENT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328464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¿Qué debe informars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y estados financieros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trimestrales y anu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Variaciones de cap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Hechos esenc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Otros anteced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Aquella información sobre e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emisor, valores ofrecidos y su oferta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que un hombre juicioso considerarí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mportante para sus decisiones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Inversión (Art. 9, LMV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2767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ntecedentes societarios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cuerdo a 2.3, Sección II,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1911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lazo para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s trimestrales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marzo y septiembre, en plazo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30 días a contar de cierre trimestra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trimestral junio, 45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Informe anual, 60 día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l momento que el ocurra o lleg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a su conocimien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05720" y="41911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De acuerdo a 2.3. Sección II 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900" spc="-1" strike="noStrike">
                <a:solidFill>
                  <a:srgbClr val="000000"/>
                </a:solidFill>
                <a:latin typeface="Arial"/>
              </a:rPr>
              <a:t>NCG N° 30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2057400" cy="3808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ómo Infor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Vía SE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5105520"/>
            <a:ext cx="2057400" cy="838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ficina de Pa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66880" y="3429000"/>
            <a:ext cx="182880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41911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81680" y="5105520"/>
            <a:ext cx="182880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3713040"/>
            <a:ext cx="867564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Mercado Valores y de Capi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Contacto de oferentes y demandantes de Valores y Capitales representados en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Ofertas del mercado primario y secund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se originen en ofertas públicas de valores o en que participen corredoras o agentes de valores (dentro o fuera de bolsa), art 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Punto de vista de la oferta pública, no impide transacciones priv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cluso hay cabida para la oferta de acciones no inscritas (ej. de sociedades anónimas cerradas) en remate cada 15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Inversionista Institucional, calificado y propiamente tal 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(retail) 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que participa en la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Valores: todo título transferible, de crédito o inversión (</a:t>
            </a:r>
            <a:r>
              <a:rPr b="0" i="1" lang="es-CL" sz="1600" spc="-1" strike="noStrike">
                <a:solidFill>
                  <a:srgbClr val="000000"/>
                </a:solidFill>
                <a:latin typeface="Arial Unicode MS"/>
              </a:rPr>
              <a:t>equity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) [acciones, opciones sobre acciones, bonos, debentures, planes de ahorro, efectos de comerci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6300720" y="1628640"/>
            <a:ext cx="284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lific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/>
          <p:nvPr/>
        </p:nvCxnSpPr>
        <p:spPr>
          <a:xfrm flipV="1" rot="10800000">
            <a:off x="1258200" y="2923920"/>
            <a:ext cx="2205720" cy="505440"/>
          </a:xfrm>
          <a:prstGeom prst="curvedConnector5">
            <a:avLst>
              <a:gd name="adj1" fmla="val 49951"/>
              <a:gd name="adj2" fmla="val 49964"/>
              <a:gd name="adj3" fmla="val 499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324000" y="2276640"/>
            <a:ext cx="863280" cy="1223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normativa de mercado de valores regu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isore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termediari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é se transa en una Bolsa de Comercio: Valores, todo título transferible, de crédito o inversión (</a:t>
            </a: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equit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(Nacionales y Extranjer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Renta F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de Intermediación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Instrumentos Mone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Op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de 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·  Cuotas de Fondos Mutuo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ulación y autorregulación de Bolsas de Comer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nual de a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72864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Mercado de Valores, organización y compr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324000" y="1268280"/>
            <a:ext cx="813744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ción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su objeto es el corretaje de valores y actividades autorizadas por la SV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stodi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de cartera de ter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ía y comisión específica para la compra y venta de valores en mercados de valores extranj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rredores de Bolsa,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n miembros de y actúan en 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gente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era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r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de bolsa,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nco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pueden realizar actividades de intermediación, según Ley General de Bancos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in embargo, la compra o venta de acciones se realizada a través de un corredor de bols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Proveen a  miembros (corredores) la implementación para realizar transacciones de valores mediante mecanismos continuos de subasta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ámaras de Compens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as cámaras de compensación son la contraparte de todas las compras y ventas de contratos a futuro, de opciones sobre valores y otros de similar naturaleza que autorice la SVS. Estas entidades sólo pueden estar constituidas por bolsas de valores y sus respectivos corred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pósitos Centralizados de Valores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Instituciones especializadas en la inmovilización, custodia y transferencia de valo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movilización reúne los instrumentos que se transa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vita el traspaso físico de valores desde el vendedor al compr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stema de registro en cuenta permite la emisión de valores desmaterializados</a:t>
            </a:r>
            <a:br>
              <a:rPr sz="1400"/>
            </a:b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5640" y="692280"/>
            <a:ext cx="76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Sociedades anónimas y sus entidades relacionadas, matrices, filiales, coligadas, “subsidiari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1700280"/>
            <a:ext cx="590544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TRIZ / COLIGANTE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[86 y ss LS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360" y="3716280"/>
            <a:ext cx="352728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7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71640" y="2421000"/>
            <a:ext cx="34560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ntrol directo o indir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+ del 50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sobre mayoría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controla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4292640"/>
            <a:ext cx="3384360" cy="431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IG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1636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4836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2781360"/>
            <a:ext cx="3456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trol pero posee directa o indirecta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del capital con derecho a voto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0% o + % del capital si no es SA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uede elegir /designar / hacer id. un miembro de D’s o adm’s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andita si SA participa en dirigir u orientar al g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4869000"/>
            <a:ext cx="8497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puede haber participación recíproca en el capital, directa ni indirecta;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sta que haya una SA para vigencia de la prohib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 ocurre por fusión, incorporación, división, control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be cesar en un a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A Cerradas: Sus operaciones cruzadas y con sus respectivas personas relacionadas deben observar condiciones de equidad de mercado; si Abiertas Título XVI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4067280"/>
            <a:ext cx="396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Provoca consolidación EEFF, dividendo mínimo se calcula sobre utilidades consolid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24000" y="371628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24000" y="4653000"/>
            <a:ext cx="381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140360" y="3716280"/>
            <a:ext cx="71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20000" y="1773360"/>
            <a:ext cx="1944720" cy="64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BSIDIARI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427280" y="213372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172000" y="2421000"/>
            <a:ext cx="71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5640" y="692280"/>
            <a:ext cx="762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Grupos empresariales, personas relacion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24000" y="1268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68360" y="306864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640" y="1484280"/>
            <a:ext cx="662472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RUPOS EMPRESARIALES [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6 y ss LMV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68360" y="1989000"/>
            <a:ext cx="8136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vinculadas e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piedad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ponsabilidad crediti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sumen intereses comunes, subordinación, riesgos financieros comu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y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; sociedade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olador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ún o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278136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3284640"/>
            <a:ext cx="799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 o personas con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cuerdo de actuación conjunta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directa o indirecta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iene propiedad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der para asegurar mayorías en juntas y directorios o administradores 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fluir decisivamente en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4365720"/>
            <a:ext cx="489600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S RELACIONADAS [con una socieda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013360"/>
            <a:ext cx="7561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ntidades del grupo empresarial, matriz, coligante, coligada, fil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dores, sus cónyuges y parientes hasta segundo grado y controlados por el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ien designe a un administrador o controle 10% o más de la soc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91636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692280"/>
            <a:ext cx="762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Agencias de SA extranj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95280" y="1700280"/>
            <a:ext cx="813744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cia importa la misma persona, no hay separación de personalidad juríd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rgo, la entidad extranjera participa directamente en Chile, involucra su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gulada para SA extranjeras, qué pasa con otras figuras so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ormalidades: 121 – 122 L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protocoliza en notaría chilena documentos que acrediten existencia y vigencia de la sociedad y poder general del a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gente efectúa declaración en Chile con requisito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levante es la declaración de bienes en Chile; asegura fácil ejecución, pero sigue siendo patrimonio de la entidad extranj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cripción y publicación de extracto en 60 d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tributar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azones comerciales: credenciales técnicas o financieras de la matriz extranjera son neces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8360" y="3716280"/>
            <a:ext cx="86756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0276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1832040"/>
            <a:ext cx="741708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Tipos de Sociedades Anóni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Sociedades Anónimas Abiertas y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 Unicode MS"/>
              </a:rPr>
              <a:t>Diferencias Sociedades Anónimas Cerradas y Espe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uladores de SA y del Mercado de Valores, tipos de regulación y fiscalización exte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gistr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ercado de Valores, organización y compren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Referencia a instrumentos transables en el Mercado de 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ociedades anónimas y sus entidades relacionadas, matrices, filiales, coligadas, “subsidia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Grupos empresariales, personas relacio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gencias de SA extranj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2349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Cuerpos legales y reglamen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284640"/>
            <a:ext cx="648036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Sociedades, Tomo II  A. Puelma, (3a. Edición/2001/ Edit. Jurídica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Ley Mercado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 Unicode MS"/>
              </a:rPr>
              <a:t>Normativa SVS, NCG 30, NCG 2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8400" y="77148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2421000"/>
            <a:ext cx="3097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tenece al menos a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os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341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ABIERTAS: [LSA] Sus acciones se inscriben en Registro de Valores, por obligación legal o acuerdo voluntario [LMV] Se deben inscribir en Registro de Valores, las acciones de SA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443700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u obligatoria (</a:t>
            </a: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por ley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)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 flipV="1" rot="10800000">
            <a:off x="1762920" y="4364640"/>
            <a:ext cx="86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24000" y="3429000"/>
            <a:ext cx="1223640" cy="20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3174840"/>
            <a:ext cx="456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651640"/>
            <a:ext cx="792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jan de serlo sólo cuando concurre Junta de Accionistas con 2/3 votos para deslistar [genera derecho a  retiro]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[una vez dejen de cumplir requisitos para estar inscritas en R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03720" y="2060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22050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869000"/>
            <a:ext cx="878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o se inscriben en Registro de Valo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(salvo que califiquen de SA Abiertas </a:t>
            </a:r>
            <a:r>
              <a:rPr b="0" i="1" lang="es-CL" sz="1600" spc="-1" strike="noStrike">
                <a:solidFill>
                  <a:srgbClr val="000000"/>
                </a:solidFill>
                <a:latin typeface="Arial"/>
              </a:rPr>
              <a:t>per se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 someten a las normas de las SA Abierta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, salvo p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ormación, modificación, disolución (reglas propi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rmas especiales que las r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o se rigen por normas de SA Cerradas relativas a información pq les aplican normas de SA Abier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14172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93372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as que por disposición legal expresa están obligadas a someterse a mismos trámi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427680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4098960"/>
            <a:ext cx="144360" cy="554040"/>
          </a:xfrm>
          <a:custGeom>
            <a:avLst/>
            <a:gdLst>
              <a:gd name="textAreaLeft" fmla="*/ 0 w 144360"/>
              <a:gd name="textAreaRight" fmla="*/ 52200 w 14436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69228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5280" y="1262160"/>
            <a:ext cx="835200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inscriben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o se rigen por normas de SA Abiertas, salvo por las obligadas a entregar información pública, que se rigen por ellas para tal ef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ay propiamente 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Y las hay obligadas a entregar información pública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es las obligan a someterse a normas de SA Abierta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s normas les son aplicable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fiscalizadas, controladas o vigiladas por la SVS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presiones análo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e someten a información y publicidad para con SVS, accionistas y púb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u obligación se concreta e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istro Especial de Entidades Informantes [REE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regi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proporcionar información continua a l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bligación de informar hechos es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pias de juntas, modificaciones estatutarias, cambios en la administración y accionistas, cesación de pagos, EEFF anuales en siti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l cesar los requisitos deben pedir dejar el REEI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¿de quién es la atribu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508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155736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 que las regulan e información que suminist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l dirimente de la SVS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RE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Registros “privados” de las SA: Accionistas, Juntas, Directorios, Registr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hibición de limitar disposición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oponibilidad de pactos de accionistas relativos  a cesiones de acciones que no se inscriban en Reg de Accionistas y depositen e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ligación de anotar traspasos sin más trá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8360" y="1484280"/>
            <a:ext cx="835164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irectores, 5 o 7 si  (i) UF1,5M patrimonio bursátil y (ii) 12,5% de acciones en manos de accionistas que tengan menos del 10%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free floa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menos un Director Independiente en S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ecuencia de las ses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ité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 y de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: acuerdos se pueden ejecutar directamente por la unanimidad de los directores, por escritura pública (no en sa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s se presume método de entrega de información a público (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eraciones con personas relacionadas art 44 para cerradas y Tit XVI para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bación, salvo acuerdo unánime, en abiertas (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126828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69228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68360" y="141300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 externa (52) e inspectores de cuentas, exención u otros métodos (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Inspectores de Cuentas y Auditores que no están sometidos  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bilidad financiera IFRS, GAAP chi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ntas citadas por SVS y correo, 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ícipes, 5 días antes (abiertas) o el mismo día (cerra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 y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squeeze ou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i 95% de acciones en manos del control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tio internet para SA Abiertas, publicación de memorias, informe de auditores y EE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por tenencia en una sola mano de todas las acciones: no se inscribe sin visto bueno de SVS, en abiertas y especiales (1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8T03:04:42Z</dcterms:modified>
  <cp:revision>16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