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F73-A8EF-4EDC-9874-571D2643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37C-2015-4895-8AD8-51475DE2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D07-86BE-4ED8-96CF-7FCA4638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56F-7EA7-4E18-ACB0-DD9EF758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7B9-4611-45B2-8443-BF0B66D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273-0F6B-4C86-BB35-84267BAE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ED7-9B03-4943-B5D4-355A69E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CAF-D3D7-493D-A054-9F39ECD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63D-C32F-49B0-83A3-BBE2F3BF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3BC-438A-4D7A-A656-5956629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765-DF4B-418E-8B7A-0A80F4E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06-D5B3-49B3-BEEE-AB36047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75A-D3AD-46AE-A03B-3B66B13B6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20640"/>
            <a:ext cx="76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Reguladores de SA y del Mercado de Val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regulación y fiscalización extern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484280"/>
            <a:ext cx="835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ores y Fiscalizadores del Mercado de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Valores y Seguros (SV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upervisa, norma, sanciona y promueve los mercados de valores y de segur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itución autónoma, personalidad jurídica y patrimonio prop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laciona con el Gobierno a través del Ministerio de Hac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jeto: fiscalización de las actividades y entidades que participan de los mercados de valores y de seguros en C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elar porque las supervisadas cumplan con  leyes, reglamentos, estatutos y otras disposiciones que rijan el funcionamiento de lo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Administradoras de Fondos de Pensiones (SAFP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de pensiones y el Seguro de Cesant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Bancos e Instituciones Financieras (SBIF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nco Central de Chi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umple  función regulador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tiva de mercado monetario y camb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 las transacciones de American Depositary Receipts (ADRs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ímites en las inversiones de instrumentos en el extranjero de A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y salida de divisas para esos fo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3413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6, Art. 2, inciso segu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371600"/>
            <a:ext cx="5333760" cy="3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quellas que inscriban voluntariamente o por obligación 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81080"/>
            <a:ext cx="548640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4382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IÉNES DEBE INSCRIBI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2421000"/>
            <a:ext cx="495288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8954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valores que sean objeto de oferta públic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3526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s acciones de las sociedades anónimas qu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809880"/>
            <a:ext cx="4724640" cy="3049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tengan más de 500 accionistas;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191120"/>
            <a:ext cx="4724640" cy="3045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i) a lo menos el 10% de su capital pertenezca a un mínimo de 100 accionistas , excluidos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individualmente o a través de otras personas naturales o jurídicas excedan dicho 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495324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) 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5334120"/>
            <a:ext cx="54864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02136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6019920"/>
            <a:ext cx="548640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341360"/>
            <a:ext cx="472464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SO INSCRIPCION E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040" y="20271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3560" y="1951200"/>
            <a:ext cx="464796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. Artículo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040" y="32464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70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Generale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conómicos y Financier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Socie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claraciones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040" y="26370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560680"/>
            <a:ext cx="563904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0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olicitud de In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8120" y="3855960"/>
            <a:ext cx="1447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44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álisis Solicit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18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ó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992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44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Plazo 30 días contados des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echa de solicit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urante este período es posi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el emisor deba efectu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correcciones o actualiza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 inform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18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ión de Certificad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2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Ver slide sigu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057400" y="1371600"/>
            <a:ext cx="472428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9051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828800"/>
            <a:ext cx="46483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TECEDENTES ECONOMIC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28464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é debe informa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y estados financieros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trimestrales y anu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Variaciones de ca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Otros anteced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quella información sobre 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or, valores ofrecidos y su ofert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un hombre juicioso considerarí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mportante para sus decisiones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versión (Art. 9, LMV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ntecedentes societarios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cuerdo a 2.3, Sección II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1911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 para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trimestrales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marzo y septiembre, en plazo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30 días a contar de cierre trimes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trimestral junio, 45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anual, 60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l momento que el ocurra o lleg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 su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De acuerdo a 2.3. Sección II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ómo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429000"/>
            <a:ext cx="18288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41911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713040"/>
            <a:ext cx="86756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Ofertas del mercado primario y secun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se originen en ofertas públicas de valores o en que participen corredoras o agentes de valores (dentro o fuera de bolsa)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la oferta de acciones no inscritas (ej. de sociedades anónimas cerradas) en remate cada 15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(retail) 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normativa de mercado de valores regu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mediar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é se transa en una Bolsa de Comercio: Valores, todo título transferible, de crédito o inversión (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(Nacionales y Extranje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Renta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Intermedi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Mo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Mutuo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ción y autorregulación de Bolsas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nual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ción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su objeto es el corretaje de valores y actividades autorizadas por la SV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stodi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de cartera de ter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ía y comisión específica para la compra y venta de valores en mercados de valore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rredores de Bolsa,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n miembros de y actúan en 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gente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era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de bolsa,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nc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pueden realizar actividades de intermediación, según Ley General de Bancos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n embargo, la compra o venta de acciones se realizada a través de un corredor de bols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Proveen a  miembros (corredores) la implementación para realizar transacciones de valores mediante mecanismos continuos de subas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ámaras de Compens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as cámaras de compensación son la contraparte de todas las compras y ventas de contratos a futuro, de opciones sobre valores y otros de similar naturaleza que autorice la SVS. Estas entidades sólo pueden estar constituidas por bolsas de valores y sus respectivos corre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pósitos Centralizado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Instituciones especializadas en la inmovilización, custodia y transferencia de val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movilización reúne los instrumentos que se trans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vita el traspaso físico de valores desde el vendedor al comp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 de registro en cuenta permite la emisión de valores desmaterializad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692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ociedades anónimas y sus entidades relacionadas, matrices, filiales, coligadas, “subsidiari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1700280"/>
            <a:ext cx="590544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TRIZ / COLIGANTE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[86 y ss LS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3716280"/>
            <a:ext cx="352728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1640" y="2421000"/>
            <a:ext cx="34560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 directo o in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sobre mayoría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controla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4292640"/>
            <a:ext cx="338436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I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2781360"/>
            <a:ext cx="345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trol pero posee directa o indirecta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un miembro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participa en dirigir u orientar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4869000"/>
            <a:ext cx="8497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puede haber participación recíproca en el capital, directa ni indirecta;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sta que haya una SA para vigencia de la prohib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 ocurre por fusión, incorporación, división, control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be cesar en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A Cerradas: Sus operaciones cruzadas y con sus respectivas personas relacionadas deben observar condiciones de equidad de mercado; si Abiertas Título XVI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0672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Provoca consolidación EEFF, dividendo mínimo se calcula sobre utilidades consolid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4000" y="371628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4000" y="465300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40360" y="37162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1773360"/>
            <a:ext cx="194472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BSIDIARI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427280" y="213372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72000" y="2421000"/>
            <a:ext cx="7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692280"/>
            <a:ext cx="76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empresariales, personas rela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4000" y="1268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68360" y="306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1484280"/>
            <a:ext cx="662472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UPOS EMPRESARIALES [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6 y ss LMV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89000"/>
            <a:ext cx="813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vinculadas e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piedad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ponsabilidad credi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sumen intereses comunes, subordinación, riesgos financier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y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; sociedade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ún o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78136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3284640"/>
            <a:ext cx="799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 o persona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uerdo de actuación conjunt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directa o indirecta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ne propieda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der para asegurar mayorías en juntas y directorios o administradores 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fluir decisivamente en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436572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S RELACIONADAS [con una socied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013360"/>
            <a:ext cx="756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del grupo empresarial, matriz, coligante, coligada, 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dores, sus cónyuges y parientes hasta segundo grado y controlados por el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ien designe a un administrador o controle 10% o más de la soc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692280"/>
            <a:ext cx="762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gencias de SA extranj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95280" y="1700280"/>
            <a:ext cx="81374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cia importa la misma persona, no hay separación de personal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rgo, la entidad extranjera participa directamente en Chile, involucra su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a para SA extranjeras, qué pasa con otras figuras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rmalidades: 121 – 122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protocoliza en notaría chilena documentos que acrediten existencia y vigencia de la sociedad y poder general del 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efectúa declaración en Chile con requisito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levante es la declaración de bienes en Chile; asegura fácil ejecución, pero sigue siendo patrimonio de la entidad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cripción y publicación de extracto en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tributa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comerciales: credenciales técnicas o financieras de la matriz extranjera son neces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 y del Mercado de Valores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califiquen de SA Abierta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155736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 que las regulan e información que sumini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l dirimente de la SVS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RE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Registros “privados” de las SA: Accionistas, Juntas, Directorios, Registr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limitar disposición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oponibilidad de pactos de accionistas relativos  a cesiones de acciones que no se inscriban en Reg de Accionistas y depositen e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ligación de anotar traspasos sin más trá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48428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irectores, 5 o 7 si  (i) UF1,5M patrimonio bursátil y (ii) 12,5% de acciones en manos de accionistas que tengan menos del 10%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ree floa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un Director Independiente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ecuencia de las s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té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 y de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acuerdos se pueden ejecutar directamente por la unanimidad de los directores, por escritura pública (no en s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s se presume método de entrega de información a público (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 con personas relacionadas art 44 para cerradas y Tit XVI par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ción, salvo acuerdo unánime, en abiertas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14130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 externa (52) e inspectores de cuentas, exención u otros métodos (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Inspectores de Cuentas y Auditores que no están sometidos  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bilidad financiera IFRS, GAAP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s citadas por SVS y correo,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ícipes, 5 días antes (abiertas) o el mismo día (cerr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 y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queeze ou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95% de acciones en manos del contro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tio internet para SA Abiertas, publicación de memorias, informe de auditores y E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por tenencia en una sola mano de todas las acciones: no se inscribe sin visto bueno de SVS, en abiertas y especiales (1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8T03:04:42Z</dcterms:modified>
  <cp:revision>16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