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DEA-FE3C-4C08-9C35-C5192E3E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FB1-6997-43E2-BE92-7F17BF5E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B35-8273-452C-8B34-2316F712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5B9-0FA6-48BD-AABA-18C7DD8D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A9F-9F2A-4CA0-A836-85F0ECD6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C8B-6D09-4F4F-9AB5-7BFD294E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288-B499-4D73-BED4-D21803FA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607-7602-4EF5-8E77-8D80C51D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DA8D-8870-4D58-A20A-B7967A31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E04-24EB-43BC-9406-6B2CDDAE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A82-3759-426F-AAE8-8EF307FA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D9C-7B74-42A6-8A16-4DE524D8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2746-29C6-4996-BD2C-AA46A2E76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1143000" y="2286000"/>
            <a:ext cx="70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EN REGISTRO ESPECIAL DE ENTIDADES INFORMANTES (REE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Facultad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8"/>
          <p:cNvSpPr/>
          <p:nvPr/>
        </p:nvSpPr>
        <p:spPr>
          <a:xfrm>
            <a:off x="592200" y="5229360"/>
            <a:ext cx="2733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Octavio Bofill Genz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63"/>
          <p:cNvSpPr/>
          <p:nvPr/>
        </p:nvSpPr>
        <p:spPr>
          <a:xfrm>
            <a:off x="848520" y="642960"/>
            <a:ext cx="74134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ESPECIAL DE ENTIDADES INFORMANTES (RE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642960" y="200016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REGISTRO ESPECIAL E. I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NCG N° 28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309840" y="2076480"/>
            <a:ext cx="548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Registro Público llevado por la Superintendencia de Valores y Segu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642960" y="2762280"/>
            <a:ext cx="2643120" cy="380880"/>
          </a:xfrm>
          <a:custGeom>
            <a:avLst/>
            <a:gdLst>
              <a:gd name="textAreaLeft" fmla="*/ 0 w 2643120"/>
              <a:gd name="textAreaRight" fmla="*/ 2643480 w 26431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63" y="0"/>
                </a:lnTo>
                <a:lnTo>
                  <a:pt x="21600" y="10800"/>
                </a:lnTo>
                <a:lnTo>
                  <a:pt x="16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¿QUIENES DEBE INSCRIBIRS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3309840" y="2533680"/>
            <a:ext cx="5486400" cy="33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Las personas que por disposición legal deban quedar sometidas a la fiscalización, al control o a la vigilancia de la Superintendencia y no sean de aquellas a que se refiere el inciso primero del artículo 1º de la LMV, no estarán obligadas a inscribirse en el Registro de Valores. Sin embargo, las personas antes indicadas deberán cumplir con las obligaciones de información que les impongan las ley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La SVS establecerá, por norma de carácter general, la información que las entidades indicadas en el inciso anterior, que no sean emisoras de valores, deberán proporcionar a la Superintendencia y al público en general. Dicha información no podrá exceder la que se exige a los emisores de valores, tanto en contenido como en periodicidad, forma y publicidad, sin perjuicio de las facultades de la Superintendencia para efectuar requerimientos adicionales que se expliquen por la necesidad de supervisar específicamente el tipo de actividad de la entidad o la industria que ella integra. Para ello, la Superintendencia podrá determinar que las entidades informantes se inscriban en registros especiales fijando, por norma de carácter general, los requisitos para ello.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4"/>
          <p:cNvSpPr/>
          <p:nvPr/>
        </p:nvSpPr>
        <p:spPr>
          <a:xfrm>
            <a:off x="642960" y="3905280"/>
            <a:ext cx="2714760" cy="38088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98" y="0"/>
                </a:lnTo>
                <a:lnTo>
                  <a:pt x="21600" y="10800"/>
                </a:lnTo>
                <a:lnTo>
                  <a:pt x="165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OBLIG. DE INFORMAC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 flipV="1" rot="10800000">
            <a:off x="620280" y="2814480"/>
            <a:ext cx="41720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63"/>
          <p:cNvSpPr/>
          <p:nvPr/>
        </p:nvSpPr>
        <p:spPr>
          <a:xfrm>
            <a:off x="848520" y="642960"/>
            <a:ext cx="74134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ESPECIAL DE ENTIDADES INFORMANTES (RE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1428840" y="2000160"/>
            <a:ext cx="6377040" cy="2145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PROCESO INSCRIPCION EN REGISTRO ESPECIAL DE ENTIDADES INFORMANTES (REEI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681120" y="264780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REGULAC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357280" y="2571840"/>
            <a:ext cx="4648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. Artículo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Norma de Carácter General N° 284, Sección I, SV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681120" y="333360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PROCEDIMI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0"/>
          <p:cNvSpPr/>
          <p:nvPr/>
        </p:nvSpPr>
        <p:spPr>
          <a:xfrm>
            <a:off x="642960" y="4614840"/>
            <a:ext cx="1676520" cy="13860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formación</a:t>
            </a: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ntecedentes Generale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Económicos y Financier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Hechos Esenci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ntecedentes Societa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claraciones 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Responsabilida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claración Jurada Espec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4"/>
          <p:cNvSpPr/>
          <p:nvPr/>
        </p:nvSpPr>
        <p:spPr>
          <a:xfrm>
            <a:off x="642960" y="3929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SOCIE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Solicitud de Inscrip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2624040" y="4005360"/>
            <a:ext cx="14479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6"/>
          <p:cNvSpPr/>
          <p:nvPr/>
        </p:nvSpPr>
        <p:spPr>
          <a:xfrm>
            <a:off x="2700360" y="3929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SV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Análisis Solicitu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7"/>
          <p:cNvSpPr/>
          <p:nvPr/>
        </p:nvSpPr>
        <p:spPr>
          <a:xfrm>
            <a:off x="4757760" y="3929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SV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Inscripción REE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8"/>
          <p:cNvSpPr/>
          <p:nvPr/>
        </p:nvSpPr>
        <p:spPr>
          <a:xfrm>
            <a:off x="6815160" y="3929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SOCIE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Obligaciones de Inform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9"/>
          <p:cNvSpPr/>
          <p:nvPr/>
        </p:nvSpPr>
        <p:spPr>
          <a:xfrm>
            <a:off x="2700360" y="4614840"/>
            <a:ext cx="1676520" cy="13860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No hay plazo para SV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urante este período 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posible  que el emiso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ba efectua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correcciones 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ctualizacion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 informació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0"/>
          <p:cNvSpPr/>
          <p:nvPr/>
        </p:nvSpPr>
        <p:spPr>
          <a:xfrm>
            <a:off x="4757760" y="4614840"/>
            <a:ext cx="1676520" cy="13860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Emisión de Certificado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Inscrip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1"/>
          <p:cNvSpPr/>
          <p:nvPr/>
        </p:nvSpPr>
        <p:spPr>
          <a:xfrm>
            <a:off x="6815160" y="4614840"/>
            <a:ext cx="1676520" cy="13860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Ver slide siguiente</a:t>
            </a:r>
            <a:r>
              <a:rPr b="0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2"/>
          <p:cNvSpPr/>
          <p:nvPr/>
        </p:nvSpPr>
        <p:spPr>
          <a:xfrm>
            <a:off x="2433600" y="3333600"/>
            <a:ext cx="4648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Procedimiento simplificad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 flipV="1" rot="10800000">
            <a:off x="439200" y="296856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59"/>
          <p:cNvSpPr/>
          <p:nvPr/>
        </p:nvSpPr>
        <p:spPr>
          <a:xfrm>
            <a:off x="1179360" y="590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63"/>
          <p:cNvSpPr/>
          <p:nvPr/>
        </p:nvSpPr>
        <p:spPr>
          <a:xfrm>
            <a:off x="1855080" y="64296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071800" y="1857240"/>
            <a:ext cx="4724280" cy="2286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BLIGACIONES DE INFORMACION DE SOCIEDADES INSCRI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00040" y="2428920"/>
            <a:ext cx="1857240" cy="28584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85" y="0"/>
                </a:lnTo>
                <a:lnTo>
                  <a:pt x="21600" y="10800"/>
                </a:lnTo>
                <a:lnTo>
                  <a:pt x="15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REGULAC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428920" y="2357280"/>
            <a:ext cx="464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 y otr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Norma de Carácter General N° 284, Sección II, SV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2438280" y="314316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NTECED.ECONO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Y FINANCI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4572000" y="314316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HECHOS RELEVANT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 ESENCI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6705720" y="314316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TRA 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(PERMANEN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304920" y="3676680"/>
            <a:ext cx="205740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¿Qué debe informars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2438280" y="36766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s y estados financieros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nu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Memoria 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tros anteced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7"/>
          <p:cNvSpPr/>
          <p:nvPr/>
        </p:nvSpPr>
        <p:spPr>
          <a:xfrm>
            <a:off x="4572000" y="36766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¿Sólo en lo que respecta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peracion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con partes relacionada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rt. 147, N° 5 y 6, LS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6705720" y="36766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ntecedentes societarios,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cuerdo a 2.3, Sección II,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NCG N° 3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7"/>
          <p:cNvSpPr/>
          <p:nvPr/>
        </p:nvSpPr>
        <p:spPr>
          <a:xfrm>
            <a:off x="304920" y="4591080"/>
            <a:ext cx="205740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Plazo para inform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8"/>
          <p:cNvSpPr/>
          <p:nvPr/>
        </p:nvSpPr>
        <p:spPr>
          <a:xfrm>
            <a:off x="2438280" y="45910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 anual, 60 dí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9"/>
          <p:cNvSpPr/>
          <p:nvPr/>
        </p:nvSpPr>
        <p:spPr>
          <a:xfrm>
            <a:off x="4572000" y="45910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l momento que el ocurra 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legue a su conocimien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0"/>
          <p:cNvSpPr/>
          <p:nvPr/>
        </p:nvSpPr>
        <p:spPr>
          <a:xfrm>
            <a:off x="6705720" y="45910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De acuerdo a 2.3. Sección II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NCG N° 28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1"/>
          <p:cNvSpPr/>
          <p:nvPr/>
        </p:nvSpPr>
        <p:spPr>
          <a:xfrm>
            <a:off x="304920" y="5505480"/>
            <a:ext cx="2009520" cy="3096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Cómo Inform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2"/>
          <p:cNvSpPr/>
          <p:nvPr/>
        </p:nvSpPr>
        <p:spPr>
          <a:xfrm>
            <a:off x="2438280" y="5505480"/>
            <a:ext cx="2009880" cy="6811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ía SEI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3"/>
          <p:cNvSpPr/>
          <p:nvPr/>
        </p:nvSpPr>
        <p:spPr>
          <a:xfrm>
            <a:off x="4572000" y="5505480"/>
            <a:ext cx="2009880" cy="6811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ía S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4"/>
          <p:cNvSpPr/>
          <p:nvPr/>
        </p:nvSpPr>
        <p:spPr>
          <a:xfrm>
            <a:off x="6705720" y="5505480"/>
            <a:ext cx="2009520" cy="6811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ficina de Par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2666880" y="3828960"/>
            <a:ext cx="1828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8"/>
          <p:cNvSpPr/>
          <p:nvPr/>
        </p:nvSpPr>
        <p:spPr>
          <a:xfrm>
            <a:off x="2514600" y="4591080"/>
            <a:ext cx="1828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2590920" y="5505480"/>
            <a:ext cx="17859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4724280" y="5505480"/>
            <a:ext cx="17859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6781680" y="5505480"/>
            <a:ext cx="17859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1857240" y="1785960"/>
            <a:ext cx="5643720" cy="214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NORMATIVA INFORMACION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1 Rectángulo"/>
          <p:cNvSpPr/>
          <p:nvPr/>
        </p:nvSpPr>
        <p:spPr>
          <a:xfrm>
            <a:off x="2286000" y="3071880"/>
            <a:ext cx="65721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Las IFRS - International Financial Reporting Standards  o IAS – International Accounting Standards en su conjunto se denominan IFRS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Las IFRS establecen los requisitos de reconocimiento, medición, presentación e información a revelar que se refieren a las transacciones y sucesos económicos que son importantes en los estados financie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Cada vez son más países que están adoptando o convergiendo a las IFRSs, atendidas sus ventaj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Aumenta la calidad y comparabilidad de la información financi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Elimina barreras al flujo de capit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Disminuye costos de elaboración de información, en especial si operan a nivel internacional y cotizan en otros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Facilita proceso de consolidación de la información de grupos multinacion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Ayuda a la correcta evaluación de riesgos creditici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Mejora la competitividad empres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571680" y="2286000"/>
            <a:ext cx="1643040" cy="35712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83" y="0"/>
                </a:lnTo>
                <a:lnTo>
                  <a:pt x="21600" y="10800"/>
                </a:lnTo>
                <a:lnTo>
                  <a:pt x="133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ormativa aplic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antes de 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71680" y="3071880"/>
            <a:ext cx="1643040" cy="35712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83" y="0"/>
                </a:lnTo>
                <a:lnTo>
                  <a:pt x="21600" y="10800"/>
                </a:lnTo>
                <a:lnTo>
                  <a:pt x="133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F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4 Rectángulo"/>
          <p:cNvSpPr/>
          <p:nvPr/>
        </p:nvSpPr>
        <p:spPr>
          <a:xfrm>
            <a:off x="2286000" y="2228760"/>
            <a:ext cx="614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ciedades que no cotizan</a:t>
            </a:r>
            <a:r>
              <a:rPr b="1" lang="es-ES" sz="1000" spc="-1" strike="noStrike">
                <a:solidFill>
                  <a:srgbClr val="000000"/>
                </a:solidFill>
                <a:latin typeface="Tahoma"/>
                <a:ea typeface="Tahoma"/>
              </a:rPr>
              <a:t>: Normas Colegio de Contadores (Boletines  Técnicos)  (GAA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ciedades que cotizan o supervisadas por SVS</a:t>
            </a:r>
            <a:r>
              <a:rPr b="1" lang="es-ES" sz="1000" spc="-1" strike="noStrike">
                <a:solidFill>
                  <a:srgbClr val="000000"/>
                </a:solidFill>
                <a:latin typeface="Tahoma"/>
                <a:ea typeface="Tahoma"/>
              </a:rPr>
              <a:t>: Normas  SVS más Normas Colegio.       Normas SVS priman sobre normas Colegi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857240" y="1785960"/>
            <a:ext cx="5643720" cy="214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CHILE- CALENDARIO APLICACIÓN IF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600840" y="2074320"/>
            <a:ext cx="787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alendario dado a conocer por la SVS con fecha 27 de Agosto de 2007, calendario que se inicia el 1 de enero de 2009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que asegura la adopción gradual de las normas IFRS, establecidas por la International Accounting Standard Board (IASB)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calendario de adopción de ifrs"/>
          <p:cNvPicPr/>
          <p:nvPr/>
        </p:nvPicPr>
        <p:blipFill>
          <a:blip r:embed="rId1"/>
          <a:stretch/>
        </p:blipFill>
        <p:spPr>
          <a:xfrm>
            <a:off x="2357280" y="2567160"/>
            <a:ext cx="42865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/>
  <dc:description/>
  <dc:language>en-US</dc:language>
  <cp:lastModifiedBy>sdiaz</cp:lastModifiedBy>
  <dcterms:modified xsi:type="dcterms:W3CDTF">2010-08-30T05:53:11Z</dcterms:modified>
  <cp:revision>99</cp:revision>
  <dc:subject/>
  <dc:title>Sin título de diapositiva</dc:title>
</cp:coreProperties>
</file>