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992C-3EFE-47EE-906D-61700856C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F1F9-E45C-49E3-BAB5-405B90CE0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7C9E-0D55-45B9-8E7B-092767097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E949-7C6F-4EA0-9193-56A15D93D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4463-703E-4C50-AE4F-E5226CB0B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DB1E-CAC2-40EA-A044-EABB9AD1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FA36-80BF-47A4-94D6-B8FE3C5FA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6AC9-4B52-4FAB-A21B-1DBD20F07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9E77-1136-45F0-8A86-FFF363841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6156-0061-437C-A547-D2FC998D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F961-C116-4A8A-A3E6-75823C7A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4D2E-2102-45F1-B430-FE0AE888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795B8-568A-46AD-B8C5-8402408863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2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3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6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3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4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5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1143000" y="2286000"/>
            <a:ext cx="7072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  <a:ea typeface="Tahoma"/>
              </a:rPr>
              <a:t>INSCRIPCION DE SOCIEDADES ANÓNIM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  <a:ea typeface="Tahoma"/>
              </a:rPr>
              <a:t>EN REGISTRO ESPECIAL DE ENTIDADES INFORMANTES (REE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  <a:ea typeface="Tahoma"/>
              </a:rPr>
              <a:t>SUPERINTENDENCIA DE VALORES Y SEGU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7" descr="Facultad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8"/>
          <p:cNvSpPr/>
          <p:nvPr/>
        </p:nvSpPr>
        <p:spPr>
          <a:xfrm>
            <a:off x="592200" y="5229360"/>
            <a:ext cx="2733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Curso Derecho Comercial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2do semestre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Octavio Bofill Genzs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E mail obofill@bm-ahj.c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"/>
          <p:cNvSpPr/>
          <p:nvPr/>
        </p:nvSpPr>
        <p:spPr>
          <a:xfrm>
            <a:off x="2516760" y="766800"/>
            <a:ext cx="469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Derecho Comercial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Line 2"/>
          <p:cNvSpPr/>
          <p:nvPr/>
        </p:nvSpPr>
        <p:spPr>
          <a:xfrm>
            <a:off x="642960" y="5716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6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2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3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4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63"/>
          <p:cNvSpPr/>
          <p:nvPr/>
        </p:nvSpPr>
        <p:spPr>
          <a:xfrm>
            <a:off x="848520" y="642960"/>
            <a:ext cx="741348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INSCRIPCION DE SOCIEDADES ANÓNIM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EN REGISTRO ESPECIAL DE ENTIDADES INFORMANTES (REE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SUPERINTENDENCIA DE VALORES Y SEGU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8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4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9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0"/>
          <p:cNvSpPr/>
          <p:nvPr/>
        </p:nvSpPr>
        <p:spPr>
          <a:xfrm>
            <a:off x="642960" y="2000160"/>
            <a:ext cx="2514600" cy="38124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REGISTRO ESPECIAL E. I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NCG N° 28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3309840" y="2076480"/>
            <a:ext cx="5486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Registro Público llevado por la Superintendencia de Valores y Segur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2"/>
          <p:cNvSpPr/>
          <p:nvPr/>
        </p:nvSpPr>
        <p:spPr>
          <a:xfrm>
            <a:off x="642960" y="2762280"/>
            <a:ext cx="2643120" cy="380880"/>
          </a:xfrm>
          <a:custGeom>
            <a:avLst/>
            <a:gdLst>
              <a:gd name="textAreaLeft" fmla="*/ 0 w 2643120"/>
              <a:gd name="textAreaRight" fmla="*/ 2643480 w 26431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63" y="0"/>
                </a:lnTo>
                <a:lnTo>
                  <a:pt x="21600" y="10800"/>
                </a:lnTo>
                <a:lnTo>
                  <a:pt x="1646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¿QUIENES DEBE INSCRIBIRSE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Ley N° 18.045, Art. 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3"/>
          <p:cNvSpPr/>
          <p:nvPr/>
        </p:nvSpPr>
        <p:spPr>
          <a:xfrm>
            <a:off x="3309840" y="2533680"/>
            <a:ext cx="5486400" cy="33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Las personas que por disposición legal deban quedar sometidas a la fiscalización, al control o a la vigilancia de la Superintendencia y no sean de aquellas a que se refiere el inciso primero del artículo 1º de la LMV, no estarán obligadas a inscribirse en el Registro de Valores. Sin embargo, las personas antes indicadas deberán cumplir con las obligaciones de información que les impongan las leyes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La SVS establecerá, por norma de carácter general, la información que las entidades indicadas en el inciso anterior, que no sean emisoras de valores, deberán proporcionar a la Superintendencia y al público en general. Dicha información no podrá exceder la que se exige a los emisores de valores, tanto en contenido como en periodicidad, forma y publicidad, sin perjuicio de las facultades de la Superintendencia para efectuar requerimientos adicionales que se expliquen por la necesidad de supervisar específicamente el tipo de actividad de la entidad o la industria que ella integra. Para ello, la Superintendencia podrá determinar que las entidades informantes se inscriban en registros especiales fijando, por norma de carácter general, los requisitos para ello.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24"/>
          <p:cNvSpPr/>
          <p:nvPr/>
        </p:nvSpPr>
        <p:spPr>
          <a:xfrm>
            <a:off x="642960" y="3905280"/>
            <a:ext cx="2714760" cy="380880"/>
          </a:xfrm>
          <a:custGeom>
            <a:avLst/>
            <a:gdLst>
              <a:gd name="textAreaLeft" fmla="*/ 0 w 2714760"/>
              <a:gd name="textAreaRight" fmla="*/ 2715120 w 271476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98" y="0"/>
                </a:lnTo>
                <a:lnTo>
                  <a:pt x="21600" y="10800"/>
                </a:lnTo>
                <a:lnTo>
                  <a:pt x="1659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OBLIG. DE INFORMAC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Ley N° 18.045, Art. 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Line 2"/>
          <p:cNvSpPr/>
          <p:nvPr/>
        </p:nvSpPr>
        <p:spPr>
          <a:xfrm>
            <a:off x="642960" y="5716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1"/>
          <p:cNvSpPr/>
          <p:nvPr/>
        </p:nvSpPr>
        <p:spPr>
          <a:xfrm flipV="1" rot="10800000">
            <a:off x="620280" y="2814480"/>
            <a:ext cx="41720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2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3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4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63"/>
          <p:cNvSpPr/>
          <p:nvPr/>
        </p:nvSpPr>
        <p:spPr>
          <a:xfrm>
            <a:off x="848520" y="642960"/>
            <a:ext cx="741348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INSCRIPCION DE SOCIEDADES ANÓNIM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EN REGISTRO ESPECIAL DE ENTIDADES INFORMANTES (REE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SUPERINTENDENCIA DE VALORES Y SEGU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8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4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7"/>
          <p:cNvSpPr/>
          <p:nvPr/>
        </p:nvSpPr>
        <p:spPr>
          <a:xfrm>
            <a:off x="1428840" y="2000160"/>
            <a:ext cx="6377040" cy="2145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PROCESO INSCRIPCION EN REGISTRO ESPECIAL DE ENTIDADES INFORMANTES (REEI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9"/>
          <p:cNvSpPr/>
          <p:nvPr/>
        </p:nvSpPr>
        <p:spPr>
          <a:xfrm>
            <a:off x="681120" y="2647800"/>
            <a:ext cx="1600200" cy="2286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REGULAC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2357280" y="2571840"/>
            <a:ext cx="46483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Ley N° 18.045. Artículo 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Norma de Carácter General N° 284, Sección I, SV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1"/>
          <p:cNvSpPr/>
          <p:nvPr/>
        </p:nvSpPr>
        <p:spPr>
          <a:xfrm>
            <a:off x="681120" y="3333600"/>
            <a:ext cx="1600200" cy="2286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PROCEDIMIENT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30"/>
          <p:cNvSpPr/>
          <p:nvPr/>
        </p:nvSpPr>
        <p:spPr>
          <a:xfrm>
            <a:off x="642960" y="4614840"/>
            <a:ext cx="1676520" cy="138600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Información</a:t>
            </a: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Antecedentes Generales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Económicos y Financiero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Hechos Esencial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Antecedentes Societari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Declaraciones d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Responsabilida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Declaración Jurada Espec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34"/>
          <p:cNvSpPr/>
          <p:nvPr/>
        </p:nvSpPr>
        <p:spPr>
          <a:xfrm>
            <a:off x="642960" y="3929040"/>
            <a:ext cx="1981080" cy="60948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29" y="0"/>
                </a:lnTo>
                <a:lnTo>
                  <a:pt x="21600" y="10800"/>
                </a:lnTo>
                <a:lnTo>
                  <a:pt x="183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SOCIEDA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Solicitud de Inscripc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5"/>
          <p:cNvSpPr/>
          <p:nvPr/>
        </p:nvSpPr>
        <p:spPr>
          <a:xfrm>
            <a:off x="2624040" y="4005360"/>
            <a:ext cx="144792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6"/>
          <p:cNvSpPr/>
          <p:nvPr/>
        </p:nvSpPr>
        <p:spPr>
          <a:xfrm>
            <a:off x="2700360" y="3929040"/>
            <a:ext cx="1981080" cy="60948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29" y="0"/>
                </a:lnTo>
                <a:lnTo>
                  <a:pt x="21600" y="10800"/>
                </a:lnTo>
                <a:lnTo>
                  <a:pt x="183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SV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Análisis Solicitu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37"/>
          <p:cNvSpPr/>
          <p:nvPr/>
        </p:nvSpPr>
        <p:spPr>
          <a:xfrm>
            <a:off x="4757760" y="3929040"/>
            <a:ext cx="1981080" cy="60948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29" y="0"/>
                </a:lnTo>
                <a:lnTo>
                  <a:pt x="21600" y="10800"/>
                </a:lnTo>
                <a:lnTo>
                  <a:pt x="183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SV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Inscripción REE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38"/>
          <p:cNvSpPr/>
          <p:nvPr/>
        </p:nvSpPr>
        <p:spPr>
          <a:xfrm>
            <a:off x="6815160" y="3929040"/>
            <a:ext cx="1981080" cy="60948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29" y="0"/>
                </a:lnTo>
                <a:lnTo>
                  <a:pt x="21600" y="10800"/>
                </a:lnTo>
                <a:lnTo>
                  <a:pt x="183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SOCIEDA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Obligaciones de Informac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39"/>
          <p:cNvSpPr/>
          <p:nvPr/>
        </p:nvSpPr>
        <p:spPr>
          <a:xfrm>
            <a:off x="2700360" y="4614840"/>
            <a:ext cx="1676520" cy="138600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No hay plazo para SV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Durante este período 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posible  que el emisor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deba efectuar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correcciones o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actualizacion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de información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40"/>
          <p:cNvSpPr/>
          <p:nvPr/>
        </p:nvSpPr>
        <p:spPr>
          <a:xfrm>
            <a:off x="4757760" y="4614840"/>
            <a:ext cx="1676520" cy="138600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Emisión de Certificado 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Inscrip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41"/>
          <p:cNvSpPr/>
          <p:nvPr/>
        </p:nvSpPr>
        <p:spPr>
          <a:xfrm>
            <a:off x="6815160" y="4614840"/>
            <a:ext cx="1676520" cy="138600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Ver slide siguiente</a:t>
            </a:r>
            <a:r>
              <a:rPr b="0" lang="es-CL" sz="9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2"/>
          <p:cNvSpPr/>
          <p:nvPr/>
        </p:nvSpPr>
        <p:spPr>
          <a:xfrm>
            <a:off x="2433600" y="3333600"/>
            <a:ext cx="46483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Procedimiento simplificado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Line 2"/>
          <p:cNvSpPr/>
          <p:nvPr/>
        </p:nvSpPr>
        <p:spPr>
          <a:xfrm>
            <a:off x="642960" y="5716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1"/>
          <p:cNvSpPr/>
          <p:nvPr/>
        </p:nvSpPr>
        <p:spPr>
          <a:xfrm flipV="1" rot="10800000">
            <a:off x="439200" y="2968560"/>
            <a:ext cx="417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2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3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4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059"/>
          <p:cNvSpPr/>
          <p:nvPr/>
        </p:nvSpPr>
        <p:spPr>
          <a:xfrm>
            <a:off x="1179360" y="5900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063"/>
          <p:cNvSpPr/>
          <p:nvPr/>
        </p:nvSpPr>
        <p:spPr>
          <a:xfrm>
            <a:off x="1855080" y="642960"/>
            <a:ext cx="562428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INSCRIPCION DE SOCIEDADES ANÓNIM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EN REGISTRO DE VALO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SUPERINTENDENCIA DE VALORES Y SEGU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8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4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5"/>
          <p:cNvSpPr/>
          <p:nvPr/>
        </p:nvSpPr>
        <p:spPr>
          <a:xfrm>
            <a:off x="2071800" y="1857240"/>
            <a:ext cx="4724280" cy="2286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OBLIGACIONES DE INFORMACION DE SOCIEDADES INSCRIT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500040" y="2428920"/>
            <a:ext cx="1857240" cy="28584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785" y="0"/>
                </a:lnTo>
                <a:lnTo>
                  <a:pt x="21600" y="10800"/>
                </a:lnTo>
                <a:lnTo>
                  <a:pt x="157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REGULAC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2428920" y="2357280"/>
            <a:ext cx="46483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Ley N° 18.045 y otr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Norma de Carácter General N° 284, Sección II, SV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1"/>
          <p:cNvSpPr/>
          <p:nvPr/>
        </p:nvSpPr>
        <p:spPr>
          <a:xfrm>
            <a:off x="2438280" y="3143160"/>
            <a:ext cx="2057400" cy="38124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ANTECED.ECONOMIC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Y FINANCI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2"/>
          <p:cNvSpPr/>
          <p:nvPr/>
        </p:nvSpPr>
        <p:spPr>
          <a:xfrm>
            <a:off x="4572000" y="3143160"/>
            <a:ext cx="2057400" cy="38124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HECHOS RELEVANT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O ESENCI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3"/>
          <p:cNvSpPr/>
          <p:nvPr/>
        </p:nvSpPr>
        <p:spPr>
          <a:xfrm>
            <a:off x="6705720" y="3143160"/>
            <a:ext cx="2057400" cy="38124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OTRA INFORM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(PERMANEN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4"/>
          <p:cNvSpPr/>
          <p:nvPr/>
        </p:nvSpPr>
        <p:spPr>
          <a:xfrm>
            <a:off x="304920" y="3676680"/>
            <a:ext cx="2057400" cy="38088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¿Qué debe informarse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5"/>
          <p:cNvSpPr/>
          <p:nvPr/>
        </p:nvSpPr>
        <p:spPr>
          <a:xfrm>
            <a:off x="2438280" y="3676680"/>
            <a:ext cx="2057400" cy="83808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Informes y estados financieros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anu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Memoria An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Otros antecede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7"/>
          <p:cNvSpPr/>
          <p:nvPr/>
        </p:nvSpPr>
        <p:spPr>
          <a:xfrm>
            <a:off x="4572000" y="3676680"/>
            <a:ext cx="2057400" cy="83808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¿Sólo en lo que respecta 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operacion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con partes relacionada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Art. 147, N° 5 y 6, LS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8"/>
          <p:cNvSpPr/>
          <p:nvPr/>
        </p:nvSpPr>
        <p:spPr>
          <a:xfrm>
            <a:off x="6705720" y="3676680"/>
            <a:ext cx="2057400" cy="83808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Antecedentes societarios, 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acuerdo a 2.3, Sección II, 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NCG N° 3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37"/>
          <p:cNvSpPr/>
          <p:nvPr/>
        </p:nvSpPr>
        <p:spPr>
          <a:xfrm>
            <a:off x="304920" y="4591080"/>
            <a:ext cx="2057400" cy="38088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Plazo para inform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8"/>
          <p:cNvSpPr/>
          <p:nvPr/>
        </p:nvSpPr>
        <p:spPr>
          <a:xfrm>
            <a:off x="2438280" y="4591080"/>
            <a:ext cx="2057400" cy="83808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Informe anual, 60 dí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39"/>
          <p:cNvSpPr/>
          <p:nvPr/>
        </p:nvSpPr>
        <p:spPr>
          <a:xfrm>
            <a:off x="4572000" y="4591080"/>
            <a:ext cx="2057400" cy="83808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Al momento que el ocurra 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Llegue a su conocimient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40"/>
          <p:cNvSpPr/>
          <p:nvPr/>
        </p:nvSpPr>
        <p:spPr>
          <a:xfrm>
            <a:off x="6705720" y="4591080"/>
            <a:ext cx="2057400" cy="83808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De acuerdo a 2.3. Sección II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NCG N° 284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41"/>
          <p:cNvSpPr/>
          <p:nvPr/>
        </p:nvSpPr>
        <p:spPr>
          <a:xfrm>
            <a:off x="304920" y="5505480"/>
            <a:ext cx="2009520" cy="3096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Tahoma"/>
                <a:ea typeface="Tahoma"/>
              </a:rPr>
              <a:t>Cómo Inform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42"/>
          <p:cNvSpPr/>
          <p:nvPr/>
        </p:nvSpPr>
        <p:spPr>
          <a:xfrm>
            <a:off x="2438280" y="5505480"/>
            <a:ext cx="2009880" cy="68112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Vía SEI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43"/>
          <p:cNvSpPr/>
          <p:nvPr/>
        </p:nvSpPr>
        <p:spPr>
          <a:xfrm>
            <a:off x="4572000" y="5505480"/>
            <a:ext cx="2009880" cy="68112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Vía SE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44"/>
          <p:cNvSpPr/>
          <p:nvPr/>
        </p:nvSpPr>
        <p:spPr>
          <a:xfrm>
            <a:off x="6705720" y="5505480"/>
            <a:ext cx="2009520" cy="68112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  <a:ea typeface="Tahoma"/>
              </a:rPr>
              <a:t>Oficina de Par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6"/>
          <p:cNvSpPr/>
          <p:nvPr/>
        </p:nvSpPr>
        <p:spPr>
          <a:xfrm>
            <a:off x="2666880" y="3828960"/>
            <a:ext cx="1828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8"/>
          <p:cNvSpPr/>
          <p:nvPr/>
        </p:nvSpPr>
        <p:spPr>
          <a:xfrm>
            <a:off x="2514600" y="4591080"/>
            <a:ext cx="182880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1"/>
          <p:cNvSpPr/>
          <p:nvPr/>
        </p:nvSpPr>
        <p:spPr>
          <a:xfrm>
            <a:off x="2590920" y="5505480"/>
            <a:ext cx="17859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2"/>
          <p:cNvSpPr/>
          <p:nvPr/>
        </p:nvSpPr>
        <p:spPr>
          <a:xfrm>
            <a:off x="4724280" y="5505480"/>
            <a:ext cx="17859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3"/>
          <p:cNvSpPr/>
          <p:nvPr/>
        </p:nvSpPr>
        <p:spPr>
          <a:xfrm>
            <a:off x="6781680" y="5505480"/>
            <a:ext cx="17859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Line 2"/>
          <p:cNvSpPr/>
          <p:nvPr/>
        </p:nvSpPr>
        <p:spPr>
          <a:xfrm>
            <a:off x="642960" y="5716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6"/>
          <p:cNvSpPr/>
          <p:nvPr/>
        </p:nvSpPr>
        <p:spPr>
          <a:xfrm>
            <a:off x="571680" y="1714680"/>
            <a:ext cx="784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2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063"/>
          <p:cNvSpPr/>
          <p:nvPr/>
        </p:nvSpPr>
        <p:spPr>
          <a:xfrm>
            <a:off x="1855080" y="571680"/>
            <a:ext cx="562428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INSCRIPCION DE SOCIEDADES ANÓNIM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EN REGISTRO DE VALO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SUPERINTENDENCIA DE VALORES Y SEGU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2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4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8" descr="Facultad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4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5"/>
          <p:cNvSpPr/>
          <p:nvPr/>
        </p:nvSpPr>
        <p:spPr>
          <a:xfrm>
            <a:off x="1857240" y="1785960"/>
            <a:ext cx="5643720" cy="2142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NORMATIVA INFORMACION FINANCI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1 Rectángulo"/>
          <p:cNvSpPr/>
          <p:nvPr/>
        </p:nvSpPr>
        <p:spPr>
          <a:xfrm>
            <a:off x="2286000" y="3071880"/>
            <a:ext cx="6572160" cy="36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ahoma"/>
                <a:ea typeface="Tahoma"/>
              </a:rPr>
              <a:t>Las IFRS - International Financial Reporting Standards  o IAS – International Accounting Standards en su conjunto se denominan IFRS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ahoma"/>
                <a:ea typeface="Tahoma"/>
              </a:rPr>
              <a:t>Las IFRS establecen los requisitos de reconocimiento, medición, presentación e información a revelar que se refieren a las transacciones y sucesos económicos que son importantes en los estados financier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ahoma"/>
                <a:ea typeface="Tahoma"/>
              </a:rPr>
              <a:t>Cada vez son más países que están adoptando o convergiendo a las IFRSs, atendidas sus ventaja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ahoma"/>
                <a:ea typeface="Tahoma"/>
              </a:rPr>
              <a:t>Aumenta la calidad y comparabilidad de la información financier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ahoma"/>
                <a:ea typeface="Tahoma"/>
              </a:rPr>
              <a:t>Elimina barreras al flujo de capita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ahoma"/>
                <a:ea typeface="Tahoma"/>
              </a:rPr>
              <a:t>Disminuye costos de elaboración de información, en especial si operan a nivel internacional y cotizan en otros mercad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ahoma"/>
                <a:ea typeface="Tahoma"/>
              </a:rPr>
              <a:t>Facilita proceso de consolidación de la información de grupos multinaciona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ahoma"/>
                <a:ea typeface="Tahoma"/>
              </a:rPr>
              <a:t>Ayuda a la correcta evaluación de riesgos creditici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ahoma"/>
                <a:ea typeface="Tahoma"/>
              </a:rPr>
              <a:t>Mejora la competitividad empresar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7"/>
          <p:cNvSpPr/>
          <p:nvPr/>
        </p:nvSpPr>
        <p:spPr>
          <a:xfrm>
            <a:off x="571680" y="2286000"/>
            <a:ext cx="1643040" cy="357120"/>
          </a:xfrm>
          <a:custGeom>
            <a:avLst/>
            <a:gdLst>
              <a:gd name="textAreaLeft" fmla="*/ 0 w 1643040"/>
              <a:gd name="textAreaRight" fmla="*/ 1643400 w 164304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383" y="0"/>
                </a:lnTo>
                <a:lnTo>
                  <a:pt x="21600" y="10800"/>
                </a:lnTo>
                <a:lnTo>
                  <a:pt x="1338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ormativa aplic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antes de IF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7"/>
          <p:cNvSpPr/>
          <p:nvPr/>
        </p:nvSpPr>
        <p:spPr>
          <a:xfrm>
            <a:off x="571680" y="3071880"/>
            <a:ext cx="1643040" cy="357120"/>
          </a:xfrm>
          <a:custGeom>
            <a:avLst/>
            <a:gdLst>
              <a:gd name="textAreaLeft" fmla="*/ 0 w 1643040"/>
              <a:gd name="textAreaRight" fmla="*/ 1643400 w 164304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383" y="0"/>
                </a:lnTo>
                <a:lnTo>
                  <a:pt x="21600" y="10800"/>
                </a:lnTo>
                <a:lnTo>
                  <a:pt x="1338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F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24 Rectángulo"/>
          <p:cNvSpPr/>
          <p:nvPr/>
        </p:nvSpPr>
        <p:spPr>
          <a:xfrm>
            <a:off x="2286000" y="2228760"/>
            <a:ext cx="6143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Sociedades que no cotizan</a:t>
            </a:r>
            <a:r>
              <a:rPr b="1" lang="es-ES" sz="1000" spc="-1" strike="noStrike">
                <a:solidFill>
                  <a:srgbClr val="000000"/>
                </a:solidFill>
                <a:latin typeface="Tahoma"/>
                <a:ea typeface="Tahoma"/>
              </a:rPr>
              <a:t>: Normas Colegio de Contadores (Boletines  Técnicos)  (GAAP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Sociedades que cotizan o supervisadas por SVS</a:t>
            </a:r>
            <a:r>
              <a:rPr b="1" lang="es-ES" sz="1000" spc="-1" strike="noStrike">
                <a:solidFill>
                  <a:srgbClr val="000000"/>
                </a:solidFill>
                <a:latin typeface="Tahoma"/>
                <a:ea typeface="Tahoma"/>
              </a:rPr>
              <a:t>: Normas  SVS más Normas Colegio.       Normas SVS priman sobre normas Colegi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2"/>
          <p:cNvSpPr/>
          <p:nvPr/>
        </p:nvSpPr>
        <p:spPr>
          <a:xfrm>
            <a:off x="642960" y="5716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6"/>
          <p:cNvSpPr/>
          <p:nvPr/>
        </p:nvSpPr>
        <p:spPr>
          <a:xfrm>
            <a:off x="571680" y="1714680"/>
            <a:ext cx="784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2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3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4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063"/>
          <p:cNvSpPr/>
          <p:nvPr/>
        </p:nvSpPr>
        <p:spPr>
          <a:xfrm>
            <a:off x="1855080" y="571680"/>
            <a:ext cx="562428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INSCRIPCION DE SOCIEDADES ANÓNIM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EN REGISTRO DE VALO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SUPERINTENDENCIA DE VALORES Y SEGU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6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9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5"/>
          <p:cNvSpPr/>
          <p:nvPr/>
        </p:nvSpPr>
        <p:spPr>
          <a:xfrm>
            <a:off x="1857240" y="1785960"/>
            <a:ext cx="5643720" cy="2142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  <a:ea typeface="Tahoma"/>
              </a:rPr>
              <a:t>CHILE- CALENDARIO APLICACIÓN IF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"/>
          <p:cNvSpPr/>
          <p:nvPr/>
        </p:nvSpPr>
        <p:spPr>
          <a:xfrm>
            <a:off x="600840" y="2074320"/>
            <a:ext cx="787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Calendario dado a conocer por la SVS con fecha 27 de Agosto de 2007, calendario que se inicia el 1 de enero de 2009 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que asegura la adopción gradual de las normas IFRS, establecidas por la International Accounting Standard Board (IASB)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calendario de adopción de ifrs"/>
          <p:cNvPicPr/>
          <p:nvPr/>
        </p:nvPicPr>
        <p:blipFill>
          <a:blip r:embed="rId1"/>
          <a:stretch/>
        </p:blipFill>
        <p:spPr>
          <a:xfrm>
            <a:off x="2357280" y="2567160"/>
            <a:ext cx="4286520" cy="37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21:09:26Z</dcterms:created>
  <dc:creator/>
  <dc:description/>
  <dc:language>en-US</dc:language>
  <cp:lastModifiedBy>sdiaz</cp:lastModifiedBy>
  <dcterms:modified xsi:type="dcterms:W3CDTF">2010-08-30T05:53:11Z</dcterms:modified>
  <cp:revision>99</cp:revision>
  <dc:subject/>
  <dc:title>Sin título de diapositiva</dc:title>
</cp:coreProperties>
</file>