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CD55-BC0E-43BA-A938-AFB7A6F6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0C3-F1E5-4FF4-BE7C-189D70DF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9908-725A-49F9-A9AD-937122D8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CA97-B03D-4AEE-A9BE-25EB2780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283-D058-45D3-A4B6-F117B0DE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FFED-1969-4187-9BFA-C4204CE7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7993-6E40-4BC7-A132-1B4FA720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071-CBF1-4D0E-9EE9-B24A6FA6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E83-ADEA-40E1-98FA-98991F7E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CDB9-D671-49E5-848D-D6F1DD34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38D9-1849-4622-A557-18C6DE99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EBC7-109B-45C4-8BBB-38E0E35D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377C-43A5-470C-8463-C5C661CAD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1143000" y="2286000"/>
            <a:ext cx="70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Facultad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8"/>
          <p:cNvSpPr/>
          <p:nvPr/>
        </p:nvSpPr>
        <p:spPr>
          <a:xfrm>
            <a:off x="592200" y="5229360"/>
            <a:ext cx="2733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Octavio Bofill Genz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 flipV="1" rot="10800000">
            <a:off x="472680" y="212580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647640" y="225756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876240" y="225756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57"/>
          <p:cNvSpPr/>
          <p:nvPr/>
        </p:nvSpPr>
        <p:spPr>
          <a:xfrm>
            <a:off x="3848040" y="49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59"/>
          <p:cNvSpPr/>
          <p:nvPr/>
        </p:nvSpPr>
        <p:spPr>
          <a:xfrm>
            <a:off x="1212840" y="545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63"/>
          <p:cNvSpPr/>
          <p:nvPr/>
        </p:nvSpPr>
        <p:spPr>
          <a:xfrm>
            <a:off x="1855080" y="64296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647640" y="2104920"/>
            <a:ext cx="2714760" cy="381240"/>
          </a:xfrm>
          <a:custGeom>
            <a:avLst/>
            <a:gdLst>
              <a:gd name="textAreaLeft" fmla="*/ 0 w 2714760"/>
              <a:gd name="textAreaRight" fmla="*/ 2715120 w 271476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98" y="0"/>
                </a:lnTo>
                <a:lnTo>
                  <a:pt x="21600" y="10800"/>
                </a:lnTo>
                <a:lnTo>
                  <a:pt x="165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S.A. ABIER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ey N° 18.046, Art. 2, inciso 2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429000" y="2071800"/>
            <a:ext cx="533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quellas que inscriban voluntariamente o por obligación legal sus acciones en el Registro de Valo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647640" y="2638440"/>
            <a:ext cx="2714760" cy="380880"/>
          </a:xfrm>
          <a:custGeom>
            <a:avLst/>
            <a:gdLst>
              <a:gd name="textAreaLeft" fmla="*/ 0 w 2714760"/>
              <a:gd name="textAreaRight" fmla="*/ 2715120 w 27147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98" y="0"/>
                </a:lnTo>
                <a:lnTo>
                  <a:pt x="21600" y="10800"/>
                </a:lnTo>
                <a:lnTo>
                  <a:pt x="165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REGISTRO DE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, Art.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429000" y="2681280"/>
            <a:ext cx="548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Registro Público llevado por la Superintendencia de Valores y Segu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647640" y="3171960"/>
            <a:ext cx="2714760" cy="380880"/>
          </a:xfrm>
          <a:custGeom>
            <a:avLst/>
            <a:gdLst>
              <a:gd name="textAreaLeft" fmla="*/ 0 w 2714760"/>
              <a:gd name="textAreaRight" fmla="*/ 2715120 w 27147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98" y="0"/>
                </a:lnTo>
                <a:lnTo>
                  <a:pt x="21600" y="10800"/>
                </a:lnTo>
                <a:lnTo>
                  <a:pt x="165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¿QUÉ DEBE INSCRIBIRS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, Art.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3505320" y="3138480"/>
            <a:ext cx="511488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)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os emisores de valores de oferta púb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3505320" y="3595680"/>
            <a:ext cx="511488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b)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os valores que sean objeto de oferta públi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5"/>
          <p:cNvSpPr/>
          <p:nvPr/>
        </p:nvSpPr>
        <p:spPr>
          <a:xfrm>
            <a:off x="3505320" y="4052880"/>
            <a:ext cx="511488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c)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as acciones de las sociedades anónimas que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6"/>
          <p:cNvSpPr/>
          <p:nvPr/>
        </p:nvSpPr>
        <p:spPr>
          <a:xfrm>
            <a:off x="3733920" y="4510080"/>
            <a:ext cx="4886280" cy="3096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) tengan más de 500 accionistas; 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7"/>
          <p:cNvSpPr/>
          <p:nvPr/>
        </p:nvSpPr>
        <p:spPr>
          <a:xfrm>
            <a:off x="3733920" y="4890960"/>
            <a:ext cx="4886280" cy="285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ii) a lo menos el 10% de su capital pertenezca a un mínimo de 100 accionistas , excluidos l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que individualmente o a través de otras personas naturales o jurídicas excedan dicho %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8"/>
          <p:cNvSpPr/>
          <p:nvPr/>
        </p:nvSpPr>
        <p:spPr>
          <a:xfrm>
            <a:off x="3505320" y="5272200"/>
            <a:ext cx="511488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d)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as acciones de s.a. que voluntariamente o por obligación legal lo solicite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 flipV="1" rot="10800000">
            <a:off x="472680" y="212580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63"/>
          <p:cNvSpPr/>
          <p:nvPr/>
        </p:nvSpPr>
        <p:spPr>
          <a:xfrm>
            <a:off x="1855080" y="64296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3421080" y="298944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"/>
          <p:cNvSpPr/>
          <p:nvPr/>
        </p:nvSpPr>
        <p:spPr>
          <a:xfrm>
            <a:off x="642960" y="2500200"/>
            <a:ext cx="2514600" cy="3812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SCRIPCION DE EMIS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, Art.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309840" y="2424240"/>
            <a:ext cx="548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a inscripción de un emisor debe estar acompañada de la inscripción de los valores que dicho emisor ofrecerá públicamente. Sin embargo, no estará obligado a ofrecerlos sino hasta después de que transcurra un año de su regist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1"/>
          <p:cNvSpPr/>
          <p:nvPr/>
        </p:nvSpPr>
        <p:spPr>
          <a:xfrm>
            <a:off x="642960" y="3571920"/>
            <a:ext cx="2514600" cy="3808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FERTA PUBLICA DE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, Art.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840" y="3571920"/>
            <a:ext cx="5486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Sólo podrá hacerse oferta pública cuando éstos y su emisor , hayan sido inscritos en el Registro de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 flipV="1" rot="10800000">
            <a:off x="439200" y="256860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59"/>
          <p:cNvSpPr/>
          <p:nvPr/>
        </p:nvSpPr>
        <p:spPr>
          <a:xfrm>
            <a:off x="1179360" y="590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63"/>
          <p:cNvSpPr/>
          <p:nvPr/>
        </p:nvSpPr>
        <p:spPr>
          <a:xfrm>
            <a:off x="1855080" y="64296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2071800" y="1928880"/>
            <a:ext cx="4724280" cy="2286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PROCESO INSCRIPCION EN REGISTRO VAL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500040" y="250020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REGUL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2176560" y="2424240"/>
            <a:ext cx="46479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. Artícul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Norma de Carácter General N° 30, Sección I, SV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500040" y="371952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PROCED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0"/>
          <p:cNvSpPr/>
          <p:nvPr/>
        </p:nvSpPr>
        <p:spPr>
          <a:xfrm>
            <a:off x="500040" y="4938840"/>
            <a:ext cx="1676520" cy="12189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formación</a:t>
            </a: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Antecedentes Generale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Económicos y Financier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Hechos Esenci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Antecedentes Societar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eclaraciones d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Responsabilida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1"/>
          <p:cNvSpPr/>
          <p:nvPr/>
        </p:nvSpPr>
        <p:spPr>
          <a:xfrm>
            <a:off x="500040" y="311004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PLA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2252520" y="3033720"/>
            <a:ext cx="56390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La inscripción de acciones en caso de letra c, artículo 5°, debe efectuarse dentro de 60 días siguientes a fecha de cumplimiento de requisitos allí indic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4"/>
          <p:cNvSpPr/>
          <p:nvPr/>
        </p:nvSpPr>
        <p:spPr>
          <a:xfrm>
            <a:off x="500040" y="425304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EMI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Solicitud de Inscrip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481120" y="43290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6"/>
          <p:cNvSpPr/>
          <p:nvPr/>
        </p:nvSpPr>
        <p:spPr>
          <a:xfrm>
            <a:off x="2557440" y="425304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S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Análisis Solic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7"/>
          <p:cNvSpPr/>
          <p:nvPr/>
        </p:nvSpPr>
        <p:spPr>
          <a:xfrm>
            <a:off x="4614840" y="425304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S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Inscrip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Registro Val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8"/>
          <p:cNvSpPr/>
          <p:nvPr/>
        </p:nvSpPr>
        <p:spPr>
          <a:xfrm>
            <a:off x="6643800" y="4214880"/>
            <a:ext cx="2224080" cy="60948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86" y="0"/>
                </a:lnTo>
                <a:lnTo>
                  <a:pt x="21600" y="10800"/>
                </a:lnTo>
                <a:lnTo>
                  <a:pt x="186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EMI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Obliga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de Inform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9"/>
          <p:cNvSpPr/>
          <p:nvPr/>
        </p:nvSpPr>
        <p:spPr>
          <a:xfrm>
            <a:off x="2557440" y="4938840"/>
            <a:ext cx="1676520" cy="12189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Plazo 30 días contad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esde  fecha de solicitu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urante este período 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posible  que el emisor deb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efectuar correcciones 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actualizaciones 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informació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0"/>
          <p:cNvSpPr/>
          <p:nvPr/>
        </p:nvSpPr>
        <p:spPr>
          <a:xfrm>
            <a:off x="4614840" y="4938840"/>
            <a:ext cx="1676520" cy="12189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Emisión de Certificad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scrip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1"/>
          <p:cNvSpPr/>
          <p:nvPr/>
        </p:nvSpPr>
        <p:spPr>
          <a:xfrm>
            <a:off x="6681960" y="4943520"/>
            <a:ext cx="1676160" cy="121932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Ver slide sigui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571680" y="17146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63"/>
          <p:cNvSpPr/>
          <p:nvPr/>
        </p:nvSpPr>
        <p:spPr>
          <a:xfrm>
            <a:off x="1855080" y="57168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1857240" y="1928880"/>
            <a:ext cx="5643720" cy="3571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OBLIGACIONES DE INFORMACION DE SOCIEDADES INSCRI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500040" y="271476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REGUL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176560" y="2638440"/>
            <a:ext cx="46479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 y ot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Norma de Carácter General N° 30, Sección II, SV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2438280" y="3357720"/>
            <a:ext cx="205740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ANTECED.ECONOMICO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Y FINANCIE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4572000" y="3357720"/>
            <a:ext cx="205740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HECHOS RELEVANT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O ESEN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6705720" y="3357720"/>
            <a:ext cx="205740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OTRA INFORM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(PERMANENT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304920" y="3890880"/>
            <a:ext cx="2057400" cy="3812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¿Qué debe informar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2438280" y="3890880"/>
            <a:ext cx="2057400" cy="8384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formes y estados financieros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trimestrales y anu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Variaciones de ca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Hechos esenci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tros anteced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7"/>
          <p:cNvSpPr/>
          <p:nvPr/>
        </p:nvSpPr>
        <p:spPr>
          <a:xfrm>
            <a:off x="4572000" y="3890880"/>
            <a:ext cx="2057400" cy="8384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quella información sobre 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emisor, valores ofrecidos y ofert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que hombre juicioso considerar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mportante para sus decisiones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versión (Art. 9, LMV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8"/>
          <p:cNvSpPr/>
          <p:nvPr/>
        </p:nvSpPr>
        <p:spPr>
          <a:xfrm>
            <a:off x="6705720" y="3890880"/>
            <a:ext cx="2057400" cy="8384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ntecedentes societarios,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cuerdo a 2.3, Sección II,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NCG N° 3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7"/>
          <p:cNvSpPr/>
          <p:nvPr/>
        </p:nvSpPr>
        <p:spPr>
          <a:xfrm>
            <a:off x="304920" y="4805280"/>
            <a:ext cx="2057400" cy="3812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Plazo para infor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8"/>
          <p:cNvSpPr/>
          <p:nvPr/>
        </p:nvSpPr>
        <p:spPr>
          <a:xfrm>
            <a:off x="2438280" y="4805280"/>
            <a:ext cx="2057400" cy="8384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formes trimestrales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marzo y septiembre, en plaz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30 días a contar cierre trimestr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forme trimestral junio, 45 dí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forme anual, 60 dí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9"/>
          <p:cNvSpPr/>
          <p:nvPr/>
        </p:nvSpPr>
        <p:spPr>
          <a:xfrm>
            <a:off x="4572000" y="4805280"/>
            <a:ext cx="2057400" cy="8384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l momento que el ocurra o lleg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 su conocimien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0"/>
          <p:cNvSpPr/>
          <p:nvPr/>
        </p:nvSpPr>
        <p:spPr>
          <a:xfrm>
            <a:off x="6705720" y="4805280"/>
            <a:ext cx="2057400" cy="8384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De acuerdo a 2.3. Sección II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NCG N° 3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1"/>
          <p:cNvSpPr/>
          <p:nvPr/>
        </p:nvSpPr>
        <p:spPr>
          <a:xfrm>
            <a:off x="304920" y="5719680"/>
            <a:ext cx="2057400" cy="3812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Cómo Infor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2"/>
          <p:cNvSpPr/>
          <p:nvPr/>
        </p:nvSpPr>
        <p:spPr>
          <a:xfrm>
            <a:off x="2438280" y="5719680"/>
            <a:ext cx="2057400" cy="3952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Vía SEI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3"/>
          <p:cNvSpPr/>
          <p:nvPr/>
        </p:nvSpPr>
        <p:spPr>
          <a:xfrm>
            <a:off x="4572000" y="5719680"/>
            <a:ext cx="2057400" cy="3952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Vía S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4"/>
          <p:cNvSpPr/>
          <p:nvPr/>
        </p:nvSpPr>
        <p:spPr>
          <a:xfrm>
            <a:off x="6705720" y="5719680"/>
            <a:ext cx="2057400" cy="3952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ficina de Par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6"/>
          <p:cNvSpPr/>
          <p:nvPr/>
        </p:nvSpPr>
        <p:spPr>
          <a:xfrm>
            <a:off x="2666880" y="4043520"/>
            <a:ext cx="1828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8"/>
          <p:cNvSpPr/>
          <p:nvPr/>
        </p:nvSpPr>
        <p:spPr>
          <a:xfrm>
            <a:off x="2514600" y="48052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2590920" y="57196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4724280" y="57196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3"/>
          <p:cNvSpPr/>
          <p:nvPr/>
        </p:nvSpPr>
        <p:spPr>
          <a:xfrm>
            <a:off x="6781680" y="57196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571680" y="17146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63"/>
          <p:cNvSpPr/>
          <p:nvPr/>
        </p:nvSpPr>
        <p:spPr>
          <a:xfrm>
            <a:off x="1855080" y="57168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1857240" y="2000160"/>
            <a:ext cx="5643720" cy="2145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INSCRIPCIÓN BOLSA DE VAL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681120" y="2719440"/>
            <a:ext cx="1962000" cy="352440"/>
          </a:xfrm>
          <a:custGeom>
            <a:avLst/>
            <a:gdLst>
              <a:gd name="textAreaLeft" fmla="*/ 0 w 1962000"/>
              <a:gd name="textAreaRight" fmla="*/ 1962360 w 196200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11" y="0"/>
                </a:lnTo>
                <a:lnTo>
                  <a:pt x="21600" y="10800"/>
                </a:lnTo>
                <a:lnTo>
                  <a:pt x="14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Bolsas de Val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14760" y="2643120"/>
            <a:ext cx="5643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Las bolsas de valores son entidades que tienen por objeto proveer a sus miembros la implementación necesaria para que puedan realizar eficazmente, en el lugar que les proporcione, las transacciones de valores mediante mecanismos continuos de subasta pública y para que puedan efectuar 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demás actividades de intermediación de valores que procedan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conformidad a la ley (Art. 38, Título VII, Ley Nº 18.04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714240" y="4214880"/>
            <a:ext cx="1962360" cy="352440"/>
          </a:xfrm>
          <a:custGeom>
            <a:avLst/>
            <a:gdLst>
              <a:gd name="textAreaLeft" fmla="*/ 0 w 1962360"/>
              <a:gd name="textAreaRight" fmla="*/ 1962720 w 196236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11" y="0"/>
                </a:lnTo>
                <a:lnTo>
                  <a:pt x="21600" y="10800"/>
                </a:lnTo>
                <a:lnTo>
                  <a:pt x="14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En Chile exis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2786040" y="4143240"/>
            <a:ext cx="564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Bolsa de Valores de Santiago (más importante en términos de transacci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Bolsa Electrónica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Bolsa de Corredores Bolsa de Valores de Valparaí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6"/>
          <p:cNvSpPr/>
          <p:nvPr/>
        </p:nvSpPr>
        <p:spPr>
          <a:xfrm>
            <a:off x="571680" y="17146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63"/>
          <p:cNvSpPr/>
          <p:nvPr/>
        </p:nvSpPr>
        <p:spPr>
          <a:xfrm>
            <a:off x="1855080" y="57168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592200" y="63673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571680" y="1857240"/>
            <a:ext cx="2143080" cy="35244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384" y="0"/>
                </a:lnTo>
                <a:lnTo>
                  <a:pt x="21600" y="10800"/>
                </a:lnTo>
                <a:lnTo>
                  <a:pt x="1538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nscripción Bolsa St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786040" y="1785960"/>
            <a:ext cx="564372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Art 233 Reglamento Bolsa Comercio Santiag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Podrán ser objeto de inscripción en bol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Los valores emitidos o garantizados por el Estado, por las instituciones públicas centralizadas o descentralizadas y por el Banco Central de Ch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Las acciones de sociedades anónimas o en comandi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Los bonos o debentures emitidos en conformidad a ley chil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Los títulos y valores emitidos por Bancos o instituciones financieras que operen en el paí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Cualquier otro título transferible de crédito e invers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Inciso Segundo </a:t>
            </a:r>
            <a:r>
              <a:rPr b="0" lang="es-E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Valores extranjeros podrán ser intermediados por corredores cumpliendo requisitos legales y del Reglamento, sin necesidad de inscripción, siempre y cuando así lo acuerde el directorio de la Bol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59"/>
          <p:cNvSpPr/>
          <p:nvPr/>
        </p:nvSpPr>
        <p:spPr>
          <a:xfrm>
            <a:off x="1198440" y="612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0"/>
          <p:cNvSpPr/>
          <p:nvPr/>
        </p:nvSpPr>
        <p:spPr>
          <a:xfrm>
            <a:off x="500040" y="5081760"/>
            <a:ext cx="1676520" cy="12189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formación</a:t>
            </a: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Antecedentes legales 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financieros de acuerdo 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Reglamento Bolsa (Art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237, 238, 239 y 240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4"/>
          <p:cNvSpPr/>
          <p:nvPr/>
        </p:nvSpPr>
        <p:spPr>
          <a:xfrm>
            <a:off x="500040" y="439596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EMI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Solicitud de Inscrip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5"/>
          <p:cNvSpPr/>
          <p:nvPr/>
        </p:nvSpPr>
        <p:spPr>
          <a:xfrm>
            <a:off x="2481120" y="4471920"/>
            <a:ext cx="1447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6"/>
          <p:cNvSpPr/>
          <p:nvPr/>
        </p:nvSpPr>
        <p:spPr>
          <a:xfrm>
            <a:off x="2557440" y="439596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Directorio Bol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Análisis Solic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7"/>
          <p:cNvSpPr/>
          <p:nvPr/>
        </p:nvSpPr>
        <p:spPr>
          <a:xfrm>
            <a:off x="4614840" y="439596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Directorio Recha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8"/>
          <p:cNvSpPr/>
          <p:nvPr/>
        </p:nvSpPr>
        <p:spPr>
          <a:xfrm>
            <a:off x="6643800" y="4357800"/>
            <a:ext cx="2224080" cy="60948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86" y="0"/>
                </a:lnTo>
                <a:lnTo>
                  <a:pt x="21600" y="10800"/>
                </a:lnTo>
                <a:lnTo>
                  <a:pt x="186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Directorio Aprue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9"/>
          <p:cNvSpPr/>
          <p:nvPr/>
        </p:nvSpPr>
        <p:spPr>
          <a:xfrm>
            <a:off x="2557440" y="5081760"/>
            <a:ext cx="1676520" cy="12189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irectorio requie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siempre informe Asesorí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Legal (Art. 236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Posee 10 días hábi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bursátiles para pronun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ciarse respecto solicitu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En caso de Nº1 Art. 23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ebe inscribir de  ofic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0"/>
          <p:cNvSpPr/>
          <p:nvPr/>
        </p:nvSpPr>
        <p:spPr>
          <a:xfrm>
            <a:off x="4614840" y="5081760"/>
            <a:ext cx="1676520" cy="12189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Emisor puede recurrir 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SVS dentro plazo 15 día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la que deberá  resolv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previa audiencia Bols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1"/>
          <p:cNvSpPr/>
          <p:nvPr/>
        </p:nvSpPr>
        <p:spPr>
          <a:xfrm>
            <a:off x="6681960" y="5086440"/>
            <a:ext cx="1676160" cy="12189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Comunica a SV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bligaciones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formación a Bolsa (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cuerdo a NCG 30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Reglamento Bolsa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571680" y="17146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63"/>
          <p:cNvSpPr/>
          <p:nvPr/>
        </p:nvSpPr>
        <p:spPr>
          <a:xfrm>
            <a:off x="1855080" y="57168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1857240" y="1785960"/>
            <a:ext cx="5643720" cy="214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NORMATIVA INFORMACION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21 Rectángulo"/>
          <p:cNvSpPr/>
          <p:nvPr/>
        </p:nvSpPr>
        <p:spPr>
          <a:xfrm>
            <a:off x="2286000" y="3071880"/>
            <a:ext cx="65721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Las IFRS - International Financial Reporting Standards  o IAS – International Accounting Standards en su conjunto se denominan IFRS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Las IFRS establecen los requisitos de reconocimiento, medición, presentación e información a revelar que se refieren a las transacciones y sucesos económicos que son importantes en los estados financie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Cada vez son más países que están adoptando o convergiendo a las IFRSs, atendidas sus ventaja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Aumenta la calidad y comparabilidad de la información financie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Elimina barreras al flujo de capit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Disminuye costos de elaboración de información, en especial si operan a nivel internacional y cotizan en otros merc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Facilita proceso de consolidación de la información de grupos multinacion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Ayuda a la correcta evaluación de riesgos creditici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Mejora la competitividad empres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571680" y="2286000"/>
            <a:ext cx="1643040" cy="357120"/>
          </a:xfrm>
          <a:custGeom>
            <a:avLst/>
            <a:gdLst>
              <a:gd name="textAreaLeft" fmla="*/ 0 w 1643040"/>
              <a:gd name="textAreaRight" fmla="*/ 1643400 w 1643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83" y="0"/>
                </a:lnTo>
                <a:lnTo>
                  <a:pt x="21600" y="10800"/>
                </a:lnTo>
                <a:lnTo>
                  <a:pt x="133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ormativa aplic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antes de 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7"/>
          <p:cNvSpPr/>
          <p:nvPr/>
        </p:nvSpPr>
        <p:spPr>
          <a:xfrm>
            <a:off x="571680" y="3071880"/>
            <a:ext cx="1643040" cy="357120"/>
          </a:xfrm>
          <a:custGeom>
            <a:avLst/>
            <a:gdLst>
              <a:gd name="textAreaLeft" fmla="*/ 0 w 1643040"/>
              <a:gd name="textAreaRight" fmla="*/ 1643400 w 1643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83" y="0"/>
                </a:lnTo>
                <a:lnTo>
                  <a:pt x="21600" y="10800"/>
                </a:lnTo>
                <a:lnTo>
                  <a:pt x="133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F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24 Rectángulo"/>
          <p:cNvSpPr/>
          <p:nvPr/>
        </p:nvSpPr>
        <p:spPr>
          <a:xfrm>
            <a:off x="2286000" y="2228760"/>
            <a:ext cx="614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ciedades que no cotizan</a:t>
            </a:r>
            <a:r>
              <a:rPr b="1" lang="es-ES" sz="1000" spc="-1" strike="noStrike">
                <a:solidFill>
                  <a:srgbClr val="000000"/>
                </a:solidFill>
                <a:latin typeface="Tahoma"/>
                <a:ea typeface="Tahoma"/>
              </a:rPr>
              <a:t>: Normas Colegio de Contadores (Boletines  Técnicos)  (GAA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ciedades que cotizan o supervisadas por SVS</a:t>
            </a:r>
            <a:r>
              <a:rPr b="1" lang="es-ES" sz="1000" spc="-1" strike="noStrike">
                <a:solidFill>
                  <a:srgbClr val="000000"/>
                </a:solidFill>
                <a:latin typeface="Tahoma"/>
                <a:ea typeface="Tahoma"/>
              </a:rPr>
              <a:t>: Normas  SVS más Normas Colegio.       Normas SVS priman sobre normas Colegi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571680" y="17146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63"/>
          <p:cNvSpPr/>
          <p:nvPr/>
        </p:nvSpPr>
        <p:spPr>
          <a:xfrm>
            <a:off x="1855080" y="57168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>
            <a:off x="1857240" y="1785960"/>
            <a:ext cx="5643720" cy="214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CHILE- CALENDARIO APLICACIÓN IF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"/>
          <p:cNvSpPr/>
          <p:nvPr/>
        </p:nvSpPr>
        <p:spPr>
          <a:xfrm>
            <a:off x="600840" y="2074320"/>
            <a:ext cx="787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alendario dado a conocer por la SVS con fecha 27 de Agosto de 2007, calendario que se inicia el 1 de enero de 2009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que asegura la adopción gradual de las normas IFRS, establecidas por la International Accounting Standard Board (IASB)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calendario de adopción de ifrs"/>
          <p:cNvPicPr/>
          <p:nvPr/>
        </p:nvPicPr>
        <p:blipFill>
          <a:blip r:embed="rId1"/>
          <a:stretch/>
        </p:blipFill>
        <p:spPr>
          <a:xfrm>
            <a:off x="2357280" y="2567160"/>
            <a:ext cx="428652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/>
  <dc:description/>
  <dc:language>en-US</dc:language>
  <cp:lastModifiedBy>sdiaz</cp:lastModifiedBy>
  <dcterms:modified xsi:type="dcterms:W3CDTF">2010-08-30T05:44:29Z</dcterms:modified>
  <cp:revision>95</cp:revision>
  <dc:subject/>
  <dc:title>Sin título de diapositiva</dc:title>
</cp:coreProperties>
</file>