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550-3FAE-473E-9CE4-CAA2E77E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81E-83C0-468E-A70E-A2F82853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4FC-4E2B-43B9-9C4B-02D43D28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9EF-0AAB-449E-9903-443ACE5F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061-02BB-4881-ABA6-6DA94D3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C89-EA3E-44C9-911B-55D7B122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779-4720-4BF2-AADF-9AB759A6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2F6-F70F-46BE-84BC-A28486D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D85-E077-4521-8C0A-C8D6160D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7AC-31B7-4026-8949-3CC70DE7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214-DDEA-431B-B003-75B75277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CF1-6B6E-4F40-AF8A-19542A2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75D-D4E9-4AC7-A69C-F17E8DFC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43000" y="2286000"/>
            <a:ext cx="70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 flipV="1" rot="10800000">
            <a:off x="472680" y="21258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647640" y="225756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876240" y="225756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57"/>
          <p:cNvSpPr/>
          <p:nvPr/>
        </p:nvSpPr>
        <p:spPr>
          <a:xfrm>
            <a:off x="3848040" y="49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59"/>
          <p:cNvSpPr/>
          <p:nvPr/>
        </p:nvSpPr>
        <p:spPr>
          <a:xfrm>
            <a:off x="1212840" y="545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47640" y="2104920"/>
            <a:ext cx="2714760" cy="38124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6, Art. 2, inciso 2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429000" y="2071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quellas que inscriban voluntariamente o por obligación legal 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647640" y="263844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429000" y="268128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647640" y="317196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SCRIBIR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3505320" y="31384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3505320" y="35956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b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os valores que sean objeto de oferta públ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3505320" y="405288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las sociedades anónimas qu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3733920" y="4510080"/>
            <a:ext cx="4886280" cy="309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) tengan más de 500 accionistas;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3733920" y="4890960"/>
            <a:ext cx="4886280" cy="285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i) a lo menos el 10% de su capital pertenezca a un mínimo de 100 accionistas , excluidos l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que individualmente o a través de otras personas naturales o jurídicas excedan dicho %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3505320" y="5272200"/>
            <a:ext cx="511488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)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 flipV="1" rot="10800000">
            <a:off x="472680" y="21258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421080" y="29894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642960" y="250020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309840" y="242424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642960" y="35719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840" y="3571920"/>
            <a:ext cx="548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 flipV="1" rot="10800000">
            <a:off x="439200" y="256860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59"/>
          <p:cNvSpPr/>
          <p:nvPr/>
        </p:nvSpPr>
        <p:spPr>
          <a:xfrm>
            <a:off x="117936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071800" y="1928880"/>
            <a:ext cx="4724280" cy="228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ROCESO INSCRIPCION EN REGISTRO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00040" y="25002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176560" y="242424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. Artícu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30, Sección I, 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500040" y="37195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ROCE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5000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General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conómicos y Financi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ones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500040" y="311004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2252520" y="3033720"/>
            <a:ext cx="56390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5000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481120" y="4329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25574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4614840" y="4253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Val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43800" y="4214880"/>
            <a:ext cx="2224080" cy="609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6" y="0"/>
                </a:lnTo>
                <a:lnTo>
                  <a:pt x="21600" y="10800"/>
                </a:lnTo>
                <a:lnTo>
                  <a:pt x="18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a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9"/>
          <p:cNvSpPr/>
          <p:nvPr/>
        </p:nvSpPr>
        <p:spPr>
          <a:xfrm>
            <a:off x="25574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lazo 30 días contad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sde  fecha de solicitu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urante este período 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ible  que el emisor de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fectuar correcciones 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ctualizaciones 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nform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0"/>
          <p:cNvSpPr/>
          <p:nvPr/>
        </p:nvSpPr>
        <p:spPr>
          <a:xfrm>
            <a:off x="4614840" y="493884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Emisión de Certificad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1"/>
          <p:cNvSpPr/>
          <p:nvPr/>
        </p:nvSpPr>
        <p:spPr>
          <a:xfrm>
            <a:off x="6681960" y="4943520"/>
            <a:ext cx="1676160" cy="12193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er slide sigui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1857240" y="1928880"/>
            <a:ext cx="5643720" cy="357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ON DE SOCIEDADES INSCR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500040" y="27147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176560" y="263844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 y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30, Sección II, 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243828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ANTECED.ECONOMIC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Y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57200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HECHOS RELEVANT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 ESENCI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6705720" y="335772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TR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(PERMANENT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04920" y="38908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formar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43828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y estados financieros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trimestrales y an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ariaciones de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os anteced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457200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quella información sobre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emisor, valores ofrecidos y ofer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que hombre juicioso considera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mportante para sus decision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versión (Art. 9, LMV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8"/>
          <p:cNvSpPr/>
          <p:nvPr/>
        </p:nvSpPr>
        <p:spPr>
          <a:xfrm>
            <a:off x="6705720" y="38908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2.3, Sección II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304920" y="48052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Plazo para infor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243828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trimestral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marzo y septiembre, en plazo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30 días a contar cierre trimestr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trimestral junio, 45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anual, 60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457200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l momento que el ocurra o lle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 su cono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705720" y="4805280"/>
            <a:ext cx="2057400" cy="8384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e acuerdo a 2.3. Sección II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1"/>
          <p:cNvSpPr/>
          <p:nvPr/>
        </p:nvSpPr>
        <p:spPr>
          <a:xfrm>
            <a:off x="304920" y="571968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ómo Infor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2"/>
          <p:cNvSpPr/>
          <p:nvPr/>
        </p:nvSpPr>
        <p:spPr>
          <a:xfrm>
            <a:off x="243828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3"/>
          <p:cNvSpPr/>
          <p:nvPr/>
        </p:nvSpPr>
        <p:spPr>
          <a:xfrm>
            <a:off x="457200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4"/>
          <p:cNvSpPr/>
          <p:nvPr/>
        </p:nvSpPr>
        <p:spPr>
          <a:xfrm>
            <a:off x="6705720" y="5719680"/>
            <a:ext cx="2057400" cy="395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6"/>
          <p:cNvSpPr/>
          <p:nvPr/>
        </p:nvSpPr>
        <p:spPr>
          <a:xfrm>
            <a:off x="2666880" y="4043520"/>
            <a:ext cx="1828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2514600" y="48052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259092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472428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6781680" y="5719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857240" y="2000160"/>
            <a:ext cx="5643720" cy="214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INSCRIPCIÓN BOLSA DE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681120" y="2719440"/>
            <a:ext cx="1962000" cy="35244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1" y="0"/>
                </a:lnTo>
                <a:lnTo>
                  <a:pt x="21600" y="10800"/>
                </a:lnTo>
                <a:lnTo>
                  <a:pt x="14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s de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14760" y="2643120"/>
            <a:ext cx="5643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as bolsas de valores son entidades que tienen por objeto proveer a sus miembros la implementación necesaria para que puedan realizar eficazmente, en el lugar que les proporcione, las transacciones de valores mediante mecanismos continuos de subasta pública y para que puedan efectuar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demás actividades de intermediación de valores que procedan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onformidad a la ley (Art. 38, Título VII, Ley Nº 18.04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714240" y="4214880"/>
            <a:ext cx="1962360" cy="35244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11" y="0"/>
                </a:lnTo>
                <a:lnTo>
                  <a:pt x="21600" y="10800"/>
                </a:lnTo>
                <a:lnTo>
                  <a:pt x="14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n Chile exi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786040" y="4143240"/>
            <a:ext cx="56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de Valores de Santiago (más importante en términos de transac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Electrónica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Bolsa de Corredores Bolsa de Valores de Valparaí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592200" y="63673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571680" y="1857240"/>
            <a:ext cx="2143080" cy="3524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84" y="0"/>
                </a:lnTo>
                <a:lnTo>
                  <a:pt x="21600" y="10800"/>
                </a:lnTo>
                <a:lnTo>
                  <a:pt x="153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scripción Bolsa St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786040" y="1785960"/>
            <a:ext cx="5643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rt 233 Reglamento Bolsa Comercio Santiag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Podrán ser objeto de inscripción en bol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valores emitidos o garantizados por el Estado, por las instituciones públicas centralizadas o descentralizadas y por el Banco Central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as acciones de sociedades anónimas o en comand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bonos o debentures emitidos en conformidad a ley chil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Los títulos y valores emitidos por Bancos o instituciones financieras que operen en el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ualquier otro título transferible de crédito e invers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Inciso Segundo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Valores extranjeros podrán ser intermediados por corredores cumpliendo requisitos legales y del Reglamento, sin necesidad de inscripción, siempre y cuando así lo acuerde el directorio de la Bol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59"/>
          <p:cNvSpPr/>
          <p:nvPr/>
        </p:nvSpPr>
        <p:spPr>
          <a:xfrm>
            <a:off x="1198440" y="612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000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legales 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financieros de acuerdo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glamento Bolsa (Ar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237, 238, 239 y 240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4"/>
          <p:cNvSpPr/>
          <p:nvPr/>
        </p:nvSpPr>
        <p:spPr>
          <a:xfrm>
            <a:off x="5000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EM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2481120" y="4471920"/>
            <a:ext cx="1447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6"/>
          <p:cNvSpPr/>
          <p:nvPr/>
        </p:nvSpPr>
        <p:spPr>
          <a:xfrm>
            <a:off x="25574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Bo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7"/>
          <p:cNvSpPr/>
          <p:nvPr/>
        </p:nvSpPr>
        <p:spPr>
          <a:xfrm>
            <a:off x="4614840" y="439596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Rech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8"/>
          <p:cNvSpPr/>
          <p:nvPr/>
        </p:nvSpPr>
        <p:spPr>
          <a:xfrm>
            <a:off x="6643800" y="4357800"/>
            <a:ext cx="2224080" cy="60948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6" y="0"/>
                </a:lnTo>
                <a:lnTo>
                  <a:pt x="21600" y="10800"/>
                </a:lnTo>
                <a:lnTo>
                  <a:pt x="186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Directorio Apru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9"/>
          <p:cNvSpPr/>
          <p:nvPr/>
        </p:nvSpPr>
        <p:spPr>
          <a:xfrm>
            <a:off x="25574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irectorio requi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siempre informe Asesor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Legal (Art. 23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ee 10 días hábi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bursátiles para pronun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ciarse respecto solicitu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n caso de Nº1 Art. 23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be inscribir de  ofic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0"/>
          <p:cNvSpPr/>
          <p:nvPr/>
        </p:nvSpPr>
        <p:spPr>
          <a:xfrm>
            <a:off x="4614840" y="5081760"/>
            <a:ext cx="167652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Emisor puede recurrir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VS dentro plazo 15 día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la que deberá  resolv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previa audiencia Bol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1"/>
          <p:cNvSpPr/>
          <p:nvPr/>
        </p:nvSpPr>
        <p:spPr>
          <a:xfrm>
            <a:off x="6681960" y="5086440"/>
            <a:ext cx="1676160" cy="12189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omunica a SV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ación a Bolsa (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NCG 30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lamento Bolsa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TIVA INFORMACIO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21 Rectángulo"/>
          <p:cNvSpPr/>
          <p:nvPr/>
        </p:nvSpPr>
        <p:spPr>
          <a:xfrm>
            <a:off x="2286000" y="3071880"/>
            <a:ext cx="6572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- International Financial Reporting Standards  o IAS – International Accounting Standards en su conjunto se denominan IFR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establecen los requisitos de reconocimiento, medición, presentación e información a revelar que se refieren a las transacciones y sucesos económicos que son importantes en los estados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Cada vez son más países que están adoptando o convergiendo a las IFRSs, atendidas sus ventaj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umenta la calidad y comparabilidad de la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Elimina barreras al flujo de capit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Disminuye costos de elaboración de información, en especial si operan a nivel internacional y cotizan en otros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Facilita proceso de consolidación de la información de grupos multi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yuda a la correcta evaluación de riesgos creditic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Mejora la competitividad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571680" y="228600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rmativa apli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ntes de 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571680" y="307188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4 Rectángulo"/>
          <p:cNvSpPr/>
          <p:nvPr/>
        </p:nvSpPr>
        <p:spPr>
          <a:xfrm>
            <a:off x="2286000" y="222876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no cotizan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Colegio de Contadores (Boletines  Técnicos)  (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cotizan o supervisadas por SVS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 SVS más Normas Colegio.       Normas SVS priman sobre normas Cole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HILE- CALENDARIO APLICACIÓN 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00840" y="2074320"/>
            <a:ext cx="78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alendario dado a conocer por la SVS con fecha 27 de Agosto de 2007, calendario que se inicia el 1 de enero de 2009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que asegura la adopción gradual de las normas IFRS, establecidas por la International Accounting Standard Board (IASB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calendario de adopción de ifrs"/>
          <p:cNvPicPr/>
          <p:nvPr/>
        </p:nvPicPr>
        <p:blipFill>
          <a:blip r:embed="rId1"/>
          <a:stretch/>
        </p:blipFill>
        <p:spPr>
          <a:xfrm>
            <a:off x="2357280" y="2567160"/>
            <a:ext cx="4286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sdiaz</cp:lastModifiedBy>
  <dcterms:modified xsi:type="dcterms:W3CDTF">2010-08-30T05:44:29Z</dcterms:modified>
  <cp:revision>95</cp:revision>
  <dc:subject/>
  <dc:title>Sin título de diapositiva</dc:title>
</cp:coreProperties>
</file>