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804-DBC5-4355-9917-F4BB69DA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C49-AD0B-4EB8-9677-46C05B1A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B90-D17B-408F-B740-5646D073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D58-6D8E-478E-827A-30E55D6C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F61-1281-4933-ACD2-CA35517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810-C816-4AA8-B5FC-6A27644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1D2-C006-46DA-8A84-3D7E157D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17F-FA89-4D6D-A9CD-2615827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2D4-DA4E-4031-869A-013ED695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CAD-284E-4390-8E23-D6409E3F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8E1-79DA-4FE5-A9E7-DB28675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AF0-7108-41C1-936B-B638427D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137-1C6D-4986-AB1F-64E5B055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con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713040"/>
            <a:ext cx="867564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rimario y secundario, formal e informal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Regula valores, emisores, intermediarios,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retail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acciones de sociedades anónimas cer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lo hagan al darse reqs. de SA Abier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9242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,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8-18T04:05:32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