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D1F-F452-4DDC-8BBD-D5C7F471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840-D756-426A-8953-EFDFE613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52C-F60C-4EA8-A738-77BAA4BB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352-D04E-497B-8E6B-15D8D827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77D-B700-470E-9AE5-88B52F9C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6D0-A156-4BCF-8105-89994810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C44-FCBB-4E96-8493-DEEAE9CF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80D-80FF-4F98-9B18-2A402A3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5E7-CC83-4790-B4E2-A327001F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FD2-8211-4411-80BB-0D8848B8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C8A-7C19-48DA-97D7-397227B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ABA-F25F-4C4A-BDD0-4AD2826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69DC-C898-4020-9A21-246691263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con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713040"/>
            <a:ext cx="867564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rimario y secundario, formal e informal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Regula valores, emisores, intermediarios,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retail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acciones de sociedades anónimas cer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lo hagan al darse reqs. de SA Abiert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9242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,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8-18T04:05:32Z</dcterms:modified>
  <cp:revision>14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