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E27-E1F2-4013-AFA4-1B19E518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BF3-F785-400B-B869-89661986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F98-0C6A-4753-ADEF-7B2BA67A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602-7546-4AEC-870F-C8A6C476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78A-A4B7-4AC3-9CAE-D322163A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A82-DE35-40FA-AB77-42FC40FE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6F3-51D1-43A2-8195-C49EE3D7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97B-CFD7-4D62-87F2-DA905C28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755-AB8A-4BA6-9F53-3CF9111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58C-4D98-451A-9D9B-DBE92D3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EAB-03B1-4AA4-B190-AEE163A3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0C2-9826-42F4-BD19-A279FC68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2DB-4DD1-4291-A8A0-26660420D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con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713040"/>
            <a:ext cx="867564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rimario y secundario, formal e informal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Regula valores, emisores, intermediarios,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retail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acciones de sociedades anónimas cer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lo hagan al darse reqs. de SA Abiert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9242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,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8-18T04:05:32Z</dcterms:modified>
  <cp:revision>14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