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BDEB-A563-4E47-B0FE-A756CEB4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C95-509C-498F-807B-C0E6D538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FE68-0C1C-4601-91D5-14A9FF75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FAC-2E46-45A3-BCC6-7B6A6EE4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209-8637-406C-81A4-592A5087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F538-8178-4C5B-82FE-F3CC8807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F7B-052A-4EB7-999F-E0EE6BC6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E3C-ACC9-4200-BC84-8FA9DF40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7B22-055F-4FA5-B620-4C6499ED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BA68-FAC4-4EC2-902C-36EDB99E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1A59-2BA3-4D4B-B854-A3DAB575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A436-7098-4920-97EB-97D52399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B1CA-9A64-4601-BC68-55870BE1E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2838600"/>
            <a:ext cx="58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Sociedades Anónim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spectos orgán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02760" y="77148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1832040"/>
            <a:ext cx="7417080" cy="50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Tipos de Sociedades Anóni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Sociedades Anónimas Abiertas y el Mercad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Diferencias con Sociedades Anónimas Cerradas y Espe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guladores de SA, tipos de regulación y fiscalización exte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gistr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ercado de Valores, organización y compr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ferencia a instrumentos transables en el Mercad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ociedades anónimas y sus entidades relacionadas, matrices, filiales, coligadas, “subsidiaria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rupos empresariales, personas relacion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gencias de SA extranj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2349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Cuerpos legales y reglamen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3284640"/>
            <a:ext cx="648036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Ley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Reglamento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Sociedades, Tomo II  A. Puelma, (3a. Edición/2001/ Edit. Jurídica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Ley Mercado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Normativa SVS, NCG 30, NCG 2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8400" y="77148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69228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0360" y="2421000"/>
            <a:ext cx="2735280" cy="2448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ubTriangle"/>
          <p:cNvSpPr/>
          <p:nvPr/>
        </p:nvSpPr>
        <p:spPr>
          <a:xfrm>
            <a:off x="4067280" y="2421000"/>
            <a:ext cx="1296720" cy="151272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2421000"/>
            <a:ext cx="3097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l menos 10 % capital suscr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tenece al menos a 100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n contar quienes tengan más del 10%, directa o indirect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4936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0 o más </a:t>
            </a: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alquiera sea el porcentaj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 en manos de mayori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341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ABIERTAS: [LSA] Sus acciones se inscriben en Registro de Valores, por obligación legal o acuerdo voluntario [LMV] Se deben inscribir en Registro de Valores, las acciones de SA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443700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scripción voluntaria u obligatoria (</a:t>
            </a: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por ley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 de acciones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 flipV="1" rot="10800000">
            <a:off x="1762920" y="4364640"/>
            <a:ext cx="86436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24000" y="3429000"/>
            <a:ext cx="1223640" cy="20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3174840"/>
            <a:ext cx="456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ón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651640"/>
            <a:ext cx="792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jan de serlo sólo cuando concurre Junta de Accionistas con 2/3 votos para deslistar [genera derecho a  retiro]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[una vez dejen de cumplir requisitos para estar inscritas en R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y 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2080" y="2133720"/>
            <a:ext cx="1214280" cy="11523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98680" y="2276640"/>
            <a:ext cx="1201680" cy="609480"/>
          </a:xfrm>
          <a:prstGeom prst="wedgeRoundRectCallout">
            <a:avLst>
              <a:gd name="adj1" fmla="val 100199"/>
              <a:gd name="adj2" fmla="val -2994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1628640"/>
            <a:ext cx="1295280" cy="609840"/>
          </a:xfrm>
          <a:prstGeom prst="wedgeEllipseCallout">
            <a:avLst>
              <a:gd name="adj1" fmla="val -45587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3713040"/>
            <a:ext cx="867564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Mercado Valores y de Capi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Contacto de oferentes y demandantes de Valores y Capitales representados en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Primario y secundario, formal e informal, art 1 L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Regula valores, emisores, intermediarios, mer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Punto de vista de la oferta pública, no impide transacciones priv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Inversionista Institucional, Calificado y propiamente tal (</a:t>
            </a:r>
            <a:r>
              <a:rPr b="0" i="1" lang="es-CL" sz="1600" spc="-1" strike="noStrike">
                <a:solidFill>
                  <a:srgbClr val="000000"/>
                </a:solidFill>
                <a:latin typeface="Arial Unicode MS"/>
              </a:rPr>
              <a:t>retail</a:t>
            </a: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) que participa en la 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Incluso hay cabida para acciones de sociedades anónimas cerr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Valores: todo título transferible, de crédito o inversión (</a:t>
            </a:r>
            <a:r>
              <a:rPr b="0" i="1" lang="es-CL" sz="1600" spc="-1" strike="noStrike">
                <a:solidFill>
                  <a:srgbClr val="000000"/>
                </a:solidFill>
                <a:latin typeface="Arial Unicode MS"/>
              </a:rPr>
              <a:t>equity</a:t>
            </a: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) [acciones, opciones sobre acciones, bonos, debentures, planes de ahorro, efectos de comercio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/>
          <p:nvPr/>
        </p:nvCxnSpPr>
        <p:spPr>
          <a:xfrm flipV="1">
            <a:off x="5148360" y="2420640"/>
            <a:ext cx="1224720" cy="50400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6300720" y="1628640"/>
            <a:ext cx="2843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horr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pecul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lifi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/>
          <p:nvPr/>
        </p:nvCxnSpPr>
        <p:spPr>
          <a:xfrm flipV="1" rot="10800000">
            <a:off x="1258200" y="2923920"/>
            <a:ext cx="2205720" cy="505440"/>
          </a:xfrm>
          <a:prstGeom prst="curvedConnector5">
            <a:avLst>
              <a:gd name="adj1" fmla="val 49951"/>
              <a:gd name="adj2" fmla="val 49964"/>
              <a:gd name="adj3" fmla="val 499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324000" y="2276640"/>
            <a:ext cx="863280" cy="122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9280" y="2060640"/>
            <a:ext cx="41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ías aseguradoras y reasegurad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. Fondos Mutu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sas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03720" y="2060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20500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4869000"/>
            <a:ext cx="878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No se inscriben en Registro de Valor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(salvo que lo hagan al darse reqs. de SA Abiert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 someten a las normas de las SA Abierta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salvo p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ormación, modificación, disolución (reglas propi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rmas especiales que las ri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se rigen por normas de SA Cerradas relativas a información pq les aplican normas de SA Abier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320364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30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11640" y="3141720"/>
            <a:ext cx="144360" cy="554040"/>
          </a:xfrm>
          <a:custGeom>
            <a:avLst/>
            <a:gdLst>
              <a:gd name="textAreaLeft" fmla="*/ 0 w 144360"/>
              <a:gd name="textAreaRight" fmla="*/ 52200 w 14436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319572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specto S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93372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tras que por disposición legal expresa están obligadas a someterse a mismos trámi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427680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11640" y="4098960"/>
            <a:ext cx="144360" cy="554040"/>
          </a:xfrm>
          <a:custGeom>
            <a:avLst/>
            <a:gdLst>
              <a:gd name="textAreaLeft" fmla="*/ 0 w 144360"/>
              <a:gd name="textAreaRight" fmla="*/ 52200 w 14436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69228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95280" y="1262160"/>
            <a:ext cx="835200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AS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nguna de las ant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se inscriben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se rigen por normas de SA Abiertas, salvo por las obligadas a entregar información pública, que se rigen por ellas para tal efe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Hay propiamente 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Y las hay obligadas a entregar información públic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es las obligan a someterse a normas de SA Abierta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us normas les son aplicable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 fiscalizadas, controladas o vigiladas por la SV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xpresiones análo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e someten a información y publicidad para con SVS, accionistas y públ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u obligación se concreta e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istro Especial de Entidades Informantes [REEI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regi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proporcionar información continua a l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informar hechos esen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pias de juntas, modificaciones estatutarias, cambios en la administración y accionistas, cesación de pagos, EEFF anuales en sitio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l cesar los requisitos deben pedir dejar el REEI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de quién es la atribució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40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4508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69228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924200"/>
            <a:ext cx="835164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scalización esta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speciales y su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de Valores, Normativa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iedad accionaria y su ces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ctos de control y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acción pública y privada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, Frecuencia, Comi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e Incompatibilidades de Directores, Independ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dito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ición mínima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y transparenc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bofill</cp:lastModifiedBy>
  <dcterms:modified xsi:type="dcterms:W3CDTF">2010-08-18T04:05:32Z</dcterms:modified>
  <cp:revision>142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