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A0B-3901-4E1B-A132-E42FC482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DB4-7E40-4122-85F9-CFE831B2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AC3-E608-47FC-912F-34D1D184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DEE3-6779-4841-A478-81C7B153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7AB-3B1B-4D01-A324-4F8254CB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151-900C-469A-BEF6-4E4A6012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50E-96DF-421B-8203-7D5FA20C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020-F0AA-4233-9B9F-DA395141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21F-F18B-488F-BB80-A4E41278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228-1498-4CCD-B17E-EB1A0191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36B-D166-40EC-85DB-6BD53495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FA7-155C-4334-AD46-3CFB61DB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D94B-DF36-4B45-8A00-E3D493452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02760" y="29242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184464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3268800"/>
            <a:ext cx="56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Martes Miércoles y Jueves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90560" y="429264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Material Básico: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4292640"/>
            <a:ext cx="40323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SA y L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, Tomo II  A. Puel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a. Edición/2001/ Edit. Jurídic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extos específic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2373480"/>
            <a:ext cx="5545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Anóni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ítulos de crédi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18760" y="62064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334008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2224080" y="3312720"/>
            <a:ext cx="376200" cy="287640"/>
          </a:xfrm>
          <a:prstGeom prst="flowChartMer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659640" y="5734080"/>
            <a:ext cx="21765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1341360"/>
            <a:ext cx="167148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as  Superintend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54100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er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13240" y="206064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523880"/>
            <a:ext cx="162072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in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838080"/>
            <a:ext cx="1600200" cy="328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380880"/>
            <a:ext cx="16002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228600"/>
            <a:ext cx="1600200" cy="32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58672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pode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487692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2590920"/>
            <a:ext cx="16002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13240" y="98100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trol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141720"/>
            <a:ext cx="16002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PA´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267080"/>
            <a:ext cx="16002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5084640"/>
            <a:ext cx="16002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flictos de inter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4419720"/>
            <a:ext cx="16002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obierno Corpor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4290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ités de 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7432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lasificación de Riesg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20574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ditores Inspec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63244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ses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692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3413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84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2421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54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1197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315200" y="4114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095880" y="4648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57913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62485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413400" y="53006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222640"/>
            <a:ext cx="2016360" cy="668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erradas,  comunes y de información pública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2360" y="836640"/>
            <a:ext cx="1871640" cy="477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biertas, acciones en Reg.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334120"/>
            <a:ext cx="1600200" cy="733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asignaciones Patrimoniales (Liquid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5720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tinción (Disolu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80988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acimiento (Constitu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8120"/>
            <a:ext cx="160020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lidad jurídic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557360"/>
            <a:ext cx="1600200" cy="28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620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3413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916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21932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21932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21932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21932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413400" y="5950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rot="5400000">
            <a:off x="5399640" y="5193000"/>
            <a:ext cx="865080" cy="504720"/>
          </a:xfrm>
          <a:prstGeom prst="flowChartMerg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33360"/>
            <a:ext cx="1600200" cy="28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. Anóni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656160"/>
            <a:ext cx="2879640" cy="41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,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rechos que otorg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6354720"/>
            <a:ext cx="3168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formación privilegi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404640"/>
            <a:ext cx="719280" cy="447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6215040"/>
            <a:ext cx="2160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ane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284720" y="29890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30200" y="177336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Normativa aplicable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87000" y="2462040"/>
            <a:ext cx="4064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Mercado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glamento 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tiva S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° de C – CC – Actos mercant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atutos sociales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840" y="15890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Históric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627280" y="2781360"/>
            <a:ext cx="3816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ibre circulación del val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627280" y="2205000"/>
            <a:ext cx="29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ticipaciones de gobiern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 rot="10800000">
            <a:off x="2627280" y="249120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úsqueda de capitales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27600" y="598320"/>
            <a:ext cx="49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Razones de ser de las SA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1628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prendimientos aventurado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3068640"/>
            <a:ext cx="428472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alores: Contrapartida del capita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342900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Jurídic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1700280"/>
            <a:ext cx="287280" cy="15696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6960"/>
              <a:gd name="textAreaBottom" fmla="*/ 117720 h 156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19720" y="3532320"/>
            <a:ext cx="261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ítulo valor: Libre circ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34480" y="3789360"/>
            <a:ext cx="26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independ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5840" y="414972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24000" y="4653000"/>
            <a:ext cx="287280" cy="15696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6960"/>
              <a:gd name="textAreaBottom" fmla="*/ 117720 h 156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4508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Híbr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3581280"/>
            <a:ext cx="287280" cy="15732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7320"/>
              <a:gd name="textAreaBottom" fmla="*/ 118080 h 157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27280" y="5111640"/>
            <a:ext cx="155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457200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cerrada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27280" y="4869000"/>
            <a:ext cx="328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úsqueda de mecanismos     intermedios: la persona (intuito persona) o el capital (intuito pecunia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5716440"/>
            <a:ext cx="4537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es de Mercados de Capitales I, II y 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yectos Bicentenar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1160" y="1971720"/>
            <a:ext cx="249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cesiones de gobier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676520"/>
            <a:ext cx="609480" cy="2819160"/>
          </a:xfrm>
          <a:custGeom>
            <a:avLst/>
            <a:gdLst>
              <a:gd name="textAreaLeft" fmla="*/ 0 w 609480"/>
              <a:gd name="textAreaRight" fmla="*/ 219960 w 6094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59640" y="2205000"/>
            <a:ext cx="17287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Búsqueda del Capit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+   Instrumento     Jurídico 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ión /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+  Tutela del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1371600"/>
            <a:ext cx="770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- Diversas razones para su creac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9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Hitos de las SA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28954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- Personalidad juríd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5120" y="251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2286000"/>
            <a:ext cx="1724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259092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- Mercantilidad objeti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3200400"/>
            <a:ext cx="492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- Solemnidad           - Constit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34290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Sometimiento a normas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36576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Modificacio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3886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Transform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4114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i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43434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iquid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45720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Constancia de actuaciones: ac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51814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54100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Gestión - Comit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563868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 operaciones relacion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4920" y="4952880"/>
            <a:ext cx="477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5- Fiscalización         - Regulatoria  - legalidad y estatu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18288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Abiertas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l Capital – Mercado de Val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20574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Especiales                   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40000" y="2133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Cerrada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íbr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33520" y="5877000"/>
            <a:ext cx="23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 personas relacion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1989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35280" y="2205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35280" y="2421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549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68360" y="170028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limitación de administ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68360" y="191628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Propia de fiscalizadores – “mal practice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2332080"/>
            <a:ext cx="61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- Normas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4360" y="1484280"/>
            <a:ext cx="716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6- Responsabilidad  - Limitación de accionistas, salvo levantamiento del velo corpora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84360" y="2297160"/>
            <a:ext cx="4969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Contro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OPA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protección del interés minori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formación privilegi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3484440"/>
            <a:ext cx="62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8- Administración independiente y revo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341136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irectorio, Directores Independ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355608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Interés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49957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terés socie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56000" y="371628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svinculación de accionista de apo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56000" y="39337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Ilimitación de respons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56000" y="41497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Administración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6000" y="43657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legación de Facult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56000" y="4581360"/>
            <a:ext cx="38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Órganos ejecutores, Gerentes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479736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Remuneración de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522936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9- Participación del accionista    - Ju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54450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5661000"/>
            <a:ext cx="26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549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Hitos de las SA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/>
  <dc:description/>
  <dc:language>en-US</dc:language>
  <cp:lastModifiedBy>Octavio Bofill G.</cp:lastModifiedBy>
  <dcterms:modified xsi:type="dcterms:W3CDTF">2010-08-10T04:40:27Z</dcterms:modified>
  <cp:revision>76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