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102-1086-48B9-A1D9-F080C3FF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E12-5ED4-4E43-A1F5-D20E2C7F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3EA-30E6-4D69-862A-6906A5EF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D33-3BE6-4FCD-B895-045BC44E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DFD-6EF7-4359-9B12-B54098E3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959-C489-4899-95B0-3EC5BB4B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257-A8A1-4573-BF0A-EB1CFF70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C66-5942-4ABD-88DD-02B7FDE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C5F-04BD-435D-BE98-A7EAEBAD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695-C704-4EA1-90F4-694A7CA9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CEE-AAD8-4B45-9EE7-AF37328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402-6DE1-41E3-A47F-223C5ED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4CA-0920-4346-A4ED-F28AEE8B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02760" y="29242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184464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268800"/>
            <a:ext cx="56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Martes Miércoles y Jueves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0560" y="429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292640"/>
            <a:ext cx="4032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SA y L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a. Edición/2001/ Edit. Jurídic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extos específ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2373480"/>
            <a:ext cx="554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s de créd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8760" y="62064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40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224080" y="3312720"/>
            <a:ext cx="376200" cy="28764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59640" y="5734080"/>
            <a:ext cx="21765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341360"/>
            <a:ext cx="167148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as  Superin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4100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3240" y="206064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523880"/>
            <a:ext cx="162072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838080"/>
            <a:ext cx="1600200" cy="32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880"/>
            <a:ext cx="16002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28600"/>
            <a:ext cx="1600200" cy="3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8672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909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3240" y="98100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1417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A´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16002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08464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flicto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419720"/>
            <a:ext cx="16002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429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ités de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7432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ificación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574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ditores Inspe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3244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9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1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84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21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54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1197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31520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09588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6248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413400" y="53006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222640"/>
            <a:ext cx="2016360" cy="66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radas,  comunes y de información pública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360" y="836640"/>
            <a:ext cx="1871640" cy="477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biertas, acciones en Reg.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334120"/>
            <a:ext cx="160020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asignaciones Patrimoniales (Liquid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572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tinción (Disol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80988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acimiento (Constit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8120"/>
            <a:ext cx="16002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lidad juríd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55736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62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341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916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219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9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413400" y="5950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rot="5400000">
            <a:off x="5399640" y="5193000"/>
            <a:ext cx="865080" cy="504720"/>
          </a:xfrm>
          <a:prstGeom prst="flowChartMerg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33360"/>
            <a:ext cx="160020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.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656160"/>
            <a:ext cx="2879640" cy="41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,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rechos que otorg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6354720"/>
            <a:ext cx="316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ción privilegi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404640"/>
            <a:ext cx="719280" cy="447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6215040"/>
            <a:ext cx="2160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ne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284720" y="2989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87000" y="2462040"/>
            <a:ext cx="406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tiva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° de C – CC – Actos mercant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s sociale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840" y="15890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istór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627280" y="2781360"/>
            <a:ext cx="3816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ibre circulación del v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627280" y="2205000"/>
            <a:ext cx="29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ticipaciones de gobier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2627280" y="24912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capitale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7600" y="598320"/>
            <a:ext cx="49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Razones de ser de las SA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162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prendimientos aventura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3068640"/>
            <a:ext cx="4284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: Contrapartida del capit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4290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Juríd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170028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19720" y="353232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 valor: Libre cir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34480" y="3789360"/>
            <a:ext cx="26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5840" y="414972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465300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íb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581280"/>
            <a:ext cx="287280" cy="15732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111640"/>
            <a:ext cx="155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57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cerrad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4869000"/>
            <a:ext cx="328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mecanismos     intermedios: la persona (intuito persona) o el capital (intuito pecunia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571644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es de Mercados de Capitales I, II y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yectos Bicentena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1160" y="1971720"/>
            <a:ext cx="24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cesiones de gobi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676520"/>
            <a:ext cx="609480" cy="281916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2205000"/>
            <a:ext cx="17287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úsqueda del Capit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 Instrumento     Jurídico 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ión /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Tutela d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371600"/>
            <a:ext cx="770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- Diversas razones para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895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- Personalidad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2286000"/>
            <a:ext cx="1724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5909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- Mercantilidad objeti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200400"/>
            <a:ext cx="492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- Solemnidad           - Co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429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ometimiento a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3657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odifica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Transform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114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343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iqui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45720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onstancia de actuaciones: a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5181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5410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Gestión - Com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56386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operaciones relacion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920" y="495288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- Fiscalización         - Regulatoria  - legalidad y estatu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828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biertas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apital – Mercado de Val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20574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speciales                   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err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íbr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3520" y="587700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personas relacion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198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2205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2421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68360" y="17002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limitación de administ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9162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opia de fiscalizadores – “mal practic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2332080"/>
            <a:ext cx="61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-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48428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- Responsabilidad  - Limitación de accionistas, salvo levantamiento del velo corpor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84360" y="2297160"/>
            <a:ext cx="49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PA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rotección del interés minori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ción privilegi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348444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- Administración independiente y revo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341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rectorio, Directores Independ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355608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nterés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49957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és soci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3716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svinculación de accionista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3933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limitación de respons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149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dministración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365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legación de Facult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4581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Órganos ejecutores, Gerente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479736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Remuneración 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522936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- Participación del accionista    - Ju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445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661000"/>
            <a:ext cx="26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Octavio Bofill G.</cp:lastModifiedBy>
  <dcterms:modified xsi:type="dcterms:W3CDTF">2010-08-10T04:40:27Z</dcterms:modified>
  <cp:revision>7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