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657B-3D26-4EBC-9139-5B86B917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C1E-8F4B-41AA-B8A4-40837356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3AA0-F3FA-40B4-8D7C-7FDF99FF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4CD0-7390-4632-80ED-FC0A13D2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B3D4-FE51-4326-8EF8-BF059AC3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70F-9EFB-4A9E-8F1E-C78A9B37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08F6-12D0-4AD7-A77D-62A0C464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ADD-6864-426F-9D07-6116B615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0626-D206-4D64-ACAB-1A1A87D4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6D89-FFA9-4D85-82F4-310335F6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BBFE-6E55-45C9-93E4-F8A3D581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11BE-7069-456C-958C-EA217B00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49FC-A868-47FC-A093-F650F24BE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02760" y="292428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do semest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87280" y="184464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48000" y="3268800"/>
            <a:ext cx="56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Martes Miércoles y Jueves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90560" y="429264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Material Básico: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48000" y="4292640"/>
            <a:ext cx="40323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SA y LM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lamento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, Tomo II  A. Puel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3a. Edición/2001/ Edit. Jurídic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extos específic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2373480"/>
            <a:ext cx="5545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 Anóni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ítulos de crédi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18760" y="62064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334008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2224080" y="3312720"/>
            <a:ext cx="376200" cy="287640"/>
          </a:xfrm>
          <a:prstGeom prst="flowChartMer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659640" y="5734080"/>
            <a:ext cx="217656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16720" y="1341360"/>
            <a:ext cx="167148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as  Superintend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541008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er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13240" y="206064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sas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523880"/>
            <a:ext cx="162072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inori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838080"/>
            <a:ext cx="1600200" cy="328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380880"/>
            <a:ext cx="16002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228600"/>
            <a:ext cx="1600200" cy="32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is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586728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pode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487692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2590920"/>
            <a:ext cx="16002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13240" y="98100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trol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141720"/>
            <a:ext cx="16002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PA´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4267080"/>
            <a:ext cx="16002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5084640"/>
            <a:ext cx="160020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flictos de inter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4419720"/>
            <a:ext cx="16002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obierno Corpor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34290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ités de 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7432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lasificación de Riesg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53080" y="20574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uditores Inspect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632448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ses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692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13413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844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2421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15200" y="54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15200" y="1197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1520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7315200" y="41144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095880" y="4648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57913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62485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413400" y="53006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222640"/>
            <a:ext cx="2016360" cy="668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erradas,  comunes y de información pública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2360" y="836640"/>
            <a:ext cx="1871640" cy="477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biertas, acciones en Reg.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5334120"/>
            <a:ext cx="1600200" cy="733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asignaciones Patrimoniales (Liquid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45720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xtinción (Disolu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380988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acimiento (Constitu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048120"/>
            <a:ext cx="16002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sonalidad jurídic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557360"/>
            <a:ext cx="1600200" cy="285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6206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13413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1916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219320" y="4343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219320" y="2742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21932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21932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413400" y="59500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rot="5400000">
            <a:off x="5399640" y="5193000"/>
            <a:ext cx="865080" cy="504720"/>
          </a:xfrm>
          <a:prstGeom prst="flowChartMerg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333360"/>
            <a:ext cx="1600200" cy="28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. Anóni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3656160"/>
            <a:ext cx="2879640" cy="41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es,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rechos que otorg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6354720"/>
            <a:ext cx="31687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formación privilegi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404640"/>
            <a:ext cx="719280" cy="447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6215040"/>
            <a:ext cx="21603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ane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284720" y="29890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30200" y="177336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Normativa aplicable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87000" y="2462040"/>
            <a:ext cx="4064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y Mercado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y 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glamento 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tiva S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° de C – CC – Actos mercant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tatutos sociales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840" y="15890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Históric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549360"/>
            <a:ext cx="68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627280" y="2781360"/>
            <a:ext cx="3816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ibre circulación del val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9120" y="25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627280" y="2205000"/>
            <a:ext cx="29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ticipaciones de gobiern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 rot="10800000">
            <a:off x="2627280" y="2491200"/>
            <a:ext cx="28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úsqueda de capitales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27600" y="598320"/>
            <a:ext cx="495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Razones de ser de las SA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162864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mprendimientos aventurado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3068640"/>
            <a:ext cx="428472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alores: Contrapartida del capital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342900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Jurídic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95640" y="1700280"/>
            <a:ext cx="287280" cy="156960"/>
          </a:xfrm>
          <a:custGeom>
            <a:avLst/>
            <a:gdLst>
              <a:gd name="textAreaLeft" fmla="*/ 44640 w 287280"/>
              <a:gd name="textAreaRight" fmla="*/ 251640 w 287280"/>
              <a:gd name="textAreaTop" fmla="*/ 39240 h 156960"/>
              <a:gd name="textAreaBottom" fmla="*/ 117720 h 156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19720" y="3532320"/>
            <a:ext cx="261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ítulo valor: Libre circu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34480" y="3789360"/>
            <a:ext cx="26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 independ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5840" y="414972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is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24000" y="4653000"/>
            <a:ext cx="287280" cy="156960"/>
          </a:xfrm>
          <a:custGeom>
            <a:avLst/>
            <a:gdLst>
              <a:gd name="textAreaLeft" fmla="*/ 44640 w 287280"/>
              <a:gd name="textAreaRight" fmla="*/ 251640 w 287280"/>
              <a:gd name="textAreaTop" fmla="*/ 39240 h 156960"/>
              <a:gd name="textAreaBottom" fmla="*/ 117720 h 156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42920" y="4508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Híbr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3581280"/>
            <a:ext cx="287280" cy="157320"/>
          </a:xfrm>
          <a:custGeom>
            <a:avLst/>
            <a:gdLst>
              <a:gd name="textAreaLeft" fmla="*/ 44640 w 287280"/>
              <a:gd name="textAreaRight" fmla="*/ 251640 w 287280"/>
              <a:gd name="textAreaTop" fmla="*/ 39240 h 157320"/>
              <a:gd name="textAreaBottom" fmla="*/ 118080 h 157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27280" y="5111640"/>
            <a:ext cx="155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4572000"/>
            <a:ext cx="25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 cerrada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27280" y="4869000"/>
            <a:ext cx="3282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úsqueda de mecanismos     intermedios: la persona (intuito persona) o el capital (intuito pecunia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27280" y="5716440"/>
            <a:ext cx="4537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es de Mercados de Capitales I, II y 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oyectos Bicentenar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1160" y="1971720"/>
            <a:ext cx="249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cesiones de gobier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676520"/>
            <a:ext cx="609480" cy="2819160"/>
          </a:xfrm>
          <a:custGeom>
            <a:avLst/>
            <a:gdLst>
              <a:gd name="textAreaLeft" fmla="*/ 0 w 609480"/>
              <a:gd name="textAreaRight" fmla="*/ 219960 w 60948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59640" y="2205000"/>
            <a:ext cx="172872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Búsqueda del Capita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+   Instrumento     Jurídico 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ión /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+  Tutela del Cap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6520" y="191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1371600"/>
            <a:ext cx="770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- Diversas razones para su creació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9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Hitos de las SA chil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54360" y="245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28954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- Personalidad juríd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05120" y="251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54360" y="2813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54360" y="32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14600" y="2286000"/>
            <a:ext cx="1724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2590920"/>
            <a:ext cx="24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- Mercantilidad objeti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3200400"/>
            <a:ext cx="492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- Solemnidad           - Constit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34290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Sometimiento a normas d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36576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Modificacion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3886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Transform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0" y="4114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is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434340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Liquid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457200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Constancia de actuaciones: ac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62320" y="51814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Financi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541008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Gestión - Comit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62320" y="563868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 operaciones relacion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4920" y="4952880"/>
            <a:ext cx="477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5- Fiscalización         - Regulatoria  - legalidad y estatu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182880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Abiertas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l Capital – Mercado de Val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62320" y="20574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Especiales                   Fis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40000" y="2133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Cerrada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íbr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33520" y="5877000"/>
            <a:ext cx="236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 personas relacion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35280" y="198900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35280" y="220500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35280" y="242100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549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68360" y="170028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limitación de administ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68360" y="191628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Propia de fiscalizadores – “mal practice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2332080"/>
            <a:ext cx="61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- Normas d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4360" y="1484280"/>
            <a:ext cx="716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6- Responsabilidad  - Limitación de accionistas, salvo levantamiento del velo corpora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84360" y="2297160"/>
            <a:ext cx="49690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Contro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OPA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protección del interés minori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formación privilegi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4360" y="3484440"/>
            <a:ext cx="62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8- Administración independiente y revo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341136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irectorio, Directores Independ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355608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Interés 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56000" y="49957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terés socie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56000" y="371628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svinculación de accionista de apo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56000" y="39337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Ilimitación de responsa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56000" y="41497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Administración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56000" y="43657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legación de Facult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56000" y="4581360"/>
            <a:ext cx="38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Órganos ejecutores, Gerentes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479736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Remuneración de la 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5640" y="522936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9- Participación del accionista    - Ju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54450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5661000"/>
            <a:ext cx="26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549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Hitos de las SA chil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/>
  <dc:description/>
  <dc:language>en-US</dc:language>
  <cp:lastModifiedBy>Octavio Bofill G.</cp:lastModifiedBy>
  <dcterms:modified xsi:type="dcterms:W3CDTF">2010-08-10T04:40:27Z</dcterms:modified>
  <cp:revision>76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