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451F-BBA1-456A-B5A3-39B4FF4F6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37185-7CF6-47C1-9FC4-09E849D32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9F57D-F2DB-4F72-98C0-DCFC13F6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6939-4133-48C0-A5C4-A65A85AFD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681B7-AAE9-4283-840B-038589367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4FEA8-B20B-48FE-B593-C99C90CB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6DEC-0EF3-4E77-B800-F30F66363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0EBF6-43CC-4564-B566-4BAEC4213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770FB-B2CD-42C3-B04E-20FC8852D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2DF3C-16EF-4DCE-A767-C10CE57B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5117-3CB8-43E8-8793-27D3ADC3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2A16-3B3D-4752-9B1C-B290A8861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C4966-00D1-4EBE-8D11-3916030A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2168-350D-409E-852D-B55AAC86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8AE39-44AA-4844-8273-105651E32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F4D6-52F8-4C46-B036-8EE969D0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6808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86800" y="159984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490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6808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86800" y="3868560"/>
            <a:ext cx="25891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4E6B-1990-4F36-A1D5-C9FB72B19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06B3-6717-4385-8920-32FBC571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0C8D-B4C3-4A79-BCFB-708F7F08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DDE5-E09B-4483-8822-CCB22154D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9000" y="107640"/>
            <a:ext cx="8042040" cy="619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A0E31-2C98-4854-93F3-882E8C664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669C-3F3C-49C5-A653-3DB6AEA84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9920" y="386856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ABDE-104B-44E1-9A15-22CF56F6D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900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9920" y="1599840"/>
            <a:ext cx="3924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9000" y="3868560"/>
            <a:ext cx="80420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A404-34A4-4AF1-8BFC-8B1D16073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8ACD65-E880-45F3-A61B-10FE4CA108BC}" type="datetime">
              <a:rPr b="0" lang="es-ES_tradnl" sz="12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3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F546C5-04E6-4340-826C-20CFB82D8F6F}" type="slidenum">
              <a:rPr b="0" lang="es-ES_tradnl" sz="3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1328760" y="1295280"/>
            <a:ext cx="6486480" cy="315288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2c7c9f"/>
                </a:solidFill>
                <a:latin typeface="News Gothic MT"/>
              </a:rPr>
              <a:t>Click to edit the title text format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Click to edit the outline text format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1" marL="685800" indent="-3366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con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2" marL="9684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Third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3" marL="1263600" indent="-295200">
              <a:spcBef>
                <a:spcPts val="2001"/>
              </a:spcBef>
              <a:buClr>
                <a:srgbClr val="215d7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our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4" marL="1546200" indent="-2826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Fif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5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ix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lvl="6" marL="1546200" indent="-282600">
              <a:spcBef>
                <a:spcPts val="2001"/>
              </a:spcBef>
              <a:buClr>
                <a:srgbClr val="000000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News Gothic MT"/>
              </a:rPr>
              <a:t>Seventh Outline Level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5628960" y="6275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D525E0-5B2D-41F1-B292-8F8B8098F6C4}" type="datetime">
              <a:rPr b="0" lang="es-ES_tradnl" sz="1200" spc="-1" strike="noStrike">
                <a:solidFill>
                  <a:srgbClr val="ffffff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264960" y="6275520"/>
            <a:ext cx="4840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897680" y="6275520"/>
            <a:ext cx="990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s-ES_tradnl" sz="3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07D10-A78F-479B-852A-9F90F97DDBDF}" type="slidenum">
              <a:rPr b="0" lang="es-ES_tradnl" sz="3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49000" y="134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CORFO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84" name="Marcador de contenido 3" descr=""/>
          <p:cNvPicPr/>
          <p:nvPr/>
        </p:nvPicPr>
        <p:blipFill>
          <a:blip r:embed="rId1"/>
          <a:srcRect l="-79785" t="0" r="-79785" b="0"/>
          <a:stretch/>
        </p:blipFill>
        <p:spPr>
          <a:xfrm>
            <a:off x="549360" y="1600200"/>
            <a:ext cx="8042040" cy="4343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INNOVACIÓ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s-ES_tradnl" sz="2600" spc="-1" strike="noStrike">
                <a:solidFill>
                  <a:srgbClr val="595959"/>
                </a:solidFill>
                <a:latin typeface="News Gothic MT"/>
              </a:rPr>
              <a:t>Generar respuestas nuevas a problemas nuevos”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595959"/>
                </a:solidFill>
                <a:latin typeface="News Gothic MT"/>
              </a:rPr>
              <a:t>La creación de innovación genera valor económico</a:t>
            </a:r>
            <a:endParaRPr b="0" lang="en-US" sz="26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Unión entre ciencia y empresa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Apoyo a los clúster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Regionalización de procesos innovadores.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Apoyo al Patentamiento de innovaciones (INAPI)</a:t>
            </a:r>
            <a:endParaRPr b="0" lang="en-US" sz="2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INNOVACIÓ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roblemas que presenta la innovación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1º Escaso capital humano especializad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2º El poco apoyo financiero al emprendimiento innovador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3º Poca inversión a la innovación y desarrollo de nuevos productos y servicio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4º Mentalidad de desarrollo (procedimientos jurídicos y administrativos más eficientes y eficaces, desde la creación a la quiebra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POLÍTICA DE INNOVACIÓ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ROYALTY MINERO (grava con 5% la renta imponible de las compañías mineras, proyecto de ley, aprobó en Senado  aumento 5-14% y la invariabilidad por 6 años y período de ajuste 2010-12).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FIC (Fondo de Innovación para la Competitividad)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CNIC (Consejo Nacional de Innovación para la Competitividad)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CONICYT, FONDECYT, FONDEF, FIA, GORES, SERCOTEC, INNOVA CHILE, INAPI (Ley Nº 20.254 de 2008).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595959"/>
                </a:solidFill>
                <a:latin typeface="News Gothic MT"/>
              </a:rPr>
              <a:t>Ley de Incentivo Tributario I+D. Ley Nº 20.241 de 2008.</a:t>
            </a:r>
            <a:endParaRPr b="0" lang="en-US" sz="23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Sistema nacional de innovación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pic>
        <p:nvPicPr>
          <p:cNvPr id="108" name="6 Marcador de contenido" descr="Dibujo.JPG"/>
          <p:cNvPicPr/>
          <p:nvPr/>
        </p:nvPicPr>
        <p:blipFill>
          <a:blip r:embed="rId1"/>
          <a:stretch/>
        </p:blipFill>
        <p:spPr>
          <a:xfrm>
            <a:off x="682560" y="1285920"/>
            <a:ext cx="784548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700" spc="-1" strike="noStrike">
                <a:solidFill>
                  <a:srgbClr val="2c7c9f"/>
                </a:solidFill>
                <a:latin typeface="News Gothic MT"/>
              </a:rPr>
              <a:t>ROL DEL MINISTERIO DE ECONOMÍA</a:t>
            </a:r>
            <a:r>
              <a:rPr b="0" lang="es-ES_tradnl" sz="3700" spc="-1" strike="noStrike">
                <a:solidFill>
                  <a:srgbClr val="2c7c9f"/>
                </a:solidFill>
                <a:latin typeface="News Gothic MT"/>
              </a:rPr>
              <a:t>	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Rol de coordinador del sistema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Monitorea la aplicación de los recurso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Introduce mejoras pertinentes en el marco de la política y el plan de acción.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Y LOS ABOGADOS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La innovación plantea desafíos multidisciplinario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Adecuación de la profesión a la “Sociedad del Conocimiento”. (No estamos ajenos…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rotección a la Innovación (Marcas y Patentes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rotección a los fondos público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reatividad legal, frente a nuevos problem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La velocidad en los procesos de innovación (eficacia y eficiencia de la intervención estatal)</a:t>
            </a:r>
            <a:r>
              <a:rPr b="0" lang="es-ES_tradnl" sz="2000" spc="-1" strike="noStrike">
                <a:solidFill>
                  <a:srgbClr val="595959"/>
                </a:solidFill>
                <a:latin typeface="News Gothic MT"/>
              </a:rPr>
              <a:t>. 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(Elemento esencial) 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¿Qué hemos visto hoy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esarrollo de CORFO en la historia del país y como influye en su devenir económic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Aspectos fundamentales de la INNOVACIÓN y EMPRENDIMIENT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olítica Pública Pro Innovación a partir de las FALLAS DE MERCAD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Relación del Abogado con la I+D.  ¿Derecho a la Innovación?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9200" indent="-349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595959"/>
                </a:solidFill>
                <a:latin typeface="News Gothic MT"/>
              </a:rPr>
              <a:t>¡¡¡MUCHAS GRACIAS!!!</a:t>
            </a:r>
            <a:endParaRPr b="0" lang="en-US" sz="40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555560" y="1676520"/>
            <a:ext cx="6421320" cy="162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br>
              <a:rPr sz="3700"/>
            </a:br>
            <a:r>
              <a:rPr b="0" lang="es-ES_tradnl" sz="3700" spc="-1" strike="noStrike">
                <a:solidFill>
                  <a:srgbClr val="2c7c9f"/>
                </a:solidFill>
                <a:latin typeface="News Gothic MT"/>
              </a:rPr>
              <a:t>CORFO, INNOVACIÓN Y EMPRENDIMIENTO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22280" y="3298320"/>
            <a:ext cx="6499440" cy="91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98989"/>
                </a:solidFill>
                <a:latin typeface="News Gothic MT"/>
              </a:rPr>
              <a:t> </a:t>
            </a: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  <a:p>
            <a:pPr indent="0" algn="ct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SUMARIO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Historia de CORFO (períodos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Algo de Derecho Administrativo…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Por qué debe existir una Política Pública? (fallas de mercado y la función del Estado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INNOVACIÓN Y EMPRENDIMIENT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Ejercicio de la Profesión (actividad multidisciplinaria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HISTORIA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FUNDAMENTOS: Consejo Económico y Terremoto del año 1939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reación durante el Gobierno de Pedro Aguirre Cerda., </a:t>
            </a:r>
            <a:r>
              <a:rPr b="0" lang="es-ES_tradnl" sz="2800" spc="-1" strike="noStrike">
                <a:solidFill>
                  <a:srgbClr val="595959"/>
                </a:solidFill>
                <a:latin typeface="News Gothic MT"/>
              </a:rPr>
              <a:t>Ley de Ley N° 6.334 de Reconstrucción y Auxilio y Fomento de la Producción.</a:t>
            </a: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Períodos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lanes de Reconstrucción del país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reación de ENAP, ENDESA, CAP, IANSA. (apoyo a la creación de empresas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Gobierno de Allende (Estatización + 500 emp.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Gobierno Militar, modificó completamente la Política de CORFO (Privatización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Vuelta a la Democracia: (fin de los créditos y administración de empresas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CORFO EL DÍA DE HOY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Apoyo a: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1º Investigación y desarrollo tecnológic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2º Asociatividad empresaria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3º Gestión empresarial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4º Acceso a financiamient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700" spc="-1" strike="noStrike">
                <a:solidFill>
                  <a:srgbClr val="2c7c9f"/>
                </a:solidFill>
                <a:latin typeface="News Gothic MT"/>
              </a:rPr>
              <a:t>Algo de Derecho Administrativo…..</a:t>
            </a:r>
            <a:endParaRPr b="0" lang="en-US" sz="37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Creado por Ley Nº 6.640 de 1941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Persona Jurídica de Derecho público con patrimonio propio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Órgano Pluripersonal (Consejo CORFO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Órgano Unipersonal (Vicepresidente)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Decisiones que toma el Consejo (voluntad única)  y que pone en ejecución el Vicepresidente (Jefe del Servicio). Principio de Juridicidad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¿Por qué financiar?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Asistencialismo productivo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Por qué el Estado debe intervenir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Por qué una política pública de desarrollo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¿Es legítimo apoyar a empresarios?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Fallas de Mercado”. (deficiencias en la asignación de recursos) 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-Externalidades positiv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	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-Externalidades negativas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49000" y="107640"/>
            <a:ext cx="8042040" cy="133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INNOVACIÓN</a:t>
            </a:r>
            <a:r>
              <a:rPr b="0" lang="es-ES_tradnl" sz="4600" spc="-1" strike="noStrike">
                <a:solidFill>
                  <a:srgbClr val="2c7c9f"/>
                </a:solidFill>
                <a:latin typeface="News Gothic MT"/>
              </a:rPr>
              <a:t>	</a:t>
            </a:r>
            <a:endParaRPr b="0" lang="en-US" sz="4600" spc="-1" strike="noStrike">
              <a:solidFill>
                <a:srgbClr val="2c7c9f"/>
              </a:solidFill>
              <a:latin typeface="News Gothic M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49000" y="1599840"/>
            <a:ext cx="8042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0" indent="-349200"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La intervención de CORFO en el mercado (Principio de Subsidiariedad y promoción del bien común)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buClr>
                <a:srgbClr val="6fb7d7"/>
              </a:buClr>
              <a:buSzPct val="11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“</a:t>
            </a:r>
            <a:r>
              <a:rPr b="0" lang="es-ES_tradnl" sz="2400" spc="-1" strike="noStrike">
                <a:solidFill>
                  <a:srgbClr val="595959"/>
                </a:solidFill>
                <a:latin typeface="News Gothic MT"/>
              </a:rPr>
              <a:t>Evita que se pierdan las posibilidades de innovación y de emprendimiento con un alto potencial en términos de beneficios para la economía como un todo”.</a:t>
            </a: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  <a:p>
            <a:pPr marL="349200" indent="-349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News Gothic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4T16:34:41Z</dcterms:created>
  <dc:creator>Matías  Kühn</dc:creator>
  <dc:description/>
  <dc:language>en-US</dc:language>
  <cp:lastModifiedBy>jgallegos</cp:lastModifiedBy>
  <dcterms:modified xsi:type="dcterms:W3CDTF">2010-10-25T21:48:59Z</dcterms:modified>
  <cp:revision>9</cp:revision>
  <dc:subject/>
  <dc:title>CORFO Y LA INNOVACIÓN</dc:title>
</cp:coreProperties>
</file>