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263-5224-4DAE-8335-BAD7DC21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1B0-543A-4CA6-BCB6-85B52BE3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113-614F-4686-A286-4FEFB5DE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C41-96A5-4C63-8A00-FE34F30D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095-0C07-442F-BD2C-1D04C4C8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EE5-1048-4C3A-B055-811FC3DA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465E-4AA9-4A5D-A408-9BF618EE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433E-D9AB-4542-B7E5-29F32B5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BBB3-DD93-40AA-8C72-3D5D4067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CEB-FF17-498B-953E-4FAE192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6AF8-1AD2-4B35-976F-1699CAA5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4C1-15BF-45CF-97F5-E88651FA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485-9CA9-430E-9F98-B3F00B3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6564-7C99-468D-AF18-9A88F4A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F410-F18F-45AE-A05B-03F15771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1538-C2F6-4307-8859-0056D6A5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2150-F9F5-46AB-A774-9C822462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241-A4E6-41F9-A4F5-F334F814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91D-01B8-4872-B17D-07BE337D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3EB-1003-483E-965C-3F596A71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90B-6370-45E9-B126-C5455D93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01F-D3EE-4289-86B2-FCFDB36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A18-4D20-4D56-B0B1-0ED6BAE7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1B9-8FDB-43EC-A801-0C40008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018DF-B1DF-4107-864F-D18EC177F396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38EE2-8B0E-420D-A2D8-FC8EE9BA9DC0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D1963-D050-4F96-B62B-9B7356685F9B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1C175-AB42-4FE1-A9A4-0E324FBF82FB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34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4" name="Marcador de contenido 3" descr=""/>
          <p:cNvPicPr/>
          <p:nvPr/>
        </p:nvPicPr>
        <p:blipFill>
          <a:blip r:embed="rId1"/>
          <a:srcRect l="-79785" t="0" r="-7978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Generar respuestas nuevas a problemas nuevos”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La creación de innovación genera valor económico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Unión entre ciencia y empresa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 los clúster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Regionalización de procesos innovadore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l Patentamiento de innovaciones (INAPI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blemas que presenta la innovació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Escaso capital humano especializ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El poco apoyo financiero al emprendimiento innovado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Poca inversión a la innovación y desarrollo de nuevos productos y servic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Mentalidad de desarrollo (procedimientos jurídicos y administrativos más eficientes y eficaces, desde la creación a la quiebr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OLÍTICA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ROYALTY MINERO (grava con 5% la renta imponible de las compañías mineras, proyecto de ley, aprobó en Senado  aumento 5-14% y la invariabilidad por 6 años y período de ajuste 2010-12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FIC (Fondo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NIC (Consejo Nacional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ONICYT, FONDECYT, FONDEF, FIA, GORES, SERCOTEC, INNOVA CHILE, INAPI (Ley Nº 20.254 de 2008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Ley de Incentivo Tributario I+D. Ley Nº 20.241 de 2008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istema nacional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8" name="6 Marcador de contenido" descr="Dibujo.JPG"/>
          <p:cNvPicPr/>
          <p:nvPr/>
        </p:nvPicPr>
        <p:blipFill>
          <a:blip r:embed="rId1"/>
          <a:stretch/>
        </p:blipFill>
        <p:spPr>
          <a:xfrm>
            <a:off x="682560" y="1285920"/>
            <a:ext cx="7845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ROL DEL MINISTERIO DE ECONOMÍA</a:t>
            </a: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ol de coordinador del siste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onitorea la aplicación de los recurs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troduce mejoras pertinentes en el marco de la política y el plan de acció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Y LOS ABOGADO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novación plantea desafíos multidisciplinar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decuación de la profesión a la “Sociedad del Conocimiento”. (No estamos ajenos…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a Innovación (Marcas y Patente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os fondos públic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tividad legal, frente a nuevos problem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velocidad en los procesos de innovación (eficacia y eficiencia de la intervención estatal)</a:t>
            </a: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. 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Elemento esencial)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Qué hemos visto hoy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sarrollo de CORFO en la historia del país y como influye en su devenir económ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spectos fundamentales de la 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olítica Pública Pro Innovación a partir de las FALLAS DE MERC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elación del Abogado con la I+D.  ¿Derecho a la Innovación?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95959"/>
                </a:solidFill>
                <a:latin typeface="News Gothic MT"/>
              </a:rPr>
              <a:t>¡¡¡MUCHAS GRACIAS!!!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55560" y="1676520"/>
            <a:ext cx="6421320" cy="16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CORFO, INNOVACIÓN Y EMPRENDIMIENTO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News Gothic MT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UMARI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istoria de CORFO (período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lgo de Derecho Administrativo…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debe existir una Política Pública? (fallas de mercado y la función del Estado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jercicio de la Profesión (actividad multidisciplinaria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HISTO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UNDAMENTOS: Consejo Económico y Terremoto del año 1939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urante el Gobierno de Pedro Aguirre Cerda., </a:t>
            </a:r>
            <a:r>
              <a:rPr b="0" lang="es-ES_tradnl" sz="2800" spc="-1" strike="noStrike">
                <a:solidFill>
                  <a:srgbClr val="595959"/>
                </a:solidFill>
                <a:latin typeface="News Gothic MT"/>
              </a:rPr>
              <a:t>Ley de Ley N° 6.334 de Reconstrucción y Auxilio y Fomento de la Producció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erío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lanes de Reconstrucción del paí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e ENAP, ENDESA, CAP, IANSA. (apoyo a la creación de empresa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de Allende (Estatización + 500 emp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Militar, modificó completamente la Política de CORFO (Privatización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Vuelta a la Democracia: (fin de los créditos y administración de empresa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 EL DÍA DE HO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poyo a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Investigación y desarrollo tecnológ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Asociatividad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Gestión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Acceso a financia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Algo de Derecho Administrativo….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do por Ley Nº 6.640 de 1941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ersona Jurídica de Derecho público con patrimonio propi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Pluripersonal (Consejo CORF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Unipersonal (Vicepresident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cisiones que toma el Consejo (voluntad única)  y que pone en ejecución el Vicepresidente (Jefe del Servicio). Principio de Juridicid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Por qué financiar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Asistencialismo productiv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el Estado debe intervenir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una política pública de desarroll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Es legítimo apoyar a empresari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allas de Mercado”. (deficiencias en la asignación de recurso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posi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nega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tervención de CORFO en el mercado (Principio de Subsidiariedad y promoción del bien común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vita que se pierdan las posibilidades de innovación y de emprendimiento con un alto potencial en términos de beneficios para la economía como un todo”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4:41Z</dcterms:created>
  <dc:creator>Matías  Kühn</dc:creator>
  <dc:description/>
  <dc:language>en-US</dc:language>
  <cp:lastModifiedBy>jgallegos</cp:lastModifiedBy>
  <dcterms:modified xsi:type="dcterms:W3CDTF">2010-10-25T21:48:59Z</dcterms:modified>
  <cp:revision>9</cp:revision>
  <dc:subject/>
  <dc:title>CORFO Y LA INNOVACIÓN</dc:title>
</cp:coreProperties>
</file>