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0B64-5D26-4EF5-8023-11701FA4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34B0-42A1-4D82-8C83-C3498704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BDF6-0A4E-4159-AF32-7FBB058BD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24C8-DEED-4E90-BAC0-B90A635B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0CDC-BF3F-44DF-97EB-57AF369D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EBB6-C3D8-467A-8F1C-5136C65A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C30E-A531-4153-981C-DDCD0B7F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D095-40C7-405C-BC6F-5A559C34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15A5-B831-48D0-A193-8B2B5CD2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F345-154F-433A-BD94-D084F278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DA52-4BC0-4573-B00D-6ADB10C8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E288-60EE-49C4-B0D7-7CF6AC7C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20DE-0CB9-4343-86A9-7F19DB89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9DD5-67A7-4E3E-B0DB-3DED39B1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DCBA-1503-4F83-B029-EEA24CE8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3431-D2F2-4413-942B-A679D6454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C1AE-F0D7-484B-B308-BF5A1CC66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58C3-2C1A-455E-98DE-D23878EB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1718-5213-41EE-901C-B09E17D8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4F97-9C39-487F-B4F1-2B703DA3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600D-B620-4E9C-A610-CAED904F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7BE3-B6D5-4AAB-BD2B-5FE9C272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9486-2907-481A-A456-BD930405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8EEE-8D25-4A4A-A483-E2FBB186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AA8B5C-623A-448A-91E6-A00FFFB5A2D6}" type="datetime">
              <a:rPr b="0" lang="es-ES_tradnl" sz="12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3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19D20D-796A-4FC6-A23C-8FE812FD18CD}" type="slidenum">
              <a:rPr b="0" lang="es-ES_tradnl" sz="3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834665-1211-49C5-93D5-C0B4C185BA2D}" type="datetime">
              <a:rPr b="0" lang="es-ES_tradnl" sz="12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3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70F94C-9FC8-4F51-91D7-889FED93724D}" type="slidenum">
              <a:rPr b="0" lang="es-ES_tradnl" sz="3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9000" y="134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CORFO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4" name="Marcador de contenido 3" descr=""/>
          <p:cNvPicPr/>
          <p:nvPr/>
        </p:nvPicPr>
        <p:blipFill>
          <a:blip r:embed="rId1"/>
          <a:srcRect l="-79785" t="0" r="-79785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INNOVACIÓ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s-ES_tradnl" sz="2600" spc="-1" strike="noStrike">
                <a:solidFill>
                  <a:srgbClr val="595959"/>
                </a:solidFill>
                <a:latin typeface="News Gothic MT"/>
              </a:rPr>
              <a:t>Generar respuestas nuevas a problemas nuevos”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595959"/>
                </a:solidFill>
                <a:latin typeface="News Gothic MT"/>
              </a:rPr>
              <a:t>La creación de innovación genera valor económico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News Gothic MT"/>
              </a:rPr>
              <a:t>Unión entre ciencia y empresa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News Gothic MT"/>
              </a:rPr>
              <a:t>Apoyo a los clúster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News Gothic MT"/>
              </a:rPr>
              <a:t>Regionalización de procesos innovadores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News Gothic MT"/>
              </a:rPr>
              <a:t>Apoyo al Patentamiento de innovaciones (INAPI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INNOVACIÓ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Problemas que presenta la innovación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1º Escaso capital humano especializad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2º El poco apoyo financiero al emprendimiento innovador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3º Poca inversión a la innovación y desarrollo de nuevos productos y servicio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4º Mentalidad de desarrollo (procedimientos jurídicos y administrativos más eficientes y eficaces, desde la creación a la quiebra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POLÍTICA DE INNOVACIÓ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595959"/>
                </a:solidFill>
                <a:latin typeface="News Gothic MT"/>
              </a:rPr>
              <a:t>ROYALTY MINERO (grava con 5% la renta imponible de las compañías mineras, proyecto de ley, aprobó en Senado  aumento 5-14% y la invariabilidad por 6 años y período de ajuste 2010-12).</a:t>
            </a:r>
            <a:endParaRPr b="0" lang="en-US" sz="23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595959"/>
                </a:solidFill>
                <a:latin typeface="News Gothic MT"/>
              </a:rPr>
              <a:t>FIC (Fondo de Innovación para la Competitividad)</a:t>
            </a:r>
            <a:endParaRPr b="0" lang="en-US" sz="23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595959"/>
                </a:solidFill>
                <a:latin typeface="News Gothic MT"/>
              </a:rPr>
              <a:t>CNIC (Consejo Nacional de Innovación para la Competitividad)</a:t>
            </a:r>
            <a:endParaRPr b="0" lang="en-US" sz="23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595959"/>
                </a:solidFill>
                <a:latin typeface="News Gothic MT"/>
              </a:rPr>
              <a:t>CONICYT, FONDECYT, FONDEF, FIA, GORES, SERCOTEC, INNOVA CHILE, INAPI (Ley Nº 20.254 de 2008).</a:t>
            </a:r>
            <a:endParaRPr b="0" lang="en-US" sz="23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595959"/>
                </a:solidFill>
                <a:latin typeface="News Gothic MT"/>
              </a:rPr>
              <a:t>Ley de Incentivo Tributario I+D. Ley Nº 20.241 de 2008.</a:t>
            </a:r>
            <a:endParaRPr b="0" lang="en-US" sz="23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Sistema nacional de innovació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8" name="6 Marcador de contenido" descr="Dibujo.JPG"/>
          <p:cNvPicPr/>
          <p:nvPr/>
        </p:nvPicPr>
        <p:blipFill>
          <a:blip r:embed="rId1"/>
          <a:stretch/>
        </p:blipFill>
        <p:spPr>
          <a:xfrm>
            <a:off x="682560" y="1285920"/>
            <a:ext cx="784548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700" spc="-1" strike="noStrike">
                <a:solidFill>
                  <a:srgbClr val="2c7c9f"/>
                </a:solidFill>
                <a:latin typeface="News Gothic MT"/>
              </a:rPr>
              <a:t>ROL DEL MINISTERIO DE ECONOMÍA</a:t>
            </a:r>
            <a:r>
              <a:rPr b="0" lang="es-ES_tradnl" sz="3700" spc="-1" strike="noStrike">
                <a:solidFill>
                  <a:srgbClr val="2c7c9f"/>
                </a:solidFill>
                <a:latin typeface="News Gothic MT"/>
              </a:rPr>
              <a:t>	</a:t>
            </a: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Rol de coordinador del sistema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Monitorea la aplicación de los recurso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Introduce mejoras pertinentes en el marco de la política y el plan de acción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Y LOS ABOGADOS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La innovación plantea desafíos multidisciplinario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Adecuación de la profesión a la “Sociedad del Conocimiento”. (No estamos ajenos…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Protección a la Innovación (Marcas y Patentes)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Protección a los fondos público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Creatividad legal, frente a nuevos problema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La velocidad en los procesos de innovación (eficacia y eficiencia de la intervención estatal)</a:t>
            </a:r>
            <a:r>
              <a:rPr b="0" lang="es-ES_tradnl" sz="2000" spc="-1" strike="noStrike">
                <a:solidFill>
                  <a:srgbClr val="595959"/>
                </a:solidFill>
                <a:latin typeface="News Gothic MT"/>
              </a:rPr>
              <a:t>. </a:t>
            </a: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(Elemento esencial) 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¿Qué hemos visto hoy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Desarrollo de CORFO en la historia del país y como influye en su devenir económic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Aspectos fundamentales de la INNOVACIÓN y EMPRENDIMIENT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Política Pública Pro Innovación a partir de las FALLAS DE MERCAD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Relación del Abogado con la I+D.  ¿Derecho a la Innovación?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95959"/>
                </a:solidFill>
                <a:latin typeface="News Gothic MT"/>
              </a:rPr>
              <a:t>¡¡¡MUCHAS GRACIAS!!!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55560" y="1676520"/>
            <a:ext cx="6421320" cy="162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r>
              <a:rPr b="0" lang="es-ES_tradnl" sz="3700" spc="-1" strike="noStrike">
                <a:solidFill>
                  <a:srgbClr val="2c7c9f"/>
                </a:solidFill>
                <a:latin typeface="News Gothic MT"/>
              </a:rPr>
              <a:t>CORFO, INNOVACIÓN Y EMPRENDIMIENTO</a:t>
            </a: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98989"/>
                </a:solidFill>
                <a:latin typeface="News Gothic MT"/>
              </a:rPr>
              <a:t>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SUMARIO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Historia de CORFO (períodos)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Algo de Derecho Administrativo…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¿Por qué debe existir una Política Pública? (fallas de mercado y la función del Estado)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INNOVACIÓN Y EMPRENDIMIENT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Ejercicio de la Profesión (actividad multidisciplinaria)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HISTORI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FUNDAMENTOS: Consejo Económico y Terremoto del año 1939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Creación durante el Gobierno de Pedro Aguirre Cerda., </a:t>
            </a:r>
            <a:r>
              <a:rPr b="0" lang="es-ES_tradnl" sz="2800" spc="-1" strike="noStrike">
                <a:solidFill>
                  <a:srgbClr val="595959"/>
                </a:solidFill>
                <a:latin typeface="News Gothic MT"/>
              </a:rPr>
              <a:t>Ley de Ley N° 6.334 de Reconstrucción y Auxilio y Fomento de la Producció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Período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Planes de Reconstrucción del paí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Creación de ENAP, ENDESA, CAP, IANSA. (apoyo a la creación de empresas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Gobierno de Allende (Estatización + 500 emp.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Gobierno Militar, modificó completamente la Política de CORFO (Privatización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Vuelta a la Democracia: (fin de los créditos y administración de empresas)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CORFO EL DÍA DE HO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Apoyo a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1º Investigación y desarrollo tecnológic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2º Asociatividad empresarial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3º Gestión empresarial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4º Acceso a financiamient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700" spc="-1" strike="noStrike">
                <a:solidFill>
                  <a:srgbClr val="2c7c9f"/>
                </a:solidFill>
                <a:latin typeface="News Gothic MT"/>
              </a:rPr>
              <a:t>Algo de Derecho Administrativo…..</a:t>
            </a: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Creado por Ley Nº 6.640 de 1941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Persona Jurídica de Derecho público con patrimonio propi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Órgano Pluripersonal (Consejo CORFO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Órgano Unipersonal (Vicepresidente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Decisiones que toma el Consejo (voluntad única)  y que pone en ejecución el Vicepresidente (Jefe del Servicio). Principio de Juridicidad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¿Por qué financiar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¿Asistencialismo productivo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¿Por qué el Estado debe intervenir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¿Por qué una política pública de desarrollo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¿Es legítimo apoyar a empresarios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Fallas de Mercado”. (deficiencias en la asignación de recursos)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-Externalidades positiva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-Externalidades negativa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INNOVACIÓN</a:t>
            </a: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	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La intervención de CORFO en el mercado (Principio de Subsidiariedad y promoción del bien común)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Evita que se pierdan las posibilidades de innovación y de emprendimiento con un alto potencial en términos de beneficios para la economía como un todo”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6:34:41Z</dcterms:created>
  <dc:creator>Matías  Kühn</dc:creator>
  <dc:description/>
  <dc:language>en-US</dc:language>
  <cp:lastModifiedBy>jgallegos</cp:lastModifiedBy>
  <dcterms:modified xsi:type="dcterms:W3CDTF">2010-10-25T21:48:59Z</dcterms:modified>
  <cp:revision>9</cp:revision>
  <dc:subject/>
  <dc:title>CORFO Y LA INNOVACIÓN</dc:title>
</cp:coreProperties>
</file>