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2B307-1EE1-4F4B-9050-46C1053D4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9B39D-7D57-4801-9AD7-079F9134F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93073-C68D-409C-A127-BFA152CDF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1C97F-056D-400C-92CC-7BE04926C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4CEFFB-6A1C-4CEA-9595-B57FE94FE5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E1BB9-A00D-4FE5-ACBC-E4F4FBA28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FA38D-A6B6-45D6-8074-311D8C066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4AB99-1908-4272-8425-00394560F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D5D17-A887-4B6A-A403-127CD2C34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AA92B-5360-451C-9C25-1CE4695BD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13A1C-4395-49DA-8D26-106A5007E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EB18F-ADF9-4063-BBE2-C592868A4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B2F5A-9F13-4DF2-8ECF-33771ACF9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16BCB-BEEA-4E7F-A56D-ED174B7F3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BCAF1-3D9C-4CD4-BA09-CA32FB6EC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6E3A49-1145-4E04-8CEC-E0D8574FCA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CA3696-111A-4BFC-8E25-34C01AA516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3B400B1-F714-4396-B8F3-865824CCFE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770D57D-7052-4BDC-867A-59FAD719CF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0C92FD5-52D8-4E49-90F0-41FD3EFA17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16A3177-34E7-469D-9846-D6B7B8F803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18E1C6A-F058-4AA4-ABA3-AC852E81EB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BD41E-8E12-4CD8-A917-66F7B67F7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1017EBD-690C-4F7D-B278-16E36446B6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1351CA2-AFB1-4200-AB92-D4333FCE11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D15FE0F-D836-4884-B6BC-2D37996545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D6BC84A-4DAF-4F6E-AB51-6D1CCD91EB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C2AE97C-ADEA-4A5A-B988-27BD4E0CBC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9DAECF2-AD8E-46C9-8993-8727C4C1C9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792E437-3057-4126-9696-577BFA0C22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C563FB3-71CD-49E0-B236-F1BA6B2566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F7B275F-9D89-4906-B965-B5C3B1800E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C44D6E2-031B-4915-B4B0-54F72AF628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45359-66F0-4FAF-9277-9BFA7F200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1D7B746-9CBF-4422-8CDB-BF6972D484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2E9903B-244D-4F44-9475-6B0D27C263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190BA3F-5E15-44FF-9CF7-73323CFAF9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A08A6BB-47F9-472E-9BEF-82A136C350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FE5BA29-A7DB-4722-A6B2-252E4E8CFA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3350257-662C-4BB5-B5EB-9779FCCF87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4680975-CF97-4D9E-BF12-D8A9B8ABB9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F451D16-4E05-4B13-8C4F-719DC5A0CA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80A1ACB-4637-443E-8A6D-1A6EFF80A6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6209440-6FF4-433F-9015-B5559EE578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7DA51-3DFE-4D20-B378-44588EBEC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91C7457-3BF7-481B-85EE-05B27440F1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6BC3796-A6DC-497E-AE04-EFDDC5AF68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4875B16-0C23-45AB-B4EC-C132715AE5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2443E9F-B2FC-4A81-93D1-BF2DD60B9F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3F4736A-0C3E-4879-8AFC-AF8794BED4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B56E62D-E0B1-44A2-9CD3-5036CD1851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815A9B0-94C6-4E9A-AED9-088044B68C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586245-F081-4069-ABCE-98800CE44B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300AA6E-3513-42DC-B7DF-98E3BEA249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91AC019-8ABC-4503-95A7-83E64F501B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17F0B-68B8-42DD-8FC7-55FA403D1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7E55F3D-C333-42E7-B57F-9FF536A3C0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CF9E35-C0F5-408C-AC86-740E7A9A63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808996-D551-4047-B3E0-ABAFC4D88A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562BF1-7A2B-471C-833D-F1BF563038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30F109-5D48-4936-A312-BF0D702F39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E4FC34-7293-42CC-BC5A-25A87F4BE4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484F7E-E1E1-487A-BECB-CEECF96685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D54EF9-12EE-4DD1-BFC8-AC799F1B77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53DC8D-2B96-411A-84BB-B4AB739D6D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63A7A0-9D7A-459B-BDE4-7F545DC0B4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ABD19-1526-42B0-BB7E-711F57A80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4D20D8-D52C-4FC6-83B9-CC5118E955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94B675-5FEE-4516-8DDC-1A7E886A10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11B607-1212-4693-B5D3-0160FE8797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BA4AC9B-7CCB-49EF-86D4-6AE5BB6EC5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B666109-19C8-42AA-8544-D27A279710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5416D20-732E-4981-B4CB-1F0BE8F957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91E8FD8-75E8-441C-B123-AD4A2F35D5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C4EA576-DCEA-4C65-925D-6C51EEDF56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AFAC692-7C6F-4986-8A9F-4D3611CD6A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5ED7713-6F58-4F44-8E97-3E93DEDF79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D7C87-DFEE-4B40-9D39-8779D1929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1750D9F-8997-4D43-A8C0-BE43F7454F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8E18161-3202-4D2B-8816-4F10A44E5D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5E62B19-7E3F-4765-ACDA-3D1155CC48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F40A503-CA63-4E2A-845E-AD8B913143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FC536A3-4348-4C13-B89B-AC9899CECB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533F10-5829-4391-BE6A-2705F743B1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2315D4-6B78-4197-8DE0-27718ACF4E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94432D-E67F-448A-87CE-CEBE58C3F6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EA27F1-8915-4C1C-8550-95177F7FA2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BF9793-A892-4076-8CFF-B8D951407A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4B504-F262-48FC-B96F-1905D853E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597F88-805F-4928-B156-DFD09AF11D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D22266-534C-44CE-9370-C5E1581CC3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94E90A-3DC4-4AD7-82FE-97AEB4929B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F5DBA2-C1E3-4601-9932-FD4166347D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18C655-6AD7-482F-B86D-DD6CAB2D90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0FADB1-F703-4844-94F5-4C3187FAC4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B65E33-1CB4-45A7-861D-8EA21EDF94F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89CB-4CD1-4669-93B7-4993F6FBF818}"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10 Rectángulo"/>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11 Rectángulo"/>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C39C4-07B4-481D-9C23-8FB8E97B740F}" type="slidenum">
              <a:rPr b="1" lang="es-E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10 Rectángulo"/>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11 Rectángulo"/>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A078-6150-480C-B359-FE1D19725C75}" type="slidenum">
              <a:rPr b="1"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68929-5CD7-4410-BB1C-EB87D650FC84}"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5D876-6FC5-4986-934E-022E73A974BA}"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087CF-ED35-4AC4-BFB6-EDB891070CA3}" type="slidenum">
              <a:rPr b="1" lang="es-E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10 Rectángulo"/>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11 Rectángulo"/>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14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6C412-C6FC-4B2C-8ECE-7F9C5055A1E4}" type="slidenum">
              <a:rPr b="1" lang="es-E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10 Rectángulo"/>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11 Rectángulo"/>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AEAC-05BB-4EFC-B066-61E97CD76E08}"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bddc3"/>
                </a:solidFill>
                <a:latin typeface="Tw Cen MT"/>
              </a:rPr>
              <a:t>MINISTERIO DE OBRAS PÚBLICAS</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w Cen MT"/>
              </a:rPr>
              <a:t>Proceso de reformas a partir de los años 90’s</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56760" y="1499760"/>
            <a:ext cx="8153640" cy="685800"/>
          </a:xfrm>
          <a:prstGeom prst="rect">
            <a:avLst/>
          </a:prstGeom>
          <a:noFill/>
          <a:ln w="0">
            <a:noFill/>
          </a:ln>
        </p:spPr>
        <p:txBody>
          <a:bodyPr lIns="90000" rIns="90000" tIns="46800" bIns="46800" anchor="t">
            <a:normAutofit/>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V.gr. ¿Puente Canal de Chacao?</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366" name="Picture 2" descr="http://loslagos.vialidad.cl/obras%20relevantes/pte_chacao/pte_fotos/Fotos%20Pte%20Chacao/Pte%20Chacao.jpg"/>
          <p:cNvPicPr/>
          <p:nvPr/>
        </p:nvPicPr>
        <p:blipFill>
          <a:blip r:embed="rId1"/>
          <a:stretch/>
        </p:blipFill>
        <p:spPr>
          <a:xfrm>
            <a:off x="928800" y="2071800"/>
            <a:ext cx="7215120" cy="3357360"/>
          </a:xfrm>
          <a:prstGeom prst="rect">
            <a:avLst/>
          </a:prstGeom>
          <a:ln w="0">
            <a:noFill/>
          </a:ln>
        </p:spPr>
      </p:pic>
      <p:sp>
        <p:nvSpPr>
          <p:cNvPr id="367" name="4 Rectángulo"/>
          <p:cNvSpPr/>
          <p:nvPr/>
        </p:nvSpPr>
        <p:spPr>
          <a:xfrm>
            <a:off x="1000080" y="5643720"/>
            <a:ext cx="7000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Problema social </a:t>
            </a:r>
            <a:r>
              <a:rPr b="0" lang="es-ES" sz="2800" spc="-1" strike="noStrike">
                <a:solidFill>
                  <a:srgbClr val="000000"/>
                </a:solidFill>
                <a:latin typeface="Wingdings"/>
                <a:ea typeface="Wingdings"/>
              </a:rPr>
              <a:t></a:t>
            </a:r>
            <a:r>
              <a:rPr b="0" lang="es-ES" sz="2800" spc="-1" strike="noStrike">
                <a:solidFill>
                  <a:srgbClr val="000000"/>
                </a:solidFill>
                <a:latin typeface="Tw Cen MT"/>
              </a:rPr>
              <a:t> ¿contribución a la centralización?</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safíos y deficiencias del sistema</a:t>
            </a:r>
            <a:endParaRPr b="0" lang="en-US" sz="4400" spc="-1" strike="noStrike">
              <a:solidFill>
                <a:srgbClr val="775f55"/>
              </a:solidFill>
              <a:latin typeface="Tw Cen MT"/>
            </a:endParaRPr>
          </a:p>
        </p:txBody>
      </p:sp>
      <p:sp>
        <p:nvSpPr>
          <p:cNvPr id="369" name=""/>
          <p:cNvSpPr txBox="1"/>
          <p:nvPr/>
        </p:nvSpPr>
        <p:spPr>
          <a:xfrm>
            <a:off x="500040" y="1714680"/>
            <a:ext cx="8153280" cy="4495680"/>
          </a:xfrm>
          <a:prstGeom prst="rect">
            <a:avLst/>
          </a:prstGeom>
          <a:noFill/>
          <a:ln w="0">
            <a:noFill/>
          </a:ln>
        </p:spPr>
        <p:txBody>
          <a:bodyPr lIns="90000" rIns="90000" tIns="46800" bIns="46800" anchor="t">
            <a:normAutofit fontScale="97000"/>
          </a:bodyPr>
          <a:p>
            <a:pPr marL="309240" indent="-309240" algn="just">
              <a:lnSpc>
                <a:spcPct val="9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Garantías explícitas (ingresos garantizados):</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Incentivan ineficiencia de las concesionarias la cual debe ser soportada por el Fisco, vale decir, contribuyentes y no usuarios</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Promueven construcción de elefantes blancos (escaza rentabilidad social)</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Captura del regulador (poder de los lobbistas)</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Garantías implícitas (Constates renegociaciones):</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Falta de trasparencia y de competencia </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Costos elevados para Fisco y usuarios</a:t>
            </a:r>
            <a:endParaRPr b="0" lang="en-US" sz="27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Reforma a la LCOP (Ley Nº 20.410 de 2010)</a:t>
            </a:r>
            <a:endParaRPr b="0" lang="en-US" sz="40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 </a:t>
            </a:r>
            <a:r>
              <a:rPr b="0" lang="es-ES" sz="2700" spc="-1" strike="noStrike">
                <a:solidFill>
                  <a:srgbClr val="000000"/>
                </a:solidFill>
                <a:latin typeface="Tw Cen MT"/>
              </a:rPr>
              <a:t>El proyecto introduce ajustes institucionales y mayor certidumbre en la distribución de riesgos, limitando posibilidades y condiciones de renegociación además de </a:t>
            </a:r>
            <a:r>
              <a:rPr b="0" i="1" lang="es-ES" sz="2700" spc="-1" strike="noStrike">
                <a:solidFill>
                  <a:srgbClr val="000000"/>
                </a:solidFill>
                <a:latin typeface="Tw Cen MT"/>
              </a:rPr>
              <a:t>elefantes blancos</a:t>
            </a:r>
            <a:r>
              <a:rPr b="0" lang="es-ES" sz="2700" spc="-1" strike="noStrike">
                <a:solidFill>
                  <a:srgbClr val="000000"/>
                </a:solidFill>
                <a:latin typeface="Tw Cen MT"/>
              </a:rPr>
              <a:t>. </a:t>
            </a:r>
            <a:endParaRPr b="0" lang="en-US" sz="2700" spc="-1" strike="noStrike">
              <a:solidFill>
                <a:srgbClr val="000000"/>
              </a:solidFill>
              <a:latin typeface="Tw Cen MT"/>
            </a:endParaRPr>
          </a:p>
          <a:p>
            <a:pPr marL="296280" indent="-2962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 </a:t>
            </a:r>
            <a:r>
              <a:rPr b="0" lang="es-ES" sz="2700" spc="-1" strike="noStrike">
                <a:solidFill>
                  <a:srgbClr val="000000"/>
                </a:solidFill>
                <a:latin typeface="Tw Cen MT"/>
              </a:rPr>
              <a:t>Viene a corregir importantes fallas que presentaba regulación de concesiones de infraestructura con las consecuentes pérdidas de bienestar social de cara a las concesiones de segunda generación</a:t>
            </a:r>
            <a:endParaRPr b="0" lang="en-US" sz="2700" spc="-1" strike="noStrike">
              <a:solidFill>
                <a:srgbClr val="000000"/>
              </a:solidFill>
              <a:latin typeface="Tw Cen MT"/>
            </a:endParaRPr>
          </a:p>
          <a:p>
            <a:pPr marL="296280" indent="-2962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Debiera complementarse con una Superintendencia del rubro</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85840" y="428400"/>
            <a:ext cx="8572320" cy="57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rcentaje respecto del presupuesto </a:t>
            </a:r>
            <a:r>
              <a:rPr b="0" lang="es-ES" sz="4000" spc="-1" strike="noStrike">
                <a:solidFill>
                  <a:srgbClr val="775f55"/>
                </a:solidFill>
                <a:latin typeface="Tw Cen MT"/>
              </a:rPr>
              <a:t>	</a:t>
            </a:r>
            <a:r>
              <a:rPr b="0" lang="es-ES" sz="4000" spc="-1" strike="noStrike">
                <a:solidFill>
                  <a:srgbClr val="775f55"/>
                </a:solidFill>
                <a:latin typeface="Tw Cen MT"/>
              </a:rPr>
              <a:t>	</a:t>
            </a:r>
            <a:r>
              <a:rPr b="0" lang="es-ES" sz="4000" spc="-1" strike="noStrike">
                <a:solidFill>
                  <a:srgbClr val="775f55"/>
                </a:solidFill>
                <a:latin typeface="Tw Cen MT"/>
              </a:rPr>
              <a:t>	</a:t>
            </a:r>
            <a:r>
              <a:rPr b="0" lang="es-ES" sz="4000" spc="-1" strike="noStrike">
                <a:solidFill>
                  <a:srgbClr val="775f55"/>
                </a:solidFill>
                <a:latin typeface="Tw Cen MT"/>
              </a:rPr>
              <a:t>     2010</a:t>
            </a:r>
            <a:endParaRPr b="0" lang="en-US" sz="4000" spc="-1" strike="noStrike">
              <a:solidFill>
                <a:srgbClr val="775f55"/>
              </a:solidFill>
              <a:latin typeface="Tw Cen MT"/>
            </a:endParaRPr>
          </a:p>
        </p:txBody>
      </p:sp>
      <p:sp>
        <p:nvSpPr>
          <p:cNvPr id="373" name=""/>
          <p:cNvSpPr txBox="1"/>
          <p:nvPr/>
        </p:nvSpPr>
        <p:spPr>
          <a:xfrm>
            <a:off x="428760" y="2357280"/>
            <a:ext cx="8229600" cy="3786480"/>
          </a:xfrm>
          <a:prstGeom prst="rect">
            <a:avLst/>
          </a:prstGeom>
          <a:noFill/>
          <a:ln w="0">
            <a:noFill/>
          </a:ln>
        </p:spPr>
        <p:txBody>
          <a:bodyPr lIns="90000" rIns="90000" tIns="46800" bIns="46800"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l Ministerio de OO.PP. cuenta con un presupuesto para el presente año de US$ 3.163 M </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Lo anterior equivale al </a:t>
            </a:r>
            <a:r>
              <a:rPr b="1" lang="es-ES" sz="2900" spc="-1" strike="noStrike">
                <a:solidFill>
                  <a:srgbClr val="000000"/>
                </a:solidFill>
                <a:latin typeface="Tw Cen MT"/>
              </a:rPr>
              <a:t>7,77% </a:t>
            </a:r>
            <a:r>
              <a:rPr b="0" lang="es-ES" sz="2900" spc="-1" strike="noStrike">
                <a:solidFill>
                  <a:srgbClr val="000000"/>
                </a:solidFill>
                <a:latin typeface="Tw Cen MT"/>
              </a:rPr>
              <a:t>del total nacional</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Porcentaje del presupuesto en relación al PIB: </a:t>
            </a:r>
            <a:r>
              <a:rPr b="1" lang="es-ES" sz="2900" spc="-1" strike="noStrike">
                <a:solidFill>
                  <a:srgbClr val="000000"/>
                </a:solidFill>
                <a:latin typeface="Tw Cen MT"/>
              </a:rPr>
              <a:t>1,75 %</a:t>
            </a:r>
            <a:r>
              <a:rPr b="0" lang="es-ES" sz="2900" spc="-1" strike="noStrike">
                <a:solidFill>
                  <a:srgbClr val="000000"/>
                </a:solidFill>
                <a:latin typeface="Tw Cen MT"/>
              </a:rPr>
              <a:t> (2010)</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4" name=""/>
          <p:cNvGraphicFramePr/>
          <p:nvPr/>
        </p:nvGraphicFramePr>
        <p:xfrm>
          <a:off x="357120" y="1785960"/>
          <a:ext cx="4071960" cy="4022640"/>
        </p:xfrm>
        <a:graphic>
          <a:graphicData uri="http://schemas.openxmlformats.org/drawingml/2006/table">
            <a:tbl>
              <a:tblPr/>
              <a:tblGrid>
                <a:gridCol w="1973160"/>
                <a:gridCol w="20988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Año</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Miles de $</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0</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71.125.68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1</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93.072.10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2</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25.720.289</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3</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62.070.504</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4</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15.089.16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5</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61.108.690</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6</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332.069.98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08.888.183</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30.834.271</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9</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375.022.213</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graphicFrame>
        <p:nvGraphicFramePr>
          <p:cNvPr id="375" name=""/>
          <p:cNvGraphicFramePr/>
          <p:nvPr/>
        </p:nvGraphicFramePr>
        <p:xfrm>
          <a:off x="4500720" y="1785960"/>
          <a:ext cx="4071960" cy="4048200"/>
        </p:xfrm>
        <a:graphic>
          <a:graphicData uri="http://schemas.openxmlformats.org/drawingml/2006/table">
            <a:tbl>
              <a:tblPr/>
              <a:tblGrid>
                <a:gridCol w="2000160"/>
                <a:gridCol w="20718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Año</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Miles de $</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0</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373.363.28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1</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389.249.33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2</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30.590.35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3</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51.058.561</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4</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64.924.629</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5</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569.107.910</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6</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663.304.456</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867.320.582</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014.239.826</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9</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206.458.844</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
        <p:nvSpPr>
          <p:cNvPr id="376" name="9 CuadroTexto"/>
          <p:cNvSpPr/>
          <p:nvPr/>
        </p:nvSpPr>
        <p:spPr>
          <a:xfrm>
            <a:off x="367920" y="642960"/>
            <a:ext cx="8155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a:rPr>
              <a:t>Evolución Presupuestaria MOP 1990-2009</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285480" y="1571400"/>
            <a:ext cx="8429400" cy="4857480"/>
          </a:xfrm>
          <a:prstGeom prst="rect">
            <a:avLst/>
          </a:prstGeom>
          <a:noFill/>
          <a:ln w="0">
            <a:noFill/>
          </a:ln>
        </p:spPr>
        <p:txBody>
          <a:bodyPr lIns="90000" rIns="90000" tIns="46800" bIns="46800" anchor="t">
            <a:normAutofit fontScale="95000"/>
          </a:bodyPr>
          <a:p>
            <a:pPr marL="302760" indent="-3027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Arquitectura: comprende construcción y mejoramiento de obras tales como parques, edificios institucionales, centros culturales, etc. *dar dato de gasto en el GAM (más de $35.000 millones)</a:t>
            </a:r>
            <a:endParaRPr b="0" lang="en-US" sz="2900" spc="-1" strike="noStrike">
              <a:solidFill>
                <a:srgbClr val="000000"/>
              </a:solidFill>
              <a:latin typeface="Tw Cen MT"/>
            </a:endParaRPr>
          </a:p>
          <a:p>
            <a:pPr marL="302760" indent="-3027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Obras Hidráulicas: abarca gastos por construcción y mejoramiento de cauces, colectores, embalses,  defensas fluviales, alcantarillados * mayor gasto realizado: sistema de regadío de Ancoa, provincia de Linares (más de $25.000 millon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714320"/>
            <a:ext cx="8229600" cy="4857480"/>
          </a:xfrm>
          <a:prstGeom prst="rect">
            <a:avLst/>
          </a:prstGeom>
          <a:noFill/>
          <a:ln w="0">
            <a:noFill/>
          </a:ln>
        </p:spPr>
        <p:txBody>
          <a:bodyPr lIns="90000" rIns="90000" tIns="46800" bIns="46800" anchor="t">
            <a:normAutofit fontScale="95000"/>
          </a:bodyPr>
          <a:p>
            <a:pPr marL="302760" indent="-3027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Vialidad: comprende obras tales como: repavimentación, construcción de caminos,  puentes, túneles, etc. *mayor gasto por lejos corresponde a la habilitación de proyectos relativos al Transantiago  (más de $74.000 millones )</a:t>
            </a:r>
            <a:endParaRPr b="0" lang="en-US" sz="2900" spc="-1" strike="noStrike">
              <a:solidFill>
                <a:srgbClr val="000000"/>
              </a:solidFill>
              <a:latin typeface="Tw Cen MT"/>
            </a:endParaRPr>
          </a:p>
          <a:p>
            <a:pPr marL="302760" indent="-3027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Obras Portuarias: mejoramiento y construcción de costaneras, playas, puertos, etc. * mayor gasto: construcción terminal portuario del Canal de Chacao, en el marco del Plan Chiloé (casi $6.000 millon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642680"/>
            <a:ext cx="8229600" cy="5000760"/>
          </a:xfrm>
          <a:prstGeom prst="rect">
            <a:avLst/>
          </a:prstGeom>
          <a:noFill/>
          <a:ln w="0">
            <a:noFill/>
          </a:ln>
        </p:spPr>
        <p:txBody>
          <a:bodyPr lIns="90000" rIns="90000" tIns="46800" bIns="46800" anchor="t">
            <a:normAutofit/>
          </a:bodyPr>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Aeropuertos: obras relativas a la construcción y conservación de pistas y terminales aéreos *mayor gasto corresponde a la construcción del nuevo aeródromo de Chiloé, en el marco del Plan homónimo (costo de $10.600 millones)</a:t>
            </a:r>
            <a:endParaRPr b="0" lang="en-US" sz="29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gua potable rural: mayores proyectos de construcción pertenecientes a las regiones de O’Higgins ($1.200 M), Bío-Bío ($1.095 M) y Los Lagos ($999 M) y a la administración,  supervisión y ampliación de los sistemas de APR ya existentes ( casi $5.000 M)</a:t>
            </a:r>
            <a:endParaRPr b="0" lang="en-US" sz="29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28760" y="1571760"/>
            <a:ext cx="8229600" cy="5000400"/>
          </a:xfrm>
          <a:prstGeom prst="rect">
            <a:avLst/>
          </a:prstGeom>
          <a:noFill/>
          <a:ln w="0">
            <a:noFill/>
          </a:ln>
        </p:spPr>
        <p:txBody>
          <a:bodyPr lIns="90000" rIns="90000" tIns="46800" bIns="46800" anchor="t">
            <a:normAutofit/>
          </a:bodyPr>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General de Aguas: análisis y conservación de glaciares, aprovechamiento y conservación de napas subterráneas, lagos y ríos e Hidrometeorología </a:t>
            </a:r>
            <a:endParaRPr b="0" lang="en-US" sz="29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dministración del Sistema de Concesiones: sector destinado a encargar asesorías, estudios,  otorgar subsidios y realizar concursos públicos que dan forma al sistema de concesiones *inversiones destacables:  subsidio a ruta 60-CH (Mendoza-Viña) de $21.000 M y sistema norte-sur (RM) de $31.000M</a:t>
            </a:r>
            <a:endParaRPr b="0" lang="en-US" sz="29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56760" y="214200"/>
            <a:ext cx="8153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Por qué invertir en infraestructura?</a:t>
            </a:r>
            <a:endParaRPr b="0" lang="en-US" sz="4400" spc="-1" strike="noStrike">
              <a:solidFill>
                <a:srgbClr val="775f55"/>
              </a:solidFill>
              <a:latin typeface="Tw Cen MT"/>
            </a:endParaRPr>
          </a:p>
        </p:txBody>
      </p:sp>
      <p:sp>
        <p:nvSpPr>
          <p:cNvPr id="353" name=""/>
          <p:cNvSpPr txBox="1"/>
          <p:nvPr/>
        </p:nvSpPr>
        <p:spPr>
          <a:xfrm>
            <a:off x="285840" y="1714680"/>
            <a:ext cx="8400960" cy="4805280"/>
          </a:xfrm>
          <a:prstGeom prst="rect">
            <a:avLst/>
          </a:prstGeom>
          <a:noFill/>
          <a:ln w="0">
            <a:noFill/>
          </a:ln>
        </p:spPr>
        <p:txBody>
          <a:bodyPr lIns="90000" rIns="90000" tIns="46800" bIns="46800" anchor="t">
            <a:normAutofit fontScale="94000"/>
          </a:bodyPr>
          <a:p>
            <a:pPr marL="299520" indent="-29952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Mejorar la infraestructura de los países en desarrollo se considera cada vez más importante para reducir la pobreza, aumentar el crecimiento y lograr los Objetivos de Desarrollo del Milenio. </a:t>
            </a:r>
            <a:endParaRPr b="0" lang="en-US" sz="2700" spc="-1" strike="noStrike">
              <a:solidFill>
                <a:srgbClr val="000000"/>
              </a:solidFill>
              <a:latin typeface="Tw Cen MT"/>
            </a:endParaRPr>
          </a:p>
          <a:p>
            <a:pPr marL="299520" indent="-299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	</a:t>
            </a:r>
            <a:r>
              <a:rPr b="0" lang="es-ES" sz="2700" spc="-1" strike="noStrike">
                <a:solidFill>
                  <a:srgbClr val="000000"/>
                </a:solidFill>
                <a:latin typeface="Tw Cen MT"/>
              </a:rPr>
              <a:t>Las estimaciones realizadas a finales de los noventa sobre el impacto de las obras de infraestructura en la reducción de la pobreza mostraron que este tipo de inversión reduce la pobreza en 2,1% en los países de bajos ingresos y en 1,4% en los de ingresos medios. Un nuevo estudio realizado en América Latina concluyó que la falta de inversión en obras de infraestructura durante los años noventa redujo el crecimiento a largo plazo entre 1% y 3%, dependiendo del país. (Fuente: Banco Mundial)</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5" name=""/>
          <p:cNvSpPr txBox="1"/>
          <p:nvPr/>
        </p:nvSpPr>
        <p:spPr>
          <a:xfrm>
            <a:off x="357120" y="1600200"/>
            <a:ext cx="8408880" cy="5043600"/>
          </a:xfrm>
          <a:prstGeom prst="rect">
            <a:avLst/>
          </a:prstGeom>
          <a:noFill/>
          <a:ln w="0">
            <a:noFill/>
          </a:ln>
        </p:spPr>
        <p:txBody>
          <a:bodyPr lIns="90000" rIns="90000" tIns="46800" bIns="46800" anchor="t">
            <a:normAutofit fontScale="91000"/>
          </a:bodyPr>
          <a:p>
            <a:pPr marL="290160" indent="-2901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w Cen MT"/>
              </a:rPr>
              <a:t>En este marco, ¿cuáles son las ventajas de costo-oportunidad respecto de la inversión en ésta o en otras áreas?</a:t>
            </a:r>
            <a:endParaRPr b="0" lang="en-US" sz="2500" spc="-1" strike="noStrike">
              <a:solidFill>
                <a:srgbClr val="000000"/>
              </a:solidFill>
              <a:latin typeface="Tw Cen MT"/>
            </a:endParaRPr>
          </a:p>
          <a:p>
            <a:pPr marL="290160" indent="-2901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w Cen MT"/>
              </a:rPr>
              <a:t>Para construir hospitales, escuelas o viviendas sociales, debemos contar con recursos. Dichos recursos sólo estarán disponibles en la medida que el país crezca y se desarrolle económicamente</a:t>
            </a:r>
            <a:endParaRPr b="0" lang="en-US" sz="2500" spc="-1" strike="noStrike">
              <a:solidFill>
                <a:srgbClr val="000000"/>
              </a:solidFill>
              <a:latin typeface="Tw Cen MT"/>
            </a:endParaRPr>
          </a:p>
          <a:p>
            <a:pPr marL="290160" indent="-2901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w Cen MT"/>
              </a:rPr>
              <a:t>El comercio es la piedra angular en dicho esquema de desarrollo; fortaleciendo nuestros vínculos económicos con la región y el mundo, tendremos la posibilidad de mejorar los programas de seguridad social y desarrollo humano</a:t>
            </a:r>
            <a:endParaRPr b="0" lang="en-US" sz="2500" spc="-1" strike="noStrike">
              <a:solidFill>
                <a:srgbClr val="000000"/>
              </a:solidFill>
              <a:latin typeface="Tw Cen MT"/>
            </a:endParaRPr>
          </a:p>
          <a:p>
            <a:pPr marL="290160" indent="-2901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w Cen MT"/>
              </a:rPr>
              <a:t>Para que esto último sea posible, es básico el poder contar con una red caminera y de infraestructura en general que permita dicho intercambio</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Contexto de la LCOP</a:t>
            </a:r>
            <a:endParaRPr b="0" lang="en-US" sz="4400" spc="-1" strike="noStrike">
              <a:solidFill>
                <a:srgbClr val="775f55"/>
              </a:solidFill>
              <a:latin typeface="Tw Cen MT"/>
            </a:endParaRPr>
          </a:p>
        </p:txBody>
      </p:sp>
      <p:sp>
        <p:nvSpPr>
          <p:cNvPr id="357" name=""/>
          <p:cNvSpPr txBox="1"/>
          <p:nvPr/>
        </p:nvSpPr>
        <p:spPr>
          <a:xfrm>
            <a:off x="428760" y="1999800"/>
            <a:ext cx="8153280" cy="4496040"/>
          </a:xfrm>
          <a:prstGeom prst="rect">
            <a:avLst/>
          </a:prstGeom>
          <a:noFill/>
          <a:ln w="0">
            <a:noFill/>
          </a:ln>
        </p:spPr>
        <p:txBody>
          <a:bodyPr lIns="90000" rIns="90000" tIns="46800" bIns="46800"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Tradicionalmente las obras de infraestructura pública eran realizadas por el Estado, directamente (unidades de construcción en diversos Ministerios) o contratando su realización a privados,  vía licitación (contrato de obra pública) y por tanto eran financiadas por los contribuyentes y no por sus usuarios (beneficiado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28400" y="1571760"/>
            <a:ext cx="8358120" cy="4789440"/>
          </a:xfrm>
          <a:prstGeom prst="rect">
            <a:avLst/>
          </a:prstGeom>
          <a:noFill/>
          <a:ln w="0">
            <a:noFill/>
          </a:ln>
        </p:spPr>
        <p:txBody>
          <a:bodyPr lIns="90000" rIns="90000" tIns="46800" bIns="46800" anchor="t">
            <a:normAutofit fontScale="98000"/>
          </a:bodyPr>
          <a:p>
            <a:pPr marL="312480" indent="-3124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Durante los 70’ y 80’, a pesar del auge económico, se hizo muy poco en el sector de infraestructura pública. Las constantes limitaciones presupuestarias motivaron que las obras de infraestructura no pudieran dar respuesta al crecimiento de la demanda. Ej: Entre 1980 y 1994 el parque automotor se duplicó, mientras que el ritmo con que se pavimentaban las carreteras disminuyó de 350 km/año durante el período 1955-1970 a 150 km/año durante 1970-1990 (Acevedo y Errázuriz, 1994).</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213840" y="1714680"/>
            <a:ext cx="8572680" cy="5000400"/>
          </a:xfrm>
          <a:prstGeom prst="rect">
            <a:avLst/>
          </a:prstGeom>
          <a:noFill/>
          <a:ln w="0">
            <a:noFill/>
          </a:ln>
        </p:spPr>
        <p:txBody>
          <a:bodyPr lIns="90000" rIns="90000" tIns="46800" bIns="46800" anchor="t">
            <a:normAutofit fontScale="94000"/>
          </a:bodyPr>
          <a:p>
            <a:pPr marL="299520" indent="-29952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A principios de los 90’ se hizo evidente el déficit y por tanto la necesidad de aumentar las inversiones en infraestructura pública. Según estimaciones del MOP dichas necesidades ascendían a US$ 11.000.000.000 en circunstancias que su presupuesto anual era de US$ 800.000.000. Como el Gobierno carecía de recursos financieros, de organización y humanos para satisfacer dichas necesidades, desarrolló política diversa:</a:t>
            </a:r>
            <a:r>
              <a:rPr b="1" lang="es-CL" sz="2900" spc="-1" strike="noStrike">
                <a:solidFill>
                  <a:srgbClr val="000000"/>
                </a:solidFill>
                <a:latin typeface="Tw Cen MT"/>
              </a:rPr>
              <a:t> Concesiones de Obras Públicas</a:t>
            </a:r>
            <a:r>
              <a:rPr b="0" lang="es-CL" sz="2900" spc="-1" strike="noStrike">
                <a:solidFill>
                  <a:srgbClr val="000000"/>
                </a:solidFill>
                <a:latin typeface="Tw Cen MT"/>
              </a:rPr>
              <a:t>.</a:t>
            </a:r>
            <a:endParaRPr b="0" lang="en-US" sz="2900" spc="-1" strike="noStrike">
              <a:solidFill>
                <a:srgbClr val="000000"/>
              </a:solidFill>
              <a:latin typeface="Tw Cen MT"/>
            </a:endParaRPr>
          </a:p>
          <a:p>
            <a:pPr marL="299520" indent="-29952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9520" indent="-29952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 </a:t>
            </a:r>
            <a:r>
              <a:rPr b="0" lang="es-CL" sz="2900" spc="-1" strike="noStrike">
                <a:solidFill>
                  <a:srgbClr val="000000"/>
                </a:solidFill>
                <a:latin typeface="Tw Cen MT"/>
              </a:rPr>
              <a:t>Dictó DFL N°164/1991: Ley de Concesiones de Obras Públicas. Permite al Estado otorgar en concesión cualquier obra pública. Se formalizan mediante contratos, previo proceso de licitación competitiva.</a:t>
            </a:r>
            <a:endParaRPr b="0" lang="en-US" sz="29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http://www.plataformaurbana.cl/wp-content/uploads/2009/02/1346571293_concesionesmemoria.jpg"/>
          <p:cNvPicPr/>
          <p:nvPr/>
        </p:nvPicPr>
        <p:blipFill>
          <a:blip r:embed="rId1"/>
          <a:stretch/>
        </p:blipFill>
        <p:spPr>
          <a:xfrm>
            <a:off x="428760" y="2357280"/>
            <a:ext cx="4071960" cy="3143520"/>
          </a:xfrm>
          <a:prstGeom prst="rect">
            <a:avLst/>
          </a:prstGeom>
          <a:ln w="0">
            <a:noFill/>
          </a:ln>
        </p:spPr>
      </p:pic>
      <p:pic>
        <p:nvPicPr>
          <p:cNvPr id="361" name="Picture 4" descr="http://mw2.google.com/mw-panoramio/photos/small/12644099.jpg"/>
          <p:cNvPicPr/>
          <p:nvPr/>
        </p:nvPicPr>
        <p:blipFill>
          <a:blip r:embed="rId2"/>
          <a:stretch/>
        </p:blipFill>
        <p:spPr>
          <a:xfrm>
            <a:off x="4500720" y="2357280"/>
            <a:ext cx="4190760" cy="314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Beneficios desde la perspectiva del bienestar</a:t>
            </a:r>
            <a:endParaRPr b="0" lang="en-US" sz="4000" spc="-1" strike="noStrike">
              <a:solidFill>
                <a:srgbClr val="775f55"/>
              </a:solidFill>
              <a:latin typeface="Tw Cen MT"/>
            </a:endParaRPr>
          </a:p>
        </p:txBody>
      </p:sp>
      <p:sp>
        <p:nvSpPr>
          <p:cNvPr id="363" name=""/>
          <p:cNvSpPr txBox="1"/>
          <p:nvPr/>
        </p:nvSpPr>
        <p:spPr>
          <a:xfrm>
            <a:off x="357120" y="1714320"/>
            <a:ext cx="8501040" cy="4786200"/>
          </a:xfrm>
          <a:prstGeom prst="rect">
            <a:avLst/>
          </a:prstGeom>
          <a:noFill/>
          <a:ln w="0">
            <a:noFill/>
          </a:ln>
        </p:spPr>
        <p:txBody>
          <a:bodyPr lIns="90000" rIns="90000" tIns="46800" bIns="46800" anchor="t">
            <a:normAutofit fontScale="98000"/>
          </a:bodyPr>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	</a:t>
            </a:r>
            <a:r>
              <a:rPr b="0" lang="es-CL" sz="2600" spc="-1" strike="noStrike">
                <a:solidFill>
                  <a:srgbClr val="000000"/>
                </a:solidFill>
                <a:latin typeface="Tw Cen MT"/>
              </a:rPr>
              <a:t>El milagro de las concesiones</a:t>
            </a:r>
            <a:endParaRPr b="0" lang="en-US" sz="26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	</a:t>
            </a:r>
            <a:r>
              <a:rPr b="0" lang="es-CL" sz="2600" spc="-1" strike="noStrike">
                <a:solidFill>
                  <a:srgbClr val="000000"/>
                </a:solidFill>
                <a:latin typeface="Tw Cen MT"/>
              </a:rPr>
              <a:t>	</a:t>
            </a:r>
            <a:r>
              <a:rPr b="0" lang="es-CL" sz="2600" spc="-1" strike="noStrike">
                <a:solidFill>
                  <a:srgbClr val="000000"/>
                </a:solidFill>
                <a:latin typeface="Tw Cen MT"/>
              </a:rPr>
              <a:t> </a:t>
            </a:r>
            <a:r>
              <a:rPr b="0" lang="es-CL" sz="2600" spc="-1" strike="noStrike">
                <a:solidFill>
                  <a:srgbClr val="000000"/>
                </a:solidFill>
                <a:latin typeface="Tw Cen MT"/>
              </a:rPr>
              <a:t>Beneficios para todos los interesados</a:t>
            </a:r>
            <a:r>
              <a:rPr b="0" lang="es-CL" sz="2600" spc="-1" strike="noStrike">
                <a:solidFill>
                  <a:srgbClr val="000000"/>
                </a:solidFill>
                <a:latin typeface="Wingdings"/>
                <a:ea typeface="Wingdings"/>
              </a:rPr>
              <a:t></a:t>
            </a:r>
            <a:r>
              <a:rPr b="0" lang="es-CL" sz="2600" spc="-1" strike="noStrike">
                <a:solidFill>
                  <a:srgbClr val="000000"/>
                </a:solidFill>
                <a:latin typeface="Tw Cen MT"/>
              </a:rPr>
              <a:t> </a:t>
            </a:r>
            <a:r>
              <a:rPr b="1" lang="es-CL" sz="2600" spc="-1" strike="noStrike">
                <a:solidFill>
                  <a:srgbClr val="000000"/>
                </a:solidFill>
                <a:latin typeface="Tw Cen MT"/>
              </a:rPr>
              <a:t>Gobierno</a:t>
            </a:r>
            <a:r>
              <a:rPr b="0" lang="es-CL" sz="2600" spc="-1" strike="noStrike">
                <a:solidFill>
                  <a:srgbClr val="000000"/>
                </a:solidFill>
                <a:latin typeface="Tw Cen MT"/>
              </a:rPr>
              <a:t> cumple con su deber de proveer infraestructura con estándares de calidad para el desarrollo económico y social, sin necesidad de financiarla. </a:t>
            </a:r>
            <a:endParaRPr b="0" lang="en-US" sz="26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	</a:t>
            </a:r>
            <a:r>
              <a:rPr b="1" lang="es-CL" sz="2600" spc="-1" strike="noStrike">
                <a:solidFill>
                  <a:srgbClr val="000000"/>
                </a:solidFill>
                <a:latin typeface="Tw Cen MT"/>
              </a:rPr>
              <a:t>Concesionario</a:t>
            </a:r>
            <a:r>
              <a:rPr b="0" lang="es-CL" sz="2600" spc="-1" strike="noStrike">
                <a:solidFill>
                  <a:srgbClr val="000000"/>
                </a:solidFill>
                <a:latin typeface="Tw Cen MT"/>
              </a:rPr>
              <a:t> construye y opera la obra a su propio costo, recibiendo como contraprestación un precio o tarifa económicamente óptima fruto del proceso competitivo de adjudicación (Demsetz) que le permite obtener una rentabilidad normal (de mercado) por su inversión.</a:t>
            </a:r>
            <a:endParaRPr b="0" lang="en-US" sz="26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 </a:t>
            </a:r>
            <a:r>
              <a:rPr b="0" lang="es-CL" sz="2600" spc="-1" strike="noStrike">
                <a:solidFill>
                  <a:srgbClr val="000000"/>
                </a:solidFill>
                <a:latin typeface="Tw Cen MT"/>
              </a:rPr>
              <a:t>	</a:t>
            </a:r>
            <a:r>
              <a:rPr b="1" lang="es-CL" sz="2600" spc="-1" strike="noStrike">
                <a:solidFill>
                  <a:srgbClr val="000000"/>
                </a:solidFill>
                <a:latin typeface="Tw Cen MT"/>
              </a:rPr>
              <a:t>Usuarios</a:t>
            </a:r>
            <a:r>
              <a:rPr b="0" lang="es-CL" sz="2600" spc="-1" strike="noStrike">
                <a:solidFill>
                  <a:srgbClr val="000000"/>
                </a:solidFill>
                <a:latin typeface="Tw Cen MT"/>
              </a:rPr>
              <a:t> cuentan con la infraestructura adecuada para el desarrollo de actividades relevantes para su vida, a un precio justo.</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57120" y="1714680"/>
            <a:ext cx="8429760" cy="5000400"/>
          </a:xfrm>
          <a:prstGeom prst="rect">
            <a:avLst/>
          </a:prstGeom>
          <a:noFill/>
          <a:ln w="0">
            <a:noFill/>
          </a:ln>
        </p:spPr>
        <p:txBody>
          <a:bodyPr lIns="90000" rIns="90000" tIns="46800" bIns="46800" anchor="t">
            <a:normAutofit fontScale="92000"/>
          </a:bodyPr>
          <a:p>
            <a:pPr marL="293400" indent="-29340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w Cen MT"/>
              </a:rPr>
              <a:t>Incentivos para su apropiada conservación: Si la misma empresa que construye tiene asimismo el deber de mantener la obra, tiene mayores incentivos para invertir en calidad durante su construcción, a fin de hacer más eficiente su mantención y operación (v/s contratos de obra pública).</a:t>
            </a:r>
            <a:endParaRPr b="0" lang="en-US" sz="2700" spc="-1" strike="noStrike">
              <a:solidFill>
                <a:srgbClr val="000000"/>
              </a:solidFill>
              <a:latin typeface="Tw Cen MT"/>
            </a:endParaRPr>
          </a:p>
          <a:p>
            <a:pPr marL="293400" indent="-29340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w Cen MT"/>
            </a:endParaRPr>
          </a:p>
          <a:p>
            <a:pPr marL="293400" indent="-29340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w Cen MT"/>
              </a:rPr>
              <a:t> </a:t>
            </a:r>
            <a:r>
              <a:rPr b="0" lang="es-CL" sz="2700" spc="-1" strike="noStrike">
                <a:solidFill>
                  <a:srgbClr val="000000"/>
                </a:solidFill>
                <a:latin typeface="Tw Cen MT"/>
              </a:rPr>
              <a:t>Desde un punto de vista distributivo, parece aconsejable que sean los que se benefician de un determinado proyecto de infraestructura pública los que paguen por él, optimizándose la selección pública de proyectos de infraestructura: al introducir criterios de mercado (pues los ingresos de concesionaria están asociados a la demanda) y no exclusivamente vía planificación centralizada. Previene posibles decisiones caprichosas o populistas con escasa rentabilidad social (“elefantes blancos”).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12:00:19Z</dcterms:created>
  <dc:creator>Ricardo</dc:creator>
  <dc:description/>
  <dc:language>en-US</dc:language>
  <cp:lastModifiedBy>jgallegos</cp:lastModifiedBy>
  <dcterms:modified xsi:type="dcterms:W3CDTF">2010-10-25T22:40:57Z</dcterms:modified>
  <cp:revision>213</cp:revision>
  <dc:subject/>
  <dc:title>Ministerio de Obras Públicas</dc:title>
</cp:coreProperties>
</file>