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772-0A89-485B-A4DD-32D57360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2A3-33F0-4356-939D-F42EC5DA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A2B-FF8C-4CA5-806B-9242A658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FCD-2587-4391-BBEF-FC84D606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A441-B898-4CD8-B571-F23EE33F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1ACA-F326-43D2-9586-30A5F2E6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7DAB-AED9-4665-8D39-C56F7445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81E3-05D2-432E-A254-06BFA98D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68B6-AADE-4E62-A01C-4C18F536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CBCF-C332-4F24-99C1-08A9949C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3643-8AD1-41C5-A63B-4B19F584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F2C-0BE0-451F-A81B-812DF5BF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417C-BBF1-4B7B-8E4A-5CAD7559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3A30-C413-475D-A912-DA8EC790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B729-9211-4F1E-816D-A13389CD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77A3-5E84-4885-9FB8-C5DD9EDE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203C-65EE-4FD5-A3B5-4DCEB90E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D2FF-A641-4649-A11A-6F69BA15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B1F3F-5857-46B6-B769-9BDA9E75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4468-2E34-41C0-962D-28B81ACB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AB2D8-FC0D-4543-BC8C-9C5C9455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F2D8-2228-43F4-B5E0-1759B3C0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3B2-71A9-4407-83DB-01E9C0EA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C063D-6A31-4A98-B3F6-25043156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70DE9-3F10-47B1-90F5-93C5F8B4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D4BB-EC76-4BC3-9B5B-B990B18F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F2DA9-E5F8-4025-99FA-9D1B343C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60808-F9ED-49EA-A731-0A6B34F0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D212-A272-441A-A0AB-F20904E3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54754-A04A-45E8-9973-62687CC7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04951-706F-45E5-89F2-F07943B1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31E76-B959-4C8A-B266-0D4F9B93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B3238-B643-4C39-96DD-05E49F4C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0DD-B615-49EC-BF59-F2D0BCE0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13F19-7EFE-4DBA-9BFB-822CD843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BB481-C409-4762-8DBB-F0BA00BE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2019F-B43F-4760-BC3C-8B4F8F99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0F46A-9D9A-4DFF-9AC4-C44240F6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1C48C-326C-4540-A0EB-AD4C362A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387A0-5981-479C-AF3F-E2B40903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BCC93-6238-4DF7-87BF-B3540312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311AD-12C9-4FB3-B424-1CB20C1C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F6773-9993-49BA-8E42-06C618CA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0AF-9632-4BD5-9141-C37CB028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734-70E0-427E-BC98-0A454309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803-F33B-4591-98C3-0E76E397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75D-07A4-4710-B420-9CF2A73D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D81-1199-4825-AD22-290BAE25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EEA6-6B52-4683-9C2E-7086B9879B4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154F-CAA8-4997-A391-AE8089B8AE6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E497-33BF-4C1C-A1FD-44C848DC959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15D9-F8B5-4097-9ABD-A98C96ECBD1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Segundo Semestre 2010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Producto Interno Bruto (PIB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ducto Interno Bruto (PIB)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el valor de mercado de todos los bienes y servicios finales producidos en un país durante un período de tiempo determinad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práctica es la medida de los ingresos y gastos de una economía y constituye una herramienta que permite medir el bienestar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Desglose de la definición de PIB (1/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valor de mercado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unidad de comparación es la unidad mone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tod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rata de ser exhaustivo e incluir todos los bienes y servicios que están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en el mercado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e excluyen bienes y servicios producidos o prestados para consumo propio o de la familia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gualmente se excluyen bienes comercializados ilegalment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bienes y servici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ienes físicos e intangib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Desglose de la definición de PIB (2/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inale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oposición a los intermedio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id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se cuentan las existencias de arrast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 paí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ndependientemente de la nacionalidad del product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urante un período de tiempo determinado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eneralmente trimestral o anualm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Componentes del PIB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ecuación del PIB es la siguient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100" spc="-1" strike="noStrike">
                <a:solidFill>
                  <a:srgbClr val="000000"/>
                </a:solidFill>
                <a:latin typeface="Constantia"/>
              </a:rPr>
              <a:t>Y= C+I+G+NX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I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sumo privado.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 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nversión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asto del Gobier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X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xportaciones net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Consumo privado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de los hogares en bienes y servicios con la excepción de las compras de nuevas viviend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rsión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en equipos de capital, existencia y estructuras, incluidas las compras de viviendas nuevas por parte de los hogar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Gasto del Gobierno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de la administración central y de las administraciones regionales y locales en bienes y servici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xportaciones net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on las compras hechas en el extranjero de bienes o servicios producidos en Chile (exportaciones) menos las compras hechas en Chile de bienes o servicios producidos en el extranjero (Importacione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PIB Nominal 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v/s </a:t>
            </a: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PIB Re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umento del PIB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uede deberse 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o del producto (mas bienes y servicios transado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o del precio del produc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IB Nominal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la producción de bienes y servicios valorada a </a:t>
            </a:r>
            <a:r>
              <a:rPr b="0" i="1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recios vigentes o corrien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IB Real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la producción de bienes y servicios valorada a </a:t>
            </a:r>
            <a:r>
              <a:rPr b="0" i="1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recios constan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Precios y Cantidades Producid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935000"/>
          <a:ext cx="8229600" cy="1482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cio bie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Q del bie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cio bie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Q del bie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Cálculo del PIB Nomin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935000"/>
          <a:ext cx="8229600" cy="1482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A x Q d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335" name="Rectangle 6"/>
          <p:cNvSpPr/>
          <p:nvPr/>
        </p:nvSpPr>
        <p:spPr>
          <a:xfrm>
            <a:off x="838080" y="3733920"/>
            <a:ext cx="701064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hora que tenemos el PIB Nomina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o determinamos el PIB Real a partir de estos dat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nemos que determinar un año base (de referencia) para saber  cuales serán nuestros “</a:t>
            </a: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precios constant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Cálculo del PIB Real (año base 2001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935000"/>
          <a:ext cx="8229600" cy="1752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A (2001) x Q d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 (2001)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deflactor del PIB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deflactor del PIB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 indicador del precios que se calcula dividiendo el PIB nominal por el PIB real y multiplicando el resultado por 10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ide el nivel actual de precios en relación con el nivel de precios del año b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3520" y="4267080"/>
          <a:ext cx="7924680" cy="19051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 u="sng">
                          <a:solidFill>
                            <a:srgbClr val="ffffff"/>
                          </a:solidFill>
                          <a:uFillTx/>
                          <a:latin typeface="Constantia"/>
                        </a:rPr>
                        <a:t>PIB Nominal</a:t>
                      </a: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 Re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 (2001)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200/20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600/35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1200/50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4617b"/>
                </a:solidFill>
                <a:latin typeface="Calibri"/>
              </a:rPr>
              <a:t>Microeconomía vs. Macroeconomí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icroeconom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el estudio de la forma en que los hogares y las empresas toman sus decisiones e interactúan en mercados específic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acroeconom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el estudio de los fenómenos que afectan al conjunto de la economía, tales como la inflación, el desempleo y el crecimiento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PIB y el bienestar económic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es el mejor indicador del bienestar económico de un paí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dividido por el número de habitantes nos da el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IB per cápi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nos permite conocer, por tanto, el ingreso y gasto del hombre medio de una socie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IB per cápita mas alto, significa un estándar de vida mas al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Cosas que no mide el PIB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bienestar derivado del oc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tividades que se realizan fuera de los mercados form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ividades ileg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ividades en el hog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ras de car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lidad del medio ambi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quidad en la distribución de las ren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Resume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gasto total de la sociedad debe ser igual a su ren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de la sociedad se divide en cuatro componentes esenciales: Consumo, Inversión, Gasto y Exportaciones Ne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nominal es distinto del PIB re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es un buen indicador del bienestar económico pero no es perfe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Objetivos Macroeconómic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recimiento económico sosteni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dad en el nivel de preci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to nivel de empleabi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Preguntas que intenta responder la macroeconomí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hay países en que el ingreso per cápita es mayor que en otr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hay períodos en que los precios se incrementan rápidamente y otros en que los precios se mantienen estab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la producción y el empleo se expanden algunos años y se contraen otr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Instrumentos de la política económic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olítica fis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ablecimiento de tribu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asto públic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olítica moneta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asa mone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asas de interé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Formas de intervención del Estado en la Economí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ie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Product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mpresas d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veye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Proveed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icitaciones, Concesiones, </a:t>
            </a: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Outsourcing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gula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Regulad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mpuestos, subsidios, cuotas de producción, fijación de precios, reglamentos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Objetivos del Estad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Eficiencia productiv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Equidad en la distribución de los recurs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es del Estad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Asigna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Cuando hay fallas de mercado y, por lo mismo, el mercado no es capaz de lograr una asignación eficiente de recurs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Distribu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Esencialmente resolver el problema de la pobrez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Estabiliza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La renta y el gasto de la economí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saber como le va a una economía determinada uno mi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la renta total que ganan todos los miembros de la mis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hora bien, en una economía en su conjunto,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la renta debe ser igual al gas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or las siguientes razon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da operación tiene dos partes interes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da peso que gana un vendedor es un peso que gasta un comprad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E:\Mankiw\Mankiw PPT\narrow aqua button bckgrd.jpg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3" descr=""/>
          <p:cNvPicPr/>
          <p:nvPr/>
        </p:nvPicPr>
        <p:blipFill>
          <a:blip r:embed="rId2"/>
          <a:stretch/>
        </p:blipFill>
        <p:spPr>
          <a:xfrm>
            <a:off x="603360" y="42840"/>
            <a:ext cx="8242200" cy="700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3f6f9"/>
          </a:solidFill>
          <a:ln w="14760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2f4f8"/>
          </a:solidFill>
          <a:ln w="13500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1f4f7"/>
          </a:solidFill>
          <a:ln w="12060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0f2f5"/>
          </a:solidFill>
          <a:ln w="10800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ef1f4"/>
          </a:solidFill>
          <a:ln w="9360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deff3"/>
          </a:solidFill>
          <a:ln w="8100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beef2"/>
          </a:solidFill>
          <a:ln w="6660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aecf1"/>
          </a:solidFill>
          <a:ln w="5400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9ebf0"/>
          </a:solidFill>
          <a:ln w="396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7eaef"/>
          </a:solidFill>
          <a:ln w="2700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6e9ef"/>
          </a:solidFill>
          <a:ln w="1260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1676520" y="1219320"/>
            <a:ext cx="5803920" cy="52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2460600" y="1847880"/>
            <a:ext cx="1195560" cy="1224000"/>
            <a:chOff x="2460600" y="1847880"/>
            <a:chExt cx="1195560" cy="1224000"/>
          </a:xfrm>
        </p:grpSpPr>
        <p:sp>
          <p:nvSpPr>
            <p:cNvPr id="226" name="Freeform 18"/>
            <p:cNvSpPr/>
            <p:nvPr/>
          </p:nvSpPr>
          <p:spPr>
            <a:xfrm>
              <a:off x="2527200" y="1847880"/>
              <a:ext cx="1128960" cy="1062000"/>
            </a:xfrm>
            <a:custGeom>
              <a:avLst/>
              <a:gdLst>
                <a:gd name="textAreaLeft" fmla="*/ 0 w 1128960"/>
                <a:gd name="textAreaRight" fmla="*/ 1129320 w 1128960"/>
                <a:gd name="textAreaTop" fmla="*/ 0 h 1062000"/>
                <a:gd name="textAreaBottom" fmla="*/ 1062360 h 1062000"/>
              </a:gdLst>
              <a:ahLst/>
              <a:rect l="textAreaLeft" t="textAreaTop" r="textAreaRight" b="textAreaBottom"/>
              <a:pathLst>
                <a:path w="711" h="669">
                  <a:moveTo>
                    <a:pt x="711" y="0"/>
                  </a:moveTo>
                  <a:lnTo>
                    <a:pt x="0" y="0"/>
                  </a:lnTo>
                  <a:lnTo>
                    <a:pt x="0" y="669"/>
                  </a:lnTo>
                </a:path>
              </a:pathLst>
            </a:cu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>
              <a:off x="2460600" y="2855880"/>
              <a:ext cx="135000" cy="216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0" h="16">
                  <a:moveTo>
                    <a:pt x="5" y="3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11"/>
                    <a:pt x="6" y="13"/>
                    <a:pt x="5" y="16"/>
                  </a:cubicBezTo>
                  <a:cubicBezTo>
                    <a:pt x="5" y="13"/>
                    <a:pt x="4" y="11"/>
                    <a:pt x="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0"/>
          <p:cNvGrpSpPr/>
          <p:nvPr/>
        </p:nvGrpSpPr>
        <p:grpSpPr>
          <a:xfrm>
            <a:off x="2743200" y="1995480"/>
            <a:ext cx="925560" cy="1076400"/>
            <a:chOff x="2743200" y="1995480"/>
            <a:chExt cx="925560" cy="1076400"/>
          </a:xfrm>
        </p:grpSpPr>
        <p:sp>
          <p:nvSpPr>
            <p:cNvPr id="229" name="Freeform 21"/>
            <p:cNvSpPr/>
            <p:nvPr/>
          </p:nvSpPr>
          <p:spPr>
            <a:xfrm>
              <a:off x="2743200" y="2062080"/>
              <a:ext cx="765000" cy="100980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1009800"/>
                <a:gd name="textAreaBottom" fmla="*/ 1009800 h 1009800"/>
              </a:gdLst>
              <a:ahLst/>
              <a:rect l="textAreaLeft" t="textAreaTop" r="textAreaRight" b="textAreaBottom"/>
              <a:pathLst>
                <a:path w="482" h="636">
                  <a:moveTo>
                    <a:pt x="482" y="0"/>
                  </a:moveTo>
                  <a:lnTo>
                    <a:pt x="0" y="0"/>
                  </a:lnTo>
                  <a:lnTo>
                    <a:pt x="0" y="636"/>
                  </a:lnTo>
                </a:path>
              </a:pathLst>
            </a:cu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3454560" y="1995480"/>
              <a:ext cx="214200" cy="1350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6" h="10">
                  <a:moveTo>
                    <a:pt x="3" y="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0" y="3"/>
                    <a:pt x="13" y="4"/>
                    <a:pt x="16" y="5"/>
                  </a:cubicBezTo>
                  <a:cubicBezTo>
                    <a:pt x="13" y="5"/>
                    <a:pt x="10" y="6"/>
                    <a:pt x="8" y="6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3"/>
          <p:cNvGrpSpPr/>
          <p:nvPr/>
        </p:nvGrpSpPr>
        <p:grpSpPr>
          <a:xfrm>
            <a:off x="2527200" y="4106880"/>
            <a:ext cx="1128960" cy="1303200"/>
            <a:chOff x="2527200" y="4106880"/>
            <a:chExt cx="1128960" cy="1303200"/>
          </a:xfrm>
        </p:grpSpPr>
        <p:sp>
          <p:nvSpPr>
            <p:cNvPr id="232" name="Freeform 24"/>
            <p:cNvSpPr/>
            <p:nvPr/>
          </p:nvSpPr>
          <p:spPr>
            <a:xfrm>
              <a:off x="2527200" y="4106880"/>
              <a:ext cx="981000" cy="123660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618" h="779">
                  <a:moveTo>
                    <a:pt x="618" y="779"/>
                  </a:moveTo>
                  <a:lnTo>
                    <a:pt x="0" y="77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3441600" y="5276880"/>
              <a:ext cx="214560" cy="13320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6" h="10">
                  <a:moveTo>
                    <a:pt x="3" y="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1" y="4"/>
                    <a:pt x="13" y="4"/>
                    <a:pt x="16" y="5"/>
                  </a:cubicBezTo>
                  <a:cubicBezTo>
                    <a:pt x="13" y="6"/>
                    <a:pt x="11" y="6"/>
                    <a:pt x="8" y="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2674800" y="4133880"/>
            <a:ext cx="981360" cy="995400"/>
            <a:chOff x="2674800" y="4133880"/>
            <a:chExt cx="981360" cy="995400"/>
          </a:xfrm>
        </p:grpSpPr>
        <p:sp>
          <p:nvSpPr>
            <p:cNvPr id="235" name="Freeform 27"/>
            <p:cNvSpPr/>
            <p:nvPr/>
          </p:nvSpPr>
          <p:spPr>
            <a:xfrm>
              <a:off x="2743200" y="4281480"/>
              <a:ext cx="912960" cy="847800"/>
            </a:xfrm>
            <a:custGeom>
              <a:avLst/>
              <a:gdLst>
                <a:gd name="textAreaLeft" fmla="*/ 0 w 912960"/>
                <a:gd name="textAreaRight" fmla="*/ 913320 w 91296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575" h="534">
                  <a:moveTo>
                    <a:pt x="575" y="534"/>
                  </a:moveTo>
                  <a:lnTo>
                    <a:pt x="0" y="53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2674800" y="4133880"/>
              <a:ext cx="135000" cy="2142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0" h="16">
                  <a:moveTo>
                    <a:pt x="5" y="13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5"/>
                    <a:pt x="5" y="2"/>
                    <a:pt x="5" y="0"/>
                  </a:cubicBezTo>
                  <a:cubicBezTo>
                    <a:pt x="6" y="2"/>
                    <a:pt x="6" y="5"/>
                    <a:pt x="7" y="8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10" y="16"/>
                    <a:pt x="10" y="16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29"/>
          <p:cNvGrpSpPr/>
          <p:nvPr/>
        </p:nvGrpSpPr>
        <p:grpSpPr>
          <a:xfrm>
            <a:off x="5468760" y="1781280"/>
            <a:ext cx="1008360" cy="1290600"/>
            <a:chOff x="5468760" y="1781280"/>
            <a:chExt cx="1008360" cy="1290600"/>
          </a:xfrm>
        </p:grpSpPr>
        <p:sp>
          <p:nvSpPr>
            <p:cNvPr id="238" name="Freeform 30"/>
            <p:cNvSpPr/>
            <p:nvPr/>
          </p:nvSpPr>
          <p:spPr>
            <a:xfrm>
              <a:off x="5630760" y="1847880"/>
              <a:ext cx="846360" cy="122400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533" h="771">
                  <a:moveTo>
                    <a:pt x="0" y="0"/>
                  </a:moveTo>
                  <a:lnTo>
                    <a:pt x="533" y="0"/>
                  </a:lnTo>
                  <a:lnTo>
                    <a:pt x="533" y="771"/>
                  </a:lnTo>
                </a:path>
              </a:pathLst>
            </a:cu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5468760" y="1781280"/>
              <a:ext cx="216000" cy="1332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6" h="10">
                  <a:moveTo>
                    <a:pt x="13" y="5"/>
                  </a:move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5" y="6"/>
                    <a:pt x="3" y="5"/>
                    <a:pt x="0" y="5"/>
                  </a:cubicBezTo>
                  <a:cubicBezTo>
                    <a:pt x="3" y="4"/>
                    <a:pt x="5" y="3"/>
                    <a:pt x="8" y="3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3" y="5"/>
                  </a:lnTo>
                  <a:close/>
                </a:path>
              </a:pathLst>
            </a:cu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5456160" y="2062080"/>
            <a:ext cx="858960" cy="1009800"/>
            <a:chOff x="5456160" y="2062080"/>
            <a:chExt cx="858960" cy="1009800"/>
          </a:xfrm>
        </p:grpSpPr>
        <p:sp>
          <p:nvSpPr>
            <p:cNvPr id="241" name="Freeform 33"/>
            <p:cNvSpPr/>
            <p:nvPr/>
          </p:nvSpPr>
          <p:spPr>
            <a:xfrm>
              <a:off x="5456160" y="2062080"/>
              <a:ext cx="804960" cy="84780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507" h="534">
                  <a:moveTo>
                    <a:pt x="0" y="0"/>
                  </a:moveTo>
                  <a:lnTo>
                    <a:pt x="507" y="0"/>
                  </a:lnTo>
                  <a:lnTo>
                    <a:pt x="507" y="534"/>
                  </a:lnTo>
                </a:path>
              </a:pathLst>
            </a:cu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6194520" y="2855880"/>
              <a:ext cx="120600" cy="2160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" h="16">
                  <a:moveTo>
                    <a:pt x="5" y="3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11"/>
                    <a:pt x="5" y="14"/>
                    <a:pt x="5" y="16"/>
                  </a:cubicBezTo>
                  <a:cubicBezTo>
                    <a:pt x="4" y="14"/>
                    <a:pt x="3" y="11"/>
                    <a:pt x="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35"/>
          <p:cNvGrpSpPr/>
          <p:nvPr/>
        </p:nvGrpSpPr>
        <p:grpSpPr>
          <a:xfrm>
            <a:off x="5468760" y="4119480"/>
            <a:ext cx="1062360" cy="1224000"/>
            <a:chOff x="5468760" y="4119480"/>
            <a:chExt cx="1062360" cy="1224000"/>
          </a:xfrm>
        </p:grpSpPr>
        <p:sp>
          <p:nvSpPr>
            <p:cNvPr id="244" name="Freeform 36"/>
            <p:cNvSpPr/>
            <p:nvPr/>
          </p:nvSpPr>
          <p:spPr>
            <a:xfrm>
              <a:off x="5468760" y="4281480"/>
              <a:ext cx="1008360" cy="1062000"/>
            </a:xfrm>
            <a:custGeom>
              <a:avLst/>
              <a:gdLst>
                <a:gd name="textAreaLeft" fmla="*/ 0 w 1008360"/>
                <a:gd name="textAreaRight" fmla="*/ 1008720 w 1008360"/>
                <a:gd name="textAreaTop" fmla="*/ 0 h 1062000"/>
                <a:gd name="textAreaBottom" fmla="*/ 1062360 h 1062000"/>
              </a:gdLst>
              <a:ahLst/>
              <a:rect l="textAreaLeft" t="textAreaTop" r="textAreaRight" b="textAreaBottom"/>
              <a:pathLst>
                <a:path w="635" h="669">
                  <a:moveTo>
                    <a:pt x="0" y="669"/>
                  </a:moveTo>
                  <a:lnTo>
                    <a:pt x="635" y="669"/>
                  </a:lnTo>
                  <a:lnTo>
                    <a:pt x="635" y="0"/>
                  </a:lnTo>
                </a:path>
              </a:pathLst>
            </a:cu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6408720" y="4119480"/>
              <a:ext cx="122400" cy="2160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" h="16">
                  <a:moveTo>
                    <a:pt x="5" y="14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6"/>
                    <a:pt x="4" y="3"/>
                    <a:pt x="5" y="0"/>
                  </a:cubicBezTo>
                  <a:cubicBezTo>
                    <a:pt x="5" y="3"/>
                    <a:pt x="6" y="6"/>
                    <a:pt x="6" y="8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lnTo>
                    <a:pt x="5" y="14"/>
                  </a:lnTo>
                  <a:close/>
                </a:path>
              </a:pathLst>
            </a:cu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5468760" y="4119480"/>
            <a:ext cx="792360" cy="1076400"/>
            <a:chOff x="5468760" y="4119480"/>
            <a:chExt cx="792360" cy="1076400"/>
          </a:xfrm>
        </p:grpSpPr>
        <p:sp>
          <p:nvSpPr>
            <p:cNvPr id="247" name="Freeform 39"/>
            <p:cNvSpPr/>
            <p:nvPr/>
          </p:nvSpPr>
          <p:spPr>
            <a:xfrm>
              <a:off x="5630760" y="4119480"/>
              <a:ext cx="630360" cy="1009800"/>
            </a:xfrm>
            <a:custGeom>
              <a:avLst/>
              <a:gdLst/>
              <a:ahLst/>
              <a:rect l="l" t="t" r="r" b="b"/>
              <a:pathLst>
                <a:path w="397" h="636">
                  <a:moveTo>
                    <a:pt x="0" y="636"/>
                  </a:moveTo>
                  <a:lnTo>
                    <a:pt x="397" y="636"/>
                  </a:lnTo>
                  <a:lnTo>
                    <a:pt x="397" y="0"/>
                  </a:lnTo>
                </a:path>
              </a:pathLst>
            </a:cu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0"/>
            <p:cNvSpPr/>
            <p:nvPr/>
          </p:nvSpPr>
          <p:spPr>
            <a:xfrm>
              <a:off x="5468760" y="5060880"/>
              <a:ext cx="216000" cy="1350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6" h="10">
                  <a:moveTo>
                    <a:pt x="13" y="5"/>
                  </a:move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6" y="6"/>
                    <a:pt x="3" y="6"/>
                    <a:pt x="0" y="5"/>
                  </a:cubicBezTo>
                  <a:cubicBezTo>
                    <a:pt x="3" y="4"/>
                    <a:pt x="6" y="4"/>
                    <a:pt x="8" y="3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3" y="5"/>
                  </a:lnTo>
                  <a:close/>
                </a:path>
              </a:pathLst>
            </a:cu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Line 41"/>
          <p:cNvSpPr/>
          <p:nvPr/>
        </p:nvSpPr>
        <p:spPr>
          <a:xfrm>
            <a:off x="5603760" y="5719680"/>
            <a:ext cx="268560" cy="1800"/>
          </a:xfrm>
          <a:prstGeom prst="line">
            <a:avLst/>
          </a:prstGeom>
          <a:ln w="12600">
            <a:solidFill>
              <a:srgbClr val="e17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42"/>
          <p:cNvSpPr/>
          <p:nvPr/>
        </p:nvSpPr>
        <p:spPr>
          <a:xfrm>
            <a:off x="5818320" y="5653080"/>
            <a:ext cx="215640" cy="135000"/>
          </a:xfrm>
          <a:custGeom>
            <a:avLst/>
            <a:gdLst>
              <a:gd name="textAreaLeft" fmla="*/ 0 w 215640"/>
              <a:gd name="textAreaRight" fmla="*/ 216000 w 2156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6" h="10">
                <a:moveTo>
                  <a:pt x="3" y="5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8" y="3"/>
                  <a:pt x="8" y="3"/>
                  <a:pt x="8" y="3"/>
                </a:cubicBezTo>
                <a:cubicBezTo>
                  <a:pt x="10" y="4"/>
                  <a:pt x="13" y="4"/>
                  <a:pt x="16" y="5"/>
                </a:cubicBezTo>
                <a:cubicBezTo>
                  <a:pt x="13" y="6"/>
                  <a:pt x="10" y="6"/>
                  <a:pt x="8" y="7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lnTo>
                  <a:pt x="3" y="5"/>
                </a:lnTo>
                <a:close/>
              </a:path>
            </a:pathLst>
          </a:custGeom>
          <a:solidFill>
            <a:srgbClr val="e17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3"/>
          <p:cNvSpPr/>
          <p:nvPr/>
        </p:nvSpPr>
        <p:spPr>
          <a:xfrm>
            <a:off x="5603760" y="6110280"/>
            <a:ext cx="268560" cy="1440"/>
          </a:xfrm>
          <a:prstGeom prst="line">
            <a:avLst/>
          </a:prstGeom>
          <a:ln w="12600">
            <a:solidFill>
              <a:srgbClr val="75bc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44"/>
          <p:cNvSpPr/>
          <p:nvPr/>
        </p:nvSpPr>
        <p:spPr>
          <a:xfrm>
            <a:off x="5818320" y="6041880"/>
            <a:ext cx="215640" cy="135000"/>
          </a:xfrm>
          <a:custGeom>
            <a:avLst/>
            <a:gdLst>
              <a:gd name="textAreaLeft" fmla="*/ 0 w 215640"/>
              <a:gd name="textAreaRight" fmla="*/ 216000 w 2156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6" h="10">
                <a:moveTo>
                  <a:pt x="3" y="5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8" y="3"/>
                  <a:pt x="8" y="3"/>
                  <a:pt x="8" y="3"/>
                </a:cubicBezTo>
                <a:cubicBezTo>
                  <a:pt x="10" y="4"/>
                  <a:pt x="13" y="5"/>
                  <a:pt x="16" y="5"/>
                </a:cubicBezTo>
                <a:cubicBezTo>
                  <a:pt x="13" y="6"/>
                  <a:pt x="10" y="6"/>
                  <a:pt x="8" y="7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lnTo>
                  <a:pt x="3" y="5"/>
                </a:lnTo>
                <a:close/>
              </a:path>
            </a:pathLst>
          </a:custGeom>
          <a:solidFill>
            <a:srgbClr val="75b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5"/>
          <p:cNvSpPr/>
          <p:nvPr/>
        </p:nvSpPr>
        <p:spPr>
          <a:xfrm>
            <a:off x="5642640" y="1600200"/>
            <a:ext cx="73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Gasto (=PI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6"/>
          <p:cNvGrpSpPr/>
          <p:nvPr/>
        </p:nvGrpSpPr>
        <p:grpSpPr>
          <a:xfrm>
            <a:off x="5538960" y="2062080"/>
            <a:ext cx="583920" cy="478080"/>
            <a:chOff x="5538960" y="2062080"/>
            <a:chExt cx="583920" cy="478080"/>
          </a:xfrm>
        </p:grpSpPr>
        <p:sp>
          <p:nvSpPr>
            <p:cNvPr id="255" name="Rectangle 47"/>
            <p:cNvSpPr/>
            <p:nvPr/>
          </p:nvSpPr>
          <p:spPr>
            <a:xfrm>
              <a:off x="5538960" y="206208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8"/>
            <p:cNvSpPr/>
            <p:nvPr/>
          </p:nvSpPr>
          <p:spPr>
            <a:xfrm>
              <a:off x="5538960" y="2224080"/>
              <a:ext cx="49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9"/>
            <p:cNvSpPr/>
            <p:nvPr/>
          </p:nvSpPr>
          <p:spPr>
            <a:xfrm>
              <a:off x="5540040" y="2387520"/>
              <a:ext cx="58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adquir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Rectangle 50"/>
          <p:cNvSpPr/>
          <p:nvPr/>
        </p:nvSpPr>
        <p:spPr>
          <a:xfrm>
            <a:off x="2823480" y="1600200"/>
            <a:ext cx="81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greso (=PI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51"/>
          <p:cNvGrpSpPr/>
          <p:nvPr/>
        </p:nvGrpSpPr>
        <p:grpSpPr>
          <a:xfrm>
            <a:off x="2999880" y="2070000"/>
            <a:ext cx="594720" cy="478080"/>
            <a:chOff x="2999880" y="2070000"/>
            <a:chExt cx="594720" cy="478080"/>
          </a:xfrm>
        </p:grpSpPr>
        <p:sp>
          <p:nvSpPr>
            <p:cNvPr id="260" name="Rectangle 52"/>
            <p:cNvSpPr/>
            <p:nvPr/>
          </p:nvSpPr>
          <p:spPr>
            <a:xfrm>
              <a:off x="2999880" y="20700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53"/>
            <p:cNvSpPr/>
            <p:nvPr/>
          </p:nvSpPr>
          <p:spPr>
            <a:xfrm>
              <a:off x="3000960" y="2232000"/>
              <a:ext cx="59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4"/>
            <p:cNvSpPr/>
            <p:nvPr/>
          </p:nvSpPr>
          <p:spPr>
            <a:xfrm>
              <a:off x="3000240" y="239544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d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55"/>
          <p:cNvGrpSpPr/>
          <p:nvPr/>
        </p:nvGrpSpPr>
        <p:grpSpPr>
          <a:xfrm>
            <a:off x="5338080" y="4648320"/>
            <a:ext cx="821880" cy="316080"/>
            <a:chOff x="5338080" y="4648320"/>
            <a:chExt cx="821880" cy="316080"/>
          </a:xfrm>
        </p:grpSpPr>
        <p:sp>
          <p:nvSpPr>
            <p:cNvPr id="264" name="Rectangle 56"/>
            <p:cNvSpPr/>
            <p:nvPr/>
          </p:nvSpPr>
          <p:spPr>
            <a:xfrm>
              <a:off x="5338080" y="4648320"/>
              <a:ext cx="821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rabajo, tierr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7"/>
            <p:cNvSpPr/>
            <p:nvPr/>
          </p:nvSpPr>
          <p:spPr>
            <a:xfrm>
              <a:off x="5364360" y="4811760"/>
              <a:ext cx="49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capit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58"/>
          <p:cNvSpPr/>
          <p:nvPr/>
        </p:nvSpPr>
        <p:spPr>
          <a:xfrm>
            <a:off x="5626800" y="5356080"/>
            <a:ext cx="81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greso (=PI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9"/>
          <p:cNvSpPr/>
          <p:nvPr/>
        </p:nvSpPr>
        <p:spPr>
          <a:xfrm>
            <a:off x="6128280" y="5621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0"/>
          <p:cNvSpPr/>
          <p:nvPr/>
        </p:nvSpPr>
        <p:spPr>
          <a:xfrm>
            <a:off x="6163920" y="5653080"/>
            <a:ext cx="100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 fact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1"/>
          <p:cNvSpPr/>
          <p:nvPr/>
        </p:nvSpPr>
        <p:spPr>
          <a:xfrm>
            <a:off x="6023520" y="57848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2"/>
          <p:cNvSpPr/>
          <p:nvPr/>
        </p:nvSpPr>
        <p:spPr>
          <a:xfrm>
            <a:off x="6271920" y="581652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y produ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3"/>
          <p:cNvSpPr/>
          <p:nvPr/>
        </p:nvSpPr>
        <p:spPr>
          <a:xfrm>
            <a:off x="6128280" y="5979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4"/>
          <p:cNvSpPr/>
          <p:nvPr/>
        </p:nvSpPr>
        <p:spPr>
          <a:xfrm>
            <a:off x="6165000" y="6012000"/>
            <a:ext cx="90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 din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5"/>
          <p:cNvGrpSpPr/>
          <p:nvPr/>
        </p:nvGrpSpPr>
        <p:grpSpPr>
          <a:xfrm>
            <a:off x="2897640" y="4648320"/>
            <a:ext cx="685080" cy="314280"/>
            <a:chOff x="2897640" y="4648320"/>
            <a:chExt cx="685080" cy="314280"/>
          </a:xfrm>
        </p:grpSpPr>
        <p:sp>
          <p:nvSpPr>
            <p:cNvPr id="274" name="Rectangle 66"/>
            <p:cNvSpPr/>
            <p:nvPr/>
          </p:nvSpPr>
          <p:spPr>
            <a:xfrm>
              <a:off x="2913120" y="464832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7"/>
            <p:cNvSpPr/>
            <p:nvPr/>
          </p:nvSpPr>
          <p:spPr>
            <a:xfrm>
              <a:off x="2897640" y="480996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8"/>
          <p:cNvGrpSpPr/>
          <p:nvPr/>
        </p:nvGrpSpPr>
        <p:grpSpPr>
          <a:xfrm>
            <a:off x="2625120" y="5356080"/>
            <a:ext cx="1101960" cy="314640"/>
            <a:chOff x="2625120" y="5356080"/>
            <a:chExt cx="1101960" cy="314640"/>
          </a:xfrm>
        </p:grpSpPr>
        <p:sp>
          <p:nvSpPr>
            <p:cNvPr id="277" name="Rectangle 69"/>
            <p:cNvSpPr/>
            <p:nvPr/>
          </p:nvSpPr>
          <p:spPr>
            <a:xfrm>
              <a:off x="2626200" y="5356080"/>
              <a:ext cx="110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alarios, alquilere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70"/>
            <p:cNvSpPr/>
            <p:nvPr/>
          </p:nvSpPr>
          <p:spPr>
            <a:xfrm>
              <a:off x="2625120" y="5518080"/>
              <a:ext cx="106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beneficios (=PIB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71"/>
          <p:cNvSpPr/>
          <p:nvPr/>
        </p:nvSpPr>
        <p:spPr>
          <a:xfrm>
            <a:off x="2243520" y="3535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2"/>
          <p:cNvSpPr/>
          <p:nvPr/>
        </p:nvSpPr>
        <p:spPr>
          <a:xfrm>
            <a:off x="2199240" y="3697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3"/>
          <p:cNvSpPr/>
          <p:nvPr/>
        </p:nvSpPr>
        <p:spPr>
          <a:xfrm>
            <a:off x="2243520" y="3860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4"/>
          <p:cNvSpPr/>
          <p:nvPr/>
        </p:nvSpPr>
        <p:spPr>
          <a:xfrm>
            <a:off x="2199240" y="4022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75"/>
          <p:cNvGrpSpPr/>
          <p:nvPr/>
        </p:nvGrpSpPr>
        <p:grpSpPr>
          <a:xfrm>
            <a:off x="1816200" y="3071880"/>
            <a:ext cx="1652400" cy="1035000"/>
            <a:chOff x="1816200" y="3071880"/>
            <a:chExt cx="1652400" cy="1035000"/>
          </a:xfrm>
        </p:grpSpPr>
        <p:sp>
          <p:nvSpPr>
            <p:cNvPr id="284" name="Rectangle 76"/>
            <p:cNvSpPr/>
            <p:nvPr/>
          </p:nvSpPr>
          <p:spPr>
            <a:xfrm>
              <a:off x="1816200" y="3071880"/>
              <a:ext cx="1652400" cy="1035000"/>
            </a:xfrm>
            <a:prstGeom prst="rect">
              <a:avLst/>
            </a:prstGeom>
            <a:solidFill>
              <a:srgbClr val="b4d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77"/>
            <p:cNvSpPr/>
            <p:nvPr/>
          </p:nvSpPr>
          <p:spPr>
            <a:xfrm>
              <a:off x="2288520" y="312408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mpre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78"/>
            <p:cNvSpPr/>
            <p:nvPr/>
          </p:nvSpPr>
          <p:spPr>
            <a:xfrm>
              <a:off x="2067120" y="3286080"/>
              <a:ext cx="113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roducen y v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79"/>
            <p:cNvSpPr/>
            <p:nvPr/>
          </p:nvSpPr>
          <p:spPr>
            <a:xfrm>
              <a:off x="2107440" y="3429000"/>
              <a:ext cx="101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80"/>
            <p:cNvSpPr/>
            <p:nvPr/>
          </p:nvSpPr>
          <p:spPr>
            <a:xfrm>
              <a:off x="2060640" y="3581280"/>
              <a:ext cx="10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ntratan y us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81"/>
            <p:cNvSpPr/>
            <p:nvPr/>
          </p:nvSpPr>
          <p:spPr>
            <a:xfrm>
              <a:off x="2115360" y="3733920"/>
              <a:ext cx="132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 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82"/>
          <p:cNvSpPr/>
          <p:nvPr/>
        </p:nvSpPr>
        <p:spPr>
          <a:xfrm>
            <a:off x="5628240" y="3535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3"/>
          <p:cNvSpPr/>
          <p:nvPr/>
        </p:nvSpPr>
        <p:spPr>
          <a:xfrm>
            <a:off x="5583600" y="3697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4"/>
          <p:cNvSpPr/>
          <p:nvPr/>
        </p:nvSpPr>
        <p:spPr>
          <a:xfrm>
            <a:off x="5628240" y="3860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5"/>
          <p:cNvSpPr/>
          <p:nvPr/>
        </p:nvSpPr>
        <p:spPr>
          <a:xfrm>
            <a:off x="5583600" y="4022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86"/>
          <p:cNvGrpSpPr/>
          <p:nvPr/>
        </p:nvGrpSpPr>
        <p:grpSpPr>
          <a:xfrm>
            <a:off x="5537160" y="3071880"/>
            <a:ext cx="1650960" cy="1035000"/>
            <a:chOff x="5537160" y="3071880"/>
            <a:chExt cx="1650960" cy="1035000"/>
          </a:xfrm>
        </p:grpSpPr>
        <p:sp>
          <p:nvSpPr>
            <p:cNvPr id="295" name="Rectangle 87"/>
            <p:cNvSpPr/>
            <p:nvPr/>
          </p:nvSpPr>
          <p:spPr>
            <a:xfrm>
              <a:off x="5537160" y="3071880"/>
              <a:ext cx="1650960" cy="1035000"/>
            </a:xfrm>
            <a:prstGeom prst="rect">
              <a:avLst/>
            </a:prstGeom>
            <a:solidFill>
              <a:srgbClr val="b4d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88"/>
            <p:cNvSpPr/>
            <p:nvPr/>
          </p:nvSpPr>
          <p:spPr>
            <a:xfrm>
              <a:off x="5720760" y="3276720"/>
              <a:ext cx="131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mpran y consum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89"/>
            <p:cNvSpPr/>
            <p:nvPr/>
          </p:nvSpPr>
          <p:spPr>
            <a:xfrm>
              <a:off x="5795280" y="3429000"/>
              <a:ext cx="101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90"/>
            <p:cNvSpPr/>
            <p:nvPr/>
          </p:nvSpPr>
          <p:spPr>
            <a:xfrm>
              <a:off x="5718240" y="3581280"/>
              <a:ext cx="101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ienen y v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1"/>
            <p:cNvSpPr/>
            <p:nvPr/>
          </p:nvSpPr>
          <p:spPr>
            <a:xfrm>
              <a:off x="5719680" y="3733920"/>
              <a:ext cx="139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 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92"/>
            <p:cNvSpPr/>
            <p:nvPr/>
          </p:nvSpPr>
          <p:spPr>
            <a:xfrm>
              <a:off x="6097320" y="312408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amil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93"/>
          <p:cNvSpPr/>
          <p:nvPr/>
        </p:nvSpPr>
        <p:spPr>
          <a:xfrm>
            <a:off x="4115160" y="53481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4"/>
          <p:cNvSpPr/>
          <p:nvPr/>
        </p:nvSpPr>
        <p:spPr>
          <a:xfrm>
            <a:off x="4115160" y="5511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95"/>
          <p:cNvGrpSpPr/>
          <p:nvPr/>
        </p:nvGrpSpPr>
        <p:grpSpPr>
          <a:xfrm>
            <a:off x="3656160" y="4591080"/>
            <a:ext cx="1827000" cy="1290600"/>
            <a:chOff x="3656160" y="4591080"/>
            <a:chExt cx="1827000" cy="1290600"/>
          </a:xfrm>
        </p:grpSpPr>
        <p:sp>
          <p:nvSpPr>
            <p:cNvPr id="304" name="Oval 96"/>
            <p:cNvSpPr/>
            <p:nvPr/>
          </p:nvSpPr>
          <p:spPr>
            <a:xfrm>
              <a:off x="3656160" y="4591080"/>
              <a:ext cx="1827000" cy="1290600"/>
            </a:xfrm>
            <a:prstGeom prst="ellipse">
              <a:avLst/>
            </a:prstGeom>
            <a:solidFill>
              <a:srgbClr val="fa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97"/>
            <p:cNvSpPr/>
            <p:nvPr/>
          </p:nvSpPr>
          <p:spPr>
            <a:xfrm>
              <a:off x="4120200" y="5334120"/>
              <a:ext cx="96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milias v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98"/>
            <p:cNvSpPr/>
            <p:nvPr/>
          </p:nvSpPr>
          <p:spPr>
            <a:xfrm>
              <a:off x="4119840" y="5486400"/>
              <a:ext cx="114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mpresas compr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99"/>
            <p:cNvGrpSpPr/>
            <p:nvPr/>
          </p:nvGrpSpPr>
          <p:grpSpPr>
            <a:xfrm>
              <a:off x="3891960" y="4876920"/>
              <a:ext cx="1294560" cy="457560"/>
              <a:chOff x="3891960" y="4876920"/>
              <a:chExt cx="1294560" cy="457560"/>
            </a:xfrm>
          </p:grpSpPr>
          <p:sp>
            <p:nvSpPr>
              <p:cNvPr id="308" name="Rectangle 100"/>
              <p:cNvSpPr/>
              <p:nvPr/>
            </p:nvSpPr>
            <p:spPr>
              <a:xfrm>
                <a:off x="4270680" y="4876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Merc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01"/>
              <p:cNvSpPr/>
              <p:nvPr/>
            </p:nvSpPr>
            <p:spPr>
              <a:xfrm>
                <a:off x="4496040" y="50292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02"/>
              <p:cNvSpPr/>
              <p:nvPr/>
            </p:nvSpPr>
            <p:spPr>
              <a:xfrm>
                <a:off x="3891960" y="5181840"/>
                <a:ext cx="1294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Factores Productiv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Rectangle 103"/>
          <p:cNvSpPr/>
          <p:nvPr/>
        </p:nvSpPr>
        <p:spPr>
          <a:xfrm>
            <a:off x="4115160" y="2343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4"/>
          <p:cNvSpPr/>
          <p:nvPr/>
        </p:nvSpPr>
        <p:spPr>
          <a:xfrm>
            <a:off x="4115160" y="2505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05"/>
          <p:cNvGrpSpPr/>
          <p:nvPr/>
        </p:nvGrpSpPr>
        <p:grpSpPr>
          <a:xfrm>
            <a:off x="3656160" y="1309680"/>
            <a:ext cx="1827000" cy="1278000"/>
            <a:chOff x="3656160" y="1309680"/>
            <a:chExt cx="1827000" cy="1278000"/>
          </a:xfrm>
        </p:grpSpPr>
        <p:sp>
          <p:nvSpPr>
            <p:cNvPr id="314" name="Oval 106"/>
            <p:cNvSpPr/>
            <p:nvPr/>
          </p:nvSpPr>
          <p:spPr>
            <a:xfrm>
              <a:off x="3656160" y="1309680"/>
              <a:ext cx="1827000" cy="1278000"/>
            </a:xfrm>
            <a:prstGeom prst="ellipse">
              <a:avLst/>
            </a:prstGeom>
            <a:solidFill>
              <a:srgbClr val="fa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7"/>
            <p:cNvSpPr/>
            <p:nvPr/>
          </p:nvSpPr>
          <p:spPr>
            <a:xfrm>
              <a:off x="4119120" y="2057400"/>
              <a:ext cx="1064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mpresas v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8"/>
            <p:cNvSpPr/>
            <p:nvPr/>
          </p:nvSpPr>
          <p:spPr>
            <a:xfrm>
              <a:off x="4120920" y="2209680"/>
              <a:ext cx="104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milias compr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09"/>
            <p:cNvSpPr/>
            <p:nvPr/>
          </p:nvSpPr>
          <p:spPr>
            <a:xfrm>
              <a:off x="4270320" y="152388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erc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10"/>
            <p:cNvSpPr/>
            <p:nvPr/>
          </p:nvSpPr>
          <p:spPr>
            <a:xfrm>
              <a:off x="4496040" y="16765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1"/>
            <p:cNvSpPr/>
            <p:nvPr/>
          </p:nvSpPr>
          <p:spPr>
            <a:xfrm>
              <a:off x="4038480" y="1828800"/>
              <a:ext cx="11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3:29:00Z</dcterms:created>
  <dc:creator>Tano</dc:creator>
  <dc:description/>
  <dc:language>en-US</dc:language>
  <cp:lastModifiedBy>Tano</cp:lastModifiedBy>
  <dcterms:modified xsi:type="dcterms:W3CDTF">2010-08-09T15:17:49Z</dcterms:modified>
  <cp:revision>53</cp:revision>
  <dc:subject/>
  <dc:title>Slide 1</dc:title>
</cp:coreProperties>
</file>