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1FB-15A9-47B8-AC95-B5458565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00D-6A06-491D-A191-D9826722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446-FFA6-4571-A796-46F22DDA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BD9-84C6-4902-A227-2801CF18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81D0-741B-4B56-B8B7-C9F1DB6B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E2EF-C7C3-4AC8-B5AB-28823BFF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09B1-DF32-4376-9EFB-F4A4093E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7428-0E4C-4977-98E9-6574BABD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5C11-725A-4037-9E5F-00A90117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7D27-C1FE-4D73-9416-6BC02630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1905-B04F-47C5-95B2-D02CB18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F17-3638-44CF-ADFE-60589376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E270-394C-4BF0-94E3-A780FA70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43A5-BA2F-49DA-A1FD-D581AF9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35E5-F7BA-4957-A116-CB6BB3E6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4144-9E6A-4841-89AE-1BC07E95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0D28-B740-42B3-8F8B-A0FB9491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030F9-1DD4-4766-94E8-924AA697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450F4-BC70-4A49-A33F-C9D49C5D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F3F0-0EB9-4A50-A214-C7AD3F2F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084A-CC98-42FC-8D7C-694CA3AA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FB2D-5BAD-4E2B-B161-ED4A3137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DD4-2B94-45F7-ADBF-BEDD3C64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7B170-05A4-43A2-866F-888FD19F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1E60-7669-42D1-94DA-97F1DDB7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E944F-F259-4836-8560-19725C2F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278C-1809-4D5E-9DEA-F6022E57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68A5E-6D3E-4138-859C-42739797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C635B-CA89-4396-9F8F-C5941226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652C2-ACB6-46A4-B5C1-5DA88853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62367-1302-4579-8AF2-2B9D1362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3A7DD-9FE0-4C27-BDBF-E5E30A8D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F5498-C8EF-4CC6-AF0B-462357D6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0D8-995D-402B-8236-BC47F9BA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8220A-7813-4FC4-99F8-EB3CD269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79F48-E606-4790-AF08-7878F2B1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9220-18E7-4B58-9DFE-2B243199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32DFF-91EA-4924-868D-1591A953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99213-242E-4A22-A547-4DC9B481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4F37C-0F3D-4291-A5B9-04D4EA9A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C84AD-CC8C-4156-A23E-E34A7A92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DF588-2EB2-4B70-A366-D6813B0B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691E5-B5D9-4E6D-A7BF-4BC161C1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522-D754-45EA-909E-93EAC96F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2CD-03B0-44AF-AB73-EA59C457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645-8D1E-4AFC-BC15-BBCBB953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F29-BA10-458C-B2DF-258F9BA1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440-9747-4A6B-ADD6-A027AA7F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274C-B063-4E06-AF32-20CA2E83476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80FD-0CA7-4578-8009-EFA6B293AA0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3B2D-DE45-4CD3-A5BB-1DB8A66ED71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77D0-311C-418C-8B0F-550D965A7CD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Segundo Semestre 2010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roducto Interno Bruto (PIB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ducto Interno Bruto (PIB)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valor de mercado de todos los bienes y servicios finales producidos en un país durante un período de tiempo determin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práctica es la medida de los ingresos y gastos de una economía y constituye una herramienta que permite medir el bienestar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1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valor de mercado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unidad de comparación es la unidad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to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rata de ser exhaustivo e incluir todos los bienes y servicios que están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en el mercado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 excluyen bienes y servicios producidos o prestados para consumo propio o de la famili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gualmente se excluyen bienes comercializados ilegalment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ienes y servici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enes físicos e intangib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2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inale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oposición a los intermedio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e cuentan las existencias de arrast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paí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dependientemente de la nacionalidad del produ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urante un período de tiempo determinado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eneralmente trimestral o anualm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mponentes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ecuación del PIB es la siguient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100" spc="-1" strike="noStrike">
                <a:solidFill>
                  <a:srgbClr val="000000"/>
                </a:solidFill>
                <a:latin typeface="Constantia"/>
              </a:rPr>
              <a:t>Y= C+I+G+NX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I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mo privado.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versión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del Gobier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X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xportaciones ne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Consumo privad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os hogares en bienes y servicios con la excepción de las compras de nuevas viviend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rsión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en equipos de capital, existencia y estructuras, incluidas las compras de viviendas nuevas por parte de los hoga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Gasto del Gobiern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a administración central y de las administraciones regionales y locales en bienes y servici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xportaciones net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on las compras hechas en el extranjero de bienes o servicios producidos en Chile (exportaciones) menos las compras hechas en Chile de bienes o servicios producidos en el extranjero (Importacion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Nominal 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v/s </a:t>
            </a: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Re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umento del PIB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uede deberse 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oducto (mas bienes y servicios transado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ecio del produc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Nominal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vigentes o corrie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Real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consta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Precios y Cantidades Producid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Nomin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6"/>
          <p:cNvSpPr/>
          <p:nvPr/>
        </p:nvSpPr>
        <p:spPr>
          <a:xfrm>
            <a:off x="838080" y="3733920"/>
            <a:ext cx="701064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hora que tenemos el PIB Nomina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o determinamos el PIB Real a partir de estos dat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nemos que determinar un año base (de referencia) para saber  cuales serán nuestros “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precios constant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Real (año base 2001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935000"/>
          <a:ext cx="8229600" cy="175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(2001)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deflactor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deflactor del PIB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 indicador del precios que se calcula dividiendo el PIB nominal por el PIB real y multiplicando el resultado por 10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ide el nivel actual de precios en relación con el nivel de precios del año b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4267080"/>
          <a:ext cx="7924680" cy="19051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 u="sng">
                          <a:solidFill>
                            <a:srgbClr val="ffffff"/>
                          </a:solidFill>
                          <a:uFillTx/>
                          <a:latin typeface="Constantia"/>
                        </a:rPr>
                        <a:t>PIB Nominal</a:t>
                      </a: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200/2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600/35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1200/5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4617b"/>
                </a:solidFill>
                <a:latin typeface="Calibri"/>
              </a:rPr>
              <a:t>Microeconomía vs. Macroeconomí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icroeconom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el estudio de la forma en que los hogares y las empresas toman sus decisiones e interactúan en mercados específic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acroeconom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estudio de los fenómenos que afectan al conjunto de la economía, tales como la inflación, el desempleo y el crecimiento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IB y el bienestar económ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el mejor indicador del bienestar económico de un paí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ividido por el número de habitantes nos da el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IB per cápi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nos permite conocer, por tanto, el ingreso y gasto del hombre medio de una socie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IB per cápita mas alto, significa un estándar de vida mas a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sas que no mide el PIB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ienestar derivado del o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tividades que se realizan fuera de los mercados form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ileg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en el hog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ras de car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lidad del medio ambi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as ren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Resum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gasto total de la sociedad debe ser igual a su ren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e la sociedad se divide en cuatro componentes esenciales: Consumo, Inversión, Gasto y Exportaciones Ne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nominal es distinto del PIB re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un buen indicador del bienestar económico pero no es perfe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Macroeconómic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recimiento económico sosteni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dad en el nivel de preci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de empleabi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Preguntas que intenta responder la macro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hay países en que el ingreso per cápita es mayor que 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hay períodos en que los precios se incrementan rápidamente y otros en que los precios se mantienen estab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la producción y el empleo se expanden algunos años y se contra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Instrumentos de la política económ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fis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blecimiento de tribu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públ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moneta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sa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asas de interé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Formas de intervención del Estado en la Economí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duct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mpresas d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vey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vee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citaciones, Concesiones, 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Outsourcin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gula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Regula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puestos, subsidios, cuotas de producción, fijación de precios, reglamentos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del Estad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ficiencia productiv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os recurs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es del Estad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Asign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Cuando hay fallas de mercado y, por lo mismo, el mercado no es capaz de lograr una asignación eficiente de recurs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Distribu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Esencialmente resolver el problema de la pobrez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Estabiliz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La renta y el gasto de la 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saber como le va a una economía determinada uno mi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la renta total que ganan todos los miembros de la mis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hora bien, en una economía en su conjunto,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la renta debe ser igual al gas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or las siguientes razon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operación tiene dos partes interes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peso que gana un vendedor es un peso que gasta un comprad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E:\Mankiw\Mankiw PPT\narrow aqua button bckgrd.jpg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3" descr=""/>
          <p:cNvPicPr/>
          <p:nvPr/>
        </p:nvPicPr>
        <p:blipFill>
          <a:blip r:embed="rId2"/>
          <a:stretch/>
        </p:blipFill>
        <p:spPr>
          <a:xfrm>
            <a:off x="603360" y="42840"/>
            <a:ext cx="8242200" cy="700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3f6f9"/>
          </a:solidFill>
          <a:ln w="14760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2f4f8"/>
          </a:solidFill>
          <a:ln w="13500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1f4f7"/>
          </a:solidFill>
          <a:ln w="12060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0f2f5"/>
          </a:solidFill>
          <a:ln w="10800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ef1f4"/>
          </a:solidFill>
          <a:ln w="9360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deff3"/>
          </a:solidFill>
          <a:ln w="8100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beef2"/>
          </a:solidFill>
          <a:ln w="6660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aecf1"/>
          </a:solidFill>
          <a:ln w="5400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9ebf0"/>
          </a:solidFill>
          <a:ln w="396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7eaef"/>
          </a:solidFill>
          <a:ln w="270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6e9ef"/>
          </a:solidFill>
          <a:ln w="1260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1676520" y="1219320"/>
            <a:ext cx="5803920" cy="52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2460600" y="1847880"/>
            <a:ext cx="1195560" cy="1224000"/>
            <a:chOff x="2460600" y="1847880"/>
            <a:chExt cx="1195560" cy="1224000"/>
          </a:xfrm>
        </p:grpSpPr>
        <p:sp>
          <p:nvSpPr>
            <p:cNvPr id="226" name="Freeform 18"/>
            <p:cNvSpPr/>
            <p:nvPr/>
          </p:nvSpPr>
          <p:spPr>
            <a:xfrm>
              <a:off x="2527200" y="1847880"/>
              <a:ext cx="1128960" cy="1062000"/>
            </a:xfrm>
            <a:custGeom>
              <a:avLst/>
              <a:gdLst>
                <a:gd name="textAreaLeft" fmla="*/ 0 w 1128960"/>
                <a:gd name="textAreaRight" fmla="*/ 1129320 w 112896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711" h="669">
                  <a:moveTo>
                    <a:pt x="711" y="0"/>
                  </a:moveTo>
                  <a:lnTo>
                    <a:pt x="0" y="0"/>
                  </a:lnTo>
                  <a:lnTo>
                    <a:pt x="0" y="669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2460600" y="2855880"/>
              <a:ext cx="135000" cy="216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0" h="16">
                  <a:moveTo>
                    <a:pt x="5" y="3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11"/>
                    <a:pt x="6" y="13"/>
                    <a:pt x="5" y="16"/>
                  </a:cubicBezTo>
                  <a:cubicBezTo>
                    <a:pt x="5" y="13"/>
                    <a:pt x="4" y="11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0"/>
          <p:cNvGrpSpPr/>
          <p:nvPr/>
        </p:nvGrpSpPr>
        <p:grpSpPr>
          <a:xfrm>
            <a:off x="2743200" y="1995480"/>
            <a:ext cx="925560" cy="1076400"/>
            <a:chOff x="2743200" y="1995480"/>
            <a:chExt cx="925560" cy="1076400"/>
          </a:xfrm>
        </p:grpSpPr>
        <p:sp>
          <p:nvSpPr>
            <p:cNvPr id="229" name="Freeform 21"/>
            <p:cNvSpPr/>
            <p:nvPr/>
          </p:nvSpPr>
          <p:spPr>
            <a:xfrm>
              <a:off x="2743200" y="2062080"/>
              <a:ext cx="765000" cy="100980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482" h="636">
                  <a:moveTo>
                    <a:pt x="482" y="0"/>
                  </a:moveTo>
                  <a:lnTo>
                    <a:pt x="0" y="0"/>
                  </a:lnTo>
                  <a:lnTo>
                    <a:pt x="0" y="636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3454560" y="1995480"/>
              <a:ext cx="214200" cy="1350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6" h="10">
                  <a:moveTo>
                    <a:pt x="3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0" y="3"/>
                    <a:pt x="13" y="4"/>
                    <a:pt x="16" y="5"/>
                  </a:cubicBezTo>
                  <a:cubicBezTo>
                    <a:pt x="13" y="5"/>
                    <a:pt x="10" y="6"/>
                    <a:pt x="8" y="6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3"/>
          <p:cNvGrpSpPr/>
          <p:nvPr/>
        </p:nvGrpSpPr>
        <p:grpSpPr>
          <a:xfrm>
            <a:off x="2527200" y="4106880"/>
            <a:ext cx="1128960" cy="1303200"/>
            <a:chOff x="2527200" y="4106880"/>
            <a:chExt cx="1128960" cy="1303200"/>
          </a:xfrm>
        </p:grpSpPr>
        <p:sp>
          <p:nvSpPr>
            <p:cNvPr id="232" name="Freeform 24"/>
            <p:cNvSpPr/>
            <p:nvPr/>
          </p:nvSpPr>
          <p:spPr>
            <a:xfrm>
              <a:off x="2527200" y="4106880"/>
              <a:ext cx="981000" cy="123660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618" h="779">
                  <a:moveTo>
                    <a:pt x="618" y="779"/>
                  </a:moveTo>
                  <a:lnTo>
                    <a:pt x="0" y="7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3441600" y="5276880"/>
              <a:ext cx="214560" cy="1332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6" h="10">
                  <a:moveTo>
                    <a:pt x="3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1" y="4"/>
                    <a:pt x="13" y="4"/>
                    <a:pt x="16" y="5"/>
                  </a:cubicBezTo>
                  <a:cubicBezTo>
                    <a:pt x="13" y="6"/>
                    <a:pt x="11" y="6"/>
                    <a:pt x="8" y="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2674800" y="4133880"/>
            <a:ext cx="981360" cy="995400"/>
            <a:chOff x="2674800" y="4133880"/>
            <a:chExt cx="981360" cy="995400"/>
          </a:xfrm>
        </p:grpSpPr>
        <p:sp>
          <p:nvSpPr>
            <p:cNvPr id="235" name="Freeform 27"/>
            <p:cNvSpPr/>
            <p:nvPr/>
          </p:nvSpPr>
          <p:spPr>
            <a:xfrm>
              <a:off x="2743200" y="4281480"/>
              <a:ext cx="912960" cy="84780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575" h="534">
                  <a:moveTo>
                    <a:pt x="575" y="534"/>
                  </a:moveTo>
                  <a:lnTo>
                    <a:pt x="0" y="53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2674800" y="4133880"/>
              <a:ext cx="135000" cy="2142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0" h="16">
                  <a:moveTo>
                    <a:pt x="5" y="13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5"/>
                    <a:pt x="5" y="2"/>
                    <a:pt x="5" y="0"/>
                  </a:cubicBezTo>
                  <a:cubicBezTo>
                    <a:pt x="6" y="2"/>
                    <a:pt x="6" y="5"/>
                    <a:pt x="7" y="8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9"/>
          <p:cNvGrpSpPr/>
          <p:nvPr/>
        </p:nvGrpSpPr>
        <p:grpSpPr>
          <a:xfrm>
            <a:off x="5468760" y="1781280"/>
            <a:ext cx="1008360" cy="1290600"/>
            <a:chOff x="5468760" y="1781280"/>
            <a:chExt cx="1008360" cy="1290600"/>
          </a:xfrm>
        </p:grpSpPr>
        <p:sp>
          <p:nvSpPr>
            <p:cNvPr id="238" name="Freeform 30"/>
            <p:cNvSpPr/>
            <p:nvPr/>
          </p:nvSpPr>
          <p:spPr>
            <a:xfrm>
              <a:off x="5630760" y="1847880"/>
              <a:ext cx="846360" cy="122400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533" h="771">
                  <a:moveTo>
                    <a:pt x="0" y="0"/>
                  </a:moveTo>
                  <a:lnTo>
                    <a:pt x="533" y="0"/>
                  </a:lnTo>
                  <a:lnTo>
                    <a:pt x="533" y="771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5468760" y="1781280"/>
              <a:ext cx="216000" cy="1332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6" h="10">
                  <a:moveTo>
                    <a:pt x="13" y="5"/>
                  </a:move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5" y="6"/>
                    <a:pt x="3" y="5"/>
                    <a:pt x="0" y="5"/>
                  </a:cubicBezTo>
                  <a:cubicBezTo>
                    <a:pt x="3" y="4"/>
                    <a:pt x="5" y="3"/>
                    <a:pt x="8" y="3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3" y="5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5456160" y="2062080"/>
            <a:ext cx="858960" cy="1009800"/>
            <a:chOff x="5456160" y="2062080"/>
            <a:chExt cx="858960" cy="1009800"/>
          </a:xfrm>
        </p:grpSpPr>
        <p:sp>
          <p:nvSpPr>
            <p:cNvPr id="241" name="Freeform 33"/>
            <p:cNvSpPr/>
            <p:nvPr/>
          </p:nvSpPr>
          <p:spPr>
            <a:xfrm>
              <a:off x="5456160" y="2062080"/>
              <a:ext cx="804960" cy="84780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507" h="534">
                  <a:moveTo>
                    <a:pt x="0" y="0"/>
                  </a:moveTo>
                  <a:lnTo>
                    <a:pt x="507" y="0"/>
                  </a:lnTo>
                  <a:lnTo>
                    <a:pt x="507" y="534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6194520" y="2855880"/>
              <a:ext cx="120600" cy="2160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" h="16">
                  <a:moveTo>
                    <a:pt x="5" y="3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11"/>
                    <a:pt x="5" y="14"/>
                    <a:pt x="5" y="16"/>
                  </a:cubicBezTo>
                  <a:cubicBezTo>
                    <a:pt x="4" y="14"/>
                    <a:pt x="3" y="11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35"/>
          <p:cNvGrpSpPr/>
          <p:nvPr/>
        </p:nvGrpSpPr>
        <p:grpSpPr>
          <a:xfrm>
            <a:off x="5468760" y="4119480"/>
            <a:ext cx="1062360" cy="1224000"/>
            <a:chOff x="5468760" y="4119480"/>
            <a:chExt cx="1062360" cy="1224000"/>
          </a:xfrm>
        </p:grpSpPr>
        <p:sp>
          <p:nvSpPr>
            <p:cNvPr id="244" name="Freeform 36"/>
            <p:cNvSpPr/>
            <p:nvPr/>
          </p:nvSpPr>
          <p:spPr>
            <a:xfrm>
              <a:off x="5468760" y="4281480"/>
              <a:ext cx="1008360" cy="1062000"/>
            </a:xfrm>
            <a:custGeom>
              <a:avLst/>
              <a:gdLst>
                <a:gd name="textAreaLeft" fmla="*/ 0 w 1008360"/>
                <a:gd name="textAreaRight" fmla="*/ 1008720 w 100836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635" h="669">
                  <a:moveTo>
                    <a:pt x="0" y="669"/>
                  </a:moveTo>
                  <a:lnTo>
                    <a:pt x="635" y="669"/>
                  </a:lnTo>
                  <a:lnTo>
                    <a:pt x="635" y="0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6408720" y="4119480"/>
              <a:ext cx="122400" cy="2160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" h="16">
                  <a:moveTo>
                    <a:pt x="5" y="14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6"/>
                    <a:pt x="4" y="3"/>
                    <a:pt x="5" y="0"/>
                  </a:cubicBezTo>
                  <a:cubicBezTo>
                    <a:pt x="5" y="3"/>
                    <a:pt x="6" y="6"/>
                    <a:pt x="6" y="8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lnTo>
                    <a:pt x="5" y="14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5468760" y="4119480"/>
            <a:ext cx="792360" cy="1076400"/>
            <a:chOff x="5468760" y="4119480"/>
            <a:chExt cx="792360" cy="1076400"/>
          </a:xfrm>
        </p:grpSpPr>
        <p:sp>
          <p:nvSpPr>
            <p:cNvPr id="247" name="Freeform 39"/>
            <p:cNvSpPr/>
            <p:nvPr/>
          </p:nvSpPr>
          <p:spPr>
            <a:xfrm>
              <a:off x="5630760" y="4119480"/>
              <a:ext cx="630360" cy="1009800"/>
            </a:xfrm>
            <a:custGeom>
              <a:avLst/>
              <a:gdLst/>
              <a:ahLst/>
              <a:rect l="l" t="t" r="r" b="b"/>
              <a:pathLst>
                <a:path w="397" h="636">
                  <a:moveTo>
                    <a:pt x="0" y="636"/>
                  </a:moveTo>
                  <a:lnTo>
                    <a:pt x="397" y="636"/>
                  </a:lnTo>
                  <a:lnTo>
                    <a:pt x="397" y="0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0"/>
            <p:cNvSpPr/>
            <p:nvPr/>
          </p:nvSpPr>
          <p:spPr>
            <a:xfrm>
              <a:off x="5468760" y="5060880"/>
              <a:ext cx="216000" cy="135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6" h="10">
                  <a:moveTo>
                    <a:pt x="13" y="5"/>
                  </a:move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6" y="6"/>
                    <a:pt x="3" y="6"/>
                    <a:pt x="0" y="5"/>
                  </a:cubicBezTo>
                  <a:cubicBezTo>
                    <a:pt x="3" y="4"/>
                    <a:pt x="6" y="4"/>
                    <a:pt x="8" y="3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3" y="5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Line 41"/>
          <p:cNvSpPr/>
          <p:nvPr/>
        </p:nvSpPr>
        <p:spPr>
          <a:xfrm>
            <a:off x="5603760" y="5719680"/>
            <a:ext cx="268560" cy="1800"/>
          </a:xfrm>
          <a:prstGeom prst="line">
            <a:avLst/>
          </a:prstGeom>
          <a:ln w="12600">
            <a:solidFill>
              <a:srgbClr val="e17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42"/>
          <p:cNvSpPr/>
          <p:nvPr/>
        </p:nvSpPr>
        <p:spPr>
          <a:xfrm>
            <a:off x="5818320" y="5653080"/>
            <a:ext cx="215640" cy="135000"/>
          </a:xfrm>
          <a:custGeom>
            <a:avLst/>
            <a:gdLst>
              <a:gd name="textAreaLeft" fmla="*/ 0 w 215640"/>
              <a:gd name="textAreaRight" fmla="*/ 216000 w 2156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6" h="10">
                <a:moveTo>
                  <a:pt x="3" y="5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3"/>
                  <a:pt x="8" y="3"/>
                  <a:pt x="8" y="3"/>
                </a:cubicBezTo>
                <a:cubicBezTo>
                  <a:pt x="10" y="4"/>
                  <a:pt x="13" y="4"/>
                  <a:pt x="16" y="5"/>
                </a:cubicBezTo>
                <a:cubicBezTo>
                  <a:pt x="13" y="6"/>
                  <a:pt x="10" y="6"/>
                  <a:pt x="8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lnTo>
                  <a:pt x="3" y="5"/>
                </a:lnTo>
                <a:close/>
              </a:path>
            </a:pathLst>
          </a:custGeom>
          <a:solidFill>
            <a:srgbClr val="e17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3"/>
          <p:cNvSpPr/>
          <p:nvPr/>
        </p:nvSpPr>
        <p:spPr>
          <a:xfrm>
            <a:off x="5603760" y="6110280"/>
            <a:ext cx="268560" cy="1440"/>
          </a:xfrm>
          <a:prstGeom prst="line">
            <a:avLst/>
          </a:prstGeom>
          <a:ln w="12600">
            <a:solidFill>
              <a:srgbClr val="75bc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4"/>
          <p:cNvSpPr/>
          <p:nvPr/>
        </p:nvSpPr>
        <p:spPr>
          <a:xfrm>
            <a:off x="5818320" y="6041880"/>
            <a:ext cx="215640" cy="135000"/>
          </a:xfrm>
          <a:custGeom>
            <a:avLst/>
            <a:gdLst>
              <a:gd name="textAreaLeft" fmla="*/ 0 w 215640"/>
              <a:gd name="textAreaRight" fmla="*/ 216000 w 2156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6" h="10">
                <a:moveTo>
                  <a:pt x="3" y="5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3"/>
                  <a:pt x="8" y="3"/>
                  <a:pt x="8" y="3"/>
                </a:cubicBezTo>
                <a:cubicBezTo>
                  <a:pt x="10" y="4"/>
                  <a:pt x="13" y="5"/>
                  <a:pt x="16" y="5"/>
                </a:cubicBezTo>
                <a:cubicBezTo>
                  <a:pt x="13" y="6"/>
                  <a:pt x="10" y="6"/>
                  <a:pt x="8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lnTo>
                  <a:pt x="3" y="5"/>
                </a:lnTo>
                <a:close/>
              </a:path>
            </a:pathLst>
          </a:custGeom>
          <a:solidFill>
            <a:srgbClr val="75b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5"/>
          <p:cNvSpPr/>
          <p:nvPr/>
        </p:nvSpPr>
        <p:spPr>
          <a:xfrm>
            <a:off x="5642640" y="1600200"/>
            <a:ext cx="73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Gasto (=P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6"/>
          <p:cNvGrpSpPr/>
          <p:nvPr/>
        </p:nvGrpSpPr>
        <p:grpSpPr>
          <a:xfrm>
            <a:off x="5538960" y="2062080"/>
            <a:ext cx="583920" cy="478080"/>
            <a:chOff x="5538960" y="2062080"/>
            <a:chExt cx="583920" cy="478080"/>
          </a:xfrm>
        </p:grpSpPr>
        <p:sp>
          <p:nvSpPr>
            <p:cNvPr id="255" name="Rectangle 47"/>
            <p:cNvSpPr/>
            <p:nvPr/>
          </p:nvSpPr>
          <p:spPr>
            <a:xfrm>
              <a:off x="5538960" y="206208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8"/>
            <p:cNvSpPr/>
            <p:nvPr/>
          </p:nvSpPr>
          <p:spPr>
            <a:xfrm>
              <a:off x="5538960" y="2224080"/>
              <a:ext cx="49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9"/>
            <p:cNvSpPr/>
            <p:nvPr/>
          </p:nvSpPr>
          <p:spPr>
            <a:xfrm>
              <a:off x="5540040" y="2387520"/>
              <a:ext cx="58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adquir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50"/>
          <p:cNvSpPr/>
          <p:nvPr/>
        </p:nvSpPr>
        <p:spPr>
          <a:xfrm>
            <a:off x="2823480" y="160020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51"/>
          <p:cNvGrpSpPr/>
          <p:nvPr/>
        </p:nvGrpSpPr>
        <p:grpSpPr>
          <a:xfrm>
            <a:off x="2999880" y="2070000"/>
            <a:ext cx="594720" cy="478080"/>
            <a:chOff x="2999880" y="2070000"/>
            <a:chExt cx="594720" cy="478080"/>
          </a:xfrm>
        </p:grpSpPr>
        <p:sp>
          <p:nvSpPr>
            <p:cNvPr id="260" name="Rectangle 52"/>
            <p:cNvSpPr/>
            <p:nvPr/>
          </p:nvSpPr>
          <p:spPr>
            <a:xfrm>
              <a:off x="2999880" y="20700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3"/>
            <p:cNvSpPr/>
            <p:nvPr/>
          </p:nvSpPr>
          <p:spPr>
            <a:xfrm>
              <a:off x="3000960" y="2232000"/>
              <a:ext cx="59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4"/>
            <p:cNvSpPr/>
            <p:nvPr/>
          </p:nvSpPr>
          <p:spPr>
            <a:xfrm>
              <a:off x="3000240" y="239544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d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55"/>
          <p:cNvGrpSpPr/>
          <p:nvPr/>
        </p:nvGrpSpPr>
        <p:grpSpPr>
          <a:xfrm>
            <a:off x="5338080" y="4648320"/>
            <a:ext cx="821880" cy="316080"/>
            <a:chOff x="5338080" y="4648320"/>
            <a:chExt cx="821880" cy="316080"/>
          </a:xfrm>
        </p:grpSpPr>
        <p:sp>
          <p:nvSpPr>
            <p:cNvPr id="264" name="Rectangle 56"/>
            <p:cNvSpPr/>
            <p:nvPr/>
          </p:nvSpPr>
          <p:spPr>
            <a:xfrm>
              <a:off x="5338080" y="4648320"/>
              <a:ext cx="821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bajo, tierr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7"/>
            <p:cNvSpPr/>
            <p:nvPr/>
          </p:nvSpPr>
          <p:spPr>
            <a:xfrm>
              <a:off x="5364360" y="4811760"/>
              <a:ext cx="49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apit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58"/>
          <p:cNvSpPr/>
          <p:nvPr/>
        </p:nvSpPr>
        <p:spPr>
          <a:xfrm>
            <a:off x="5626800" y="535608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9"/>
          <p:cNvSpPr/>
          <p:nvPr/>
        </p:nvSpPr>
        <p:spPr>
          <a:xfrm>
            <a:off x="6128280" y="5621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0"/>
          <p:cNvSpPr/>
          <p:nvPr/>
        </p:nvSpPr>
        <p:spPr>
          <a:xfrm>
            <a:off x="6163920" y="5653080"/>
            <a:ext cx="100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fact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1"/>
          <p:cNvSpPr/>
          <p:nvPr/>
        </p:nvSpPr>
        <p:spPr>
          <a:xfrm>
            <a:off x="6023520" y="5784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2"/>
          <p:cNvSpPr/>
          <p:nvPr/>
        </p:nvSpPr>
        <p:spPr>
          <a:xfrm>
            <a:off x="6271920" y="581652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y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3"/>
          <p:cNvSpPr/>
          <p:nvPr/>
        </p:nvSpPr>
        <p:spPr>
          <a:xfrm>
            <a:off x="6128280" y="5979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4"/>
          <p:cNvSpPr/>
          <p:nvPr/>
        </p:nvSpPr>
        <p:spPr>
          <a:xfrm>
            <a:off x="6165000" y="6012000"/>
            <a:ext cx="90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din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5"/>
          <p:cNvGrpSpPr/>
          <p:nvPr/>
        </p:nvGrpSpPr>
        <p:grpSpPr>
          <a:xfrm>
            <a:off x="2897640" y="4648320"/>
            <a:ext cx="685080" cy="314280"/>
            <a:chOff x="2897640" y="4648320"/>
            <a:chExt cx="685080" cy="314280"/>
          </a:xfrm>
        </p:grpSpPr>
        <p:sp>
          <p:nvSpPr>
            <p:cNvPr id="274" name="Rectangle 66"/>
            <p:cNvSpPr/>
            <p:nvPr/>
          </p:nvSpPr>
          <p:spPr>
            <a:xfrm>
              <a:off x="2913120" y="464832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7"/>
            <p:cNvSpPr/>
            <p:nvPr/>
          </p:nvSpPr>
          <p:spPr>
            <a:xfrm>
              <a:off x="2897640" y="480996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8"/>
          <p:cNvGrpSpPr/>
          <p:nvPr/>
        </p:nvGrpSpPr>
        <p:grpSpPr>
          <a:xfrm>
            <a:off x="2625120" y="5356080"/>
            <a:ext cx="1101960" cy="314640"/>
            <a:chOff x="2625120" y="5356080"/>
            <a:chExt cx="1101960" cy="314640"/>
          </a:xfrm>
        </p:grpSpPr>
        <p:sp>
          <p:nvSpPr>
            <p:cNvPr id="277" name="Rectangle 69"/>
            <p:cNvSpPr/>
            <p:nvPr/>
          </p:nvSpPr>
          <p:spPr>
            <a:xfrm>
              <a:off x="2626200" y="5356080"/>
              <a:ext cx="110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alarios, alquilere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70"/>
            <p:cNvSpPr/>
            <p:nvPr/>
          </p:nvSpPr>
          <p:spPr>
            <a:xfrm>
              <a:off x="2625120" y="5518080"/>
              <a:ext cx="106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beneficios (=PIB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71"/>
          <p:cNvSpPr/>
          <p:nvPr/>
        </p:nvSpPr>
        <p:spPr>
          <a:xfrm>
            <a:off x="224352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2"/>
          <p:cNvSpPr/>
          <p:nvPr/>
        </p:nvSpPr>
        <p:spPr>
          <a:xfrm>
            <a:off x="219924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3"/>
          <p:cNvSpPr/>
          <p:nvPr/>
        </p:nvSpPr>
        <p:spPr>
          <a:xfrm>
            <a:off x="224352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4"/>
          <p:cNvSpPr/>
          <p:nvPr/>
        </p:nvSpPr>
        <p:spPr>
          <a:xfrm>
            <a:off x="219924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75"/>
          <p:cNvGrpSpPr/>
          <p:nvPr/>
        </p:nvGrpSpPr>
        <p:grpSpPr>
          <a:xfrm>
            <a:off x="1816200" y="3071880"/>
            <a:ext cx="1652400" cy="1035000"/>
            <a:chOff x="1816200" y="3071880"/>
            <a:chExt cx="1652400" cy="1035000"/>
          </a:xfrm>
        </p:grpSpPr>
        <p:sp>
          <p:nvSpPr>
            <p:cNvPr id="284" name="Rectangle 76"/>
            <p:cNvSpPr/>
            <p:nvPr/>
          </p:nvSpPr>
          <p:spPr>
            <a:xfrm>
              <a:off x="1816200" y="3071880"/>
              <a:ext cx="165240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77"/>
            <p:cNvSpPr/>
            <p:nvPr/>
          </p:nvSpPr>
          <p:spPr>
            <a:xfrm>
              <a:off x="2288520" y="312408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mpre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78"/>
            <p:cNvSpPr/>
            <p:nvPr/>
          </p:nvSpPr>
          <p:spPr>
            <a:xfrm>
              <a:off x="2067120" y="3286080"/>
              <a:ext cx="113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en y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79"/>
            <p:cNvSpPr/>
            <p:nvPr/>
          </p:nvSpPr>
          <p:spPr>
            <a:xfrm>
              <a:off x="210744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80"/>
            <p:cNvSpPr/>
            <p:nvPr/>
          </p:nvSpPr>
          <p:spPr>
            <a:xfrm>
              <a:off x="2060640" y="3581280"/>
              <a:ext cx="10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tratan y us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81"/>
            <p:cNvSpPr/>
            <p:nvPr/>
          </p:nvSpPr>
          <p:spPr>
            <a:xfrm>
              <a:off x="2115360" y="3733920"/>
              <a:ext cx="132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82"/>
          <p:cNvSpPr/>
          <p:nvPr/>
        </p:nvSpPr>
        <p:spPr>
          <a:xfrm>
            <a:off x="562824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3"/>
          <p:cNvSpPr/>
          <p:nvPr/>
        </p:nvSpPr>
        <p:spPr>
          <a:xfrm>
            <a:off x="558360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4"/>
          <p:cNvSpPr/>
          <p:nvPr/>
        </p:nvSpPr>
        <p:spPr>
          <a:xfrm>
            <a:off x="562824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5"/>
          <p:cNvSpPr/>
          <p:nvPr/>
        </p:nvSpPr>
        <p:spPr>
          <a:xfrm>
            <a:off x="558360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86"/>
          <p:cNvGrpSpPr/>
          <p:nvPr/>
        </p:nvGrpSpPr>
        <p:grpSpPr>
          <a:xfrm>
            <a:off x="5537160" y="3071880"/>
            <a:ext cx="1650960" cy="1035000"/>
            <a:chOff x="5537160" y="3071880"/>
            <a:chExt cx="1650960" cy="1035000"/>
          </a:xfrm>
        </p:grpSpPr>
        <p:sp>
          <p:nvSpPr>
            <p:cNvPr id="295" name="Rectangle 87"/>
            <p:cNvSpPr/>
            <p:nvPr/>
          </p:nvSpPr>
          <p:spPr>
            <a:xfrm>
              <a:off x="5537160" y="3071880"/>
              <a:ext cx="165096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88"/>
            <p:cNvSpPr/>
            <p:nvPr/>
          </p:nvSpPr>
          <p:spPr>
            <a:xfrm>
              <a:off x="5720760" y="3276720"/>
              <a:ext cx="13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pran y consum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89"/>
            <p:cNvSpPr/>
            <p:nvPr/>
          </p:nvSpPr>
          <p:spPr>
            <a:xfrm>
              <a:off x="579528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90"/>
            <p:cNvSpPr/>
            <p:nvPr/>
          </p:nvSpPr>
          <p:spPr>
            <a:xfrm>
              <a:off x="5718240" y="3581280"/>
              <a:ext cx="101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ienen y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1"/>
            <p:cNvSpPr/>
            <p:nvPr/>
          </p:nvSpPr>
          <p:spPr>
            <a:xfrm>
              <a:off x="5719680" y="3733920"/>
              <a:ext cx="139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92"/>
            <p:cNvSpPr/>
            <p:nvPr/>
          </p:nvSpPr>
          <p:spPr>
            <a:xfrm>
              <a:off x="6097320" y="312408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amil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93"/>
          <p:cNvSpPr/>
          <p:nvPr/>
        </p:nvSpPr>
        <p:spPr>
          <a:xfrm>
            <a:off x="4115160" y="5348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4"/>
          <p:cNvSpPr/>
          <p:nvPr/>
        </p:nvSpPr>
        <p:spPr>
          <a:xfrm>
            <a:off x="4115160" y="5511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95"/>
          <p:cNvGrpSpPr/>
          <p:nvPr/>
        </p:nvGrpSpPr>
        <p:grpSpPr>
          <a:xfrm>
            <a:off x="3656160" y="4591080"/>
            <a:ext cx="1827000" cy="1290600"/>
            <a:chOff x="3656160" y="4591080"/>
            <a:chExt cx="1827000" cy="1290600"/>
          </a:xfrm>
        </p:grpSpPr>
        <p:sp>
          <p:nvSpPr>
            <p:cNvPr id="304" name="Oval 96"/>
            <p:cNvSpPr/>
            <p:nvPr/>
          </p:nvSpPr>
          <p:spPr>
            <a:xfrm>
              <a:off x="3656160" y="4591080"/>
              <a:ext cx="1827000" cy="12906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7"/>
            <p:cNvSpPr/>
            <p:nvPr/>
          </p:nvSpPr>
          <p:spPr>
            <a:xfrm>
              <a:off x="4120200" y="5334120"/>
              <a:ext cx="96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98"/>
            <p:cNvSpPr/>
            <p:nvPr/>
          </p:nvSpPr>
          <p:spPr>
            <a:xfrm>
              <a:off x="4119840" y="5486400"/>
              <a:ext cx="114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compr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99"/>
            <p:cNvGrpSpPr/>
            <p:nvPr/>
          </p:nvGrpSpPr>
          <p:grpSpPr>
            <a:xfrm>
              <a:off x="3891960" y="4876920"/>
              <a:ext cx="1294560" cy="457560"/>
              <a:chOff x="3891960" y="4876920"/>
              <a:chExt cx="1294560" cy="457560"/>
            </a:xfrm>
          </p:grpSpPr>
          <p:sp>
            <p:nvSpPr>
              <p:cNvPr id="308" name="Rectangle 100"/>
              <p:cNvSpPr/>
              <p:nvPr/>
            </p:nvSpPr>
            <p:spPr>
              <a:xfrm>
                <a:off x="4270680" y="4876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Merc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01"/>
              <p:cNvSpPr/>
              <p:nvPr/>
            </p:nvSpPr>
            <p:spPr>
              <a:xfrm>
                <a:off x="4496040" y="50292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02"/>
              <p:cNvSpPr/>
              <p:nvPr/>
            </p:nvSpPr>
            <p:spPr>
              <a:xfrm>
                <a:off x="3891960" y="5181840"/>
                <a:ext cx="1294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Factores Productiv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Rectangle 103"/>
          <p:cNvSpPr/>
          <p:nvPr/>
        </p:nvSpPr>
        <p:spPr>
          <a:xfrm>
            <a:off x="4115160" y="2343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4"/>
          <p:cNvSpPr/>
          <p:nvPr/>
        </p:nvSpPr>
        <p:spPr>
          <a:xfrm>
            <a:off x="4115160" y="2505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05"/>
          <p:cNvGrpSpPr/>
          <p:nvPr/>
        </p:nvGrpSpPr>
        <p:grpSpPr>
          <a:xfrm>
            <a:off x="3656160" y="1309680"/>
            <a:ext cx="1827000" cy="1278000"/>
            <a:chOff x="3656160" y="1309680"/>
            <a:chExt cx="1827000" cy="1278000"/>
          </a:xfrm>
        </p:grpSpPr>
        <p:sp>
          <p:nvSpPr>
            <p:cNvPr id="314" name="Oval 106"/>
            <p:cNvSpPr/>
            <p:nvPr/>
          </p:nvSpPr>
          <p:spPr>
            <a:xfrm>
              <a:off x="3656160" y="1309680"/>
              <a:ext cx="1827000" cy="12780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7"/>
            <p:cNvSpPr/>
            <p:nvPr/>
          </p:nvSpPr>
          <p:spPr>
            <a:xfrm>
              <a:off x="4119120" y="2057400"/>
              <a:ext cx="1064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8"/>
            <p:cNvSpPr/>
            <p:nvPr/>
          </p:nvSpPr>
          <p:spPr>
            <a:xfrm>
              <a:off x="4120920" y="220968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compr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09"/>
            <p:cNvSpPr/>
            <p:nvPr/>
          </p:nvSpPr>
          <p:spPr>
            <a:xfrm>
              <a:off x="4270320" y="152388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erc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10"/>
            <p:cNvSpPr/>
            <p:nvPr/>
          </p:nvSpPr>
          <p:spPr>
            <a:xfrm>
              <a:off x="4496040" y="16765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1"/>
            <p:cNvSpPr/>
            <p:nvPr/>
          </p:nvSpPr>
          <p:spPr>
            <a:xfrm>
              <a:off x="4038480" y="1828800"/>
              <a:ext cx="11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3:29:00Z</dcterms:created>
  <dc:creator>Tano</dc:creator>
  <dc:description/>
  <dc:language>en-US</dc:language>
  <cp:lastModifiedBy>Tano</cp:lastModifiedBy>
  <dcterms:modified xsi:type="dcterms:W3CDTF">2010-08-09T15:17:49Z</dcterms:modified>
  <cp:revision>53</cp:revision>
  <dc:subject/>
  <dc:title>Slide 1</dc:title>
</cp:coreProperties>
</file>