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E21-DB3E-4C3B-8518-1409A27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175-A1E8-448E-89FD-2AB9BF3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AA2-9791-4B83-BCC3-A28BF8F3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5AA-1697-44B4-BE1B-86A5B729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80A2-7519-4EEA-922C-99F689F8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38D-34E0-4064-BA53-B0AF621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0CD6-746B-41B4-9B7F-B14E38FA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A5E-2BF3-4215-B206-26444BB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4BF-BEB0-40FE-B690-37EC79FE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F0C-2D8D-499D-9A6C-C07A822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A769-D089-408C-94B8-1E51E0E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E0C-21B7-4E93-AD5F-09CC5785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8F1-8692-44A1-836A-3647778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9EF7-2959-450C-BCD7-BE2E647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70A2-7E8E-4D8B-A10A-C123921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9D5-9839-4F5E-916C-D6D3646E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9EFF-DF1D-40F4-92CB-13F41B95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54B4-C673-4E19-A0FA-0B772CD8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6410-BE4C-4532-BBBE-60F0F8BF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E5C2-3958-4C2F-A478-E938B14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B8C0-1557-4337-9D50-24F74A1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BDC4-8693-467A-BF81-D5A32E5A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8D0-AE40-4C75-BA86-30966A2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A67A-1AB0-46C9-9A28-78A4B0A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B103-DEB1-4CD4-926E-42EA191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EE5D-ED30-4B6C-A145-683C1C8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2F52-3877-48D9-8C4E-0D6DB3B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6FD2-DE73-4ACB-8A40-8C2B7B96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EF7C-483D-4E92-88BE-46654641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5071-DD2D-47B5-BD14-C18B86F7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D166-E06C-4027-981E-3107DCAE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FE8F-28A8-46DF-B7C6-5E5F459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199C-D0A6-4BCD-8400-978E3DA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E71-BEC5-4F3B-9428-C66014D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DF71-2C18-4697-BA56-8F92DC1F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B762-9ED6-462F-870F-607CAB9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4FA8-6CCD-45CA-B1D0-9B121FAF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865F-13C8-4B19-B35E-9A72A357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8D3E-2484-4CB3-8F00-4B5091B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45F9-CC8A-4B9A-8DF9-4F477BD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2167-6480-4A7F-B696-A52075B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2FA7-6C4F-4600-83E4-05FAE6FA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AC6F-F7CA-4B18-A83E-B609506E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982-7E31-4F6E-B585-8F79EA65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23B-F442-45BA-BD36-7F4FF16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5F9-F4AF-45E7-9560-6001268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E7C-C746-4C99-9445-EA401EF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B74-ADFB-42B7-9CA5-D9CD806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07C-35B2-4CCD-8728-E47DD5CC74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BA24-5C2C-41EF-974A-961878EE49A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09E-6A8E-48EE-91D7-C53F9A8D10B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F02-0ED8-400C-9FA0-55CE3D3B34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1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11" h="669">
                  <a:moveTo>
                    <a:pt x="711" y="0"/>
                  </a:moveTo>
                  <a:lnTo>
                    <a:pt x="0" y="0"/>
                  </a:lnTo>
                  <a:lnTo>
                    <a:pt x="0" y="669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" h="16">
                  <a:moveTo>
                    <a:pt x="5" y="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11"/>
                    <a:pt x="6" y="13"/>
                    <a:pt x="5" y="16"/>
                  </a:cubicBezTo>
                  <a:cubicBezTo>
                    <a:pt x="5" y="13"/>
                    <a:pt x="4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482" h="636">
                  <a:moveTo>
                    <a:pt x="482" y="0"/>
                  </a:moveTo>
                  <a:lnTo>
                    <a:pt x="0" y="0"/>
                  </a:lnTo>
                  <a:lnTo>
                    <a:pt x="0" y="636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3"/>
                    <a:pt x="13" y="4"/>
                    <a:pt x="16" y="5"/>
                  </a:cubicBezTo>
                  <a:cubicBezTo>
                    <a:pt x="13" y="5"/>
                    <a:pt x="10" y="6"/>
                    <a:pt x="8" y="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618" h="779">
                  <a:moveTo>
                    <a:pt x="618" y="779"/>
                  </a:moveTo>
                  <a:lnTo>
                    <a:pt x="0" y="7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1" y="4"/>
                    <a:pt x="13" y="4"/>
                    <a:pt x="16" y="5"/>
                  </a:cubicBezTo>
                  <a:cubicBezTo>
                    <a:pt x="13" y="6"/>
                    <a:pt x="11" y="6"/>
                    <a:pt x="8" y="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75" h="534">
                  <a:moveTo>
                    <a:pt x="575" y="534"/>
                  </a:move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" h="16">
                  <a:moveTo>
                    <a:pt x="5" y="13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5"/>
                    <a:pt x="5" y="2"/>
                    <a:pt x="5" y="0"/>
                  </a:cubicBezTo>
                  <a:cubicBezTo>
                    <a:pt x="6" y="2"/>
                    <a:pt x="6" y="5"/>
                    <a:pt x="7" y="8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533" h="771">
                  <a:moveTo>
                    <a:pt x="0" y="0"/>
                  </a:moveTo>
                  <a:lnTo>
                    <a:pt x="533" y="0"/>
                  </a:lnTo>
                  <a:lnTo>
                    <a:pt x="533" y="771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5" y="6"/>
                    <a:pt x="3" y="5"/>
                    <a:pt x="0" y="5"/>
                  </a:cubicBezTo>
                  <a:cubicBezTo>
                    <a:pt x="3" y="4"/>
                    <a:pt x="5" y="3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07" h="534">
                  <a:moveTo>
                    <a:pt x="0" y="0"/>
                  </a:moveTo>
                  <a:lnTo>
                    <a:pt x="507" y="0"/>
                  </a:lnTo>
                  <a:lnTo>
                    <a:pt x="507" y="534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3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11"/>
                    <a:pt x="5" y="14"/>
                    <a:pt x="5" y="16"/>
                  </a:cubicBezTo>
                  <a:cubicBezTo>
                    <a:pt x="4" y="14"/>
                    <a:pt x="3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635" h="669">
                  <a:moveTo>
                    <a:pt x="0" y="669"/>
                  </a:moveTo>
                  <a:lnTo>
                    <a:pt x="635" y="669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14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6"/>
                    <a:pt x="4" y="3"/>
                    <a:pt x="5" y="0"/>
                  </a:cubicBezTo>
                  <a:cubicBezTo>
                    <a:pt x="5" y="3"/>
                    <a:pt x="6" y="6"/>
                    <a:pt x="6" y="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lnTo>
                    <a:pt x="5" y="14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custGeom>
              <a:avLst/>
              <a:gdLst/>
              <a:ahLst/>
              <a:rect l="l" t="t" r="r" b="b"/>
              <a:pathLst>
                <a:path w="397" h="636">
                  <a:moveTo>
                    <a:pt x="0" y="636"/>
                  </a:moveTo>
                  <a:lnTo>
                    <a:pt x="397" y="636"/>
                  </a:lnTo>
                  <a:lnTo>
                    <a:pt x="397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6"/>
                    <a:pt x="3" y="6"/>
                    <a:pt x="0" y="5"/>
                  </a:cubicBezTo>
                  <a:cubicBezTo>
                    <a:pt x="3" y="4"/>
                    <a:pt x="6" y="4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4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5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Tano</dc:creator>
  <dc:description/>
  <dc:language>en-US</dc:language>
  <cp:lastModifiedBy>Tano</cp:lastModifiedBy>
  <dcterms:modified xsi:type="dcterms:W3CDTF">2010-08-09T15:17:49Z</dcterms:modified>
  <cp:revision>53</cp:revision>
  <dc:subject/>
  <dc:title>Slide 1</dc:title>
</cp:coreProperties>
</file>