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418-8C05-4286-B810-0CF6E00C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6F8-6243-4FF9-8545-5AC41AF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636-CC0D-4E8B-B9BF-93617AD8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FBB-EA8E-40EF-B46E-9C4329CA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9720-55F9-426A-9033-94659AF1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6412-A252-4C24-9F6C-1637DAA4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0307-0353-4711-B656-F9B7CFE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51B-5705-45A7-B7C7-B72DAE53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73BA-588A-4230-AD8D-F4A87AD4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BAF8-82E5-48EC-B91B-7C8B07A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E005-5088-47B8-B554-0FF0C7D5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D78-DCCE-4481-8CFA-932126CF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66D-409D-4B58-A03D-1872B35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51A-C1AD-4A31-82CE-DA957DD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FA2-B950-415C-8E07-E2629453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1D10-B865-49D0-A2AB-7A02DF8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18F-473E-4CD9-AD18-A7F468A4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2B59-5E23-48A4-A451-86C1597C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E3BD-A4A4-42DF-8342-630B3E0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E1F0-4A0C-411A-A66B-BDBC527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A981-2CDD-4CD0-B377-5F9F023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FF65-5894-4BD6-B078-2CB76DD4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1E8-C8D4-4DCD-A673-31A6B75F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DEBB-B389-4423-B211-CB8F74E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6EC2-9F0C-4099-BA12-73A20BA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E8CF-F10A-4B15-AA4A-33A130D0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69F9-69B1-457F-86BA-7834AA4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DC46-732E-4439-9E26-FF21334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F0695-0903-4682-80FA-C3CF741F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BC91-888E-4D26-90C9-5A5A7147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3EA9-25BE-4983-B6CE-EECFBCDB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FA42-795F-4D56-B826-950869B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8148-5473-42D9-8B5A-6748CA2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BE9-4EA5-4E1A-81E1-C000CC5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B056-2331-477F-BACC-57B9E4B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D7C4-976F-496B-A425-C88B636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D1DA-822C-4145-9DBE-D716FD72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2758-FB4C-4AE0-A0DB-FABC98B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71FA-8FE8-47A6-807C-304692D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FD24-782D-4F51-AB0D-0F60F4A6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D1FF-89E7-4F07-8984-C90A4A48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DFAA-A80D-4115-8547-2A20DA39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9612-6DC2-4533-BF7D-6B9F26AA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D01-CFD3-4BB3-9E62-11900E4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03F-0AA7-48AF-9EEC-A7923F34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CD7-9B98-4865-BB79-BE17A15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F7D-2C69-43D6-888B-C0001CB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E11-143D-4987-9916-D78B336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E53-E619-4FEF-AB55-EDB1E6DD16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BA0-0A67-4BB8-8115-E8BAC33506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763E-BF5E-497C-8C11-1DE8AAAB80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7D35-0520-4CF7-A61E-2DF4ADF984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1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custGeom>
              <a:avLst/>
              <a:gdLst>
                <a:gd name="textAreaLeft" fmla="*/ 0 w 1128960"/>
                <a:gd name="textAreaRight" fmla="*/ 1129320 w 11289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711" h="669">
                  <a:moveTo>
                    <a:pt x="711" y="0"/>
                  </a:moveTo>
                  <a:lnTo>
                    <a:pt x="0" y="0"/>
                  </a:lnTo>
                  <a:lnTo>
                    <a:pt x="0" y="669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" h="16">
                  <a:moveTo>
                    <a:pt x="5" y="3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11"/>
                    <a:pt x="6" y="13"/>
                    <a:pt x="5" y="16"/>
                  </a:cubicBezTo>
                  <a:cubicBezTo>
                    <a:pt x="5" y="13"/>
                    <a:pt x="4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482" h="636">
                  <a:moveTo>
                    <a:pt x="482" y="0"/>
                  </a:moveTo>
                  <a:lnTo>
                    <a:pt x="0" y="0"/>
                  </a:lnTo>
                  <a:lnTo>
                    <a:pt x="0" y="636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3"/>
                    <a:pt x="13" y="4"/>
                    <a:pt x="16" y="5"/>
                  </a:cubicBezTo>
                  <a:cubicBezTo>
                    <a:pt x="13" y="5"/>
                    <a:pt x="10" y="6"/>
                    <a:pt x="8" y="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618" h="779">
                  <a:moveTo>
                    <a:pt x="618" y="779"/>
                  </a:moveTo>
                  <a:lnTo>
                    <a:pt x="0" y="7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3" y="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1" y="4"/>
                    <a:pt x="13" y="4"/>
                    <a:pt x="16" y="5"/>
                  </a:cubicBezTo>
                  <a:cubicBezTo>
                    <a:pt x="13" y="6"/>
                    <a:pt x="11" y="6"/>
                    <a:pt x="8" y="7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75" h="534">
                  <a:moveTo>
                    <a:pt x="575" y="534"/>
                  </a:moveTo>
                  <a:lnTo>
                    <a:pt x="0" y="53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" h="16">
                  <a:moveTo>
                    <a:pt x="5" y="13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5"/>
                    <a:pt x="5" y="2"/>
                    <a:pt x="5" y="0"/>
                  </a:cubicBezTo>
                  <a:cubicBezTo>
                    <a:pt x="6" y="2"/>
                    <a:pt x="6" y="5"/>
                    <a:pt x="7" y="8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533" h="771">
                  <a:moveTo>
                    <a:pt x="0" y="0"/>
                  </a:moveTo>
                  <a:lnTo>
                    <a:pt x="533" y="0"/>
                  </a:lnTo>
                  <a:lnTo>
                    <a:pt x="533" y="771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5" y="6"/>
                    <a:pt x="3" y="5"/>
                    <a:pt x="0" y="5"/>
                  </a:cubicBezTo>
                  <a:cubicBezTo>
                    <a:pt x="3" y="4"/>
                    <a:pt x="5" y="3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507" h="534">
                  <a:moveTo>
                    <a:pt x="0" y="0"/>
                  </a:moveTo>
                  <a:lnTo>
                    <a:pt x="507" y="0"/>
                  </a:lnTo>
                  <a:lnTo>
                    <a:pt x="507" y="534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3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11"/>
                    <a:pt x="5" y="14"/>
                    <a:pt x="5" y="16"/>
                  </a:cubicBezTo>
                  <a:cubicBezTo>
                    <a:pt x="4" y="14"/>
                    <a:pt x="3" y="11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635" h="669">
                  <a:moveTo>
                    <a:pt x="0" y="669"/>
                  </a:moveTo>
                  <a:lnTo>
                    <a:pt x="635" y="669"/>
                  </a:lnTo>
                  <a:lnTo>
                    <a:pt x="635" y="0"/>
                  </a:lnTo>
                </a:path>
              </a:pathLst>
            </a:cu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" h="16">
                  <a:moveTo>
                    <a:pt x="5" y="14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6"/>
                    <a:pt x="4" y="3"/>
                    <a:pt x="5" y="0"/>
                  </a:cubicBezTo>
                  <a:cubicBezTo>
                    <a:pt x="5" y="3"/>
                    <a:pt x="6" y="6"/>
                    <a:pt x="6" y="8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lnTo>
                    <a:pt x="5" y="14"/>
                  </a:lnTo>
                  <a:close/>
                </a:path>
              </a:pathLst>
            </a:cu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custGeom>
              <a:avLst/>
              <a:gdLst/>
              <a:ahLst/>
              <a:rect l="l" t="t" r="r" b="b"/>
              <a:pathLst>
                <a:path w="397" h="636">
                  <a:moveTo>
                    <a:pt x="0" y="636"/>
                  </a:moveTo>
                  <a:lnTo>
                    <a:pt x="397" y="636"/>
                  </a:lnTo>
                  <a:lnTo>
                    <a:pt x="397" y="0"/>
                  </a:lnTo>
                </a:path>
              </a:pathLst>
            </a:cu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" h="10">
                  <a:moveTo>
                    <a:pt x="13" y="5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6" y="6"/>
                    <a:pt x="3" y="6"/>
                    <a:pt x="0" y="5"/>
                  </a:cubicBezTo>
                  <a:cubicBezTo>
                    <a:pt x="3" y="4"/>
                    <a:pt x="6" y="4"/>
                    <a:pt x="8" y="3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3" y="5"/>
                  </a:lnTo>
                  <a:close/>
                </a:path>
              </a:pathLst>
            </a:cu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4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custGeom>
            <a:avLst/>
            <a:gdLst>
              <a:gd name="textAreaLeft" fmla="*/ 0 w 215640"/>
              <a:gd name="textAreaRight" fmla="*/ 216000 w 215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" h="10">
                <a:moveTo>
                  <a:pt x="3" y="5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8" y="3"/>
                  <a:pt x="8" y="3"/>
                  <a:pt x="8" y="3"/>
                </a:cubicBezTo>
                <a:cubicBezTo>
                  <a:pt x="10" y="4"/>
                  <a:pt x="13" y="5"/>
                  <a:pt x="16" y="5"/>
                </a:cubicBezTo>
                <a:cubicBezTo>
                  <a:pt x="13" y="6"/>
                  <a:pt x="10" y="6"/>
                  <a:pt x="8" y="7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lnTo>
                  <a:pt x="3" y="5"/>
                </a:lnTo>
                <a:close/>
              </a:path>
            </a:pathLst>
          </a:cu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Tano</dc:creator>
  <dc:description/>
  <dc:language>en-US</dc:language>
  <cp:lastModifiedBy>Tano</cp:lastModifiedBy>
  <dcterms:modified xsi:type="dcterms:W3CDTF">2010-08-09T15:17:49Z</dcterms:modified>
  <cp:revision>53</cp:revision>
  <dc:subject/>
  <dc:title>Slide 1</dc:title>
</cp:coreProperties>
</file>