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1334E-996B-4CB4-9BD8-C2888DB7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A85F8-DA10-48D6-9FE1-3DEF30D1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8F19-3ED3-4772-86AB-3AFC7C70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34098-A1DD-4F32-B84A-45F7FB71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3A34-E5B4-4244-B836-D0FD3565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B6D2-1FFC-48C9-8D70-1EAEB530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C83D-6874-4D8E-85FD-48BB0944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E8F6-054D-49B2-BCA1-933A96D8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9B86-A7D2-4840-8D81-7DDD72DB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68A7-1B93-4A6F-B0CB-80BA1C00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E6E7-5F3C-45E6-B1DD-27E4F333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3C0CA-0412-4F3D-8583-616885D3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2242-6BCC-4330-A3AF-65F096C3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5CE7-C4F7-422B-96AF-5709FE9C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7306-F95F-4903-BD32-1DF0E6BD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ED52-0D64-4CEE-B96B-4704042F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7615-A515-42CE-968B-64F40706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47C84-34D2-4818-A188-78BF18B4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A7CD4-B2F4-472A-948E-A683764A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80311-BE50-40F7-8B4C-9471DB3D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C1D22-654D-47AA-96CB-CA58AB9C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47BE1-6CBE-4AB6-B881-35629D94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81598-04B2-4AF8-9E08-8FAFEF95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E4270-865D-41E8-9184-66792DFD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65BD-F086-41C5-9604-8717A0C8E53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72E8-13A8-4859-935F-11CE1DFB787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71E9-E4BD-4368-9252-EE4DB9B7CFF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1" i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28760" y="20001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</a:rPr>
              <a:t>DERECHO PROCESAL IV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LOS PROCEDIMIENTOS PENALES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B186-94B5-481F-84BA-D31D9B387FD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1" i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50920" y="333360"/>
            <a:ext cx="8893080" cy="65163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 09 de agosto – 19 de noviembre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ibre.  Sin embargo se controla para efectos lo indicado a propósito de los controles y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ectura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24 de sept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29 de octu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Adicionalmente, aquellos alumnos que registren una asistencia mínima de un 75%, podrán rendir un tercer control voluntario, con el que podrán reemplazar la menor nota obtenida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19 de noviembre (optativo)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artes 03 de diciembre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8:30 Hr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de lectura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3 en el semestre, en fechas y horarios a definir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Aquellos alumnos que registren una asistencia mínima de un 75%, podrán eliminar la menor nota obtenida en los controles, ponderando sólo dos de ell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 Preguntas de selección múltiple, verdadero y falso, preguntas abiertas y cas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40%. Controles de lectura, 20%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: 40%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5" descr="Facultad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D6B2-B7E4-471C-8933-57646F6083D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1" i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50920" y="480960"/>
            <a:ext cx="8893080" cy="58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V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LOS PROCEDIMIENTOS PEN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INTRODUCCIO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oceso penal como via de solución del conflict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sistemas procesales pen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principios y garantías del sistema procesal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sistema Procesal Penal chileno del Código de Procedimiento Penal y del Nuevo Código Procesal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 de las instituciones y disposiciones comunes del procedimiento civil en el procedimient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 ACCIO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civil en el proces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OS SUJETOS PROCES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tribunal (jueces de garantía y tribunales de juicio oral)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Ministerio Public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Policí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imputad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defensor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victim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querellante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actor civi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7" descr="Facultad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8232-1AB3-42A7-9A3A-9510A84A99F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9280" y="549360"/>
            <a:ext cx="89647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V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 LOS PROCEDIMIENTOS EN EL NUEVO CODIGO PROCESAL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oncept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lasificacion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S MEDIDAS CAUTELARES EN EL PROCES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personales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 La citació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 La detenció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La prisión preventiv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Otras medidas cautelar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2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re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EL PROCEDIMIENTO ORDINARI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6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 etapa de investigacio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ormas de iniciar el procedimiento. Iniciativa de fiscales, denuncia y querella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acultad de no iniciar la investigacion y el archivo provisional.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incipio de oportunidad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ormalizacion de la investigacio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diligencias de investigacion y su control por parte del juez de garanti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mecanismos de aceleracion de la investigacion: Plazo para formalizar la investigacion; plazo para cerrar la investigacion, juicio inmediato y procedimiento abreviad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g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salidas alternativas: suspension condicional del procedimiento y acuerdos reparatori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h.-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lusión de la investigación: cierre de la investigación, sobreseimiento y decisión del ministerio público de no perseverar en el procedimient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5" descr="Facultad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6452-8FFD-41B6-9EE0-7F01309C4CF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50920" y="62064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2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La etapa intermedia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La acusació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Audiencia de preparación del juicio oral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3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El juicio or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Dirección y disciplin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Desarrollo y registro del juicio oral. Principios formativos que lo informan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os Medios de prueba en particular y el sistema de valoración de la prueb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d.- Sentencia definitiv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ABREVIAD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SIMPLIFICADO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Monitori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Simplificado ordinari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PROCEDIMIENTO ACCION PENAL PRIVAD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BREVES NOCIONES DE LOS PROCEDIMIENTOS ESPECI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El procedimiento por crimen o simple delito contra personas ausent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El procedimiento relativo a persona que tiene fuer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a querella de capítul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d.- La extradición:</a:t>
            </a: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) Extradición activa.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) Extradición pasiva.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) Aplicación de código de derecho internacional privad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DE CUMPLIMIENTO DE LA SENTENCIA DEFINITIVA PRONUNCIADA EN EL PROCEDIMIENT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5" descr="Facultad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úl Montero López</cp:lastModifiedBy>
  <dcterms:modified xsi:type="dcterms:W3CDTF">2010-08-09T04:01:36Z</dcterms:modified>
  <cp:revision>759</cp:revision>
  <dc:subject/>
  <dc:title>PowerPoint Presentation</dc:title>
</cp:coreProperties>
</file>