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84CE-8BCE-41A8-879E-7A629415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7305-F572-44FB-ADAD-AF42ED6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D856-CAFF-4CB1-B9D4-6C24347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7E6A-4AB7-4165-B694-AA80372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1385-2C5B-45A3-A6F6-0B9B0C7D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8C74-9D48-4277-803A-4311DBFC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1F47-8CF2-4DB3-9804-62360E8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C18C-A0D0-4DEE-9E8B-B38AE2B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B4DA-52C9-4F50-8E67-F51FB55A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F52E-6A63-4242-BB9E-861596D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6F61-134D-41D3-BBD0-04C45BB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BD4F0-19F7-49C7-979D-EC50E8F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C55D-EB99-420E-AE11-B0E821EB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EDA-0D7F-4443-9680-B08D6AEE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3715-C2CD-4ED6-B1D7-4C6DB99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DDC-3BFC-45FC-BC76-F5333F12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B066-9A1A-4902-B0B3-7D517DB8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8FB7-BD96-4205-87AE-C89F724B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97B9-1C70-41B2-9FE9-D69B524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C4F7-91CB-421D-A221-AE012D86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0319-D566-4595-8C8F-38AA0343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51D3-01E7-4AA2-9331-D31DBA3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F0A2-E351-4D92-A1C1-0735D63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9578-421D-4EB0-BC7C-E1F7485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2037-61F7-4837-B83A-3F92D4035DC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FD0E-E87A-47FA-A91F-DAEA75E48BD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6C72-1909-43A1-89A9-A432BF52F64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28760" y="20001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OS PROCEDIMIENTOS PENALES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F13-491D-4422-9C1F-A6BAC9835D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333360"/>
            <a:ext cx="8893080" cy="6516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9 de agosto – 19 de noviembr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.  Sin embargo se controla para efectos lo indicado a propósito de los controles y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ectura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4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dicionalmente, aquellos alumnos que registren una asistencia mínima de un 75%, podrán rendir un tercer control voluntario, con el que podrán reemplazar la menor nota obtenid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9 de noviembre (optativo)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03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de lectura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3 en el semestre, en fechas y horarios a defini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quellos alumnos que registren una asistencia mínima de un 75%, podrán eliminar la menor nota obtenida en los controles, ponderando sólo dos de el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40%. Controles de lectura, 2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: 4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C729-CCC6-413F-9498-40B9C53CD5F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21F-BE8B-4D53-A566-C9791ECD819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E0D-320F-4C9B-B300-E5962E8B99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úl Montero López</cp:lastModifiedBy>
  <dcterms:modified xsi:type="dcterms:W3CDTF">2010-08-09T04:01:36Z</dcterms:modified>
  <cp:revision>759</cp:revision>
  <dc:subject/>
  <dc:title>PowerPoint Presentation</dc:title>
</cp:coreProperties>
</file>