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596A-3B61-4685-87A3-BB6842E1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A4002-7E6D-479B-92D2-97ABAE1E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DDEF0-4C82-4637-8E68-3BF7C213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AA7A2-3887-4788-A9D8-00C26B29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897F-9D22-4CFD-973C-D5EF987E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FA6D-67CC-4C38-ADB3-8BDE4479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C652-8758-45C1-A51E-549853F2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5EA3-37ED-4AB9-BA60-C1E7AEC6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7489-F463-4C2A-B003-F5F441B7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30DC-54BD-470F-BD25-E1B2217D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ECF5-8527-44C0-A021-D45D601D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F67FF-98A1-4CA6-8308-9EA28382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4DD3-F48B-4509-98CC-CE06EEC0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5FB6-C520-44D9-87CC-2B7BE8F1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FDE6-737B-4899-9625-908144F3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EBA5-63A0-47F8-97A3-693ED518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8117-AA36-4E35-BD28-014805D1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1B7D1-D5B6-43E2-ADC4-301DAF29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E503-9A66-454D-86DD-C61CC46A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BCD4F-879F-4228-9E64-F052C694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F6442-A350-4CBD-8EE7-12CA5831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6DD1B-393F-4D84-AA29-27FB02E4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B25EA-65C8-4D99-BEE6-5BAF76D9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4BCD4-D9F0-4F19-A01C-FABED8B8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0B67-AE02-477C-B71D-6A6AEC0E22F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7FFB-F4AF-43CA-9415-0EE91DC4EE4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71C7-E18A-4454-B6AD-693CBD7128E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1" i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428760" y="20001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</a:rPr>
              <a:t>DERECHO PROCESAL IV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LOS PROCEDIMIENTOS PENALES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C5F5-0C8B-4DEA-89CA-FB1EC7A6BE5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1" i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50920" y="333360"/>
            <a:ext cx="8893080" cy="65163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 clas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9:45 - 10:55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nicio y término de clas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 09 de agosto – 19 de noviembre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Asistencia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ibre.  Sin embargo se controla para efectos lo indicado a propósito de los controles y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ectura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y Examen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24 de septiem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29 de octu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Adicionalmente, aquellos alumnos que registren una asistencia mínima de un 75%, podrán rendir un tercer control voluntario, con el que podrán reemplazar la menor nota obtenida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19 de noviembre (optativo)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 final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artes 03 de diciembre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8:30 Hr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de lectura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3 en el semestre, en fechas y horarios a definir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Aquellos alumnos que registren una asistencia mínima de un 75%, podrán eliminar la menor nota obtenida en los controles, ponderando sólo dos de ello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Rezagados: El curso no considera tomar controles rezagado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structura de los controles y ponderación. Preguntas de selección múltiple, verdadero y falso, preguntas abiertas y caso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: 40%. Controles de lectura, 20%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: 40%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5" descr="Facultad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1" i="1" lang="en-US" sz="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36EA-006E-4366-9330-7694A8AFE2A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1" i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50920" y="480960"/>
            <a:ext cx="8893080" cy="58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DERECHO PROCESAL IV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LOS PROCEDIMIENTOS PENAL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INTRODUCCIO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oceso penal como via de solución del conflict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sistemas procesales penal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principios y garantías del sistema procesal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sistema Procesal Penal chileno del Código de Procedimiento Penal y del Nuevo Código Procesal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 de las instituciones y disposiciones comunes del procedimiento civil en el procedimient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 ACCIO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civil en el proces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OS SUJETOS PROCESAL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tribunal (jueces de garantía y tribunales de juicio oral)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Ministerio Public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Policí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imputad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defensor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victim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querellante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actor civi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7" descr="Facultad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1" i="1" lang="en-US" sz="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C588-C039-4451-AA02-20F99375FB0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9280" y="549360"/>
            <a:ext cx="896472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V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 LOS PROCEDIMIENTOS EN EL NUEVO CODIGO PROCESAL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oncept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lasificacion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S MEDIDAS CAUTELARES EN EL PROCES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personales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 La citació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 La detenció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La prisión preventiv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Otras medidas cautelar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2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real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EL PROCEDIMIENTO ORDINARI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6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 etapa de investigacio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ormas de iniciar el procedimiento. Iniciativa de fiscales, denuncia y querella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acultad de no iniciar la investigacion y el archivo provisional.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incipio de oportunidad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ormalizacion de la investigacio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diligencias de investigacion y su control por parte del juez de garanti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mecanismos de aceleracion de la investigacion: Plazo para formalizar la investigacion; plazo para cerrar la investigacion, juicio inmediato y procedimiento abreviad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g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salidas alternativas: suspension condicional del procedimiento y acuerdos reparatorio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h.-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onclusión de la investigación: cierre de la investigación, sobreseimiento y decisión del ministerio público de no perseverar en el procedimient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5" descr="Facultad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1" i="1" lang="en-US" sz="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49A8-9059-45D5-B191-0CFCF206F22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50920" y="62064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2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La etapa intermedia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La acusació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Audiencia de preparación del juicio oral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3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El juicio or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Dirección y disciplin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Desarrollo y registro del juicio oral. Principios formativos que lo informan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os Medios de prueba en particular y el sistema de valoración de la prueb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d.- Sentencia definitiv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ABREVIAD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SIMPLIFICADO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Monitori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Simplificado ordinari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PROCEDIMIENTO ACCION PENAL PRIVAD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BREVES NOCIONES DE LOS PROCEDIMIENTOS ESPECIAL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El procedimiento por crimen o simple delito contra personas ausent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El procedimiento relativo a persona que tiene fuer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a querella de capítulo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d.- La extradición:</a:t>
            </a: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) Extradición activa.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) Extradición pasiva.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) Aplicación de código de derecho internacional privad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DE CUMPLIMIENTO DE LA SENTENCIA DEFINITIVA PRONUNCIADA EN EL PROCEDIMIENT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5" descr="Facultad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1" i="1" lang="en-US" sz="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úl Montero López</cp:lastModifiedBy>
  <dcterms:modified xsi:type="dcterms:W3CDTF">2010-08-09T04:01:36Z</dcterms:modified>
  <cp:revision>759</cp:revision>
  <dc:subject/>
  <dc:title>PowerPoint Presentation</dc:title>
</cp:coreProperties>
</file>