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A3B4-E30E-4980-8F34-3E4F3177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3164-9F20-4609-A20D-AFCE3D97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BD392-7A10-423A-A557-02A2EC3E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B610-D868-40B2-BFC7-13F9A693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9F69-66A7-4A6D-B5A1-8D3A975F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77B7-C9C7-4C8C-825F-A72E7B01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3E05-E7C7-42BD-8F97-B8F4E167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0CE2-6111-421C-9FE0-6C7712E9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7BB4-35A3-4A5A-8EDF-EB8EC806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6F54-77F5-4278-979A-A65579CA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2FCD-C5E8-45BB-8013-28ED3D60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2BFC0-7E82-4ADA-B8F9-C88AEB68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2761-D339-4F9B-AA8A-6642386B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0DE0-8031-446D-A38B-36E06318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98CD-6E80-4AAF-8DBF-E9B0B7FD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1356-782F-431A-9BC6-12E0A3EF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905D-511B-4DB5-9F80-2B2281D1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87EE-E2F0-4BE6-ADEE-1D1A5D09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F859-C919-4C38-A08F-40E8520C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B71E-889B-49FB-93B9-2E11CAB4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A669-AC0D-43B3-B9C4-06A957F2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EBCB-12FB-4DAD-B00F-34FA055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5E15-6502-453B-A71C-29E6FAC1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C93C-D1AE-48F4-B0C1-24D507EF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D1D9-6739-4C9A-B287-34064A21C36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981E-6E28-4250-9DC5-96024F1E305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A559-6A39-4A24-84FF-CB73D86AEDB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28760" y="20001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OS PROCEDIMIENTOS PENALES</a:t>
            </a:r>
            <a:endParaRPr b="1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963D-D3A3-4F71-AD66-E41E0283A8D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0920" y="333360"/>
            <a:ext cx="8893080" cy="6516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9 de agosto – 19 de noviembre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.  Sin embargo se controla para efectos lo indicado a propósito de los controles y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ectura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4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9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dicionalmente, aquellos alumnos que registren una asistencia mínima de un 75%, podrán rendir un tercer control voluntario, con el que podrán reemplazar la menor nota obtenid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19 de noviembre (optativo)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03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de lectura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3 en el semestre, en fechas y horarios a definir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Aquellos alumnos que registren una asistencia mínima de un 75%, podrán eliminar la menor nota obtenida en los controles, ponderando sólo dos de ell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40%. Controles de lectura, 20%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: 40%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5827-88A9-4865-87AA-E69FB73C364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1" i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9FB0-E7D1-4C2D-957F-C3336466D9E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1FB4-EFFA-4C71-AF26-11508329DF2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1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5" descr="Facultad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1" i="1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úl Montero López</cp:lastModifiedBy>
  <dcterms:modified xsi:type="dcterms:W3CDTF">2010-08-09T04:01:36Z</dcterms:modified>
  <cp:revision>759</cp:revision>
  <dc:subject/>
  <dc:title>PowerPoint Presentation</dc:title>
</cp:coreProperties>
</file>