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7F7D0-8C23-46CF-9E52-E084B3F37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2DC46-1E07-4D1E-8112-C1033A1EA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2DD82-844C-4C40-937A-8B4CC2A9D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B56C7-52C0-451A-B286-59D2F4216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CFC14-CF59-497E-B8C8-406BC4621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8088F-379C-47FD-9AC7-6A198BF55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2286-4CEC-46DD-89AD-294AAB0BA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15CE9-9C91-4B19-AA32-1CAA46A55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1CCA-ED8D-4C02-B938-DABF4E23B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D1322-CBE5-4D88-AFDB-0396C80E3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9F8B4-DEDE-4FE0-B8DB-57C9FD9E7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E951-A87E-4064-B7EA-C86811B18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BFF9-A4C6-4C7E-9318-6721993449D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7640" y="2130120"/>
            <a:ext cx="5110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a interna de la Independencia, desde punto de vista hispanoamericano  y regionalizado</a:t>
            </a:r>
            <a:endParaRPr b="0" lang="en-US" sz="4000" spc="-1" strike="noStrike">
              <a:solidFill>
                <a:srgbClr val="000000"/>
              </a:solidFill>
              <a:latin typeface="Arial"/>
            </a:endParaRPr>
          </a:p>
        </p:txBody>
      </p:sp>
      <p:pic>
        <p:nvPicPr>
          <p:cNvPr id="42" name="" descr=""/>
          <p:cNvPicPr/>
          <p:nvPr/>
        </p:nvPicPr>
        <p:blipFill>
          <a:blip r:embed="rId1"/>
          <a:stretch/>
        </p:blipFill>
        <p:spPr>
          <a:xfrm>
            <a:off x="0" y="0"/>
            <a:ext cx="3419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00720" y="274320"/>
            <a:ext cx="418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chupines y criollo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el período 1751-1808, de los 266 nombramientos que se hicieron en las audiencias sólo el 62 por ciento fue para criollos, mientras que 200 fueron para peninsulares. En 1808, de los 99 funcionarios de los tribunales coloniales sólo seis criollos recibieron nombramientos en sus propias regiones, y diecinueve en otros lugares.</a:t>
            </a:r>
            <a:endParaRPr b="0" lang="en-US" sz="2000" spc="-1" strike="noStrike">
              <a:solidFill>
                <a:srgbClr val="000000"/>
              </a:solidFill>
              <a:latin typeface="Arial"/>
            </a:endParaRPr>
          </a:p>
        </p:txBody>
      </p:sp>
      <p:pic>
        <p:nvPicPr>
          <p:cNvPr id="77" name="" descr=""/>
          <p:cNvPicPr/>
          <p:nvPr/>
        </p:nvPicPr>
        <p:blipFill>
          <a:blip r:embed="rId1"/>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 europeo más miserable, sin educación y sin cultivo intelectual, se cree superior a los blancos nacidos en el nuevo contin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umbold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rincipios del siglo XIX, de una población total de 16,9 millones había 3,2 millones de blancos, y de éstos sólo 30.000 o 40.000 eran peninsular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 descr=""/>
          <p:cNvPicPr/>
          <p:nvPr/>
        </p:nvPicPr>
        <p:blipFill>
          <a:blip r:embed="rId1"/>
          <a:stretch/>
        </p:blipFill>
        <p:spPr>
          <a:xfrm>
            <a:off x="0" y="46080"/>
            <a:ext cx="4716360" cy="6811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21"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32000" y="274320"/>
            <a:ext cx="375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cionalismos</a:t>
            </a:r>
            <a:endParaRPr b="0" lang="en-US" sz="4000" spc="-1" strike="noStrike">
              <a:solidFill>
                <a:srgbClr val="000000"/>
              </a:solidFill>
              <a:latin typeface="Arial"/>
            </a:endParaRPr>
          </a:p>
        </p:txBody>
      </p:sp>
      <p:sp>
        <p:nvSpPr>
          <p:cNvPr id="83"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148000" y="1600200"/>
            <a:ext cx="353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5435640" y="1413000"/>
            <a:ext cx="3313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Portrait of Thomas Jefferson, U.S. President and author of the Declaration of 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500720" y="0"/>
            <a:ext cx="4643280" cy="6858000"/>
          </a:xfrm>
          <a:prstGeom prst="rect">
            <a:avLst/>
          </a:prstGeom>
          <a:ln w="0">
            <a:noFill/>
          </a:ln>
        </p:spPr>
      </p:pic>
      <p:pic>
        <p:nvPicPr>
          <p:cNvPr id="91" name="" descr=""/>
          <p:cNvPicPr/>
          <p:nvPr/>
        </p:nvPicPr>
        <p:blipFill>
          <a:blip r:embed="rId2"/>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4921200" cy="6858000"/>
          </a:xfrm>
          <a:prstGeom prst="rect">
            <a:avLst/>
          </a:prstGeom>
          <a:ln w="0">
            <a:noFill/>
          </a:ln>
        </p:spPr>
      </p:pic>
      <p:pic>
        <p:nvPicPr>
          <p:cNvPr id="95" name="" descr=""/>
          <p:cNvPicPr/>
          <p:nvPr/>
        </p:nvPicPr>
        <p:blipFill>
          <a:blip r:embed="rId2"/>
          <a:stretch/>
        </p:blipFill>
        <p:spPr>
          <a:xfrm>
            <a:off x="4932360" y="0"/>
            <a:ext cx="4211640" cy="6858000"/>
          </a:xfrm>
          <a:prstGeom prst="rect">
            <a:avLst/>
          </a:prstGeom>
          <a:ln w="0">
            <a:noFill/>
          </a:ln>
        </p:spPr>
      </p:pic>
      <p:pic>
        <p:nvPicPr>
          <p:cNvPr id="96" name="" descr=""/>
          <p:cNvPicPr/>
          <p:nvPr/>
        </p:nvPicPr>
        <p:blipFill>
          <a:blip r:embed="rId3"/>
          <a:stretch/>
        </p:blipFill>
        <p:spPr>
          <a:xfrm>
            <a:off x="4356000" y="4152960"/>
            <a:ext cx="1714680" cy="27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Arial"/>
            </a:endParaRPr>
          </a:p>
        </p:txBody>
      </p:sp>
      <p:pic>
        <p:nvPicPr>
          <p:cNvPr id="100"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4643280" cy="6858000"/>
          </a:xfrm>
          <a:prstGeom prst="rect">
            <a:avLst/>
          </a:prstGeom>
          <a:ln w="0">
            <a:noFill/>
          </a:ln>
        </p:spPr>
      </p:pic>
      <p:pic>
        <p:nvPicPr>
          <p:cNvPr id="109"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3" name="PlaceHolder 2"/>
          <p:cNvSpPr>
            <a:spLocks noGrp="1"/>
          </p:cNvSpPr>
          <p:nvPr>
            <p:ph/>
          </p:nvPr>
        </p:nvSpPr>
        <p:spPr>
          <a:xfrm>
            <a:off x="609120" y="1676520"/>
            <a:ext cx="57913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502320" y="1752480"/>
            <a:ext cx="2641680" cy="4114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6" name="PlaceHolder 2"/>
          <p:cNvSpPr>
            <a:spLocks noGrp="1"/>
          </p:cNvSpPr>
          <p:nvPr>
            <p:ph/>
          </p:nvPr>
        </p:nvSpPr>
        <p:spPr>
          <a:xfrm>
            <a:off x="609120" y="1676520"/>
            <a:ext cx="5791320" cy="411480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800" spc="-1" strike="noStrike">
              <a:solidFill>
                <a:srgbClr val="000000"/>
              </a:solidFill>
              <a:latin typeface="Arial"/>
            </a:endParaRPr>
          </a:p>
        </p:txBody>
      </p:sp>
      <p:pic>
        <p:nvPicPr>
          <p:cNvPr id="117" name="" descr=""/>
          <p:cNvPicPr/>
          <p:nvPr/>
        </p:nvPicPr>
        <p:blipFill>
          <a:blip r:embed="rId1"/>
          <a:stretch/>
        </p:blipFill>
        <p:spPr>
          <a:xfrm>
            <a:off x="6502320" y="1752480"/>
            <a:ext cx="2641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32000" y="274320"/>
            <a:ext cx="375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cia</a:t>
            </a:r>
            <a:endParaRPr b="0" lang="en-US" sz="4000" spc="-1" strike="noStrike">
              <a:solidFill>
                <a:srgbClr val="000000"/>
              </a:solidFill>
              <a:latin typeface="Arial"/>
            </a:endParaRPr>
          </a:p>
        </p:txBody>
      </p:sp>
      <p:sp>
        <p:nvSpPr>
          <p:cNvPr id="119"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12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abía una gran diferencia entre las pampas del Río de la Plata y el altiplano del Alto Perú, entre el campo chileno y las plantaciones de la costa de Venezuela, entre la economía agrícola de Nueva Granada y las zonas mineras de México y Perú, entre el gaucho, el llanero, el choclo y el inquilino?</a:t>
            </a:r>
            <a:endParaRPr b="0" lang="en-US" sz="2400" spc="-1" strike="noStrike">
              <a:solidFill>
                <a:srgbClr val="000000"/>
              </a:solidFill>
              <a:latin typeface="Arial"/>
            </a:endParaRPr>
          </a:p>
        </p:txBody>
      </p:sp>
      <p:pic>
        <p:nvPicPr>
          <p:cNvPr id="125"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ardaba cuatro meses por mar entre Buenos Aires y Acapulco, y el regreso era todavía más lento. El viaje por tierra de Buenos Aires a Santiago, cruzando pampas y cordilleras, costaba dos agotadores meses. Si alguien era lo bastante temerario para viajar desde Buenos Aires a Cartagena por tierra se enfrentaba con un viaje a caballo, carros y transportes fluviales vía Lima, Quito y Bogotá, que le tomaba nueve me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 descr=""/>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0" y="0"/>
            <a:ext cx="4572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de 1800 México producía el 66 por ciento del total mundial de plata, e Hispanoamérica contribuía con el 90 por ciento a la producción mundial.</a:t>
            </a:r>
            <a:endParaRPr b="0" lang="en-US" sz="2800" spc="-1" strike="noStrike">
              <a:solidFill>
                <a:srgbClr val="000000"/>
              </a:solidFill>
              <a:latin typeface="Arial"/>
            </a:endParaRPr>
          </a:p>
        </p:txBody>
      </p:sp>
      <p:pic>
        <p:nvPicPr>
          <p:cNvPr id="50" name="" descr=""/>
          <p:cNvPicPr/>
          <p:nvPr/>
        </p:nvPicPr>
        <p:blipFill>
          <a:blip r:embed="rId1"/>
          <a:stretch/>
        </p:blipFill>
        <p:spPr>
          <a:xfrm>
            <a:off x="155520" y="46080"/>
            <a:ext cx="448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0" y="0"/>
            <a:ext cx="4572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tre 1651 y 1739, el 30 por ciento del ingreso del tesoro en Lima era invertido en la defensa del virreinato y sus dependencias; otro 49,4 era gastado en la administración virreinal, salarios, pensiones, subvenciones, y en compras de abastecimientos para la industria minera; y sólo el 20,6 era enviado a España.</a:t>
            </a:r>
            <a:endParaRPr b="0" lang="en-US" sz="2400" spc="-1" strike="noStrike">
              <a:solidFill>
                <a:srgbClr val="000000"/>
              </a:solidFill>
              <a:latin typeface="Arial"/>
            </a:endParaRPr>
          </a:p>
        </p:txBody>
      </p:sp>
      <p:pic>
        <p:nvPicPr>
          <p:cNvPr id="54"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Effect filter="box(in)" transition="in">
                                      <p:cBhvr additive="repl">
                                        <p:cTn id="14"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criollos</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31636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 crecimiento económico fue acompañado de cambio social, formándose una élite criolla de terratenientes.</a:t>
            </a:r>
            <a:endParaRPr b="0" lang="en-US" sz="2800" spc="-1" strike="noStrike">
              <a:solidFill>
                <a:srgbClr val="000000"/>
              </a:solidFill>
              <a:latin typeface="Arial"/>
            </a:endParaRPr>
          </a:p>
        </p:txBody>
      </p:sp>
      <p:pic>
        <p:nvPicPr>
          <p:cNvPr id="57" name="" descr=""/>
          <p:cNvPicPr/>
          <p:nvPr/>
        </p:nvPicPr>
        <p:blipFill>
          <a:blip r:embed="rId1"/>
          <a:stretch/>
        </p:blipFill>
        <p:spPr>
          <a:xfrm>
            <a:off x="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criollo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48320" y="1600200"/>
            <a:ext cx="31636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43280" y="274320"/>
            <a:ext cx="45007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temor español</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64" name="PlaceHolder 3"/>
          <p:cNvSpPr>
            <a:spLocks noGrp="1"/>
          </p:cNvSpPr>
          <p:nvPr>
            <p:ph/>
          </p:nvPr>
        </p:nvSpPr>
        <p:spPr>
          <a:xfrm>
            <a:off x="4648320" y="1125000"/>
            <a:ext cx="449568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La seguridad de las Américas se ha de medir por la dependencia en que se hallan de la metrópoli, y esta dependencia está fundada en los consumos. El día que contengan en sí todo lo necesario, su dependencia sería voluntar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l de Taboada, Virrey del Perú. 1790-179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67"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panoamérica estaba sujeta a finales del siglo XVIII a un nuevo imperialismo; su administración había sido reformada, su defensa reorganizada, su comerci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vivado.</a:t>
            </a:r>
            <a:endParaRPr b="0" lang="en-US" sz="2800" spc="-1" strike="noStrike">
              <a:solidFill>
                <a:srgbClr val="000000"/>
              </a:solidFill>
              <a:latin typeface="Arial"/>
            </a:endParaRPr>
          </a:p>
        </p:txBody>
      </p:sp>
      <p:pic>
        <p:nvPicPr>
          <p:cNvPr id="69" name="" descr=""/>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43280" y="274320"/>
            <a:ext cx="40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71"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2" name="PlaceHolder 3"/>
          <p:cNvSpPr>
            <a:spLocks noGrp="1"/>
          </p:cNvSpPr>
          <p:nvPr>
            <p:ph/>
          </p:nvPr>
        </p:nvSpPr>
        <p:spPr>
          <a:xfrm>
            <a:off x="4648320" y="1599840"/>
            <a:ext cx="44956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Los americanos, en el sistema español que está en vigor no ocupan otro lugar en la sociedad que el de los siervos propios para el trabajo, y cuando más, el de simples consumidores […] ¿Quiere usted saber cuál era nuestro destino? Los campos para cultivar el añil, la grama, el café, la caña, el cacao y el algodón, las llanuras solitarias para criar ganados, los desiertos para cazar las bestias feroces, las entrañas de la tierra para excavar el oro que puede saciar a esa nación avari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lívar</a:t>
            </a:r>
            <a:endParaRPr b="0" lang="en-US" sz="2000" spc="-1" strike="noStrike">
              <a:solidFill>
                <a:srgbClr val="000000"/>
              </a:solidFill>
              <a:latin typeface="Arial"/>
            </a:endParaRPr>
          </a:p>
        </p:txBody>
      </p:sp>
      <p:pic>
        <p:nvPicPr>
          <p:cNvPr id="73" name="" descr=""/>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2:22:54Z</dcterms:created>
  <dc:creator>smicco</dc:creator>
  <dc:description/>
  <dc:language>en-US</dc:language>
  <cp:lastModifiedBy>Sergio Mico</cp:lastModifiedBy>
  <dcterms:modified xsi:type="dcterms:W3CDTF">2010-09-13T00:12:42Z</dcterms:modified>
  <cp:revision>13</cp:revision>
  <dc:subject/>
  <dc:title>Historia interna de la Independencia, desde punto de vista hispanoamericano  y regionalizado</dc:title>
</cp:coreProperties>
</file>