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wmf" ContentType="image/x-wmf"/>
  <Override PartName="/ppt/media/image24.png" ContentType="image/png"/>
  <Override PartName="/ppt/media/image23.png" ContentType="image/png"/>
  <Override PartName="/ppt/media/image21.jpeg" ContentType="image/jpeg"/>
  <Override PartName="/ppt/media/image29.png" ContentType="image/png"/>
  <Override PartName="/ppt/media/image32.wmf" ContentType="image/x-wmf"/>
  <Override PartName="/ppt/media/image18.jpeg" ContentType="image/jpeg"/>
  <Override PartName="/ppt/media/image15.png" ContentType="image/png"/>
  <Override PartName="/ppt/media/image26.png" ContentType="image/png"/>
  <Override PartName="/ppt/media/image3.gif" ContentType="image/gif"/>
  <Override PartName="/ppt/media/image17.jpeg" ContentType="image/jpeg"/>
  <Override PartName="/ppt/media/image16.png" ContentType="image/png"/>
  <Override PartName="/ppt/media/image20.jpeg" ContentType="image/jpeg"/>
  <Override PartName="/ppt/media/image13.png" ContentType="image/png"/>
  <Override PartName="/ppt/media/image33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34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jpeg" ContentType="image/jpeg"/>
  <Override PartName="/ppt/media/image2.png" ContentType="image/png"/>
  <Override PartName="/ppt/media/image3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2.jpeg" ContentType="image/jpeg"/>
  <Override PartName="/ppt/media/image4.png" ContentType="image/png"/>
  <Override PartName="/ppt/media/image14.wmf" ContentType="image/x-wmf"/>
  <Override PartName="/ppt/media/image10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5EB0-3D46-43CB-84FD-740DB76E2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407-64F5-4B28-962A-39CAF77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39E5-0C20-46A1-9F02-CACA286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15B6-F7A0-4264-82DC-25502495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9F39-662A-4DA3-ABA8-E0D173E7F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5FD1-A655-4889-A769-8A9610924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0D3-EE0F-44A1-9C89-896B4CDD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BBAE-B651-4B59-8276-A43FA747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35CF-2A9D-420A-82EF-F706AE46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F2FB-EF2C-482F-9237-1CD657AF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87AB-F82F-4C2E-A514-E1113D46C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38E6-3754-44F3-B6F7-A8B0AA8DD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7E63-7710-4761-9C49-9676C5DFEEC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847280" cy="597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Transición y Consolidación Democrática en Chi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tanford Chil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os orígenes de la democracia en Chile</a:t>
            </a:r>
            <a:br>
              <a:rPr sz="4400"/>
            </a:br>
            <a:br>
              <a:rPr sz="44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ofesor: Sergio Micco Aguayo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rimaver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2009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antiago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La profecía de Bolív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l que dijo que había edificado sobre los vientos y arado en el mar señaló en carta de 1815 “Si alguna república sobrevive largo tiempo en América, me inclino a pensar que será la chilena (…) (…) Su territorio es limitado y conservará su uniformidad (…) En una palabra, Chile puede ser lib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La democracia en Chi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¿Cómo un país pequeño, pobre, católico y desigual logró consolidar una república entre 1830 y 1973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(o de cómo una rana se transformó en príncip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AN02542_"/>
          <p:cNvPicPr/>
          <p:nvPr/>
        </p:nvPicPr>
        <p:blipFill>
          <a:blip r:embed="rId1"/>
          <a:stretch/>
        </p:blipFill>
        <p:spPr>
          <a:xfrm>
            <a:off x="4648320" y="2197080"/>
            <a:ext cx="3809880" cy="36831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Una rana muy fe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7" descr="AN02542_"/>
          <p:cNvPicPr/>
          <p:nvPr/>
        </p:nvPicPr>
        <p:blipFill>
          <a:blip r:embed="rId1"/>
          <a:stretch/>
        </p:blipFill>
        <p:spPr>
          <a:xfrm>
            <a:off x="2443320" y="1981080"/>
            <a:ext cx="425592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>
                <a:solidFill>
                  <a:srgbClr val="000000"/>
                </a:solidFill>
                <a:latin typeface="Times New Roman"/>
              </a:rPr>
              <a:t>The chilean's cas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Orígenes de la estabilidad polí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rturo y Samuel Valenzuel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Los orígenes de la Democracia. Reflexiones teóricas sobre el caso de Ch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6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hile figuraba entre el 15% más democrático del mundo, con un puntaje, en 1965 superior al de los Estados Unidos, Francia, Alemania Federal e Italia. El puntaje en 1960 era superior al de Gran Bretañ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hile: participación política más liberaliz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90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 partir de 1839 la oposición se organiza en el Congreso para fiscalizar a un Presidente que elegido por mandato fijo. El senado se elige en forma directa a partir de 1870. La competencia política parlamentaria se consolida antes que Bélgica, Países Bajos, Suecia, Italia, Francia, Alemania pero después de Gran Bretaña y Noruega.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" descr="PE02097_"/>
          <p:cNvPicPr/>
          <p:nvPr/>
        </p:nvPicPr>
        <p:blipFill>
          <a:blip r:embed="rId1"/>
          <a:stretch/>
        </p:blipFill>
        <p:spPr>
          <a:xfrm>
            <a:off x="685800" y="2513160"/>
            <a:ext cx="3809880" cy="3051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 participación era escas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1846 sólo votaban los varones propietarios y alfabetos (Un 2% de la población al igual que Gran Bretaña, Países Bajos, Luxemburgo e Italia) El voto secreto se instituyó poco después de Gran Bretaña, Suecia y Alema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5" descr="BD06990_"/>
          <p:cNvPicPr/>
          <p:nvPr/>
        </p:nvPicPr>
        <p:blipFill>
          <a:blip r:embed="rId1"/>
          <a:stretch/>
        </p:blipFill>
        <p:spPr>
          <a:xfrm>
            <a:off x="4648320" y="2421000"/>
            <a:ext cx="3809880" cy="32353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cultu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Orden católico y semifeudal retrasa el avance de la democra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teorías ec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odernización y ascenso de la burguesía urbana, secularizada e industrial y/o de los agricultores lib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4" descr="BD00028_"/>
          <p:cNvPicPr/>
          <p:nvPr/>
        </p:nvPicPr>
        <p:blipFill>
          <a:blip r:embed="rId1"/>
          <a:stretch/>
        </p:blipFill>
        <p:spPr>
          <a:xfrm>
            <a:off x="685800" y="2171880"/>
            <a:ext cx="3809880" cy="37321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Aguirre,+la+ira+de+dios04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3" descr="mement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5" descr="PioIX(400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as razones históricas y polít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a estabilidad de la  democracia chilena se debe a razones fortuitas, liderazgo republicano y élites que la consolidan en moment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5" descr="BD04914_"/>
          <p:cNvPicPr/>
          <p:nvPr/>
        </p:nvPicPr>
        <p:blipFill>
          <a:blip r:embed="rId1"/>
          <a:stretch/>
        </p:blipFill>
        <p:spPr>
          <a:xfrm>
            <a:off x="4648320" y="2739960"/>
            <a:ext cx="3809880" cy="2595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Los elementos culturales y  económicos son ciertamente condicionantes pero no determinant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000000"/>
                </a:solidFill>
                <a:latin typeface="Times New Roman"/>
              </a:rPr>
              <a:t>Chile y su democraci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Chile desarrolló una identidad nacional fuerte y en forma rápida; incorporó muy lentamente al electorado de masas y gestó rápidamente una autoridad central vigoro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.- Guerra contra la Confederación Perú-Boliviana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" descr="BatalladeElRoble-29octubre1813B-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2.- Manuel Bulnes es el héroe que pone su carisma al servicio de la institucionalización del po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l fracaso modernizador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en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América Latina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hevalier, Francois: América Latina.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 Independencia a nuestros días.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5" descr="BULNES%5B1%5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roto_chileno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3.- Manuel Bulnes se enfrenta al militarismo y al regionalismo penquista (1851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5" descr="Manuel_Bulnes_Prieto"/>
          <p:cNvPicPr/>
          <p:nvPr/>
        </p:nvPicPr>
        <p:blipFill>
          <a:blip r:embed="rId1"/>
          <a:stretch/>
        </p:blipFill>
        <p:spPr>
          <a:xfrm>
            <a:off x="4356000" y="0"/>
            <a:ext cx="4788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250px-ManuelBulnes"/>
          <p:cNvPicPr/>
          <p:nvPr/>
        </p:nvPicPr>
        <p:blipFill>
          <a:blip r:embed="rId2"/>
          <a:stretch/>
        </p:blipFill>
        <p:spPr>
          <a:xfrm>
            <a:off x="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Democracia, guerra y liderazgo republican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4.- No se enfrenta al poder terrateniente, pero sí fomenta exportaciones y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5" descr="chil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Ilustración y la Revolución Francesa, más la filosofía neoescolástica de Suárez; el ejemplo de Estados Unidos más la rivalidad entre criollos, blancos y mestizos nacidos en América y los españoles peninsulares desató la Independencia tras la invasión de Napoléon a España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0000"/>
                </a:solidFill>
                <a:latin typeface="Times New Roman"/>
              </a:rPr>
              <a:t>Conservadores y lucha por la democratiz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Fuera del poder ejecutivo los conservadores lucharon por ampliar el sufragio (universal y femenino), la reducción de la intervención electoral del gobierno y la ampliación de los poderes loca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4" descr="isla3"/>
          <p:cNvPicPr/>
          <p:nvPr/>
        </p:nvPicPr>
        <p:blipFill>
          <a:blip r:embed="rId1"/>
          <a:stretch/>
        </p:blipFill>
        <p:spPr>
          <a:xfrm>
            <a:off x="4648320" y="2690640"/>
            <a:ext cx="3809880" cy="26942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24360" y="475920"/>
            <a:ext cx="273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m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5300280"/>
            <a:ext cx="2373480" cy="7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utocra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V="1">
            <a:off x="755640" y="692280"/>
            <a:ext cx="0" cy="540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826920" y="609300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3044880" y="611352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60920" y="568440"/>
            <a:ext cx="400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875880" y="469800"/>
            <a:ext cx="39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ligarquía competit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5940360" y="692280"/>
            <a:ext cx="273384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651640" y="517212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talitar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951120" y="48895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7 -0.05186 C -0.01007 -0.0757 -0.01076 -0.10024 -0.01667 -0.12408 C -0.01927 -0.15486 -0.01684 -0.14121 -0.02292 -0.16574 C -0.02517 -0.17477 -0.02708 -0.19352 -0.02708 -0.19352 C -0.02604 -0.25024 -0.02847 -0.29468 -0.01875 -0.3463 C -0.01858 -0.35602 -0.02066 -0.45348 -0.01042 -0.47408 C -0.0099 -0.48079 -0.01007 -0.50903 -0.00208 -0.51574 C 0.00156 -0.51875 0.00625 -0.51945 0.01042 -0.5213 C 0.02483 -0.52778 0.0408 -0.53936 0.05625 -0.54074 C 0.07361 -0.54236 0.09097 -0.5426 0.10833 -0.54352 C 0.15903 -0.55486 0.2625 -0.55463 0.2625 -0.55463 C 0.31441 -0.56459 0.28177 -0.55973 0.36042 -0.56297 C 0.40278 -0.57246 0.43715 -0.56713 0.48333 -0.56574 C 0.51528 -0.55718 0.51198 -0.55718 0.55625 -0.55463 C 0.57569 -0.54607 0.56024 -0.55186 0.60417 -0.55186 E">
                                      <p:cBhvr>
                                        <p:cTn id="30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lusiones de la hist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forma gradual, legitimidad de las instituciones liberales, Estado eficaz y que sea clave para desarrollo de los intereses de las élites y estas no se sienten amenazadas vitalmente para llegar a promover la secesión o la viole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BS00559_"/>
          <p:cNvPicPr/>
          <p:nvPr/>
        </p:nvPicPr>
        <p:blipFill>
          <a:blip r:embed="rId1"/>
          <a:stretch/>
        </p:blipFill>
        <p:spPr>
          <a:xfrm>
            <a:off x="685800" y="2957400"/>
            <a:ext cx="3809880" cy="2160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2" descr="http://americalternativa.files.wordpress.com/2009/11/215121_chile_1973b_55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sistema de partidos políticos chileno 1840 - 197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6" descr="PE02484_"/>
          <p:cNvPicPr/>
          <p:nvPr/>
        </p:nvPicPr>
        <p:blipFill>
          <a:blip r:embed="rId1"/>
          <a:stretch/>
        </p:blipFill>
        <p:spPr>
          <a:xfrm>
            <a:off x="685800" y="2033640"/>
            <a:ext cx="3809880" cy="40100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7" name="Picture 18" descr="brntsr3"/>
          <p:cNvPicPr/>
          <p:nvPr/>
        </p:nvPicPr>
        <p:blipFill>
          <a:blip r:embed="rId1"/>
          <a:stretch/>
        </p:blipFill>
        <p:spPr>
          <a:xfrm>
            <a:off x="2362320" y="2209680"/>
            <a:ext cx="1965240" cy="3468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2" descr="perroma1"/>
          <p:cNvPicPr/>
          <p:nvPr/>
        </p:nvPicPr>
        <p:blipFill>
          <a:blip r:embed="rId2"/>
          <a:stretch/>
        </p:blipFill>
        <p:spPr>
          <a:xfrm>
            <a:off x="5486400" y="2895480"/>
            <a:ext cx="2895480" cy="2819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85800" y="1981080"/>
          <a:ext cx="7696080" cy="4529160"/>
        </p:xfrm>
        <a:graphic>
          <a:graphicData uri="http://schemas.openxmlformats.org/drawingml/2006/table">
            <a:tbl>
              <a:tblPr/>
              <a:tblGrid>
                <a:gridCol w="4038480"/>
                <a:gridCol w="3657600"/>
              </a:tblGrid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leric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ltramontanos y Conservadores moder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ticler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 y                   Radi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1" name="Picture 15" descr="dinosars"/>
          <p:cNvPicPr/>
          <p:nvPr/>
        </p:nvPicPr>
        <p:blipFill>
          <a:blip r:embed="rId1"/>
          <a:stretch/>
        </p:blipFill>
        <p:spPr>
          <a:xfrm>
            <a:off x="762120" y="2514600"/>
            <a:ext cx="3886200" cy="2819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elefante"/>
          <p:cNvPicPr/>
          <p:nvPr/>
        </p:nvPicPr>
        <p:blipFill>
          <a:blip r:embed="rId2"/>
          <a:stretch/>
        </p:blipFill>
        <p:spPr>
          <a:xfrm>
            <a:off x="4648320" y="2743200"/>
            <a:ext cx="3733560" cy="25146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El sistema de partidos políticos chileno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Siglo XI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1905120"/>
          <a:ext cx="8001000" cy="389556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391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en el gobierno contra ultramontanos,  liberales doctrinarios y radicales en la oposición parlamentaria (tipo de gobiern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queza del Salitre (papel del Estado) +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eses ingleses (factor internacional)  =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erra Civil de 189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22" descr="paloma"/>
          <p:cNvPicPr/>
          <p:nvPr/>
        </p:nvPicPr>
        <p:blipFill>
          <a:blip r:embed="rId1"/>
          <a:stretch/>
        </p:blipFill>
        <p:spPr>
          <a:xfrm>
            <a:off x="7238880" y="380880"/>
            <a:ext cx="190512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os objetivos fuer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s Unidos de Suda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públicas próspe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5800" y="1676520"/>
          <a:ext cx="7875720" cy="477180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5252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25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ervado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7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ber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8" name="Picture 89" descr="BD08208_"/>
          <p:cNvPicPr/>
          <p:nvPr/>
        </p:nvPicPr>
        <p:blipFill>
          <a:blip r:embed="rId1"/>
          <a:stretch/>
        </p:blipFill>
        <p:spPr>
          <a:xfrm>
            <a:off x="838080" y="34290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0" descr="PE02002_"/>
          <p:cNvPicPr/>
          <p:nvPr/>
        </p:nvPicPr>
        <p:blipFill>
          <a:blip r:embed="rId2"/>
          <a:stretch/>
        </p:blipFill>
        <p:spPr>
          <a:xfrm>
            <a:off x="6934320" y="16765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1" descr="BS02064_"/>
          <p:cNvPicPr/>
          <p:nvPr/>
        </p:nvPicPr>
        <p:blipFill>
          <a:blip r:embed="rId3"/>
          <a:stretch/>
        </p:blipFill>
        <p:spPr>
          <a:xfrm>
            <a:off x="2743200" y="1676520"/>
            <a:ext cx="1600200" cy="1295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96" descr="PE01832_"/>
          <p:cNvPicPr/>
          <p:nvPr/>
        </p:nvPicPr>
        <p:blipFill>
          <a:blip r:embed="rId4"/>
          <a:stretch/>
        </p:blipFill>
        <p:spPr>
          <a:xfrm>
            <a:off x="990720" y="51055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stema de partidos políticos</a:t>
            </a:r>
            <a:br>
              <a:rPr sz="3600"/>
            </a:b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Siglo XX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5800" y="1981080"/>
          <a:ext cx="7875720" cy="4443480"/>
        </p:xfrm>
        <a:graphic>
          <a:graphicData uri="http://schemas.openxmlformats.org/drawingml/2006/table">
            <a:tbl>
              <a:tblPr/>
              <a:tblGrid>
                <a:gridCol w="1979280"/>
                <a:gridCol w="2856240"/>
                <a:gridCol w="2824560"/>
                <a:gridCol w="216000"/>
              </a:tblGrid>
              <a:tr h="13402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oeconómic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je religio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tido Nacion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mocra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isti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cial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unis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       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74" name="Picture 21" descr="BD08208_"/>
          <p:cNvPicPr/>
          <p:nvPr/>
        </p:nvPicPr>
        <p:blipFill>
          <a:blip r:embed="rId1"/>
          <a:stretch/>
        </p:blipFill>
        <p:spPr>
          <a:xfrm>
            <a:off x="838080" y="320040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22" descr="PE02002_"/>
          <p:cNvPicPr/>
          <p:nvPr/>
        </p:nvPicPr>
        <p:blipFill>
          <a:blip r:embed="rId2"/>
          <a:stretch/>
        </p:blipFill>
        <p:spPr>
          <a:xfrm>
            <a:off x="7010280" y="198108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23" descr="BS02064_"/>
          <p:cNvPicPr/>
          <p:nvPr/>
        </p:nvPicPr>
        <p:blipFill>
          <a:blip r:embed="rId3"/>
          <a:stretch/>
        </p:blipFill>
        <p:spPr>
          <a:xfrm>
            <a:off x="2743200" y="1981080"/>
            <a:ext cx="1600200" cy="1295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4" descr="PE01832_"/>
          <p:cNvPicPr/>
          <p:nvPr/>
        </p:nvPicPr>
        <p:blipFill>
          <a:blip r:embed="rId4"/>
          <a:stretch/>
        </p:blipFill>
        <p:spPr>
          <a:xfrm>
            <a:off x="990720" y="4876920"/>
            <a:ext cx="1523880" cy="12189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Chile 1973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Times New Roman"/>
              </a:rPr>
              <a:t>Quiebre democrát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7" descr="TN01329_"/>
          <p:cNvPicPr/>
          <p:nvPr/>
        </p:nvPicPr>
        <p:blipFill>
          <a:blip r:embed="rId1"/>
          <a:stretch/>
        </p:blipFill>
        <p:spPr>
          <a:xfrm>
            <a:off x="685800" y="2841480"/>
            <a:ext cx="3809880" cy="2394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a Independencia de América Lati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o ello fracasó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- Ausencias de experiencias de autogob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- Costo de las guerras de independ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- Estructura social pobre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- Crisis financieras de los estados nac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- Cultura católica paternalista y jerárqu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Chili"/>
          <p:cNvPicPr/>
          <p:nvPr/>
        </p:nvPicPr>
        <p:blipFill>
          <a:blip r:embed="rId2"/>
          <a:stretch/>
        </p:blipFill>
        <p:spPr>
          <a:xfrm>
            <a:off x="2209680" y="380880"/>
            <a:ext cx="1325520" cy="1006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Per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hile tenía una población de un millón de habitantes que llegó a 1 438 000 en 1854. Antes de ese año, la ciudad de Santiago apenas tenía 100 000 habitantes. Por otra parte las exportaciones habían triplicado su valor (harina, plata y cobre). Ya en 1830 Chile había acabado con sus deudas de guerra. El presidente Montt, el venezolano Bello y el argentino Sarmiento hicieron avanzar la educación. Chile era un caso excepcion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5T11:36:16Z</dcterms:created>
  <dc:creator>Compaq User</dc:creator>
  <dc:description/>
  <dc:language>en-US</dc:language>
  <cp:lastModifiedBy>..</cp:lastModifiedBy>
  <cp:lastPrinted>2003-04-07T21:12:08Z</cp:lastPrinted>
  <dcterms:modified xsi:type="dcterms:W3CDTF">2010-04-06T15:48:50Z</dcterms:modified>
  <cp:revision>49</cp:revision>
  <dc:subject/>
  <dc:title>La democracia en el Chile de hoy</dc:title>
</cp:coreProperties>
</file>