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20.jpeg" ContentType="image/jpeg"/>
  <Override PartName="/ppt/media/image13.png" ContentType="image/png"/>
  <Override PartName="/ppt/media/image33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jpeg" ContentType="image/jpeg"/>
  <Override PartName="/ppt/media/image2.png" ContentType="image/png"/>
  <Override PartName="/ppt/media/image3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2.jpeg" ContentType="image/jpeg"/>
  <Override PartName="/ppt/media/image4.png" ContentType="image/png"/>
  <Override PartName="/ppt/media/image14.wmf" ContentType="image/x-wmf"/>
  <Override PartName="/ppt/media/image10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616-D1BA-49F1-8354-871FDA5A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F9B-2A90-406E-8D2C-F368A640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6BE-7C2D-4789-B6A2-35858DDE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821-4AFF-4E34-BC01-69E30048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CFE-E295-4C89-916B-2CD74B96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9CA-3B02-4F2B-A4AC-D41C062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0E8-C11E-4DC3-9AEC-6D3026A5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C00-EB29-4970-AD51-1B07AC15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44B-F186-4B54-A11E-5027E8EA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E74-CDAB-4350-8452-07633550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8E0-11A0-41E3-88DC-3D5D625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53C-6C0F-4FFC-AA42-3F4877E8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345-2EC3-41AD-9755-4DD77AE537B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728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ición y Consolidación Democrática en Chi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anford Chil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orígenes de la democracia en Chile</a:t>
            </a:r>
            <a:br>
              <a:rPr sz="4400"/>
            </a:b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fesor: Sergio Micco Aguay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imaver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antiago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profecía de Bolí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que dijo que había edificado sobre los vientos y arado en el mar señaló en carta de 1815 “Si alguna república sobrevive largo tiempo en América, me inclino a pensar que será la chilena (…) (…) Su territorio es limitado y conservará su uniformidad (…) En una palabra, Chile puede ser lib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La democracia en Ch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Cómo un país pequeño, pobre, católico y desigual logró consolidar una república entre 1830 y 1973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 de cómo una rana se transformó en prínci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AN02542_"/>
          <p:cNvPicPr/>
          <p:nvPr/>
        </p:nvPicPr>
        <p:blipFill>
          <a:blip r:embed="rId1"/>
          <a:stretch/>
        </p:blipFill>
        <p:spPr>
          <a:xfrm>
            <a:off x="4648320" y="2197080"/>
            <a:ext cx="3809880" cy="368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Una rana muy f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AN02542_"/>
          <p:cNvPicPr/>
          <p:nvPr/>
        </p:nvPicPr>
        <p:blipFill>
          <a:blip r:embed="rId1"/>
          <a:stretch/>
        </p:blipFill>
        <p:spPr>
          <a:xfrm>
            <a:off x="2443320" y="1981080"/>
            <a:ext cx="425592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Times New Roman"/>
              </a:rPr>
              <a:t>The chilean's c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rígenes de la estabilidad p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turo y Samuel Valenzue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orígenes de la Democracia. Reflexiones teóricas sobre el caso de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hile figuraba entre el 15% más democrático del mundo, con un puntaje, en 1965 superior al de los Estados Unidos, Francia, Alemania Federal e Italia. El puntaje en 1960 era superior al de Gran Bretañ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ile: participación política más liber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9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1839 la oposición se organiza en el Congreso para fiscalizar a un Presidente que elegido por mandato fijo. El senado se elige en forma directa a partir de 1870. La competencia política parlamentaria se consolida antes que Bélgica, Países Bajos, Suecia, Italia, Francia, Alemania pero después de Gran Bretaña y Noruega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PE02097_"/>
          <p:cNvPicPr/>
          <p:nvPr/>
        </p:nvPicPr>
        <p:blipFill>
          <a:blip r:embed="rId1"/>
          <a:stretch/>
        </p:blipFill>
        <p:spPr>
          <a:xfrm>
            <a:off x="685800" y="251316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participación era es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1846 sólo votaban los varones propietarios y alfabetos (Un 2% de la población al igual que Gran Bretaña, Países Bajos, Luxemburgo e Italia) El voto secreto se instituyó poco después de Gran Bretaña, Suecia y Alem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BD06990_"/>
          <p:cNvPicPr/>
          <p:nvPr/>
        </p:nvPicPr>
        <p:blipFill>
          <a:blip r:embed="rId1"/>
          <a:stretch/>
        </p:blipFill>
        <p:spPr>
          <a:xfrm>
            <a:off x="4648320" y="2421000"/>
            <a:ext cx="3809880" cy="3235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cultu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rden católico y semifeudal retrasa el avance de la democra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ec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rnización y ascenso de la burguesía urbana, secularizada e industrial y/o de los agricultores li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guirre,+la+ira+de+dios0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PioIX(4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azones históricas y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estabilidad de la  democracia chilena se debe a razones fortuitas, liderazgo republicano y élites que la consolidan en moment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BD04914_"/>
          <p:cNvPicPr/>
          <p:nvPr/>
        </p:nvPicPr>
        <p:blipFill>
          <a:blip r:embed="rId1"/>
          <a:stretch/>
        </p:blipFill>
        <p:spPr>
          <a:xfrm>
            <a:off x="4648320" y="273996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os elementos culturales y  económicos son ciertamente condicionantes pero no determinan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 desarrolló una identidad nacional fuerte y en forma rápida; incorporó muy lentamente al electorado de masas y gestó rápidamente una autoridad central vigor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- Guerra contra la Confederación Perú-Bolivian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BatalladeElRoble-29octubre1813B-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2.- Manuel Bulnes es el héroe que pone su carisma al servicio de la institucionalización del p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fracaso modernizador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n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mérica Lati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hevalier, Francois: América Latina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 Independencia a nuestros días.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BULNES%5B1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roto_chilen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3.- Manuel Bulnes se enfrenta al militarismo y al regionalismo penquista (1851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nuel_Bulnes_Prieto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50px-ManuelBulnes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4.- No se enfrenta al poder terrateniente, pero sí fomenta exportaciones y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hil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lustración y la Revolución Francesa, más la filosofía neoescolástica de Suárez; el ejemplo de Estados Unidos más la rivalidad entre criollos, blancos y mestizos nacidos en América y los españoles peninsulares desató la Independencia tras la invasión de Napoléon a Españ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Conservadores y lucha por la democratiz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uera del poder ejecutivo los conservadores lucharon por ampliar el sufragio (universal y femenino), la reducción de la intervención electoral del gobierno y la ampliación de los poderes loc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24360" y="475920"/>
            <a:ext cx="273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5300280"/>
            <a:ext cx="23734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t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V="1">
            <a:off x="755640" y="69228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826920" y="609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4880" y="6113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60920" y="568440"/>
            <a:ext cx="4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75880" y="46980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ligarquía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0360" y="692280"/>
            <a:ext cx="273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651640" y="51721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talita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951120" y="4889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5186 C -0.01007 -0.0757 -0.01076 -0.10024 -0.01667 -0.12408 C -0.01927 -0.15486 -0.01684 -0.14121 -0.02292 -0.16574 C -0.02517 -0.17477 -0.02708 -0.19352 -0.02708 -0.19352 C -0.02604 -0.25024 -0.02847 -0.29468 -0.01875 -0.3463 C -0.01858 -0.35602 -0.02066 -0.45348 -0.01042 -0.47408 C -0.0099 -0.48079 -0.01007 -0.50903 -0.00208 -0.51574 C 0.00156 -0.51875 0.00625 -0.51945 0.01042 -0.5213 C 0.02483 -0.52778 0.0408 -0.53936 0.05625 -0.54074 C 0.07361 -0.54236 0.09097 -0.5426 0.10833 -0.54352 C 0.15903 -0.55486 0.2625 -0.55463 0.2625 -0.55463 C 0.31441 -0.56459 0.28177 -0.55973 0.36042 -0.56297 C 0.40278 -0.57246 0.43715 -0.56713 0.48333 -0.56574 C 0.51528 -0.55718 0.51198 -0.55718 0.55625 -0.55463 C 0.57569 -0.54607 0.56024 -0.55186 0.60417 -0.55186 E">
                                      <p:cBhvr>
                                        <p:cTn id="3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lusiones de la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forma gradual, legitimidad de las instituciones liberales, Estado eficaz y que sea clave para desarrollo de los intereses de las élites y estas no se sienten amenazadas vitalmente para llegar a promover la secesión o la viol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BS00559_"/>
          <p:cNvPicPr/>
          <p:nvPr/>
        </p:nvPicPr>
        <p:blipFill>
          <a:blip r:embed="rId1"/>
          <a:stretch/>
        </p:blipFill>
        <p:spPr>
          <a:xfrm>
            <a:off x="685800" y="2957400"/>
            <a:ext cx="380988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americalternativa.files.wordpress.com/2009/11/215121_chile_1973b_5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sistema de partidos políticos chileno 1840 - 19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PE02484_"/>
          <p:cNvPicPr/>
          <p:nvPr/>
        </p:nvPicPr>
        <p:blipFill>
          <a:blip r:embed="rId1"/>
          <a:stretch/>
        </p:blipFill>
        <p:spPr>
          <a:xfrm>
            <a:off x="685800" y="2033640"/>
            <a:ext cx="3809880" cy="4010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18" descr="brntsr3"/>
          <p:cNvPicPr/>
          <p:nvPr/>
        </p:nvPicPr>
        <p:blipFill>
          <a:blip r:embed="rId1"/>
          <a:stretch/>
        </p:blipFill>
        <p:spPr>
          <a:xfrm>
            <a:off x="2362320" y="2209680"/>
            <a:ext cx="1965240" cy="346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perroma1"/>
          <p:cNvPicPr/>
          <p:nvPr/>
        </p:nvPicPr>
        <p:blipFill>
          <a:blip r:embed="rId2"/>
          <a:stretch/>
        </p:blipFill>
        <p:spPr>
          <a:xfrm>
            <a:off x="5486400" y="289548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696080" cy="4529160"/>
        </p:xfrm>
        <a:graphic>
          <a:graphicData uri="http://schemas.openxmlformats.org/drawingml/2006/table">
            <a:tbl>
              <a:tblPr/>
              <a:tblGrid>
                <a:gridCol w="4038480"/>
                <a:gridCol w="36576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montanos y Conservadores moder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 y                   Rad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5" descr="dinosars"/>
          <p:cNvPicPr/>
          <p:nvPr/>
        </p:nvPicPr>
        <p:blipFill>
          <a:blip r:embed="rId1"/>
          <a:stretch/>
        </p:blipFill>
        <p:spPr>
          <a:xfrm>
            <a:off x="762120" y="251460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elefante"/>
          <p:cNvPicPr/>
          <p:nvPr/>
        </p:nvPicPr>
        <p:blipFill>
          <a:blip r:embed="rId2"/>
          <a:stretch/>
        </p:blipFill>
        <p:spPr>
          <a:xfrm>
            <a:off x="4648320" y="274320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905120"/>
          <a:ext cx="8001000" cy="38955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en el gobierno contra ultramontanos,  liberales doctrinarios y radicales en la oposición parlamentaria (tipo de gobiern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queza del Salitre (papel del Estad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es ingleses (factor internacional)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erra Civil de 18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22" descr="paloma"/>
          <p:cNvPicPr/>
          <p:nvPr/>
        </p:nvPicPr>
        <p:blipFill>
          <a:blip r:embed="rId1"/>
          <a:stretch/>
        </p:blipFill>
        <p:spPr>
          <a:xfrm>
            <a:off x="7238880" y="3808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objetivos fuer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s Unidos de Suda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úblicas prósp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1676520"/>
          <a:ext cx="7875720" cy="477180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52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89" descr="BD08208_"/>
          <p:cNvPicPr/>
          <p:nvPr/>
        </p:nvPicPr>
        <p:blipFill>
          <a:blip r:embed="rId1"/>
          <a:stretch/>
        </p:blipFill>
        <p:spPr>
          <a:xfrm>
            <a:off x="838080" y="34290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0" descr="PE02002_"/>
          <p:cNvPicPr/>
          <p:nvPr/>
        </p:nvPicPr>
        <p:blipFill>
          <a:blip r:embed="rId2"/>
          <a:stretch/>
        </p:blipFill>
        <p:spPr>
          <a:xfrm>
            <a:off x="6934320" y="16765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1" descr="BS02064_"/>
          <p:cNvPicPr/>
          <p:nvPr/>
        </p:nvPicPr>
        <p:blipFill>
          <a:blip r:embed="rId3"/>
          <a:stretch/>
        </p:blipFill>
        <p:spPr>
          <a:xfrm>
            <a:off x="2743200" y="16765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6" descr="PE01832_"/>
          <p:cNvPicPr/>
          <p:nvPr/>
        </p:nvPicPr>
        <p:blipFill>
          <a:blip r:embed="rId4"/>
          <a:stretch/>
        </p:blipFill>
        <p:spPr>
          <a:xfrm>
            <a:off x="990720" y="51055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81080"/>
          <a:ext cx="7875720" cy="444348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do N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4" name="Picture 21" descr="BD08208_"/>
          <p:cNvPicPr/>
          <p:nvPr/>
        </p:nvPicPr>
        <p:blipFill>
          <a:blip r:embed="rId1"/>
          <a:stretch/>
        </p:blipFill>
        <p:spPr>
          <a:xfrm>
            <a:off x="838080" y="32004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PE02002_"/>
          <p:cNvPicPr/>
          <p:nvPr/>
        </p:nvPicPr>
        <p:blipFill>
          <a:blip r:embed="rId2"/>
          <a:stretch/>
        </p:blipFill>
        <p:spPr>
          <a:xfrm>
            <a:off x="7010280" y="19810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BS02064_"/>
          <p:cNvPicPr/>
          <p:nvPr/>
        </p:nvPicPr>
        <p:blipFill>
          <a:blip r:embed="rId3"/>
          <a:stretch/>
        </p:blipFill>
        <p:spPr>
          <a:xfrm>
            <a:off x="2743200" y="19810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PE01832_"/>
          <p:cNvPicPr/>
          <p:nvPr/>
        </p:nvPicPr>
        <p:blipFill>
          <a:blip r:embed="rId4"/>
          <a:stretch/>
        </p:blipFill>
        <p:spPr>
          <a:xfrm>
            <a:off x="990720" y="48769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hile 1973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Quiebre democr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TN01329_"/>
          <p:cNvPicPr/>
          <p:nvPr/>
        </p:nvPicPr>
        <p:blipFill>
          <a:blip r:embed="rId1"/>
          <a:stretch/>
        </p:blipFill>
        <p:spPr>
          <a:xfrm>
            <a:off x="685800" y="2841480"/>
            <a:ext cx="3809880" cy="239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llo fracasó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Ausencias de experiencias de autogobi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Costo de las guerras de in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structura social pobre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- Crisis financieras de los estados na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- Cultura católica paternalista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hili"/>
          <p:cNvPicPr/>
          <p:nvPr/>
        </p:nvPicPr>
        <p:blipFill>
          <a:blip r:embed="rId2"/>
          <a:stretch/>
        </p:blipFill>
        <p:spPr>
          <a:xfrm>
            <a:off x="2209680" y="380880"/>
            <a:ext cx="1325520" cy="1006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tenía una población de un millón de habitantes que llegó a 1 438 000 en 1854. Antes de ese año, la ciudad de Santiago apenas tenía 100 000 habitantes. Por otra parte las exportaciones habían triplicado su valor (harina, plata y cobre). Ya en 1830 Chile había acabado con sus deudas de guerra. El presidente Montt, el venezolano Bello y el argentino Sarmiento hicieron avanzar la educación. Chile era un caso excep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1:36:16Z</dcterms:created>
  <dc:creator>Compaq User</dc:creator>
  <dc:description/>
  <dc:language>en-US</dc:language>
  <cp:lastModifiedBy>..</cp:lastModifiedBy>
  <cp:lastPrinted>2003-04-07T21:12:08Z</cp:lastPrinted>
  <dcterms:modified xsi:type="dcterms:W3CDTF">2010-04-06T15:48:50Z</dcterms:modified>
  <cp:revision>49</cp:revision>
  <dc:subject/>
  <dc:title>La democracia en el Chile de hoy</dc:title>
</cp:coreProperties>
</file>