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EEF21-F2F9-4484-8D9D-368186208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6859-5DC5-4CA0-8D4C-834E3686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46A56-6085-415C-A5EA-7EB97944F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AD450-5509-4B55-BA0F-C0522BFA4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1926E-8BCF-4E91-90E3-1D4A43DC1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3265B-08EA-4C30-BBB7-65B70BC76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51A36-7E46-4793-A665-27FCF657A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BB3DC-F7B9-4590-814F-EFF781F4E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3B5EC-B60C-49E9-B405-9991288B9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2F3D5-6157-4E9F-929C-3AA95BF32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F8A98-061F-48FE-B795-3BD085C7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1913-5A2D-4C6C-9684-A21FF5C5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9EAC2-5DF1-42CF-9047-DDE82F6C2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EDCB1-BFB3-43FD-8EA5-A57879C68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FA7B5-E1DC-4787-A15A-9D9D2E0E4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0798C-DF9E-45F0-8014-B3160398E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343B0-CD4A-4104-923B-8EA08A6AC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31F3-E073-4693-AD08-0378DDDB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3EF1A-7126-4F85-997B-44551C020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06AA-FFC9-4892-8B00-177563A5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3D403-1700-4154-90E6-04B3E9606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FDF3-718B-4DF7-9508-E83D655C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85C8-322D-4F80-8A37-5FC36B670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EDDD-77C0-48A8-8C68-C04374711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6642-BEB4-49EE-B19A-FE56591F086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32D0-98CB-4C81-9D67-FA9D9019BAE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900000" y="838080"/>
            <a:ext cx="7778880" cy="100656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jo de Seguridad Nacional y los Estados de Excepción Constitucional</a:t>
            </a:r>
            <a:endParaRPr b="1" lang="en-US" sz="32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 consejo de seguridad nacional se encuentra regulado en el capitulo XII de la CPR.</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e Consejo es un organismo asesor del Presidente de la República, cuya función esencial es cooperar en el mantenimiento de la seguridad nacional.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eguridad nacional" está referida a medidas encaminadas a garantizar la estabilidad institucional, la paz interior del Estado y la seguridad exterior del país.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acione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77800" indent="-577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quórum:</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normal es que sea de 3/5 de diputados o senadores en ejercicio.</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mbio, si se trata de reforma a los capítulo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ses de la institucionalidad.</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los derechos y deberes constitucionale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F.AA. De orden y de seguridad publica.</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jo de seguridad nacional, o</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a de la Constitución.</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En estos casos se requiere de 2/3 partes de los diputados y senadores en ejercicio.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as reformas constitucionales desde los derechos fundamentales </a:t>
            </a:r>
            <a:r>
              <a:rPr b="1" lang="en-US" sz="2000" spc="-1" strike="noStrike">
                <a:solidFill>
                  <a:srgbClr val="006666"/>
                </a:solidFill>
                <a:latin typeface="Arial"/>
              </a:rPr>
              <a:t>(Texto Jorge Contessesingh)</a:t>
            </a:r>
            <a:endParaRPr b="1" lang="en-US" sz="2000" spc="-1" strike="noStrike">
              <a:solidFill>
                <a:srgbClr val="006666"/>
              </a:solidFill>
              <a:latin typeface="Arial"/>
            </a:endParaRPr>
          </a:p>
        </p:txBody>
      </p:sp>
      <p:sp>
        <p:nvSpPr>
          <p:cNvPr id="11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que reordenan el poder del Estado.</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Los derechos fundamentales en las reformas a la Constitución (¿Cuáles son las reformas pendientes para el autor?</a:t>
            </a:r>
            <a:r>
              <a:rPr b="0" lang="en-US" sz="1600" spc="-1" strike="noStrike">
                <a:solidFill>
                  <a:srgbClr val="003366"/>
                </a:solidFill>
                <a:latin typeface="Arial"/>
              </a:rPr>
              <a:t>: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onocimiento de los pueblos indígenas (Cumplimiento del convenio 169 de la OIT): No se ha realizado.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ceso a la información (probidad, publicidad y transparencia): Esta materia fue aprobada por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jora a la situación de los derechos fundamentales durante los estados de excepción constitucional: Materia que sufrió modificaciones a partir de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políticas que permitan fortalecer la democracia: El modelo actual de la política chilena seria el de una democracia como equilibrio (“elitista pluralista”); Se escucha a las “necesidades de la gente”, y aquello se recoge para luego legislar, pero sobre las necesidades de una elite que ostenta el poder. De esta forma, el autor concluye que resulta necesario un mayor avance de los grados de participación ciudadana en los asuntos políticos. </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é se entiende por seguridad nacional?</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acuerdo al artículo 1º de la Constitución, es deber del Estado - aunque no exclusivamente de éste- resguardar la seguridad naciona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En un intento de síntesis y simplificación, digamos que la seguridad nacional, según el significado natural que puede darse a su tenor literal, implica seguridad de la Nación y seguridad del Estado, que la representa. Y la seguridad tiene dos frentes: el externo, en que puede verse afectada por la guerra y por la agresión militar, o por una agresión económica de tal entidad que ponga en riesgo el normal desarrollo de la vida colectiva, y el frente interno, en que la seguridad nacional se encuentra comprometida en los casos de tensión extrema o de pugna entre gobernantes y gobernados, traducida en situaciones de insurrección o rebelión o de alzamiento revolucionario. Sin embargo, este concepto, al parecer, no sólo apunta a las realidades descritas, sino que involucraría, además, un conjunto de factores potenciales que podrían eventualmente desembocar en una situación real de amenaza a la seguridad.</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otro modo no se explica que sea el fundamento para la limitación de ciertos derechos (art. 19, Nº 11, 21 y 24)</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Se concibe, pues, la seguridad nacional como el conjunto de exigencias de la organización social y de cautelas jurídicas que garanticen la inexistencia de riesgos y de conflictos que conduzcan o puedan conducir a un deterioro de la normalidad en lo externo o en lo interno.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es de la reforma del 2005</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No es un hecho menor que la reforma constitucional del año 2005 modifico profundamente el COSENA, restringiendo ampliamente sus facultades, y disminuyendo su importancia e influencia.</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Antes de la reforma, el COSENA tenia influencia en: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La declaración de los estados de excepción (art. 40, Nºs 1º, 2º,3º y 4º):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Declaración de guerra (art. 32, Nº 21): Se mantiene.</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Tribunal Constitucional (Art. 81: “Dos abogados elegidos por el Consejo de Seguridad Nacional”):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Retiro de los Comandantes en Jefe y General Director de Carabineros (art. 93): “En casos calificados, el Presidente de la República con acuerdo del Consejo de Seguridad Nacional, podrá llamar a retiro a los Comandantes en Jefe del Ejército, de la Armada, de la Fuerza Aérea o al General Director de Carabineros, en su caso.” (Antes):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Calificar si existe guerra o peligro de ella, para que el Banco Central pueda obtener, otorgar o financiar créditos al Estado y entidades públicas o privadas (art. 98): Se man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Senado (art. 45): “Un ex Comandante en Jefe del Ejército, uno de la Armada, otro de la Fuerza Aérea, y un ex General Director de Carabineros que hayan desempeñado el cargo a lo menos por dos años, elegidos por el Consejo de Seguridad Nacional”: Ya no la tiene. </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uáles son los cambios que se presentan en relación a la reforma del 2005?</a:t>
            </a:r>
            <a:endParaRPr b="1" lang="en-US" sz="2800" spc="-1" strike="noStrike">
              <a:solidFill>
                <a:srgbClr val="006666"/>
              </a:solidFill>
              <a:latin typeface="Arial"/>
            </a:endParaRPr>
          </a:p>
        </p:txBody>
      </p:sp>
      <p:sp>
        <p:nvSpPr>
          <p:cNvPr id="10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os comandantes en jefe de las Fuerzas Armadas y el Director General de Carabineros ya no son inamovibles en sus cargos: el Presidente de la República podrá ordenar su retiro. Y ya no se necesitará permiso del Consejo de Seguridad Nacional, sino solamente informar al Senado y a la Cámara de Diputad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Consejo de Seguridad Nacional ya no puede autoconvocarse, sino que deberá llamarlo únicamente el Presidente de la República. Dicho Consejo tiene ahora una función sólo de asesoría, al eliminarse la facultad de "hacer presente" sus observaciones a órganos públic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Presidente de la Cámara de Diputados se integra al Consejo de Seguridad Nacional. Además, el Presidente de la República podrá decidir si a una sesión asisten los ministros de Interior, Defensa, Seguridad Pública, Relaciones Exteriores y Economía.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ara declarar estado de asamblea (en caso de guerra externa), el Presidente de la República necesitará el acuerdo del Senado, no el del Consejo de Seguridad Nacional. </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tados de Excepción constitucional</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Asamblea</a:t>
            </a:r>
            <a:r>
              <a:rPr b="0" lang="en-US" sz="1600" spc="-1" strike="noStrike">
                <a:solidFill>
                  <a:srgbClr val="003366"/>
                </a:solidFill>
                <a:latin typeface="Arial"/>
              </a:rPr>
              <a:t>: Es un estado de excepción constitucional que se da en caso de guerra externa. El presidente de la República lo puede decretar, en todo el territorio nacional o solo una parte de él, con acuerdo del Congreso Nacional.</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Catástrofe:</a:t>
            </a:r>
            <a:r>
              <a:rPr b="0" lang="en-US" sz="1600" spc="-1" strike="noStrike">
                <a:solidFill>
                  <a:srgbClr val="003366"/>
                </a:solidFill>
                <a:latin typeface="Arial"/>
              </a:rPr>
              <a:t> Es un estado de excepción constitucional que se da en caso de calamidad pública, en una zona geográfica específica. Es declarado por el Presidente, pero debe informar a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Emergencia</a:t>
            </a:r>
            <a:r>
              <a:rPr b="0" lang="en-US" sz="1600" spc="-1" strike="noStrike">
                <a:solidFill>
                  <a:srgbClr val="003366"/>
                </a:solidFill>
                <a:latin typeface="Arial"/>
              </a:rPr>
              <a:t>: Es un estado de excepción constitucional, se da por una grave alteración al orden público o daño a la seguridad de la Nación. Es declarado por el Presidente, pero si se quiere prorrogar, debe contar con autorización de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Sitio:</a:t>
            </a:r>
            <a:r>
              <a:rPr b="0" lang="en-US" sz="1600" spc="-1" strike="noStrike">
                <a:solidFill>
                  <a:srgbClr val="003366"/>
                </a:solidFill>
                <a:latin typeface="Arial"/>
              </a:rPr>
              <a:t> Es un estado de excepción constitucional que se da en caso de guerra interna o grave conmoción interior. Lo declara el Presidente de la República, con acuerdo del Congreso Nacional.</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ción del COSENA con los Estados de Excepción constitucional</a:t>
            </a:r>
            <a:endParaRPr b="1" lang="en-US" sz="3200" spc="-1" strike="noStrike">
              <a:solidFill>
                <a:srgbClr val="006666"/>
              </a:solidFill>
              <a:latin typeface="Arial"/>
            </a:endParaRPr>
          </a:p>
        </p:txBody>
      </p:sp>
      <p:sp>
        <p:nvSpPr>
          <p:cNvPr id="105"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virtud de la reforma del año 2005, el COSENA ya no tiene injerencia en la declaración de los Estados de Excepción Constitucional. Por lo tanto, esta facultad corresponde sólo al Presidente de la Republica, sin perjuicio de rol que la Constitución Política le otorga al Congreso Nacional en esta materi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efensa Judicial de los Derechos Humanos en los Estados de Excepción</a:t>
            </a:r>
            <a:r>
              <a:rPr b="1" lang="en-US" sz="2800" spc="-1" strike="noStrike">
                <a:solidFill>
                  <a:srgbClr val="006666"/>
                </a:solidFill>
                <a:latin typeface="Arial"/>
              </a:rPr>
              <a:t> (</a:t>
            </a:r>
            <a:r>
              <a:rPr b="1" lang="en-US" sz="2000" spc="-1" strike="noStrike">
                <a:solidFill>
                  <a:srgbClr val="006666"/>
                </a:solidFill>
                <a:latin typeface="Arial"/>
              </a:rPr>
              <a:t>Texto de Lautaro Ríos</a:t>
            </a:r>
            <a:r>
              <a:rPr b="1" lang="en-US" sz="2800" spc="-1" strike="noStrike">
                <a:solidFill>
                  <a:srgbClr val="006666"/>
                </a:solidFill>
                <a:latin typeface="Arial"/>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fensa Judicial de los Derechos Humanos en los Estados de Excepción</a:t>
            </a:r>
            <a:endParaRPr b="1" lang="en-US" sz="2800" spc="-1" strike="noStrike">
              <a:solidFill>
                <a:srgbClr val="006666"/>
              </a:solidFill>
              <a:latin typeface="Arial"/>
            </a:endParaRPr>
          </a:p>
        </p:txBody>
      </p:sp>
      <p:sp>
        <p:nvSpPr>
          <p:cNvPr id="10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Rol del poder judicial en los E.E.C.</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No se permite al poder judicial interferir o controlar esta atribución exclusiva del Presidente de la Republica</a:t>
            </a:r>
            <a:r>
              <a:rPr b="0" lang="en-US" sz="1300" spc="-1" strike="noStrike">
                <a:solidFill>
                  <a:srgbClr val="003366"/>
                </a:solidFill>
                <a:latin typeface="Arial"/>
              </a:rPr>
              <a:t>. De hecho, de acuerdo al Art. 45 de la CPR: “Los tribunales de justicia no podrán calificar los fundamentos ni las circunstancias de hecho invocados por la autoridad para decretar los estados de excepción, sin perjuicio de los dispuesto en el articulo 39.”. De esta forma, la declaración de un estado de excepción constitucional es una facultad exclusiva del Presidente de la Republica, sin perjuicio del papel que desempeña el Congreso Nacional en esta materia. </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Entonces, ¿Qué rol cabe a los Tribunales en esta materia? La propia CPR señala que “respecto de las medidas particulares que afecten derechos constitucionales, siempre existirá la garantía de recurrir ante las autoridades judiciales a través de los recursos que corresponda.” (Art. 45 CPR). </a:t>
            </a:r>
            <a:r>
              <a:rPr b="1" lang="en-US" sz="1300" spc="-1" strike="noStrike" u="sng">
                <a:solidFill>
                  <a:srgbClr val="003366"/>
                </a:solidFill>
                <a:uFillTx/>
                <a:latin typeface="Arial"/>
              </a:rPr>
              <a:t>Por lo tanto, si bien los Tribunales no tienen ninguna injerencia en cuanto a la catalogación de un estado de excepción constitucional, no se altera la posibilidad de recurrir ante los Tribunales respecto de las medidas particulares que pudiesen afectar derechos constitucionales.</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rt. 45 Inc. II CPR: “Las requisiciones que se practiquen darán lugar a indemnizaciones en conformidad a la ley. También darán derecho a indemnización las limitaciones que se impongan al derecho de propiedad cuando importen privación de alguno de sus atributos o facultades esenciales y con ello se cause daño.”</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Lo anterior implica que en nuestra CPR no existe un principio de responsabilidad por daños personales en tiempos de estados de excepción, a diferencia de buena parte del derecho comparado, sino que tan sólo se contempla la responsabilidad por los daños a la propiedad</a:t>
            </a:r>
            <a:r>
              <a:rPr b="0" lang="en-US" sz="1300" spc="-1" strike="noStrike">
                <a:solidFill>
                  <a:srgbClr val="003366"/>
                </a:solidFill>
                <a:latin typeface="Arial"/>
              </a:rPr>
              <a:t>. </a:t>
            </a:r>
            <a:endParaRPr b="0" lang="en-US" sz="1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a de la Constitución: Limites, procedimientos y órganos. </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encuentra regulada en el capitulo XV.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amento de las reformas a la Constitució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dimiento:</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Mensaje del PR.</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i) Moción de cualquiera de los miembros del Congreso Nacional (No puede ser firmada por mas de 10 diputados o 5 senador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01:18:03Z</dcterms:created>
  <dc:creator>WinuE</dc:creator>
  <dc:description/>
  <dc:language>en-US</dc:language>
  <cp:lastModifiedBy>WinuE</cp:lastModifiedBy>
  <dcterms:modified xsi:type="dcterms:W3CDTF">2010-11-25T19:08:54Z</dcterms:modified>
  <cp:revision>16</cp:revision>
  <dc:subject/>
  <dc:title>Diapositiva 1</dc:title>
</cp:coreProperties>
</file>