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58FB-440B-4111-A72A-36A0865B2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D6A1-CDE4-4E9E-9947-5A875FD2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1B94-57CF-48BF-A127-E89F53994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2768-D4CE-4D1F-BC33-409B1EF8E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9E10-05D2-4684-8AD0-C1C7C94D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76C9-AA3A-47BE-BC37-F7CD9BA6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C9AE-AA98-4D1E-B481-F284C268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2CC5-689D-40FC-ABC3-BD59B31A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E42F-6A90-4EB7-9806-18BF1FB2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B61D-890B-4B0B-9153-69170325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35BC-0D16-4694-9331-80729006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603E-0A63-4852-A5F4-5237DE9A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C77F-DDED-4676-9FE3-2F00416FB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La Posición Institucional del Juez en el Estado Democrático de Derech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ff"/>
                </a:solidFill>
                <a:latin typeface="Times New Roman"/>
              </a:rPr>
              <a:t>Antecedentes Histó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0000ff"/>
                </a:solidFill>
                <a:latin typeface="Times New Roman"/>
              </a:rPr>
              <a:t>y Fuentes Normativ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ff"/>
                </a:solidFill>
                <a:latin typeface="Times New Roman"/>
              </a:rPr>
              <a:t>Profesor Álvaro Fuentealba Hernánd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ff"/>
                </a:solidFill>
                <a:latin typeface="Times New Roman"/>
              </a:rPr>
              <a:t>Mag.Der. (UChi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Times New Roman"/>
              </a:rPr>
              <a:t>Valor de las Fuentes del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Respuesta de Mariano Egaña (Fiscal de la Corte Suprema). Luego instructivo de aplicación gener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La ausencia de ley debe ser suplida </a:t>
            </a:r>
            <a:r>
              <a:rPr b="0" i="1" lang="es-MX" sz="2800" spc="-1" strike="noStrike">
                <a:solidFill>
                  <a:srgbClr val="0000ff"/>
                </a:solidFill>
                <a:latin typeface="Times New Roman"/>
              </a:rPr>
              <a:t>por las máximas eternas de Derecho Natural, los principios generales de jurisprudencia, las leyes análogas, las decisiones de los tribunales y opiniones de jurisconsultos</a:t>
            </a: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El juez, al interpretar, busca la voluntad del legisl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Times New Roman"/>
              </a:rPr>
              <a:t>Valor de las Fuentes del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Respuesta de Mariano Egaña (Fiscal de la Corte Suprema). Luego instructivo de aplicación gener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Si no hay ley, debe suplirse con los principios generales y la analogía. Si no, los preceptos de </a:t>
            </a:r>
            <a:r>
              <a:rPr b="0" i="1" lang="es-MX" sz="2800" spc="-1" strike="noStrike">
                <a:solidFill>
                  <a:srgbClr val="0000ff"/>
                </a:solidFill>
                <a:latin typeface="Times New Roman"/>
              </a:rPr>
              <a:t>Las Partidas </a:t>
            </a: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y la </a:t>
            </a:r>
            <a:r>
              <a:rPr b="0" i="1" lang="es-MX" sz="2800" spc="-1" strike="noStrike">
                <a:solidFill>
                  <a:srgbClr val="0000ff"/>
                </a:solidFill>
                <a:latin typeface="Times New Roman"/>
              </a:rPr>
              <a:t>Novísima Recopil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La costumbre contra ley no rige (se aplicaba en materia pena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Acepta que se funde la sentencia en jurisprudencia analógica, y en principios generales deducidos de las le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Times New Roman"/>
              </a:rPr>
              <a:t>Inexcus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En 1837, un decreto de Prieto establece el delito de “denegación de justicia”, para el juez 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Suspende la dictación de su resolución a pretexto de que la disposición clara de la ley necesita interpretación de la autoridad legislativa,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Supone falsamente que no existe ley aplicable al caso que ha de juzga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Times New Roman"/>
              </a:rPr>
              <a:t>El Código Civ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Times New Roman"/>
              </a:rPr>
              <a:t>Historia del Código Civ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1840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Comisión mixta del Congreso para la codificación civil y crim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1852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Primer proyecto de Código Civil de Andrés Be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1855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Finaliza la revisión del proyecto de Código y se aprueba por el Congre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1857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Entra en vigencia el Código, con modificaciones introducidas por Andrés Be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Times New Roman"/>
              </a:rPr>
              <a:t>El Código Civil y el valor de las fuentes del derech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En los primeros proyectos (1841 y 1845) no se altera el criterio vigente en las leyes maria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Se elimina la costumbre derogatoria de ley. A falta de ley, se puede invocar la costum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Los jueces pueden fundar sus decisiones en sentencias anteriores, pronunciadas por tribunales superi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No se da cabida a la jurisprudencia doctrinaria como fuente del derec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Times New Roman"/>
              </a:rPr>
              <a:t>La ley sobre fundamentación de las sentencias de 185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El 6 de septiembre de 1847, el Ministro Antonio Varas presenta el proyecto. Las sentencias deben conten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los hechos y las disposiciones legal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en defecto de estas la costumbre que tenga fuerza de ley,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A falta de una y otra, las razones de equidad que sirvan de fundamento a la sente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Es un paso más en la consolidación de la supremacía de la 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Times New Roman"/>
              </a:rPr>
              <a:t>La ley sobre fundamentación de las sentencias de 185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Su artículo 5° establece que “</a:t>
            </a:r>
            <a:r>
              <a:rPr b="0" i="1" lang="es-MX" sz="3200" spc="-1" strike="noStrike">
                <a:solidFill>
                  <a:srgbClr val="0000ff"/>
                </a:solidFill>
                <a:latin typeface="Times New Roman"/>
              </a:rPr>
              <a:t>la sentencia definitiva que no se hubiere extendido en la forma que prescribe el artículo 3° es nul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Se permite, en consecuencia, entablar el recurso de nulidad, antecedente del actual recurso de casación en la for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Por la vía de la legislación procesal se está modificando el sistema de fuentes del derecho en Chile. Esto culmina con el Código Civ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El Código Civil y el valor de las fuentes del derec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Proyecto de 18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i="1" lang="es-MX" sz="3200" spc="-1" strike="noStrike">
                <a:solidFill>
                  <a:srgbClr val="0000ff"/>
                </a:solidFill>
                <a:latin typeface="Times New Roman"/>
              </a:rPr>
              <a:t>La ley es una declaración de la voluntad soberana, que manda, prohíbe o permite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i="1" lang="es-MX" sz="3200" spc="-1" strike="noStrike">
                <a:solidFill>
                  <a:srgbClr val="0000ff"/>
                </a:solidFill>
                <a:latin typeface="Times New Roman"/>
              </a:rPr>
              <a:t>La costumbre tendrá fuerza de ley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” (¿supletoria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i="1" lang="es-MX" sz="3200" spc="-1" strike="noStrike">
                <a:solidFill>
                  <a:srgbClr val="0000ff"/>
                </a:solidFill>
                <a:latin typeface="Times New Roman"/>
              </a:rPr>
              <a:t>En materias civiles, a falta de ley escrita o de costumbre con fuerza de ley, fallará el juez conforme a lo que dispongan las leyes para objetos análogos y a falta de éstas, conforme a los principios generales del Derecho y de equidad natural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El Código Civil y el valor de las fuentes del derec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Proyecto de 18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Fuentes: Código Civil de Louisiana y curso de Código Civil de Delvincou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Delvincourt: Distinción entre ley natural y ley positiva. Principio de sujeción del juez a la ley posi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Una cosa es justa cuando no es contraria a las disposiciones de la ley positiva; es equitativa si está conforme con las leyes de la moral y de la conci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El Código Civil y el valor de las fuentes del derec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Código de 1855, vigente desde 1957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Deroga la autorización de recurrir a la costumbre, salvo cuando la ley se remita a ella (art. 2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Prohíbe que se consideren antecedentes jurisprudenciales o “razones de equidad natural” (art. 3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Se regula la interpretación judicial (Arts. 19 a 24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Se elimina la alusión a los principios generales del derecho y los principios de equidad natu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ntecedentes Histó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ber de resolver los asuntos controvertidos. Inexcusabi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ber de fundar las decisiones judici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ber de vinculación al derecho vig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Los principios de inexcusabilidad y leg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Régimen constitucional de 1925: no hay norma expresa. Sólo en el Código Orgánico de Tribunales de 194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Constitución de 1980: art. 73; Constitución de 1980/2005: art. 7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¿Por qué se establece en la Constitución? Hay casos de excusabilidad en problema de los tribunales de lo contencioso administr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Los principios de inexcusabilidad y leg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Principio de legalidad. Art. 7° de la Constitu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Código de Procedimiento Civil, de 1903, art. 170. Restablece los principios de equidad en ausencia de ley, que había eliminado el Código Civ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Ello obliga al juez a justificar la existencia de la laguna legal, y a fundar los principios de equidad que está emplea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Los principios de inexcusabilidad y leg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Antecedentes en la legislación medieval, el Liber judiciorum: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Predominio de la ley real sobre la costum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Establece penas para la denegación de justicia (inexcusabilida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Etapas: remisión al Rey para que dicte la ley; incorporación del concepto de derecho natural y equidad (conversión de Recaredo al catolicismo: juez resuelve en ausencia de le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Los principios de inexcusabilidad y leg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Antecedentes en la legislación medieval, el derecho castellano: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Vigencia de la costum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Creación jurisprudencial judicial (derecho romano vulgar y derecho germánic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Carta Magna leonesa, 1188. Denegación de justicia (inexcusabilida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Ius Commune, Siete Partidas: remisión al Rey; luego, equidad como criterio de juzgamiento, ante requisitos de la ley posi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Los principios de inexcusabilidad y leg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Antecedentes en la legislación medieval, el derecho castellano: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Ley debe ser </a:t>
            </a:r>
            <a:r>
              <a:rPr b="0" i="1" lang="es-MX" sz="3200" spc="-1" strike="noStrike">
                <a:solidFill>
                  <a:srgbClr val="0000ff"/>
                </a:solidFill>
                <a:latin typeface="Times New Roman"/>
              </a:rPr>
              <a:t>apropiada al lugar, al tiempo y a las circunstancias, igual para todos, dada en pro comunal de las gentes y no en beneficio privado, no puede ir contra los mandamientos de la religión ni contra derecho natural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Orden de Prelación de las Leyes de Toro (1505): en cuarto lugar se recurre al Re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Los principios de inexcusabilidad y leg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Antecedentes en la legislación moderna, el derecho indiano: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Suplicación de la ley injusta. Se acata, pero no se cumple, suplicando al Rey por considerarse inju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De ese modo, se produce la apertura hacia la equidad como método de resolución de conflictos (arbitrio judicia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El juez no está obligado a fundar la sent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Los principios de inexcusabilidad y leg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Antecedentes en la legislación moderna, el derecho patrio: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Ley mariana de fundamentación de las sentencias, 183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Ley de fundamentación de las sentencias, de 185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Código Civil de 185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uentes Norm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ber de resolver los asuntos controvertidos. Inexcusabi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ber de fundar las decisiones judici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ber de vinculación al derecho vig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uentes Norm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ff"/>
                </a:solidFill>
                <a:uFillTx/>
                <a:latin typeface="Times New Roman"/>
              </a:rPr>
              <a:t>Constitución Política de la Re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Capítulo 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PODER JUD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Artículo 76.-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 La facultad de conocer de las causas civiles y criminales, de resolverlas y de hacer ejecutar lo juzgado, pertenece exclusivamente a los tribunales establecidos por la ley. Ni el Presidente de la República ni el Congreso pueden, en caso alguno, ejercer funciones judiciales, avocarse causas pendientes, revisar los fundamentos o contenido de sus resoluciones o hacer revivir procesos fenec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Reclamada su intervención en forma legal y en negocios de su competencia, no podrán excusarse de ejercer su autoridad, ni aun por falta de ley que resuelva la contienda o asunto sometidos a su decis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uentes Norm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ff"/>
                </a:solidFill>
                <a:uFillTx/>
                <a:latin typeface="Times New Roman"/>
              </a:rPr>
              <a:t>Código Orgánico de Tribu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Artículo 10.- 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(…) Reclamada su intervención en forma legal y en negocios de su competencia, no podrán excusarse de ejercer su autoridad, ni aun por falta de ley que resuelva la contienda o asunto sometidos a su decis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ntecedentes Histó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¿Qué debemos entender por derecho vigen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a ley y los reglame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a jurisprudencia doctr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a jurisprudencia jud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a costu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os principios generales del der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sta concepción ha ido variando en la Historia del Derecho Chile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uentes Norm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ff"/>
                </a:solidFill>
                <a:uFillTx/>
                <a:latin typeface="Times New Roman"/>
              </a:rPr>
              <a:t>Código de Procedimiento Ci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Artículo 170.-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Las sentencias definitivas de primera o de única instancia y las de segunda que modifiquen o revoquen en su parte dispositiva las de otros tribunales, contendrá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(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4° Las consideraciones de hecho o de derecho que sirvan de fundamento a la sentenc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5° La enunciación de las leyes, y en su defecto de los principios de equidad, con arreglo a los cuales se pronuncia el fallo;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6° La decisión del asunto controvertido. Esta decisión deberá comprender todas las acciones y excepciones que se hayan hecho valer en el jui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uentes Norm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ff"/>
                </a:solidFill>
                <a:uFillTx/>
                <a:latin typeface="Times New Roman"/>
              </a:rPr>
              <a:t>Código Procesal Pe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Artículo 342.- </a:t>
            </a:r>
            <a:r>
              <a:rPr b="1" i="1" lang="es-ES" sz="2400" spc="-1" strike="noStrike">
                <a:solidFill>
                  <a:srgbClr val="0000ff"/>
                </a:solidFill>
                <a:latin typeface="Times New Roman"/>
              </a:rPr>
              <a:t>Contenido de la sentencia.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La sentencia definitiva contendr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c) La exposición clara, lógica y completa de cada uno de los hechos y circunstancias que se dieren por probados, fueren ellos favorables o desfavorables al acusado, y de la valoración de los medios de prueba que fundamentaren dichas conclusiones de acuerdo con lo dispuesto en el artículo 297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d) Las razones legales o doctrinales que sirvieren para calificar jurídicamente cada uno de los hechos y sus circunstancias y para fundar el fall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e) La resolución que condenare o absolviere a cada uno de los acusados por cada uno de los delitos que la acusación les hubiere atribuido; la que se pronunciare sobre la responsabilidad civil de los mismos y fijare el monto de las indemnizaciones a que hubiere luga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-37296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FIGUEROA QUINTEROS, María Angélica. “Algunos Antecedentes Históricos sobre los Principios de Inexcusabilidad y Legalidad”. Revista de Estudios Histórico-Jurídicos Sección Historia del Derecho XVII, Universidad Católica de Valparaíso, Valparaíso, 199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FIGUEROA QUINTEROS, María Angélica. “La Codificación Civil Chilena y la Estructuración de un Sistema Jurídico Legalista”. En “Andrés Bello y el Derecho”, Facultad de Derecho Universidad de Ch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Valor de las Fuentes del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2920" y="1484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igencia del Código Ci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e niega valor a la costumb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e niega valor a la jurisprud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e introduce un sistema reglado de interpretación de la l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rtículos 2°, 3° y 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9528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tes del Código Ci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l juez puede fundar la sentencia en la ley, la costumbre y la jurisprud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 falta de ley, puede fundarse la sentencia en principios generales del derecho o en la equidad na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Valor de las Fuentes del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aracterización del Derecho Indiano (vigente hasta la codificació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Regula fundamentalmente el derecho esta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us vacíos son suplidos por el derecho castellano: las Siete Partidas, la Nueva Recopilación, las Ordenanzas de Bilbao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La ley puede ser adaptada por el arbitrio judicial (para ser justa debe ser clara, posible, apropiada al lugar y a las circunstancia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Valor de las Fuentes del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0000"/>
                </a:solidFill>
                <a:latin typeface="Times New Roman"/>
              </a:rPr>
              <a:t>Caracterización del Derecho Pat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Times New Roman"/>
              </a:rPr>
              <a:t>Se tiende a la paulatina supremacía de la ley, frente a la costumbre y la jurisprud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Times New Roman"/>
              </a:rPr>
              <a:t>Ya desde 1837 se había establecido la obligación de fundamentar expresamente las sentencias, teniendo cierta supremacía la l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Times New Roman"/>
              </a:rPr>
              <a:t>Triunfo del iusracionalis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Valor de las Fuentes del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eyes Maria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Ley de Fundamentación de las sentencias, de 193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Obligación de los jueces de fundar las sentencias es “una de las principales garantías de la rectitud de los juicios”, “recomendada por la experiencia de las naciones más cultas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l juez debe señalar las leyes que han servido de fundamento a la decisión judi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Times New Roman"/>
              </a:rPr>
              <a:t>Valor de las Fuentes del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Times New Roman"/>
              </a:rPr>
              <a:t>Leyes Maria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La seguridad jurídica es el fin último del régimen norm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Obliga al juez a señalar las leyes en que se funda el fa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Este es un elemento muy novedoso, de acuerdo a la caracterización del derecho vigente a la épo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Times New Roman"/>
              </a:rPr>
              <a:t>Valor de las Fuentes del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eyes Maria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rte Suprema pide aclaraciones sobre el tex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¿Qué ocurre si no hay l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¿Se puede aplicar la costumbre? Se habla de costumbre jurisprudencial.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Principios de humanidad e ilust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Graduación de las penas, por la vía judi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¿Se puede seguir aplicando la analogía jurisprudenci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0T04:29:06Z</dcterms:created>
  <dc:creator>ALVARO</dc:creator>
  <dc:description/>
  <dc:language>en-US</dc:language>
  <cp:lastModifiedBy>ALVARO FUENTEALBA</cp:lastModifiedBy>
  <dcterms:modified xsi:type="dcterms:W3CDTF">2010-08-23T05:10:25Z</dcterms:modified>
  <cp:revision>31</cp:revision>
  <dc:subject/>
  <dc:title>La Posición Institucional del Juez en el Estado Democrático de Derecho</dc:title>
</cp:coreProperties>
</file>